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DD5-D149-40A4-80E6-45B33C5D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991-A14E-4370-84AB-0370AD3F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3A3-5616-48A5-86EB-07EE19BE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822-197A-42C3-A043-EE49F4B3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DECB-0099-46E7-800B-ED64912D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6454-93F5-466B-AE4B-C1550345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C967-FAB7-4054-9509-F11F2E5E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90F-48F7-4C90-8C0C-A38CFC0F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73E1-AB7B-4E95-819B-C9C8D781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FE86-B2C7-40AB-B14B-67926FE3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B9F2-6F41-4FF0-920E-C0B9D4BF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066-3EC3-49C7-B84F-B8C0B5CE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DCAC-CEA5-4F7C-BB77-04C9F80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8063-57C0-4915-B366-5C893C4C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0D4E-E33D-4495-B4F9-05046663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AEA9-DBBA-4FC2-8CF1-FF77C5F1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1591-0AB0-4CED-AF0F-9287B676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A13-C64D-4020-A94E-26262143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1B06F-A554-4D70-9B0E-D3CDDD0F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F64D-D047-4EE3-9C9B-41412DD0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DFD8-BED5-43CF-84CB-9595E704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B79-6349-4262-9A61-841D58FC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B916-1830-4EC7-8B84-277499A6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F084-8F98-4BEB-B95B-9A56C8F5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9CC2A-EFC2-48D5-9544-8A5828B5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C022-727E-458E-9708-F2957557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579F-0CB7-47CA-8AE4-50589CCC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611C2-4FD5-4A5F-B9DD-E135F979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F9EC-0906-4677-8DD1-96ECC235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87992-3F0C-42E9-B3B6-6C3142B2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6770-4689-4C20-9E6E-E8E99FC2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65B-9CB2-4CA4-A5FA-74038A48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910-BA54-4F9D-A89B-BEBA46A5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327-C50F-4103-8FBE-8DB91A6B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7A6-5518-479A-987E-979D6E37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FD2-A2D2-4B69-A77D-26EBC159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C067-4094-40FE-BEFA-38BAA3598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8554-B3EB-4A05-870B-F4DDD658E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AE8C-62FA-48B6-AAA8-5FC620434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Years I Spent In Va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t Calv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R. Newell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. B. Toner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Years I Spent In Vanit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Years I Spent In Vanit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79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Years I Spent In Va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Years I Spent In Vanit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Years I Spent In Vanit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Years I Spent In Vanit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9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Years I Spent In Va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Years I Spent In Vanit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Years I Spent In Vanit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Years I Spent In Vanit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79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Years I Spent In Va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Years I Spent In Vanit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Years I Spent In Vanit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Years I Spent In Vanit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79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Years I Spent In Va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Years I Spent In Vanit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6T14:16:34Z</dcterms:modified>
  <cp:revision>18</cp:revision>
  <dc:subject/>
  <dc:title>Slide 1</dc:title>
</cp:coreProperties>
</file>