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DF9-0E29-417D-A77F-9AB2DC56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AC1-6035-4C5A-84A2-41B1476E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46F-3CB4-4EAF-9AEA-E06260C0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B11-F519-4BCA-B1AF-E1F96574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10BD-101E-4033-BC0F-EF8833DE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4DDC-3DBA-4B3B-8D20-5962DA9E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AFFD-43D9-4F05-855C-AC81271A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8831-5181-43FC-BF02-43B5A663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CE8F-397E-4B8A-B207-F4F586D2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84E5-1AE8-48F5-9A84-F338BEEB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15A1-63FA-4C81-927F-82CE8E13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6D4-D260-449D-A6B8-DC8FEA29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49EC-F6FA-4437-93F7-BE2CAB55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9F3D-89AE-4DB5-8936-425C14B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07C8-3676-48B7-8D4F-B6A1C1D7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A732-0445-47DD-BCD3-ECB5DC77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052A-07CC-48A1-8E37-B5190D30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CFF-A1CF-49EA-9EC7-4CDAABA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4AF1-029C-4F74-9726-2AFCC17E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D167-95F9-4309-85EA-F728F1E6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4E60-622E-4342-8A0B-ACA2A7A2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435-4120-486D-B975-DB84DF0D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0D48-3DFE-4E2F-BDED-A0B86D0F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D9D86-6B64-4734-8E86-E25411AB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48C0-BC2E-4CD4-96C9-890C561B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24D0-795D-423B-B067-67C51438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043A-CA3D-4EEE-8DCC-E34367B6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E05A-BC81-4C4E-A4F8-B3EF2298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FBD2-8682-494F-86F3-827A9D08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B59BC-409F-4155-9EC1-B981625F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BA8F-5635-4DF4-8425-4F54AB56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CC4-3CF1-49BE-A452-B6546322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C1E-7BE0-4377-A765-9E2FF3D7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109-9694-474F-B2AD-74B74CDF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C6D-B742-4D9E-9FA3-04C9B391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B54-B345-4871-A32D-8FEE2F5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302C-5F8E-4A0D-B05F-C4F104E7A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FBFA-BBB5-4215-91BE-F078E740F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CD4B-03C5-405C-8E30-D0656D08C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Ye Are the Light of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 Pearl H. F. Thomas (1898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Emmett S. Dean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mmett S. Dean (1898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Ye Are The Light Of The Worl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480" y="648828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Ye Are the Light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Ye Are The Light Of The Worl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Ye Are The Light Of The Worl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Ye Are The Light Of The Worl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Ye Are The Light Of The Worl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480" y="648828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Ye Are the Light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Ye Are The Light Of The Worl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Ye Are The Light Of The Worl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Ye Are The Light Of The Worl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Ye Are The Light Of The Worl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480" y="648828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Ye Are the Light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Ye Are The Light Of The Worl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Ye Are The Light Of The Worl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Ye Are The Light Of The Worl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6T14:15:37Z</dcterms:modified>
  <cp:revision>35</cp:revision>
  <dc:subject/>
  <dc:title>Slide 1</dc:title>
</cp:coreProperties>
</file>