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1CD-C5EC-413C-8EEE-5EF317B2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2FA-7372-4A4C-B24B-E818B8E9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9AA-1A76-46E2-8F7D-10040C7B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821-D54B-4534-80DF-422C0EC9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CB6F-59E0-418B-B5F5-8EC742BA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1E07-F779-4C8A-8382-D919D955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9A86-068A-4E25-94BF-CB4198B5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D7C8-3D79-4281-AA97-C46B12DA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F3E4-DFEA-489B-B7E9-D163C570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2D0A-6F94-45E5-8154-40C9F569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0259-DDCA-4242-A4C0-4F265E0C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35C-C39F-45AB-A6D0-E2E339F5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CD9A-0BB3-48B8-9A8B-BDED1A05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053A-2187-4FDE-820D-53B431C4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21E3-C517-4352-9FF7-772BB606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4E0C-624A-4681-950A-7072A7A5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EA1E-74DE-4589-8A23-BF4F36D2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596-949A-43AD-A533-95E74661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59C0-8A1C-453A-AC44-107288E5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7F4D6-C0BF-4154-83D0-325E1967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80C0-E626-42D7-BFC4-3A982E1E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53E-A21D-4B86-9C49-CD7BEB2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C3F0-7A60-45C2-8628-77DCE000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B485F-6D36-4777-AC19-DBA0DD20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C56CE-F57F-48A6-AEE1-CF19FB68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5925-FC10-4EDE-BEC5-D2BCA77B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E5707-1761-4887-B84B-F333C3D9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F9DD-78E5-46AE-B54B-CC91BD66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91EC-6299-4A80-B76D-5F455E53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BFC7-321C-4655-AB5D-B2C47AF8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6874-2D25-44BB-AC14-192628D2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F17-8EC2-4E72-965C-3D38E184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0F6-5AAE-4212-B088-4CBFB7A2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12F-5C2D-4DDC-8B0C-715E08F0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3D6-79F7-4A16-B8FF-DF52DEBC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C35-F4CD-410E-B999-C54FDB48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DABB-9BD2-426F-B95C-4CB0A5F90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E7A6-66D7-4786-9BCD-6CBE9AFF27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82D6-4FE8-4146-8765-4E6BC2DEB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Yield Not To Tem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tatior R. Palmer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tatior R. Palmer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Yield Not To Temptatio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Yield Not To Temptat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20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Yield Not To Tem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Yield Not To Temptat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Yield Not To Temptati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Yield Not To Temptat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2420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Yield Not To Tem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Yield Not To Temptat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Yield Not To Temptati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Yield Not To Temptati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420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Yield Not To Tem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Yield Not To Temptati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6T14:17:13Z</dcterms:modified>
  <cp:revision>28</cp:revision>
  <dc:subject/>
  <dc:title>Slide 1</dc:title>
</cp:coreProperties>
</file>