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0FF-FF18-4CA2-9287-06F8DD88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ACC-9E54-4141-B865-912642A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59F-A959-423E-A2FF-447AF704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D33-8608-49A1-B4CD-2958432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DAA-9540-4D66-AC12-A2573986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ABF5-85FD-4C3F-B7F4-59C8696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C94E-4680-48E0-9482-1E7F7394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0F42-2CD7-4EB0-8B8D-FED62015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C638-2DC6-427F-9696-F9DB10DA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221C-060B-45D8-BAB5-639C3FD6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760-77FC-4DE1-A011-695A437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634-423B-48A5-A4C8-90CCD25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E342-59AA-4DEC-AD05-32BBD62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D02-25EF-4307-ABD5-5988271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63D2-9362-44DA-B726-350AB20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1F66-A12B-4DD3-A13D-1E0679DC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114-0259-4877-A781-FEF5DAED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A04-A4BE-4D95-90DC-97E391D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D772-3AA2-460F-AE33-8AA4ABD3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A0C8-3F49-42D8-BC65-66288BA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9B97-90D7-403A-8682-CEA5661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EF9-7E08-4C0C-8D48-ADDB815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A7CD-E95C-405C-87FE-362D433D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90A3-28C1-4C1A-832A-653017E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F353-D8DE-478A-9390-D93173CC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5574-E24C-48FC-A593-0E07417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0A74-1267-4484-AE34-457803C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C7F3-8224-423C-B8AB-7A62B1F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B146-F862-44D9-B13D-68D4185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8D22-722D-4B4B-873B-A8302C7A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8DF0-C51C-4FE9-92E1-F5D835B1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50E-8FCD-4E36-A1DB-C5904D60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316-A733-422F-B68F-EAD90D89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75A-B120-4B8C-BE94-29092DF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0CF-1F4F-4F21-9E8B-B2E904A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C30-F32A-4C71-998F-2414EBD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17C0-28FE-49F3-947D-C26EEAD90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95F4-6A62-4AC1-A12C-BAEF75E63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3181-2200-4A4C-9485-CAEB66C17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Cit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. Ferrill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City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City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City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City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Wonderful City of Go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Wonderful City of Go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onderful City of Go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Wonderful City of God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onderful City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Wonderful City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City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City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Wonderful City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Wonderful City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onderful City of Go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onderful City of Go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onderful City of Go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onderful City of God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City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City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City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City of Go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City of Go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City of Go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City of God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5:41Z</dcterms:modified>
  <cp:revision>25</cp:revision>
  <dc:subject/>
  <dc:title>Slide 1</dc:title>
</cp:coreProperties>
</file>