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9C94-DA53-4614-B0D5-689F1AEAE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2FD9-F33B-4A36-87AD-D302115B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21C3-622F-4D06-B1EF-69C21C8E7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EFFC-34AB-4F10-952A-4A2B94435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B036-24D2-459F-A284-8799D6129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3903-09C1-4954-9D26-E396F0EB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3EC2-7463-4776-BB96-F829041B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4E3C-A4A9-44D9-942F-05A9CB0A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506B-3922-4563-BC8E-E440CE10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0E0E-0B61-40F6-9F89-35B8EAF2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E4DC-EFD2-4F68-897B-666C42E4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1EEE-C647-4C80-BCD2-11AC4E04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B0ED-0739-466B-BBB9-BF16DEE8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DD8B2-D687-43DF-B8FE-71EFADD8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87E0-849D-4A0F-8125-48872BCF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0EE8-C7E4-412F-9D84-8D6486856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1E51-0A29-4F63-8FC3-4B577FDF0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80A2-D432-4E5C-9825-DC8207BA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F48D5-5B22-4927-86BD-47439C9AC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E0AE7-890E-462B-BE2E-AA7EEB00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A98BC-214E-4FE3-BBD1-3F6C772E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9D4C-7B04-480E-8F22-8F57A969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AE1C5-0557-4619-BA72-6DC14952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DB762-28D5-4A7E-A4FB-56C80D80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DE2A5-40F6-4F64-A3E3-EF61A899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C62F4-1E8B-404B-99CF-ECDA8174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11400-EE7E-44DF-8884-5AF981E9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96602-F371-4D05-810B-51A57921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3A56E-0856-4681-8B08-2F0017BF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D131F-A4D4-416D-AC90-0137F7B2F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D6EFB-5907-497B-9A8E-F794FA515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F1F0-AB4B-48B7-BCE2-0DC1F5A4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5B8A-8276-4A4E-8CDC-7C551123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12B0-D592-4C30-989A-49242B50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BA77-C8D4-4731-B2E9-AAD2524A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A300-AD58-4A6B-B27D-3AE40A1C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3943-CDDA-444D-997D-A3BEC6EF07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14DE-EE02-44C6-A2E0-870D6E2753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0DB9-6414-455E-83AF-D2A7ADB701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e Lift Our L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1280" y="4902120"/>
            <a:ext cx="230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C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Des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N. B. Chumbley (20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N. B. Chumbley (20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6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e Lift Our Lives_arr1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e Lift Our Lives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5320" y="6488280"/>
            <a:ext cx="27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e Lift Our L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e Lift Our Lives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e Lift Our Lives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e Lift Our Lives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86400" y="6488280"/>
            <a:ext cx="28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(repeat w/ Desca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e Lift Our Lives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e Lift Our Lives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e Lift Our Lives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e Lift Our Lives_arr1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8:03:31Z</dcterms:modified>
  <cp:revision>30</cp:revision>
  <dc:subject/>
  <dc:title>Slide 1</dc:title>
</cp:coreProperties>
</file>