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712E-BA05-443B-B4D8-DE2C7206B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9536-C883-4564-85B9-497C59A9D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21DE-6431-4FDC-8B6E-A5B1FE8AC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57E4-7060-4C5D-B87C-3B7ADF446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73E5C-3062-4F16-9097-C44A13EA9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1127D-097F-4744-8141-2570CD6B5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09FFE-C087-4045-830F-F01A64FEE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9E826-7A02-41C2-B4A8-D36B17FBD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D112D-73CA-490E-9C72-56F2E1EA7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6DE5B-879B-4457-9010-721590123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AB1C6-DF6A-418A-A6F9-CB0D8EAA0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E3A6-20B5-46DC-A366-6C60DB6F3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6BDAE-CC65-4020-BEE8-3B92BEA5D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AD07D-4F8E-4D56-A243-9327F6124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CEF32-42F6-45C7-8846-6BC7A5D05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05F91-87E5-40C0-A57D-9F959D72B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83B3B-74C5-44C5-88C5-750FAB1F5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A1FD-CA18-4E42-8A11-A3FFAF657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3C7C3F-523F-4199-8DD0-0CE385476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6C3D8A-1F67-4791-9CC0-D48C1C6BB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1C60CD-B6E7-4622-89E7-A7EA8F9C1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ADC6-D76B-4CBB-8DD8-5CF092EB0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CD1FD3-36FB-473C-B3C0-485C1B8E0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F45B64-1A89-400A-993A-5077024EA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13F0C4-B184-422A-B642-E9C0C4FDC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77C514-83AA-4397-8DDA-B8DCF66A4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925A52-60F8-43F9-8AE7-2472F140A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2BC98E-FE46-44B9-B35C-FF968863C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AF6DB8-0C18-4B3F-B4FA-F5CB6099B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97EBFB-9FC8-4AF7-A074-998DC970F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49C608-44E5-4170-A46E-0FD70CA3E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473E-3F68-4CDC-A05D-E5D6B68FA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9C4D-B855-4EFE-AC8F-4238920EA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F159-57A2-4EC3-AB8E-34B8BFF07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7C02-150E-4DB1-AF88-233AAF7AE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4360-E5A9-4086-A350-D8C53FB4F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8C95A-B218-4D02-8AAF-76FAA2FC02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DE587-8FD8-471F-B755-665BCC82E6E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51063-DF0B-40C5-96E4-7087D7A53F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When My Love To Christ Grows Wea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ALBERT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7.7.7.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40320" y="4902120"/>
            <a:ext cx="124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3/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C/E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. R. Wreford (183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Phoebe Palmer Knap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49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When My Love To Christ Grows Weak_v5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17360" y="6488280"/>
            <a:ext cx="489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5 ~ When My Love To Christ Grows We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When My Love To Christ Grows Weak_v5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88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When My Love To Christ Grows Weak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17360" y="6488280"/>
            <a:ext cx="489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When My Love To Christ Grows We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When My Love To Christ Grows Weak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When My Love To Christ Grows Weak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117360" y="6488280"/>
            <a:ext cx="489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When My Love To Christ Grows We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When My Love To Christ Grows Weak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When My Love To Christ Grows Weak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17360" y="6488280"/>
            <a:ext cx="489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When My Love To Christ Grows We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When My Love To Christ Grows Weak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When My Love To Christ Grows Weak_v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117360" y="6488280"/>
            <a:ext cx="489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When My Love To Christ Grows We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When My Love To Christ Grows Weak_v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4T17:23:09Z</dcterms:modified>
  <cp:revision>30</cp:revision>
  <dc:subject/>
  <dc:title>Slide 1</dc:title>
</cp:coreProperties>
</file>