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CC5-A640-48F2-8B99-EDC96B0C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D82-D4E6-4DAC-8F26-E13DAC9C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653-91C5-4421-B40F-DE82E3BC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041-66BA-4002-9956-A5CA9E85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6512-F8FB-468C-AB5C-5AA36FB5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6C4C-F8CE-4951-86E4-40F4547B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747E-EE0E-4F4C-8748-4AE3E818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F573-4E49-4FB4-81C1-01AA9D0B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5812-DB1E-437B-8D75-53352538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40F5-E35D-4DE7-8A49-99CA1701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B4C4-F4DA-431E-AAA8-7CD97F60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D63-E5B1-4A86-B7E6-1E10B6BF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29F8-1D8E-47D1-967F-6CFABDC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A094-9974-4EED-8F4F-46D6D43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3216-FFB7-4A94-A3DF-AB7FE173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584E-2580-4877-BABA-CC48C761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0910-1F7C-4DDE-84A3-23953D6D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4F2-E92C-4C26-8EF4-6BAE1E14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5030-8CAE-4389-B86C-0E0C0390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1616-668D-4B72-BF6E-074EC7A6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18FB-C64B-4C75-8128-4D5E93B4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EA9-E27D-4852-943E-539ECD51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D799-1365-4B66-9602-C0F93596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D8E7-C4A2-47B9-B577-2D15E29A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DD2D-7263-4838-901C-1F6EDB88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8527-2A52-4867-A568-3691002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9F10-5EEF-4CD1-9C9F-0F9C96F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1F14-87CF-454F-9E50-96C3C83C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BB2EB-B228-45F0-B3F8-8580D9DD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806C-6359-431E-9F2E-9A7D11AA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0924-12D8-42E2-AEFA-C85BBEEF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F55-C317-4A98-A4EE-551AEDFC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3E0-1E34-4DCB-BDF9-3035679A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C4E-AEC0-4D5E-BE3F-98D2AEDB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CB8-06EB-4441-91A6-0F76A122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C26-5767-4C78-9CFB-96CA1C5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C01E-7A17-489B-906C-8FC992091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950F-3517-4FE6-B1FA-1C318F5DD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95D9-AA64-40F7-BAAD-BC752CBAD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atching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M. Henson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M. Henson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atching You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2360" y="648828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atch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atching You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atching You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atching You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atching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360" y="648828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atch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atching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atching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atching You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atching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360" y="648828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atch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atching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atching You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atching You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1:16Z</dcterms:modified>
  <cp:revision>29</cp:revision>
  <dc:subject/>
  <dc:title>Slide 1</dc:title>
</cp:coreProperties>
</file>