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DD3-A64A-4A51-9608-7D97BD1E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A24-D98F-422E-9598-D36CC493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6D5-21D5-4D3B-9F4C-02039B73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2C7-6CDD-4E30-BAFC-391152B3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AF69-8EBF-4B65-BA58-7A219BA8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05A4-69FD-4337-9D8C-64F31F85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F034-018B-461E-BA34-BF25B940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0EBB-CF5F-4559-86FD-0EDD0055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7691-7AEF-49D0-B1EC-C20BA122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2C3D-91CF-4B16-90AF-B81002A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F285-738E-4CB1-81DA-9B07059B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E54-10C2-4F71-B76A-374D3D7B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A5A0-9DB6-4938-87B1-1C6C108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D161-0399-4AE4-9680-191835E7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D5CB-BEDD-40CA-A853-6EAFE6F8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D2C1-4413-49D4-8D7A-810194E5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DE74-5AA4-44BB-AEA6-2EC143AE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AD6-F8C7-405C-A391-9A3A67BE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2334-5575-415D-9F5A-A60EFBBF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EB2E-0A94-4949-B878-CC47D7B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70F6-E11A-49C1-9BBC-FE6BB17F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68C-9880-4D3D-AB7A-F6599935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D8C3-8ED6-4789-9DFA-200137AB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DE7B-08E0-4AB6-8461-667706B9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985D-EC54-4142-AA42-80314C83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5D06-C295-4832-864F-DE50362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5500-81C4-4018-9869-D93CB903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9375-11EE-45AC-A485-37E753EC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0942-097B-4929-8DDB-02744BF1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CC9B-05B5-438E-B800-C02C3A31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84E9-C3CC-4CBB-A74F-74EF7086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99B-DD16-4D5A-88ED-2247F68A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95F-7945-4D6F-88DC-ACE67704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999-F5AF-4B68-B832-DD5A732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B33-F2FF-4E1F-8250-BF84C0F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D46-4616-49C3-BF14-D65B55D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6F9B-1405-481B-8B52-EF24D1B9E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9940-6A83-4A45-9B9B-5E4B79A82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B88-172A-45A3-A920-BEBC122BE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Whosoever”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“Whosoever” Heare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hosoever Will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516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“Whosoever”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Whosoever Will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Whosoever Will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hosoever Will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Whosoever Will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516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“Whosoever”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Whosoever Will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hosoever Will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Whosoever Will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Whosoever Will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516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“Whosoever”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Whosoever Will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Whosoever Will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hosoever Will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4T17:31:06Z</dcterms:modified>
  <cp:revision>33</cp:revision>
  <dc:subject/>
  <dc:title>Slide 1</dc:title>
</cp:coreProperties>
</file>