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DB8-6410-4242-BC06-D821DD6C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7FC-FE20-4582-A115-5FD51E7E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040-27BA-495B-90BB-A8DC47B8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2E3-62A8-46CE-9160-656BFD06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829-74DB-44A5-A4D0-3902DC19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F939-4A2F-476D-94B5-FEDE26D1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0A7-0199-493B-A797-AE206BDF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6F0-6ED9-4952-912A-9D3DF40D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623-75C9-466C-9B9D-00DA0DA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5142-0A74-4DF5-AE66-DE128627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4980-3BC2-462A-9EA9-D6493A2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FF9-2E33-4ACB-ACB9-7B44DA8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73A5-A972-43DC-B4A2-8CFD442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4D1-CB9A-4325-8D1D-E1E52D4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E4FF-5078-4061-AE7D-92A2C8C9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570-22D4-40D0-9027-CF4B0B13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B796-2143-4BC2-BE80-533F9B31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342-1C66-498F-8589-858E1BA0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7984-FA50-461E-B357-00FC20DE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3804-199D-4B64-AF37-E35BC469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15A8-A297-4107-BF95-4A572B8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F77-9561-4493-9931-D106AE58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AA69-3922-4C70-821B-073E16D9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6526-2F3B-403F-B823-735F2D8D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C05E-24B3-4BA5-9841-92C3CAB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401F-737A-433F-87AE-6423FAC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CAF3-C159-4BEC-95C0-CA4DF2D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E021-67A8-4309-AD70-95CCA091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2A6B-EBA3-4B27-9FFD-8469572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DCB6-ED9F-49C3-9F62-EC393870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8B7D-A5E6-41ED-9DF4-B27F4EB2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B8D-08E7-4692-AC6B-93E6606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E22-A798-41DC-A77F-4B5B3E07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0E9-DD0D-46F6-9E83-43A15C7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1AF-F96A-47FE-BEC5-A1602330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CCE-CC2C-4559-B594-0E748B0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EFA-87CC-4595-B30F-DA109ADCF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88F-56F6-4804-BB89-1786AC6591A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C26-58D5-4B8D-83F2-74C6B7166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P. Dento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6:57Z</dcterms:modified>
  <cp:revision>18</cp:revision>
  <dc:subject/>
  <dc:title>Slide 1</dc:title>
</cp:coreProperties>
</file>