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F7D-05F6-4482-ACFD-BE306D29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2AD-CEFB-4AFC-9B52-F5D0C59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81F-C142-474A-B533-EB3E5C4D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FC1-5C59-447E-A89B-C7C718AA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255-E49E-4287-B677-6B68ED62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009E-B7F8-4E16-95B0-5531376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EA1-A759-486D-94F9-322CC09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24EF-7B55-4C2D-BDAD-582465A0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DC4C-CA60-4D91-A252-43D2AD20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3604-C7E0-4FB5-B151-DC9049A5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D635-A5D7-45B5-9963-FDD6147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BB5-7A05-4CD8-9C7F-096ECE7A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E4A0-B53D-4C03-A2BD-CFBA8B3B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80E7-552C-4A8E-8873-F1449DF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DA76-CBAD-475B-9216-552FBB26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814-BA60-4527-9BEF-6421F141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30D-C170-4402-9411-F18A1B9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FE0-A759-4C15-A6DD-A25159A0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5CD7-7800-4023-A708-27BEABB4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83F9-8202-495C-AAA5-D7F2B131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DB76-5CED-4FB3-9681-EC65733E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53B-5EA3-4383-AA1E-2A99D881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756C-A710-4DEF-A3E4-8D161D2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68AA-0E2A-439D-9106-4BB8869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DF90-DFCF-4C5F-9498-D1F1A60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CCE6-6B2D-4D82-B1D6-7EEE65F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6465-DE7D-4776-85BF-2EEBA78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09D8-2720-4165-9BF5-515F969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C066-8C2A-4256-8FCE-5F6A20C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5F6E-B27D-457A-A835-D3563ED6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26ED-C6B7-47C3-8FBB-A4DC36A6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E9C-82C7-462C-A87E-C14649F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6F4-412F-4167-9F1B-26E006BE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87C-E9D1-4073-B9BE-4F9DC9F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AB0-93E4-4A35-AA2F-15930E0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EEC-5FC0-4EFD-98C4-E322826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9E2-1A00-4F56-9DA4-5DBF2ACB2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B537-5906-4C5C-B79B-8ADBBA75F94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F52C-576D-4A1D-8DE9-1A9A48345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ile We Pray And While We P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y Not N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tl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C. Cas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ile We Pray And While We Plea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ile We Pray And While We Plea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ile We Pray And While We Plea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ile We Pray And While We Plea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ile We Pray And While We Plea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ile We Pray And While We Plea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ile We Pray And While We Plea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ile We Pray And While We Plea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ile We Pray And While We Plea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ile We Pray And While We Ple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ile We Pray And While We Ple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ile We Pray And While We Ple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ile We Pray And While We Ple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00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ile We Pray And While We Pl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ile We Pray And While We Ple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ile We Pray And While We Ple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ile We Pray And While We Ple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4:13Z</dcterms:modified>
  <cp:revision>34</cp:revision>
  <dc:subject/>
  <dc:title>Slide 1</dc:title>
</cp:coreProperties>
</file>