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6E2-B2BF-4ABD-8ED4-B1BB2C4C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C90-85C9-4F3C-AE5F-2C420F88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F84-9843-4581-88B1-FE0421CD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165-2493-465B-B9C8-3459D2F1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40B8-CA51-4558-92C3-4CF23A21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1428-9370-4B51-92E0-EE9441ED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7380-72AE-4BC3-9941-AA4E1469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51EC-E086-4283-B837-39D6E0C5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0451-7AA5-4AA0-BA23-EF827663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9AA1-D959-4B68-B578-C62B7704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9B8E-E799-4E46-B6E9-0473DB80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DCD-8DA7-4341-B888-563824F9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68AB-79C1-4E11-B3C5-F531B827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B46B-69B7-4503-A00A-C51F5FC2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D563-F042-4C73-9F25-8586F16E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E1DB-A781-40A4-8546-EBD87DD9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9433-A4D6-48E1-A7AF-DD5D134F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6AB-ADF5-4683-AE96-D0DFA53D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0E38-1D99-42D6-96FD-E524A93F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4042-1CB7-4684-A114-2E21ECEB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41406-42FA-4342-84DB-85831E77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168-2667-432C-9763-2DC8CDCF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D7B2-CE2B-4C6D-92B8-BFC6574A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3792-4112-41BA-97CC-BF31AA4D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866A-FA6E-4CA3-9C14-5271B2C5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1110E-F95D-4032-89F0-08C09D3F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720F-B842-4CD2-9433-1303CE41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A06B-32BA-4FDD-9C2B-51D64C76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660E-8C95-4E11-B011-A1390BC6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DA71A-8B51-413A-A554-0E348618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0E20-9AF0-4D64-96A0-559F660E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45F-6420-4EEA-8500-AC494F35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D83-BB6E-4246-B1E9-2BF15EE9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BB2-4D5D-422B-B115-C39CAFFC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682-DC95-427D-AE6E-D769793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D19-E832-4034-92E4-E61474D5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7968-60BE-4FAE-992D-ACB738B93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D78F-0B3E-415E-B5E6-00D85E0EB5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0179-F1B7-42A3-A5DB-349D2DBDD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iter Than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Nicholson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G. Fischer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iter Than Snow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iter Than Sn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160" y="648828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iter Than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iter Than Sn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iter Than Snow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iter Than Sn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4160" y="648828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iter Than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iter Than Sn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iter Than Snow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4160" y="648828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iter Than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iter Than Snow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4:46Z</dcterms:modified>
  <cp:revision>33</cp:revision>
  <dc:subject/>
  <dc:title>Slide 1</dc:title>
</cp:coreProperties>
</file>