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B3C5-B45C-43EC-96CC-2103D6E30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9BB6-B7FC-4836-946C-2248D437E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5DA4-928B-4F51-A96F-1CA869ADD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0315-ECB2-4A01-B45A-165B31604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40799-0F87-438E-916F-BCC6B7BCF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82DC2-122F-48B4-B7CC-C43ECBE8B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B5E83-B366-4D86-B098-8597E9F3B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DF86F-9E4A-4EC6-BB47-C4C424ED2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389DB-38AF-476B-9F1B-B10AB9885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D9FE8-8F2A-4152-970E-1914CFBF9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0A112-53DF-495C-9C74-381737C4C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0421-F2BF-44DF-89F1-3C3A5B66E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99282-8E90-4FF3-8FDD-435045805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A51E8-88EE-4612-8FEE-2FFE47A3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B5184-0423-4FC7-B939-528FF75DD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B8D56-20E6-4D9C-8D2F-FF30C598E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0E7A5-D83C-476B-8518-8301D4E6D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74E4-4141-499B-B4B6-8B4920060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63632-F640-47C4-AE9D-AFBED9295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8C1D1-5331-4275-8C06-4D0435FA0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DC128-907A-4534-9319-8699426BB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E18B-25B0-4218-8289-2DB9B2366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26CE3-C082-4D6C-8D15-A8AA6C4CC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A4C2F-BF9C-485B-9E78-C85514E10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F09D2-00B1-4C3B-BBF0-DE354B013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AB4B0-2F29-4939-9D74-CB15AD0BE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81331-0D93-49DF-BB0E-B54820A0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9E412-CBDD-41FD-844E-1DFDD420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6B243-78B6-4323-B6EF-3445A0657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B009A-F022-40EF-9C58-C5AE46D9E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0D463-B9BE-4CD2-890A-9D8934689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BFA2-03FD-4759-BE12-2CB5E2971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217B-CFE7-4422-947E-58717754A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9E66-CC19-499B-B2F6-87B96DA0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C543-AEF2-4CEA-A048-0ABBBBCEF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3EBB-26C3-48C7-8A1A-2BC32EAB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0C575-CDBF-4ED3-9935-4C9C7776AE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C600E-2E4A-430B-9B1C-6BCCD81B5F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2206F-74D3-40C4-B20D-7C39C2E405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When I Survey The Wondrous Cro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HAMBU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L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2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G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Isaac Watts (170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Gregorian Chant, Arr. Lowell Mason (182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8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When I Survey The Wondrous Cross_arr1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2960" y="6488280"/>
            <a:ext cx="474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When I Survey The Wondrous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When I Survey The Wondrous Cross_arr1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When I Survey The Wondrous Cross_arr1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02960" y="6488280"/>
            <a:ext cx="474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When I Survey The Wondrous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When I Survey The Wondrous Cross_arr1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When I Survey The Wondrous Cross_arr1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02960" y="6488280"/>
            <a:ext cx="474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When I Survey The Wondrous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When I Survey The Wondrous Cross_arr1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When I Survey The Wondrous Cross_arr1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102960" y="6488280"/>
            <a:ext cx="474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When I Survey The Wondrous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When I Survey The Wondrous Cross_arr1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4T17:12:57Z</dcterms:modified>
  <cp:revision>30</cp:revision>
  <dc:subject/>
  <dc:title>Slide 1</dc:title>
</cp:coreProperties>
</file>