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52E-7B77-41C9-BE5D-E9930602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D0F-F792-4177-A13B-340E775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F6E-802A-4D43-9928-CB16CFF3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94C-8DBA-4258-8946-3A7E5266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904-A944-4874-9DA5-0ED7E1EF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F5D6-1A86-400F-9B7B-A13E65BE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C51D-EF0A-4251-B805-CF18C871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CBBA-1CB7-44DB-BD7A-1E8BA68F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FEC6-0148-4C1C-B026-5A2A496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0DE4-40A8-49C7-86CB-1BB5BC9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2C42-F032-4BE6-8FA5-DEDC355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948-4BAF-4127-AA26-65D73A9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74BB-4B98-456A-8F24-E1DCBF9A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B023-1592-4F02-856D-4F1EF42E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5626-CFA1-4216-A114-99DAD1AE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510A-1E62-4674-8BA0-DF25B8E3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668F-6864-4515-9AE2-9CD8C559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646-B440-4D6C-BE01-4034D68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64E1-0503-4633-9ECA-42C65CBB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EBAB-504D-451A-8328-3DC87467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5A38-CF32-47BB-B0FA-F5C255F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A59-494B-4BE4-9592-D97FA8A0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796B-DE7D-4488-9137-53E0A87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B890-30DF-4D05-BEA7-86C0AD90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110C-CA59-41DB-B9A4-1C9FCA9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19AF-B35E-497F-81B6-CDA085C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7916-6D99-4D65-870C-1274C40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F1313-D3E5-4AF9-88E7-61D77BE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93D7-CFC7-40B0-807B-7725BC59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C611-E99E-4E10-A701-A7129F60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BA75-8C21-4E5D-9FBA-F1E84EF5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3F6-D613-4173-BD57-412CF029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A7C-2E0B-41E5-BED5-1E7FFFD7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E98-CE42-41F8-9B99-CC3D7870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244-C55C-489E-8C36-8099080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42B-ACEF-4A4C-8F9A-97DD05F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032-4215-4F21-B5E3-0F5CFC18C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1EAC-9973-49C5-8A60-782AA4AD8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E982-8E20-440B-9DB7-461A7C099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atchman, Tell Us Of The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ATC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owring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atchman Tell Us Of The N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9240" y="648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atchman, Tell Us Of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atchman Tell Us Of The N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atchman Tell Us Of The N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atchman Tell Us Of The N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atchman Tell Us Of The 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240" y="648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atchman, Tell Us Of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atchman Tell Us Of The 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tchman Tell Us Of The 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atchman Tell Us Of The 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atchman Tell Us Of The 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9240" y="648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atchman, Tell Us Of The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atchman Tell Us Of The 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atchman Tell Us Of The 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atchman Tell Us Of The 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1:55Z</dcterms:modified>
  <cp:revision>31</cp:revision>
  <dc:subject/>
  <dc:title>Slide 1</dc:title>
</cp:coreProperties>
</file>