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F168-2E71-490B-A807-EACF3709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5FFE-791D-46AC-80DB-333CEBD1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8E14-B587-4843-9C94-4D5B87C2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95CA-0449-48A3-B50E-B26144A6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5362-5EE4-4DDC-85B3-D779E48D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BACE-2C9A-4401-BDF6-72AC79D8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052B-8E89-4DAA-A02E-6BDEC34B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C3C9-897B-4C47-8E98-EA9A1428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A4B6-CC55-40A1-BD45-2E21A83F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A9D2-AA75-4827-A6E2-FC46A9F1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DB18-6138-4000-B0B9-CF1A2942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3669-2B45-4834-8CDE-9A1DA488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DDCF-E597-4615-9D3A-A1D8CD3F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73AF-3AB6-43F7-92EE-90596B00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8B75-6A59-413E-BC96-D747629E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3B8C-A49A-426C-8633-0AB77EE3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78BC-D864-478D-95F3-0B01A0FD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C33-806C-4C74-803B-83CF7EE0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7FD68-C985-450D-AD14-8510DB19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7252E-E754-4033-AD43-9C586F81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04ECD-C688-48DC-9464-5B5F1B6D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6E30-B0AA-4FAE-BA7B-21E0BB44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4123E-5A5A-40B9-8778-DF9F27E4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210F0-6C49-47A2-93D0-7CA0DCA8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83F52-C0F9-45DE-A5BD-0747AB4E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692B0-D41A-4ECB-96FB-E93E14FB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4A02F-2EF7-40EF-8BC1-9D8E9EB2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583C4-F771-4205-AF61-410F489A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3EF77-214F-4A56-B103-9C89647A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44388-4F1D-49B6-B8AA-3991FF56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200AB-218B-44CE-9F84-CA880110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FEE9-B880-42DF-8A86-54601505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DE8B-5CA3-48DC-868B-C2786DF1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717C-33FF-425C-9D51-E4F2A629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5192-051D-4BB6-8673-3DCC0A48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661A-C3D7-4839-970B-884697D8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EE7E-EF21-4EC5-AF2B-091265CAA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381C-CEEC-45E9-8465-6783672120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0F20-7A9B-4864-A8F5-C3530FC49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ork, for the Night Is Co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WORK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6.7.5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nie L. Walker (185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well Mason (18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sheet of music with notes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8800" y="648828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ork, for the Night Is C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ork For The Night Is Coming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ork For The Night Is Coming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ork For The Night Is Coming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ork For The Night Is Com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8800" y="648828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ork, for the Night Is C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ork For The Night Is Com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ork For The Night Is Com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ork For The Night Is Com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ork For The Night Is Com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8800" y="648828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ork, for the Night Is C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ork For The Night Is Com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ork For The Night Is Com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ork For The Night Is Com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6:56:13Z</dcterms:modified>
  <cp:revision>36</cp:revision>
  <dc:subject/>
  <dc:title>Slide 1</dc:title>
</cp:coreProperties>
</file>