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436-CA27-43DD-882C-24B756CC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E38-C1A4-4A7E-91D9-41274E91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3C8-9DF8-495A-9E8B-8028F032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A80-CD5F-42BA-B63E-64BE8CBF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5E85-CE36-417E-915F-F3693A12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15BB-E414-4A67-B4CD-A5449C75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E6E3-8402-4D6A-A46A-68149CB1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18CF-F46B-465F-BD25-5641DD9B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E1CF-FA7C-4CD5-B812-9840F0CE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6849-49A4-4B2F-8C54-8CDD65C3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708F-48B8-4D0D-9BA6-D63DE9EF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9B3-1BA0-47ED-AA74-B585876F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8ED7-0150-4829-BADF-3EF40E77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7178-B723-49B1-AF49-E074F533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4CF8-5BF9-4751-BAA1-41A0FF54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FB8D-F2E2-4A09-B34E-91FBCE89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17F5-77DE-47E7-B3CC-A82045D3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E10-8A1F-4D9A-A6B7-A2AB5DF1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84A57-5F57-4CDA-89D0-EFA49EF5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69039-9B0B-4EFA-B767-932F4A47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3FFA7-7205-4F3E-AC8C-A27F9995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F67-39E5-4962-A6AA-DA49122B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A703A-7614-4FD0-8C90-5E9B132C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5BECA-DDF8-44F2-B12C-B7845394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5D28A-4F8E-4156-90DF-841424F1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84720-A8E6-4E41-9E5C-7EFC4E9A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0C453-8E38-4BF6-9944-C392D4FB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3AFC0-CCB9-41E4-9B0C-ABCBFFD8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E9624-FFFB-402C-B7C2-F9E0A85E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0CFC8-11C9-44FA-A049-A2A9AED2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1CB51-E3F4-496D-A510-FFE89003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309-16B1-4F09-8593-91D97CBA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068-E5F9-4F87-9447-0B5BD5C9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AAB-8F03-4296-8870-5C9D75E0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D1A-AD76-4370-ABD6-C6C66CA5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972-43E8-44C4-9B1E-54D6D8C4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13A4-26D2-4B2D-A6DD-16190B760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26C0-8FCD-4BFA-B258-2E56C588C9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1211-2BF2-4646-BA24-8B8238457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at Shall It Pro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son Oatman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B. Herbert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at Shall It Profi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5600" y="64882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at Shall It Prof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at Shall It Profi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at Shall It Profit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at Shall It Profit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at Shall It Profi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5600" y="64882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at Shall It Prof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at Shall It Profi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at Shall It Profit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at Shall It Profit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at Shall It Profi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5600" y="64882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at Shall It Prof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at Shall It Profi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at Shall It Profit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at Shall It Profit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11:14Z</dcterms:modified>
  <cp:revision>35</cp:revision>
  <dc:subject/>
  <dc:title>Slide 1</dc:title>
</cp:coreProperties>
</file>