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416-70A1-4175-BCE3-F22489B7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BEE-0AE8-4213-836E-BA7DBC38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8B5-77FB-4BEA-B77F-F557289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362-ACA5-405E-86AC-2C421CA7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489D-0978-4B60-9333-EA815E07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8E8-BEF9-4BFF-A2F2-52960F4D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105B-3678-4532-B31D-76981A8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0B0F-B4EC-4485-AFA3-985F2B4A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069-AA62-4926-A734-F74FB87E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9CBA-A926-45C3-98F5-168C8A87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FCB-EDCD-452F-A8F7-D21788A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C53-AAC6-49A5-A9D2-5F1F328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ED4C-1F62-4FC1-944A-90E224F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9FA3-FED0-4F5A-B493-4FCAD39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BF4E-AAAC-439E-910E-EB82627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BC6-60BA-44AC-8785-21213D78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385C-2667-4C8D-B5FE-FE8C9DFD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BAC-52A3-4099-9BCB-71467A6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E0D5-D912-4C28-BB14-9885BBE7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6411-4596-4F21-A245-AB83DD43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8A78-58FE-463C-90F4-BF9CEDB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683-E67A-4180-98E4-0165AB7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734F-9AC4-400F-B4E5-9AB1CFD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383C-B728-43E7-BCD8-1104BD8C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83D9-115A-4D9E-8AE5-D04D982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4453-0971-4920-8888-72E8326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0C74-2DF3-45A5-A055-B35F0BA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E51A-7050-4ABD-AC78-55275D9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0A72-8A84-438B-897A-78B23F32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1171-CF59-4FEB-A28F-FED05FD2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907E-9DD8-480F-A503-38B7C87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76B-AA55-4E4A-AB13-99B7AE8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198-3CD3-41CB-9B13-77229E3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E3F-3BB3-4191-9522-7D814AA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895-BAAB-486A-B45B-8CDBAAC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B29-DE80-439F-90AE-AF190A8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800B-DBEA-43D4-BAC3-AE7A3079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2411-D5FC-41AC-B1EB-F6E63B2C6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044-64A2-4783-A025-7444AAC2A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en He Comes In Glory By An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A. Westbrook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A. Westbrook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en He Comes In Glory By And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240" y="648828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en He Comes In Glory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en He Comes In Glory By And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en He Comes In Glory By And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en He Comes In Glory By And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en He Comes In Glory By And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240" y="648828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en He Comes In Glory By A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en He Comes In Glory By And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en He Comes In Glory By And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en He Comes In Glory By And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1:45Z</dcterms:modified>
  <cp:revision>31</cp:revision>
  <dc:subject/>
  <dc:title>Slide 1</dc:title>
</cp:coreProperties>
</file>