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22C-7CDE-4F57-A202-40B49EC8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F1B-E586-4057-BDC6-62DF6F0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13B-6379-4EE3-B279-C3AE3DDE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35B-96CA-4A02-80E2-7C24F761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4B33-60F9-4D28-BC89-03AAC6B8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5D8-CB89-4189-A41B-28AE11DD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E04B-F9AA-444D-8637-C53DBBB7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06A6-9767-4FCF-B974-9444CAB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D91-5E54-4B62-B9F7-25258938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682-4AE8-40E3-816C-2FE560C6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3FB1-948A-4ABB-BFF6-73CD896B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1BC-2302-4967-919B-3A0D9C2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4310-C6B1-476F-9535-4C2805C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E23-BC94-4585-A6D7-65C5454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07F9-7180-4035-9E2B-64494673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1747-1C5F-484A-AAA8-D951A2A7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000D-EE41-4BD6-95A9-53FA22CF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0CF-FC82-4623-9CD0-8C78FEB5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DE9D-F928-4CA6-BED5-1D469D06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A25F-57EF-4806-AB25-8CD575B1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6A24-1B46-4D5A-A8FB-0991C93C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AD9-CC85-4050-8551-A4DD566B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AD91-98B6-4E67-92F1-BDA11958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C2EF-087D-484A-B4D0-5F713122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257B-2EDA-42AE-8ED1-1FDD1734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C42B-2386-4F42-8FA8-D9F2E93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7CEF-2CCB-4646-8146-7B76E5A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C6BA-5319-4411-B0FA-3B69627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9FFC-5955-4ECF-87B7-9835C3B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90B4-CDD3-42E8-A52F-4F281F96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0D01-7F2D-490C-AC35-E951233C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BCC-85BC-4B72-A517-34A8FFB9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57A-B829-457E-8680-49F036CA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C21-780F-4DBF-9C4B-43A495BB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895-3712-4431-AAAF-D6BDCD6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B3F-FBCA-4F2E-92C8-571F5D2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9E4C-9508-4BC2-BA77-B65DA5BB4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CAEF-45C3-4047-A140-DE14D28D6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3519-C3DC-47AD-BF57-A3C3B3E1E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They Ring Those Golden B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Land Beyond The Ri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ion De Marbell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ion De Marbell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They Ring Those Golden Bell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They Ring Those Golden Bell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They Ring Those Golden Bell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They Ring Those Golden Bell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They Ring Those Golden Bell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312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They Ring Those Golden 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They Ring Those Golden Bell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They Ring Those Golden Bell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en They Ring Those Golden Bell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hen They Ring Those Golden Bell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hen They Ring Those Golden Bell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They Ring Those Golden Bell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They Ring Those Golden 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They Ring Those Golden Bell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They Ring Those Golden Bell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They Ring Those Golden Bell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They Ring Those Golden Bell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They Ring Those Golden Bell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They Ring Those Golden Bell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3120" y="64882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They Ring Those Golden 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They Ring Those Golden Bell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2:22Z</dcterms:modified>
  <cp:revision>34</cp:revision>
  <dc:subject/>
  <dc:title>Slide 1</dc:title>
</cp:coreProperties>
</file>