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64F-E876-42B7-ACB1-A041DC15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B56-8E95-4152-9423-3152E64D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580-436D-4EA7-AF11-2963C33C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4D5-C20F-4CA8-9BE4-305C9583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7E31-D21B-4BE7-AF73-0BC25D86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056C-B4E0-4D9E-BE50-D1CA621C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BBAD-4EEC-4E35-B6C0-FFD500CD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CB1C-2572-4BBF-B048-4B6E48BD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63D6-D649-4A68-B7A5-CBF6968A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1623-CB6A-47B9-B6FF-67872A74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4961-5CE6-4719-9A03-C7048A38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31D-38E9-446B-A3F1-02FEBEDF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5950-2300-434C-972F-D00404BD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68D3-EC7E-443A-8F02-40DD0260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07C8-AECF-4271-A0E0-5635D676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00B2-C228-4B95-A78C-8AC993BE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A48F-D072-4675-9840-1996D4C7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B0A-BDF3-45D8-9959-0F827201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D5ECD-35FE-47A0-AE31-0025D887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6993F-FC61-4D9B-84FC-0DBF4461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56008-4D14-4F6C-AFBA-B41ECD56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6B7-C1BA-4697-91A4-D93E9CA9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09C1-7D36-42F4-B0C5-3FC44F50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F612F-1794-42AA-ADE4-90D9D8DE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C2DD8-09FF-4900-8745-3E6C1ABB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35586-208B-4531-963C-FABDF0AC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67EBF-5530-4035-93FC-C2F9BE2F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4632A-6245-44C3-BEF0-A245FD24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CA72-9791-43FB-879F-CAA7723F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625A-CB21-4A64-B422-39582E98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4591-EDB9-41FE-9BEA-655A974A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542-53F3-4B25-9F57-05A4971A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B50-CE33-4B21-A141-8E482B4D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BC9-77D5-471C-8B8E-444AA6B2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6C1-DA87-4B6C-9952-F22D550B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B6D-5175-4A30-9B2D-89F63F56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03D1-30B5-4EC4-B533-7B8B3AE0E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6693-D5D5-4DEC-B44B-CFF272E5CB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A387-D30A-48C7-B3E7-2D1876984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’ll Be Like 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. L. Powell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. L. Powell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ell Be Like Him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5400" y="648828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’ll Be Like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ell Be Like Him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ell Be Like Him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ell Be Like Him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ell Be Like Him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5400" y="648828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We’ll Be Like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ell Be Like Him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ell Be Like Him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ell Be Like Him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ll Be Like Him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400" y="648828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’ll Be Like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ll Be Like Him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ll Be Like Him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ell Be Like Him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ell Be Like Him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5400" y="648828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’ll Be Like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ll Be Like Him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ell Be Like Him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ell Be Like Him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8:43Z</dcterms:modified>
  <cp:revision>30</cp:revision>
  <dc:subject/>
  <dc:title>Slide 1</dc:title>
</cp:coreProperties>
</file>