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9B9-9336-49AE-B2F4-69F804AE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9E9-45BA-4573-A905-D37C6BEB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19A-9673-4540-B7FC-1F761AFF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5CC-33E4-419D-BBF7-53051AAA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649A-5567-4DAC-81EE-6095E207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5FD3-192A-4C46-8285-46910DC3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1A86-1039-4F71-8AFB-F99EE0BC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5CFA-7972-4AC4-BF66-DE213D11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BB0B-9526-46A4-ACEB-6A98EDC6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E1B4-1AC9-4DA3-9D6F-7E7F971E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02FD-F29B-4A80-AD82-4C58609C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2B7-CB7B-44BE-A3D2-257AC044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4E61-AC71-4870-9954-BF054F0A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FBAA-DA8B-45B7-BAE4-69BEA1D6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1E60-849D-4EFE-B715-D314D1DF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9153-DF55-452F-A72E-18F97E84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1449-F5D3-46FD-A43C-99431FB7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99E-EF48-48F4-8EF5-4B3D45F0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40464-5902-4F8A-AC8F-5A1E88C5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5908-92D8-43C2-9420-A23AB911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58A7-8FA9-4DAB-982E-D871EA5B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479-A014-4E2C-A0B2-8BACABDC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E2DE-3133-45E2-A4BC-4B5F3689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4BEF-9C3B-4FA4-836B-863C13CB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4375-1218-4C15-8561-091F9B5D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6BFB8-F311-4E5E-A8F4-9B3D5D82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FB6C2-9344-49D0-A197-8B72703C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E0840-F0F4-4284-BA72-01843895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A28F-8B41-469C-A3FD-C63E9328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246D8-41C8-4DFD-8FC7-52CB150B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3FECB-1056-437B-A1EF-3D6820F8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A30-1242-4BA5-A3CF-4F7CE21E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17B-11C2-43E7-BFC7-5EBDA328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2D8-969B-4F92-874B-8D59B932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667-4A5C-4676-9B81-4F282505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DA5-285B-45A0-BB71-FA010DE7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3F48-1878-45FF-B5E1-18CBA7098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7C20-F92B-4D52-AB16-77C7AB989D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9CDF-A81A-456D-9498-82B9EEB68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osoever” Meaneth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dwin McConnell (19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dwin McConnell (19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osoever Meaneth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048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“Whosoever” Mean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osoever Meaneth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osoever Meaneth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osoever Meaneth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osoever Meaneth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048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“Whosoever” Mean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osoever Meaneth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osoever Meaneth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osoever Meaneth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osoever Meaneth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048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“Whosoever” Mean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osoever Meaneth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osoever Meaneth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osoever Meaneth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0:32Z</dcterms:modified>
  <cp:revision>31</cp:revision>
  <dc:subject/>
  <dc:title>Slide 1</dc:title>
</cp:coreProperties>
</file>