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8B8-8050-4FFF-B69F-899DC50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587-D926-4433-94A6-8EAE2E00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C27-A009-4BA5-982D-7FEA9954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DBC-6450-4699-B2FF-6BD66A8A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404B-EDC1-4118-835E-36EBD67B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00BF-CE4F-42B5-9AAF-18932B2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4544-33B9-4DCD-985C-3367BDE7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FBDE-A262-4E66-88C8-BAAFBD5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A791-BA69-490B-AD16-51BD50B5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9B61-2153-4774-BFB8-CCBAB483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9F0-0B55-4362-BBC0-2E3C86F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FCE-445E-42B4-B78E-26C5525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837B-806F-43F9-AC6C-631CDA0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2423-59ED-4B72-88FA-65CB109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7C7-586B-4085-B4F5-46C1758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9F14-2FCA-4617-A240-EF6F93AF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FBF-4377-4457-9389-9BACB300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6FA-C347-452B-968E-121857F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0957-70FA-4BD6-8388-246DA697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4D42-B574-4691-9AD9-0532512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42C7-E794-4AE2-8BC4-B72D3731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F1E-FC73-4360-BE8E-8E17548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8955-B234-400A-8749-2ACF27C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B505-CABC-4DA7-B9E7-341B152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DD84-94D2-48F8-9152-4185F7D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F35D-E7C6-4246-A097-B2FF2D5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618D-4416-483D-A6A5-90716DB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9A37-BA5F-4FE3-8E5D-1F111EF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F04A-638A-42CE-BC8C-8076148A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2CF0-59F3-469C-9BEB-C09E2639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0613-39CD-45D0-A5F5-50649487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674-DD04-4E05-9CD8-41030BD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3FE-4464-47B4-A5FD-EE075CFA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C00-1CE3-41B6-8F43-746FC1E4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800-52DA-455A-ADC4-5288CDB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F17-3212-4B0C-BA2C-1CEA359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739-8450-48A8-9117-981F23BAB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61E-5C58-440D-A1DC-94D959B3E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19A-9CC0-4B31-B0FC-23C672CAE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re He Leads, I'll F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re He Leads Ill Fol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re He Leads Ill Fol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re He Leads Ill Foll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re He Leads Ill Follow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re He Leads Ill Fol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re He Leads Ill Fol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re He Leads Ill Foll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re He Leads Ill Foll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re He Leads Ill Fol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200" y="648828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re He Leads, I'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re He Leads Ill Fol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re He Leads Ill Foll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re He Leads Ill Foll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21:34Z</dcterms:modified>
  <cp:revision>32</cp:revision>
  <dc:subject/>
  <dc:title>Slide 1</dc:title>
</cp:coreProperties>
</file>