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D94-9EA0-4AAA-BF5D-F445696E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C06-CC8D-44FF-BFC2-D5C3B22B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4982-4850-4763-A176-D1686B41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D4B-741D-437D-A576-048DDF72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669D-B715-443E-8EC5-37526C00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19AC-8416-404F-A489-B90AD79B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9B19-F4DD-437D-9923-9BA01710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71EA-12F1-49BD-92CD-EA602A9A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64E4-7EBD-44FF-A7D8-8BC5E906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BC8E-C798-428C-A59F-B7F9F5AF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511B-BD14-4782-B850-62CF71F4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55D3-DCD5-43E9-BCE0-52201767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61F2-4D9B-42D6-B20E-6D829785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F209-C71D-4252-8E56-15A92539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E683-D555-4215-8818-CFEF5624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562F-3DD4-498B-985A-86732996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6BF3-099C-4704-AF76-CAC35A5E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6DC-079A-4C3C-AD7D-F9C4323E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21586-D77D-45A1-81DA-BD94E773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E93AF-F622-44E0-8AE1-B9E45747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D4497-AAFE-45A9-9E92-253B5EE8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C91-7285-4C10-B6B0-5587288B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FEEB7-C339-43B9-A8F3-654E1703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00BEC-ED53-478B-9425-118E4F3C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1673B-74CA-44DF-A636-E4306FFB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9508E-1058-4389-9D6C-5254FDA8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DA39F-5EAA-41C1-A8EB-7CFF4434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9C82C-6FBC-4C9E-8BBA-B3D19D1E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8888C-C899-4460-8724-CD371DFE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49BD1-AC1B-4162-90DF-7020EFD9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299AD-7572-495D-B7A5-8359D279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373-21E8-406A-9F05-89966C3B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689-1686-4337-A9A4-D826109F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00B-EA62-4BAD-8E04-EE4A0C79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D14-0A75-4B81-913F-DD2D12CB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1AAC-0991-4E1D-9DF2-CAA4B0AF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47C9-155A-489F-984A-DE8DC2031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E9A4-1582-4668-9C70-663A5F26AA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41EB-1E4C-40C2-9FA5-F7448A737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ill Jesus Find Us Wat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hen Jesus Co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H. Doane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text, sheet music, 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9800" y="648828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ill Jesus Find Us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ill Jesus Find Us Watching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ill Jesus Find Us Watching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ill Jesus Find Us Watching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ill Jesus Find Us Watch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9800" y="648828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ill Jesus Find Us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ill Jesus Find Us Watch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ill Jesus Find Us Watch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ill Jesus Find Us Watch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ill Jesus Find Us Watch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9800" y="648828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ill Jesus Find Us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ill Jesus Find Us Watch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ill Jesus Find Us Watch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ill Jesus Find Us Watch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33:06Z</dcterms:modified>
  <cp:revision>38</cp:revision>
  <dc:subject/>
  <dc:title>Slide 1</dc:title>
</cp:coreProperties>
</file>