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C57-D4A3-43EA-A6F3-E2297FE3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5EE-9A44-4662-A86A-E86031C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DB3-EE6A-4877-A17D-2F8DC712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770-6E18-4C2F-9D9D-E0FC0926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CC98-4FEA-464B-8253-5F56FF3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CACF-D554-492E-8211-A408CA7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204-F836-4363-9EB5-0E0D7C07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865-1FD8-4862-8965-CDA36365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8699-73CD-4DC9-9BBA-801ED009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178-328E-40F4-AD1B-024818D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33D3-7613-4CA3-8F1D-E6BD333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C6A-CEA4-4590-AB43-A26229A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443-8B9F-4436-AE81-1A53B59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B89B-C134-494E-9E42-19BFD18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300A-391B-4206-89DA-07C3E3C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3C6E-1B4F-404B-8DCF-E36A413F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581E-15F7-4AD0-82E4-2B7D5B5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951-E149-4477-B49E-8AB45700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1F50-AEC2-49F7-B5B8-520A9362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28BE-2998-4B54-A659-F90A230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E9AE-25EE-43A0-82B9-CAC00329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3D3-25DB-4E57-BFD7-6F661F6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ADCC-C883-44F2-85EB-C809C8D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1EDB-7FBF-436F-9445-FEFF0B5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3AC4-C229-4858-BA3A-478EF9F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6A22-D24F-4AF4-9BC7-34AC961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3EBB-0779-4AF7-BDA9-F890A3C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2821-3E23-4128-8106-84D9208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DFBD-6915-4877-9110-9DF52E1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80C2-9118-4C14-BE44-6E860F85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8647-B5D1-4620-AF29-83CCF584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ADB-59ED-4D40-A58B-A1DFBF6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64A-536E-4DF9-AA75-A1E9C1D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725-2188-4719-B960-6AFFA8C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744-A119-418D-8280-2C72956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83E-5CF7-4D1D-8994-B040D23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F5E8-5BB8-4D46-989D-244C5E0BA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225-05FA-4AD0-8E36-8677CB3ED9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16F-630A-4E09-8DC2-40B85D082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lcome, Delightful M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IS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yward (18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Schneider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lcome Delightful Mor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08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lcome, Delightful M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lcome Delightful Mor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lcome Delightful Mor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lcome Delightful Mor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08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lcome, Delightful M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lcome Delightful Mor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lcome Delightful Mor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lcome Delightful Mor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08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lcome, Delightful M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lcome Delightful Mor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lcome Delightful Mor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12:28Z</dcterms:modified>
  <cp:revision>35</cp:revision>
  <dc:subject/>
  <dc:title>Slide 1</dc:title>
</cp:coreProperties>
</file>