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522-9DA4-4C28-B664-943266B1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D2E-2557-4C65-9B50-D8EC21B3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A8E-CEFF-43FA-9732-107AC771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559-F02E-4DD7-A0A4-B127FDFB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8E00-5D12-4CE3-8067-4BC18BE1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E8D8-6716-4809-B3F3-D603A34C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0D73-7911-45FD-999C-1B400ED6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2792-026E-46A4-BB19-2F3C58C9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82E3-EC02-4A14-B06A-7E0C1F66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5F7C-BFA5-4C4B-9123-E3F3AF27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28B4-DF00-4574-8152-0358E3C7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EFC-9C66-4314-BBF1-05851B4E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5359-684D-425A-A29F-050AFE4C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17A4-EA5C-4A3C-85A1-A7FE16C9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8312-2E04-4A6E-AEB2-84FE28C3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97DE-8C42-4439-80F4-C5679C87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75FF-4285-4BB9-9D72-A0BF590D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883-EECF-478A-8895-F96F7DE6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4510C-16CF-4A53-BCD5-7231E9C5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860B4-3274-4320-B025-2B80403B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16FBA-47C0-4B87-ABC5-1DC7FE14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B91-F05A-49D4-935E-30123D29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56F5D-7593-4671-B5E9-9AE9CE96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ED28C-15CA-4D7A-9452-900F5C24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A9A22-0FB6-43AC-AB99-B0FBE619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5C65F-6698-47DE-8D5F-5556DE63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ACF79-900E-4F86-A2BC-ED7EFA9E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7C2C8-4D1C-4BEA-BB29-10EA2C6F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B59E3-5A0A-43FB-9018-600B0FD7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83002-4E71-4923-9D91-B1FA9DA2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74805-E961-4663-919D-AA4007D6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592-8FE1-4B91-94F5-633F725F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743-AFC0-40F9-99F5-95A13973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4C9-BC67-4FC3-858D-F9D2609B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75F-30C4-45D5-A829-E496EBEB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93E-8F32-463A-B7DB-378C1C97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8AFA-703B-4842-B418-3B5399892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E34E-CACD-4046-8F7E-CA9B33F575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DD19-80A1-4A5D-B18C-3715B68B6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n Days Of Toil Have All Gone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Heaven For 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ivilla D. Martin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Stillman Martin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en Days Of Toil Have All Gone B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en Days Of Toil Have All Gone B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en Days Of Toil Have All Gone B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en Days Of Toil Have All Gone By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hen Days Of Toil Have All Gone B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3560" y="6488280"/>
            <a:ext cx="47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en Days Of Toil Have All Gon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hen Days Of Toil Have All Gone B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hen Days Of Toil Have All Gone B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hen Days Of Toil Have All Gone B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When Days Of Toil Have All Gone By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When Days Of Toil Have All Gone By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n Days Of Toil Have All Gone B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3560" y="6488280"/>
            <a:ext cx="47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n Days Of Toil Have All Gon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n Days Of Toil Have All Gone B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n Days Of Toil Have All Gone B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n Days Of Toil Have All Gone B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n Days Of Toil Have All Gone B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n Days Of Toil Have All Gone By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n Days Of Toil Have All Gone B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33560" y="6488280"/>
            <a:ext cx="47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n Days Of Toil Have All Gon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n Days Of Toil Have All Gone B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12:21Z</dcterms:modified>
  <cp:revision>32</cp:revision>
  <dc:subject/>
  <dc:title>Slide 1</dc:title>
</cp:coreProperties>
</file>