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2421-1C07-4B89-9C32-DAAE34431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B0CE-2F49-448F-AD9C-B94BD3D9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D4CE-6B85-495A-8D87-D3F8C0EB9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7B21-81A9-454E-96C8-8732C8E56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FD86-13B0-43E8-8643-0D864BF5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585A-8B55-47B5-B4BA-FB4FB738C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B270-7BC8-4D71-BC1F-B73CB4FA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C9E6-9F9F-45F9-8E0F-20AFEBBC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9CFB-972B-4D50-938F-C0735BD1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7AAB-4774-4587-85B6-CC37C0CF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8E2A-CD45-4C78-BA17-2DF30225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B48F-4DB6-421F-8AB6-BA866E78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6DE2-E3FE-4102-A602-C6762FD0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DC60-C3F1-419F-B59E-218C70F4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5098-23B6-4B4D-8560-24A0495C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3055-6125-477D-AD11-48E02788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7F21-DB2C-47AE-A2D6-8957BD7EE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C0AA-F341-4BF9-9638-4C5D8DD9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1153-F389-4FCE-A8BB-646C5731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E5B8-AB4E-4AEA-B996-CC1DCE94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2BD9-6258-48F1-913E-459EB1D5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0245-783F-490E-8A8C-D9DFDA55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B0C1-F431-4B61-B560-7AFD1B6F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31A8-C0F4-4214-8D36-C851E4DE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1360-F257-4236-AC5C-434CECD06E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4C0D-475E-48F5-8DC5-1F1482E1B5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e Have An Anch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Will Your Anchor Hol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riscilla J. Owens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J. Kirkpatrick (188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6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A picture containing sheet music, text,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84600" y="648828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e Have An Anc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 sheet of music with notes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A sheet of music with notes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51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84600" y="648828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e Have An Anc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A picture containing sheet music, text,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 sheet of music with notes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84600" y="648828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e Have An Anc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 picture containing sheet music, text,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A sheet of music with notes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6:52:55Z</dcterms:modified>
  <cp:revision>30</cp:revision>
  <dc:subject/>
  <dc:title>Slide 1</dc:title>
</cp:coreProperties>
</file>