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74F-91F7-4862-B6D5-02052128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87D-EA3E-411F-9E90-97D6DD1F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32A-2257-41B1-B431-A4521056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021-2AAA-42C1-8068-7AED07F7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A20-00F0-4919-86D8-EEEBE999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C4C9-7798-4FD6-BFCE-9A25B4C3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5296-0467-4C51-8312-E9A879F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AC33-2FE0-4D56-B5A5-31E6C9F4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5AA5-138B-4CC5-AD76-9FAB2CB3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2D40-9E74-4D25-B970-3F9B0A07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80A1-BC22-429B-8CCC-5F73B292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6CC-FFB4-48AA-8C0F-057F57E7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DEF8-47CD-44AF-AE50-A066F445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D748-0A5B-45AD-80EA-909D2D27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1DE2-7371-4E46-A9E9-440D4729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7C6F-CDCF-473B-9800-65203F9E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310F-E39C-4A5B-9D1B-ED1ECA1F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EC6-957C-4E0D-A0B2-1D55A079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3B62-3712-403E-A628-17E8F348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79C2-E8AA-47BB-A903-56D07FC2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9FD0-AB4B-4DAF-84BE-8B1AF01C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D95-DE20-4402-9284-34570651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5B6F-DF66-4A2D-B0A2-5A8AD4F1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37FB-C00E-4D49-A72D-01FAD6F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C050-E71B-41E1-9B23-1D6B4ED6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F814-C145-4845-8166-999C37D6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0A57-49A8-4E19-8830-734022E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416A-FF49-458A-BF4B-634A612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7388-596A-467E-B018-1B1BC0C2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0705-8C73-4693-A216-D7352911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E72F-5F1D-4046-803D-10A9AC39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75D-CFBD-48B6-B5DB-1D7D6456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E53-B5E3-4F3D-B7E4-8E8197A6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247-7F1D-4E76-B889-3E8A4B9B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F40-16CA-4663-A844-057E81B5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F3A-820B-4ABE-B296-582AA4EA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E42F-A8A3-4B0C-8755-257D29F59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E038-25CA-4A8B-A249-FA384F1DF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88C1-19A8-44C4-A905-8DCA20DAC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e Saw The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e Richter (1834), Arr. John H. Gurney (18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e Saw Thee No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360" y="6488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e Saw The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e Saw Thee No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e Saw Thee No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e Saw Thee No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e Saw Thee No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2360" y="6488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e Saw The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e Saw Thee No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e Saw Thee No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e Saw Thee Not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e Saw Thee No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e Saw The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e Saw Thee No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e Saw Thee No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e Saw Thee No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e Saw Thee No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e Saw The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e Saw Thee No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e Saw Thee No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e Saw Thee No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6:53:31Z</dcterms:modified>
  <cp:revision>30</cp:revision>
  <dc:subject/>
  <dc:title>Slide 1</dc:title>
</cp:coreProperties>
</file>