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639-40D0-4556-8E7C-52B03317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B14-52DF-4BB5-BD73-E2BD8B20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3A0-F535-4853-958C-EE167574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5CC-E835-4772-BF74-1AA641BA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67DF-CEAB-4151-82FF-82072AA2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0F2A-F196-4952-8E00-FA00728F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3D7F-DC5B-4826-84BF-349D14B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4773-88DD-44BB-9FF1-C6676D7A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BA7-05F0-4D78-AADC-3A7F412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EE6-1622-43EE-91C2-B809644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D4BA-BA85-478F-8DD9-63422E5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858-3919-45FB-A542-51B6CFCF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E940-6DF3-41CD-924C-756FF97A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7127-8D0B-4F24-B727-7D1A6898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3503-7A6E-45D7-A725-0B65C3A1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5685-CB8C-40E9-B75E-22AC9B36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36F3-67AE-4BA5-802F-27ECAEF8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74C-27B4-4473-A889-957A5704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5C6F-B23E-429A-8441-5338E544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ECD2-525F-4700-ACA1-587BED89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7CE5-7138-4C4E-A7DE-67571C24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162-0BA9-4CFE-ABB7-6D2DE0BB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7B34-BD71-428C-812A-0DC6CC75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F944-FBCD-4D33-9528-647088C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5DBB-AF51-4518-A0E4-63453716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9EC9-E3A2-4A84-A025-391709DB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A237-1ABB-4C29-8DFE-10EBC1B6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E49F-6610-4E7A-8AFA-3D9EBF96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32BD-3DA7-4502-81D3-818F653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5A69-52EE-4D93-AC19-BCB3B8B6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BCCD4-8589-4825-90F3-B981A5E6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A9A-EC66-4CD7-80C2-6FE5A4BC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DB4-A69F-4415-8F7C-4FAFE6BE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56A-7330-48FA-8A55-8F395248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88A-3E16-46F2-9A2C-6B8D048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32B-E59E-40D6-8323-E917B48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A0E1-2C25-4921-9E7A-E018E80D5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901A-4370-46E0-B85F-06FB35B66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A039-487A-4F15-A6FC-582022FE3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at A Mighty God We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1 Traditional , vs. 2 N. B. Chumb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at A Mighty God We Ser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2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at A Mighty God We 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at A Mighty God We Ser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at A Mighty God We Ser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at A Mighty God We Ser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92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at A Mighty God We 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at A Mighty God We Ser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at A Mighty God We Ser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9:26Z</dcterms:modified>
  <cp:revision>32</cp:revision>
  <dc:subject/>
  <dc:title>Slide 1</dc:title>
</cp:coreProperties>
</file>