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413-BFE8-48B2-993C-4322BEDB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72D-3F4E-4472-A2D5-A2E2D397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16D-44B6-4361-8C96-3253BCA3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6A7-B7E9-4162-B279-3DC9ED73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7C01-4B24-4788-B63A-E68AFCD8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A5E5-054E-4920-876A-35BAC789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C8F4-B323-4BDB-957F-FA6447D2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088E-CA0D-40B4-8652-2C9A11E0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5983-4A35-4876-AB59-FFE11AE9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3C12-C1DB-4ECE-A5D9-ECD9C06F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B229-A401-4CF6-9750-0AC00FB6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A92-11EE-4E14-9D8E-81D6776B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5B30-DE08-4243-A476-D2279C27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318C-4D3F-4DD5-82AD-73E6996D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3EA3-E4D3-4F2D-9996-12C7A2B7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09B3-7302-49C6-9273-B3F9FFA0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0BAC-B94E-4F19-B2DF-27FAA767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8F6-2670-4347-895A-BB939CA2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D746-5F82-4C88-B350-06A5038D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BD66B-EEEC-4290-9FA8-DDB77C40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010F6-08CD-4E00-9E43-B9E45A74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DC5-1B04-4C41-B81E-66538D71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F7E1-DD0A-470E-A0EF-0DF51D9A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A770-83B4-455E-A68F-1063847A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A6CEA-88A1-4206-A50B-59D6D5C8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ED18-1093-45F0-B77D-91734A67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2EF3-3BCC-489A-B9B6-9D996617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5F29-A369-47E9-BA43-06F6A061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23936-02A2-451B-8861-DA6F3032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03D1D-F63E-4A0C-BBC4-851F53C8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8A6A-E89F-47B1-9771-2E3E882A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BDC-C654-4D60-9984-EBAB52D2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61B-1B31-4442-A51E-1519520D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A9F-D6A0-4257-AC71-9AE18AF1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0CA-DCA1-423C-BD08-DF5447FE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6FC-FA2F-4A39-AC4D-ACFB5BB5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1616-D93F-4B7C-99D1-1E5D7DAB6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C588-8054-4E04-B74F-5D281DA4D0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297E-F370-463C-B380-711536B92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ispering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eptimus Winner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eptimus Winner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ispering Hope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ispering Hope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ispering Hope_arr2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ispering Hope_arr2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ispering Hope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9840" y="648828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ispering H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hispering Hope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hispering Hope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hispering Hope_arr2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hispering Hope_arr2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hispering Hope_arr2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ispering Hope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9840" y="648828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ispering H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ispering Hope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ispering Hope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ispering Hope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ispering Hope_arr2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ispering Hope_arr2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ispering Hope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9840" y="648828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ispering H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ispering Hope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8:27Z</dcterms:modified>
  <cp:revision>36</cp:revision>
  <dc:subject/>
  <dc:title>Slide 1</dc:title>
</cp:coreProperties>
</file>