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B0D-5060-489F-A069-0B328D56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BB8-890A-42B3-8685-4A33A4C2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C9F-B9C2-4953-B9B7-D902DCCA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2F1-B0A1-4E73-8727-99ADB59D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032-77E3-4201-9078-6B07AF61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2021-67ED-4086-A40B-6A1006E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795D-9D8C-47FE-9482-9DE55318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47B5-BF29-43DF-A1A9-A7144B1B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EE6B-44ED-4D2D-98A3-541E34C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24E4-CA1E-4C0E-A301-3BECF07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4B2B-A5AE-46EA-B91D-93D64E3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49E-95E1-4A78-A9BC-4A00C4E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7461-3333-4A58-8DE2-11FE57A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1CCA-22B2-4909-AEDC-5062F34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3A9-58E9-41F2-B45D-70CCE2B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9F6A-2916-4E44-BD7F-1C636FFB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34EE-E083-433F-BEBA-7C71CD17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B1F-16C6-4947-9DF3-3AD1BD98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9DA3-7B82-49A1-9FFA-FEE21B4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1BD9-9732-4F69-AFB0-CB1327AD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F90F-0B6D-4FA6-BF12-23117C4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A82-DBD8-4254-B7E8-4B48B92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47D1-7D21-43AB-A3A3-C857BD8E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771F-7A7F-453E-AA14-597B6F1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D8C4-00F4-4172-8E49-9791CA0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6FEF-F81D-4680-BDEB-151CA5F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648F-266E-4C1C-9747-AED06D0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B171-6894-47BC-9037-E326EA7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BBD0-4052-42CF-BE9D-7836CF91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D022-671E-4538-BD71-874FD3B1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D507-85A9-47A0-96B7-450B8BD6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50D-B0FC-41E7-AE03-F5C43FB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875-B331-49BC-A837-FDA44E64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9EA-D0B7-46CB-9A1B-DD48F13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B9E-33AC-4FCC-9737-6DD1BC6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A6E-5E76-4E6E-AD1C-B0AB9B4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4037-A572-4C31-BE09-88CBE159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49B0-2D8D-456B-9F55-4FFBC67E6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AA0-87ED-4DAB-9A4A-0A0B2B035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Do You Wa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Do You Wai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y Do You Wai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y Do You Wai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y Do You Wai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Do You Wa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Do You Wa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y Do You Wai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y Do You Wa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Do You Wa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Do You Wai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y Do You Wai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32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Do 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y Do You Wai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2:34Z</dcterms:modified>
  <cp:revision>31</cp:revision>
  <dc:subject/>
  <dc:title>Slide 1</dc:title>
</cp:coreProperties>
</file>