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DBC-A71B-41F7-AD5F-83AB7E2C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796-B4FE-4577-B837-E8104859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43D-38E2-4D45-BB90-990228AB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C01-516F-4F5D-A738-8CF1CCFB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732-B9D0-4C1C-B5A7-1EC64459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1D9-B199-4730-8D01-76D570C9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07B5-1086-4B27-B9D2-4007AE83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0502-34F5-4031-893F-54811429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FB64-E99B-49FC-B0CA-23B97126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B77A-C913-4734-A1ED-0CF63B13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49B6-A291-43A8-AA68-3C03AED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BEB-35FD-467F-8662-E3D7432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5F0E-7E0C-4F55-AC3D-D5F8BCA3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49C3-0688-4C8B-B431-6FB4D85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BAE8-E3D5-47D4-9340-B896B28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9667-2AFE-4CE1-843F-A62A9EF9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9A96-42C5-41F6-98F1-C593EBCB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8C2-4D8A-4FAB-94CB-AA4A0AF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E83B-96C3-48A8-A593-246A9EC8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7FAA-27E6-4E83-9EF0-1421C48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C35D-BCE0-4E3C-B40D-E9D7FE45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E7F-2C9B-46BD-8F0C-5FE2C63F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3ADC-2BE8-45C2-A2EC-087DFFB5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FE65-4F9B-41FB-B3AA-767243F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C963-2CA3-44AD-B1F8-676B226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F244-4997-4C0D-9BE7-E59724E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4DAA-2019-4637-B6EF-E3C70C1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2207-7F14-46F2-A2E1-1AD4DD79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369C-419C-48B8-95E9-C7011F8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33CE-7619-48AE-9054-CC2EE067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53ED-1D65-48EB-9804-BCBE0FDC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259-AAFA-4ED3-BF5F-A5B9D502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CF6-FE89-4FF6-9B5F-1816CC71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572-A927-41CE-BBAD-D27EBEF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440-B0AE-44C1-B782-5F3FA130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CF4-D81C-4556-B34D-FBC6B548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6103-D57A-4CE1-BC9E-359CC5FCE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76D-4FE6-4D9A-829C-E0623A89E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D293-D23D-4ED0-B825-C46D96E96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ON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Scriven (18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Convers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at A Friend We Have In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43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at A Friend We Have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at A Friend We Have In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at A Friend We Have In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at A Friend We Have In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at A Friend We Have In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43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at A Friend We Have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at A Friend We Have In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at A Friend We Have In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at A Friend We Have In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at A Friend We Have In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43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at A Friend We Have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at A Friend We Have In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at A Friend We Have In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at A Friend We Have In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10:39Z</dcterms:modified>
  <cp:revision>32</cp:revision>
  <dc:subject/>
  <dc:title>Slide 1</dc:title>
</cp:coreProperties>
</file>