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F86-CB73-4F43-8571-F54FFE5B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40E-8CBB-49ED-BD80-9028275B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A04-42EA-4E0F-B8F6-B3AF1B17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3C1-1EBC-420F-B1C7-FE5C5DF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520F-22A3-4605-9FD5-19E7261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0F96-DE39-42BC-98C9-BF23DF2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1C70-54BC-44D2-A3C3-69A5856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F9F-9A61-4243-AA9C-1964C39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1349-9103-4A60-B386-676FC08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B7E-2E9A-41A3-903B-120F24D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786-D599-4925-8E7C-A456448C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DB2-FAB5-4CF2-BB08-8137CDF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C41-431B-4C25-A772-B4CAEE5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988D-C9D0-4C4E-B3CB-D5FCC54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1BBA-8000-405D-A075-885A30F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1DD-602D-4BC7-B273-5A212267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96A-A368-466F-AF69-AA8F1136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689-60AA-43DD-B902-309CC13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213C-C74D-40DE-A499-A6263307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0F74-5419-4A93-BBF4-2BC1901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CFCE-7F90-4D8F-A965-71266A0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073-3183-456B-9C73-83D986BD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A2D8-9948-44F3-B569-43A4EA06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2A31-896A-4D8D-8661-8D395B13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6ABF-24C8-4CD4-9ADE-F8A89CA6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60D3-8C72-4DD9-900C-CBE95B2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6897-7FA6-4DDB-99E0-6154DE7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96E7-1B59-4AA8-8085-B86B6A4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1FD0-7C9A-4DDC-9528-A0E1EEB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7259-8FA1-4791-B3CA-C651CCF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ED2C-A75B-4B37-814F-D1F4D86A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BF3-ED4A-493C-8FA4-2B3433F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AFF-70EF-44C8-802F-BD18392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038-098F-498B-9464-F1BF84F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6B6-AA81-4966-8DD5-753C737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6FB-497F-47A7-8ECA-B187EA2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4A9-6CB1-4D3F-9FCD-E129ACB08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A10-B6E9-46E5-BE8A-29C6C5DEE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CC0A-0412-4CBB-87E5-A7AC20747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Gather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REM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.11.12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alerius’ Collec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2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Theodore Baker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alerius’ Collection (162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dward Krems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Gather Togeth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Gather Togeth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Gather Togeth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Gather Togeth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Gather Togeth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720" y="6488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Gather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Gather Togeth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2:23Z</dcterms:modified>
  <cp:revision>30</cp:revision>
  <dc:subject/>
  <dc:title>Slide 1</dc:title>
</cp:coreProperties>
</file>