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019-DEB5-466C-8BD4-A0AE8F3C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789-A471-444B-A50B-0B4AE036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4BF-85ED-4588-8F5D-C3726281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A98-927D-4DC8-A8DF-FA736D60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B0FB-7A3B-4E7C-A534-A211D0D1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27FA-2726-473F-91A4-4D67C8A4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5905-431E-4182-BD3D-7F628994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04C8-DB33-4745-A0BB-8C4BB7EE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5B9E-3ED0-4D18-B4FA-086902F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0E66-2D02-40A9-A1D1-40392772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F48A-2416-4B37-9109-E323D608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417-A42C-46C0-B668-2799B426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650E-4C50-47C6-ABF7-DD6E1AC4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B1D0-088D-4DEC-A589-2C2BF230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693A-F330-4CE6-A86C-BA9691B0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25F1-2F40-4802-B896-E7CA9EAE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D88A-F753-4289-A889-9EF7DE8E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2CE-60D1-4C31-8583-4B264FDD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4C95-80D0-499C-8977-FBFD3E6F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45C4-6517-49AC-90CF-DEC4C78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0E53-E3EC-4A7F-A003-A4DB633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360-19EC-4354-9EDF-9B5FF75F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A233-F486-4F76-90E8-DA79F2B4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AC06-8BFE-47EA-9768-702A61D4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D614-F065-451C-B578-4FBE555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1DA5F-923B-4586-A8C6-2B9883C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776C-C705-4918-9283-C118FEE8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942B-90CA-4BF5-B2C6-FCF9C4F2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683C-B479-46CF-A1F4-8825ABCA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2258-B46B-4815-936E-403EC629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72AF3-D51E-47A7-9D95-CE916A7F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16D-BBFF-43CF-96AF-83064E20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A63-08AD-4DD6-BFBF-1D8B40C1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E7A-64DB-4E38-911B-ACCBB2FF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4A1-BAAB-4584-8E87-E60EF4E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879-9E5F-4D8D-8A9F-0601A7B8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BC34-D81D-4C4D-AF22-2AE42536E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E1B7-1451-4CA9-973B-16795C85A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01E6-368F-4260-874C-61330C981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Shall See The King Som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E. Jones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E. Jones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 Shall See The King Some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360" y="64882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 Shall See The King Som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 Shall See The King Some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 Shall See The King Some 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 Shall See The King Some 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Shall See The King Some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360" y="64882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Shall See The King Som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Shall See The King Some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Shall See The King Some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 Shall See The King Some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 Shall See The King Some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360" y="64882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 Shall See The King Som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 Shall See The King Some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 Shall See The King Some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 Shall See The King Some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4:01Z</dcterms:modified>
  <cp:revision>33</cp:revision>
  <dc:subject/>
  <dc:title>Slide 1</dc:title>
</cp:coreProperties>
</file>