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685D-E2FC-42E2-8817-C1987C857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0283-94E5-46AF-BD6B-958059DF3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AF6D-D49D-489A-A9D3-5D0FC0791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B5F4-E2C2-4FE2-B33B-10D94183E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9691F-32CB-482F-A5A8-91DF93FAE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51894-E6DF-41EF-8EB2-5B9B54DB1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ECCF1-2C98-434C-AEF1-1EBF66693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A41E1-85A1-4FBD-91DD-01891DFB7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1E814-CF93-455F-8BC7-4B9E9F50A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E47DE-A65D-402A-95EA-E5E23A16D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59FB4-12A6-4E4B-A3C5-FB7667AD9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B41A-6AB9-4CF8-9FE4-99355F18B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78920-4E4E-4043-9559-CAEE31545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8DAAB-F001-459A-A074-ABEB05CAB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7851D-F1EE-4754-9469-970D642C1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8D865-0C37-44C3-94F9-F9DE43254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0890A-7FDF-4D4E-AE36-A650FB1FF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4D59-4E91-49CC-8B3C-49045F75E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BBA24-87DE-4E6F-BFEA-D59EC0225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943B5-F6AF-4DAA-96F9-D8E576D9E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B52B4-082C-41EF-8FE8-E454608E8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AC26-99DC-4DCA-B5D2-F98AAB59D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998CA-5207-47FE-9BD0-D339975A4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73228-A85F-41BA-90A0-BAE6A018D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2F093-21E0-49AF-93E2-451281D49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39AB0-1C07-48B4-BA13-95CE86A9E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070B8-ADD9-46C2-AB2A-87EF4AB30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687FE-B0E4-4522-8891-194F18FBD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C8A46-EC5E-462B-BD62-428A6AB23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8A4DB-5569-409C-9181-1D3928E55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98290-4620-4FB0-8075-5664FBCD1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2654-F1D9-46D2-B33F-5FFB9E1F6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1D82-9AE7-4A2A-9639-121609A28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73F2-C345-4228-B853-52842D890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044A-0782-4D24-AA7B-7D35B0176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77E7-D768-4321-8A1A-0E87B287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A8E6C-A0BB-4342-83C1-ACC7DDE713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E7223-13C4-4F6B-B0D9-A95CDE7C75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0E8A6-2E06-458F-8026-A72B055D0F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Who Will Follow Jesu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D/A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E. E. Hewitt (189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iam J. Kirkpatrick (189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9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Who Will Follow Jesus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92520" y="6488280"/>
            <a:ext cx="331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Who Will Follow Jesu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Who Will Follow Jesus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Who Will Follow Jesus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Who Will Follow Jesus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Who Will Follow Jesus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2520" y="6488280"/>
            <a:ext cx="331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Who Will Follow Jesu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Who Will Follow Jesus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Who Will Follow Jesus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Who Will Follow Jesus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Who Will Follow Jesus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92520" y="6488280"/>
            <a:ext cx="331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Who Will Follow Jesu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Who Will Follow Jesus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Who Will Follow Jesus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Who Will Follow Jesus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4T17:29:53Z</dcterms:modified>
  <cp:revision>27</cp:revision>
  <dc:subject/>
  <dc:title>Slide 1</dc:title>
</cp:coreProperties>
</file>