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6CD5-0DB3-4DFA-A9EE-52B0013D9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68D3-5987-4C20-8512-00712E71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16A2-186D-4C49-8C35-6A2EBF4C0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56F0-40F1-4391-8B4E-A17D16E11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8647-910F-4189-BEC1-A7A2992B4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51B8-CF49-47B5-9D3B-24E45F5C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8EDE-DC97-478F-9806-69900121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745B-1785-421E-B7B8-4B3DA51F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85E7-DEDC-4A66-B286-33561D3C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B707-AF1B-4B21-A387-9DF34A2B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75AC-2C5D-4543-9F7A-7F1A317E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84AC-5954-4E76-A11B-B3DEAACB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5EFD-18CB-4F84-8F60-4A78B9F4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90CB-5FAD-470F-915E-E20231E9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8F76-1023-4E5A-B792-14C6A21D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A1C6-34E3-4A71-BFE1-99F8A0014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B21B-8E9D-4DB2-892F-C7DC88A98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9FAF-8C34-4269-BF08-C1502D65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6198A-DBCF-409D-8B43-3EDD477F5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851C4-6030-4752-897C-19C9AB6F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52182-E8FA-48A0-B795-EF1710B1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D9CA-3514-43E5-A9DC-2255D565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F0AC8-0308-411D-B7AE-7C14A540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6E888-A18D-4984-857F-57ECF635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D987A-AE1D-4F98-8990-8395AAF1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E4BDC-B367-4961-ABAA-36D4E0B2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97C3B-2EAD-4665-9FF2-672B8EEB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70CC4-8FA1-446F-B8A0-E8075F4F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6748E-5C36-460E-B826-98EB1F05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27F45-904D-4C31-AA92-F4364BB40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8F7DE-5256-4E04-8E79-37911FA69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5D4F-A740-4A71-92C8-020A197C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393B-FA87-4DC6-B91B-6DC015A8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AB5F-7430-4D3D-A228-AF1289BF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85CB-0ABA-48A1-BE0B-9E7F8308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0B19-95CA-43C6-83F0-14ECF771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0C0C-ED3D-4BE8-8A19-D7D637D80A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AD5E-52AF-42EF-AA56-DC14E9093C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8B12-1BEB-4F6B-B9D4-265072EA93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ho At The Door Is Sta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Knocking At The Do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. B. C. Slade (189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yrus S. Nusbaum (189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2320" y="6488280"/>
            <a:ext cx="401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ho At The Door Is 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ho At The Door Is Standing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ho At The Door Is Standing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ho At The Door Is Standing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ho At The Door Is Stand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2320" y="6488280"/>
            <a:ext cx="401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ho At The Door Is 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ho At The Door Is Stand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ho At The Door Is Standing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ho At The Door Is Standing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ho At The Door Is Stand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2320" y="6488280"/>
            <a:ext cx="401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ho At The Door Is 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ho At The Door Is Stand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ho At The Door Is Standing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ho At The Door Is Standing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25:22Z</dcterms:modified>
  <cp:revision>37</cp:revision>
  <dc:subject/>
  <dc:title>Slide 1</dc:title>
</cp:coreProperties>
</file>