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519-AF04-4F76-8333-8949EEBD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827-252C-4014-82E8-96C0AE4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85C-D8C4-4E79-8641-54DED1D1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655-7CBD-4425-BC55-E55776A0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CD47-E636-489E-8E1C-59DA6F79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169-736C-4ACA-8B4B-E138CF3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ABDC-2434-4257-B88C-8669424C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79B6-F7A2-47AC-9717-8F47E20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A8B5-ED77-425C-8E9E-59AAC408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D345-02EE-4E2A-A430-9426475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22DA-F899-401F-B7AB-668538C6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21C-FC94-4DEA-8616-23A1A611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7FB3-FD0A-453C-B8B2-0379482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FBD5-63A4-4723-853A-7AC4987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7CB4-BAED-4871-A05D-A2178E5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AEC8-3FBD-4FE5-A308-41B6D1BD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15E4-6C43-421B-894D-3C268419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FED-4A1D-4730-A138-D9A1825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3EE0-10CD-4966-9619-C8ED43C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4BA9-D6A2-4A55-9D75-9F157A6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A626-3EC3-47AE-9752-DC5E161B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A94-FC59-4475-8D97-0F5508B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5008-A136-44C1-B5C5-6C57A628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CF16-B8C8-441D-9B21-2EDF3796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79B2-6465-4733-9719-99B24BE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560F-7FB1-4AB9-87F7-EBFEBB02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FCEF-7DB1-4E11-A0F0-285F339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AF7E-92CE-4D11-86B6-0406D5A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4FA5-55A7-4C6D-9BDF-47E68AC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F9AD-88C3-47FC-8023-42AE5C16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DCB2-2BAE-4110-A087-8BE73603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617-95CE-4B27-BBD7-785FA959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E4D-D4A7-47A2-A26E-EB45D115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F27-BC4C-4A4C-9BD1-9ED5DED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A94-AD12-4AD7-8CAF-566B267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ECE-5CA8-4560-B8A7-40528DB9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739-1AE6-4E26-A3A4-33B18F5E2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4CA-C86D-41F2-8C7B-57802C21FD2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9468-5B0D-4D51-A3A6-77FDA7A41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Story O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Driver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Driver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Story Of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Story Of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Story Of Lov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Story Of Lov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Story Of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7480" y="64882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Story Of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Story Of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Story Of Lo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onderful Story Of Lo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onderful Story Of Lov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onderful Story Of Lov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Story Of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Story Of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Story Of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Story Of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Story Of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Story Of Lo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Story Of Lo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Story Of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7480" y="64882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Story Of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Story Of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40:45Z</dcterms:modified>
  <cp:revision>19</cp:revision>
  <dc:subject/>
  <dc:title>Slide 1</dc:title>
</cp:coreProperties>
</file>