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E903C-F5C5-48B5-99D4-71F08CC9F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DBA7A-FAB4-45B8-B490-4DDB65931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4B250-585D-484B-8A6F-C5025DDA0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DE418-2A9A-4C7F-85A5-00961DB6C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4AF9C-B8ED-4DA0-A35E-16ED16AF1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1EA45-5F93-4325-B0DC-A118B4838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32D8A-F98D-4051-A34F-DBC5800F0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C21A1-A152-46BE-9C0B-D46EE9C04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6B64C-E9A6-4ECD-B1A2-0CC9ABD01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53E08-A128-4E46-A06A-88486D5B6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85584-83F2-4E45-9EB8-2BDF2DEFF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5F0A4-2273-4807-BAB8-33EB8EAAF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750EC-A749-4E86-B12D-9B452CCCD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E43EC-7810-4BEB-B80B-70A97A646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EB462-96C7-43B6-BE5E-2A1028299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67D56-A490-4CAB-B9BF-3B3712203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463C9-F55B-46AD-A5F3-038BA65EF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27E21-75E9-4784-9E21-F0C1A72AC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B12226-68B4-468C-BCF9-8EE656D99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B6014D-5797-4ED8-9252-9B26E8E16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2FB30F-BF05-45B7-9871-631C39DE6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AFFA6-A17A-435F-A945-892189609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77EECD-A066-4959-8BBD-33347D83D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12A4FF-2CD3-4998-99A1-6E344B7E1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767A69-FC3C-4264-B949-E1DD8635E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0AEDBC-766B-4FF8-9C96-A7BEFE82C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3CD099-8626-4FF8-A9F2-759C0CA4A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8BEF5C-8906-4BF7-8923-7D4A593C6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C8D3BA-A260-41A4-BB17-1A7FD3C47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8386AB-98D2-4B0B-8783-FA1692832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5703B6-726D-4549-B842-B7C3C3B46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50E20-DFD7-4314-9B57-383DB5B3F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08015-7737-4C9C-8CB2-72E01BEF3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F854E-D4D3-49F5-8F8C-A5E73666D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3DCA7-07BB-4C3C-BB3F-4E5BF9027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909E9-6708-4E0A-B257-507A8755D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D93CA-655E-4597-B5D3-05B9AA88C4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20273-6FCE-4DDF-8A5D-D6861AE9286C}" type="slidenum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1D59F-7265-4298-A9FE-0460A7576E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Wonderful Grace Of Jes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C/G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Haldor Lillenas (1918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Haldor Lillenas (1918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50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Wonderful Grace Of Jesus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94680" y="6488280"/>
            <a:ext cx="366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Wonderful Grace Of Jes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Wonderful Grace Of Jesus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Wonderful Grace Of Jesus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Wonderful Grace Of Jesus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Wonderful Grace Of Jesus_vC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Wonderful Grace Of Jesus_vC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Wonderful Grace Of Jesus_vC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Wonderful Grace Of Jesus_vC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2" descr="Wonderful Grace Of Jesus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0" name="Text Box 5"/>
          <p:cNvSpPr/>
          <p:nvPr/>
        </p:nvSpPr>
        <p:spPr>
          <a:xfrm>
            <a:off x="94680" y="6488280"/>
            <a:ext cx="366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Wonderful Grace Of Jes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2" descr="Wonderful Grace Of Jesus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Wonderful Grace Of Jesus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94680" y="6488280"/>
            <a:ext cx="366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Wonderful Grace Of Jes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2" descr="Wonderful Grace Of Jesus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2" descr="Wonderful Grace Of Jesus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2" descr="Wonderful Grace Of Jesus_vC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2" descr="Wonderful Grace Of Jesus_vC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2" descr="Wonderful Grace Of Jesus_vC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2" descr="Wonderful Grace Of Jesus_vC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216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Wonderful Grace Of Jesus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Wonderful Grace Of Jesus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Wonderful Grace Of Jesus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Wonderful Grace Of Jesus_vC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Wonderful Grace Of Jesus_vC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Wonderful Grace Of Jesus_vC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Wonderful Grace Of Jesus_vC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7-04T17:36:26Z</dcterms:modified>
  <cp:revision>20</cp:revision>
  <dc:subject/>
  <dc:title>Slide 1</dc:title>
</cp:coreProperties>
</file>