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136E-4C3B-4B63-8314-49F1B000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1EA7-D36D-4FDB-B02D-D8BE7CBC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F10C-3636-4F20-A939-99A26A8B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4CB4-291F-4F51-ACAF-61A2D7C2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CEAA-6507-4EEB-9BBB-A678BAA6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04CA-20D0-4224-92C0-42B2EBEC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7326-3E71-4C24-A4BB-2FCB554A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6417-8500-4E7B-9A38-3B574E1D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3963-4A02-4303-A999-A8A8385D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8EE9-18FB-42DE-9DFE-B1CA1226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EE35-4319-4E5B-ACE2-629FC650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49DE-74EE-4E9B-9E6C-B4834459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F071-AF1E-412E-B1F9-C9565FB7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3FC6-41D8-4868-BB93-F5CC4F72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7AA8-4161-471B-8BEE-97F142B2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AB4D-19A4-45D5-A5D0-ED9E3F6E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EFF1-7CC3-4701-8FA9-5E75DD80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5384-93DB-4480-8896-34A4ABBF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7607A-ABF4-43F1-AF9B-B83AB9F0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D23CF-BC54-49BF-A6F7-F61C98F6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CB7B3-09D8-420A-A0DF-66EB1E2E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2A99-76C4-4AEE-84EA-A1071A6E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545D1-E2F1-4520-A960-7F07182D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01CD7-E084-489C-B16B-628CBD69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21EC2-687D-472E-BF4A-EF6DAE6D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340D9-6E9C-4980-A843-1C224F01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27C5E-2251-4138-9C4F-32162C92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B9825-1252-46AD-A8AB-BA9A7D0B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498DF-DC69-46B0-829A-6172D725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24B72-8164-4EAE-883E-FC6F3E41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DCF5B-81CC-46A9-A2BD-0315AD30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C3FF-0F54-41B7-8E4E-A1AF22B5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858E-8F42-42DE-ABC3-FF50545B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4DD4-55DB-40B4-A686-85ABA76C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1F25-F46B-4A9B-B46E-ADA0AF47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33F2-B3E5-43BF-B3C4-81F0838C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1D14-E7A7-4600-80F3-06F89D739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2B52-38C6-4C63-8E3F-86B0C97579C0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EEDB-B8B0-4EF7-82E0-D0C7F4C6E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onderful Pe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Far Away In The Dept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D. Cornell (18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G. Cooper (18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sheet music, text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59040" y="648828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onderful Pe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onderful Peace_v4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onderful Peace_v4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onderful Peace_v4o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onderful Peac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59040" y="648828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onderful Pe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onderful Peac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onderful Peac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onderful Peac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onderful Peac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59040" y="648828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onderful Pe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onderful Peac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onderful Peac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onderful Peac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38:44Z</dcterms:modified>
  <cp:revision>33</cp:revision>
  <dc:subject/>
  <dc:title>Slide 1</dc:title>
</cp:coreProperties>
</file>