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23A4-0DCB-45BD-9490-73C36744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5AF7-110F-4F39-B92D-8ABEED3A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81CA-9DE2-4384-BDCF-E6E7455D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ACC9-10D2-4D8C-91DE-CDD7F625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A2EF-3D15-4F84-A766-2859BBED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73F6-8512-4F4B-8520-CF5167AA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5962-47D4-4C86-B3F1-800A08F1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271A-7498-46DE-99D8-4C3C3175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7D14-DD67-466F-9718-09C36855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F998-DA5E-4E9B-8082-63078EBB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5DCA-59E6-4E4A-BB37-9583396F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D56B-1A21-499E-9408-35F57651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D914-55CA-4459-BBEA-54111388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02A8-0286-4796-B86B-60826FD5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096C-0C63-4E92-8512-053F0FAF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1C5A-9B18-4951-8D25-E4D54457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2187-2A47-4481-BA6D-21DAA812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B1E0-ACB1-4278-A42A-7D87A231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2C844-5BA4-4D07-9B90-8CAC6AD9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24DE1-7E0B-429B-8845-4A2B5D58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CCA39-219C-4712-82CA-77E46855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3081-41FB-4DB6-BEFA-739C2959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EFDF6-7291-42D6-9E10-AE52F2A2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DF262-CB93-427F-868B-C12091DC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B4D67-9027-4C7B-8BB5-A075C071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DF9BA-D6AE-423C-A791-D111C598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64A83-A9CC-4102-BC95-B31DA065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7C4B4-93C0-4EFC-87D5-F7225531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BEEBA-368F-446B-B6D5-B2AC3818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9BA76-B1F1-4DA9-A974-5AE1CBD4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056F1-F689-4F49-8F48-C848D631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3E59-BDBC-49EF-957B-37AED983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82D7-6287-4ACC-A458-2C439153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DB1-7C8D-4ABC-826D-B084C65B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AD38-2AAA-4448-9C09-6ABC7D03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BD9-A906-4F46-A4FE-921BAB72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1BB2-BFD3-4F29-B4A1-89B01A1D6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EF86-F791-41D1-823D-C3A3A7CF39B5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5D4F-D031-4D09-8491-5E82AC4AE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D. Mund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S. Lorenz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onderful Love Of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IN VAIN IN HIGH AND HOLY 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9 w/ 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onderful Love Of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4680" y="6488280"/>
            <a:ext cx="35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onderful Love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onderful Love Of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onderful Love Of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onderful Love Of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onderful Love Of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680" y="6488280"/>
            <a:ext cx="35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onderful Love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onderful Love Of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onderful Love Of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onderful Love Of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onderful Love Of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4680" y="6488280"/>
            <a:ext cx="35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onderful Love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onderful Love Of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onderful Love Of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onderful Love Of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8:33:50Z</dcterms:modified>
  <cp:revision>21</cp:revision>
  <dc:subject/>
  <dc:title>Slide 1</dc:title>
</cp:coreProperties>
</file>