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AC4-3136-4D5C-B5D2-05C5BFBA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E12-D1A6-4CD0-9E69-F3E5D427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3C8-8338-43EA-8D4A-B46B88FA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B1E-1369-4A37-8FF5-E4CACF89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74F-DAC2-4AF9-B27E-ACFC2470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D4AF-7709-4E9A-ADB5-B21BD91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5B1-87AB-427D-8478-B48D0F6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20E5-E511-45DE-95C3-057A85AC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A27-DD23-4210-9B2E-22E6CB0A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73BB-65CE-4FF0-9247-827D0A9C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ED2-39FA-4659-A5E5-3621FB8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893-941A-4128-9234-D4A2460E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1338-E129-4684-9613-792FCA8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BF02-4814-43CD-A568-BBA455A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58A6-8707-46AC-A32E-3A45CCC2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F57E-920B-46ED-977A-6653F5C9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627D-DBDB-400D-A29A-D290ED94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639-94F5-46CF-960B-BD4D441A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F1A8-3459-4A91-871F-7BDAF602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2EFA-1A1C-4B57-B8FA-0C26E31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583C-6BD3-4C41-B0BB-CE20966B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620-CB63-4712-920E-B75DD2DF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F0CB-5917-4ACD-BF4E-AAA66C0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5A83-4512-4672-BB39-CE7D4F55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5D3D-23E5-4120-BF88-ECDAB78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24B5-A4B0-4A5C-810E-1A6CA6E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21C7-1DF9-40B9-8B8A-49EEF1D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75EB-2670-4FCE-8169-E316E59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E3E6-64AC-4347-93FB-E9EF800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0631-A46C-4184-ACCA-DA2E7FE6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BD3C-B34E-44FB-91AC-FF11064C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BC7-2A60-46AE-82E9-9569BCE4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1FB-C6F9-492C-9C31-5135711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151-E679-402A-AB18-BC19AC71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F9A-5154-4A01-99A5-25794F2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978-0513-4CB6-AC6C-1DDFD95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252D-338C-4E75-8F20-D11384531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A6F9-B7AE-4088-8328-999D5083B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30BF-CBC4-4248-B1A1-329C375F8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The Morning 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rials Dark On Every H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A. Tindley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A. Tindley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Morning Com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Morning Come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Morning Com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9640" y="64882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The Morning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Morning Com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Morning Com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Morning Com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Morning Come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Morning Com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640" y="64882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The Morning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Morning Com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Morning Com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Morning Com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Morning Come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Morning Com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9640" y="64882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The Morning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Morning Com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Morning Com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3:42Z</dcterms:modified>
  <cp:revision>32</cp:revision>
  <dc:subject/>
  <dc:title>Slide 1</dc:title>
</cp:coreProperties>
</file>