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1C4-0F66-4DE5-AB0B-6F3DA920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DF5-E6C7-4527-A44B-1328622F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6EF-FB6E-4AF3-8010-DD7375D2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B9E-E239-4B10-8C55-547A7DE1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8E3C-B375-4A7A-8E6E-6B27B80E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E213-0FE0-42D7-A05B-38BD598E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49B4-EEC3-4BEC-9E68-87D1CFF9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4DA6-4461-421B-9DAA-7242CB3F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6B43-30DD-4D78-8F6F-CA07021F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E5DC-D4E9-4F3F-97A8-8D749124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A3E9-32C2-4907-89A9-DB1D8558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C36-75E8-4B1F-BF09-F93EFFA4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21B0-5FAF-4237-8A73-87BFD4DD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027E-98B0-42CD-BC40-6155A14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477B-14DD-4EC1-9CE4-6B916CA3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C4B0-8D6C-4717-944F-2ECCFCC6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EB8B-2D1F-4DB1-8D18-B5F33EE6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EF5-C4D4-4BCC-8A8C-AA85B864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2ECC1-682C-4B6B-B079-76F3F912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73614-371D-48E0-831F-7290DEB1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F6F0-2FAD-4309-B807-71A2E307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266-E8DD-4FC0-B62C-40041031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07C1-4B39-48C1-B825-B01157AA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9C49-CDE7-426C-8582-DD4E7AC2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C4DD0-6006-40D3-8FDD-066E1DA4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B86F-AEA5-4802-A419-3FF890DB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D605-9B1F-4AB0-9CD1-7EF1C9B7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B1FE-FB3B-4205-A6EA-BB27FDD1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E21A-1FE8-4342-ADB1-0CF567B4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154D-B7A4-4264-B254-5A2BF215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A977-B83B-4D6B-B662-4E7CB249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E6E-58C9-444B-89D7-C928FACB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CBF-7735-4087-89EB-7F4FE5D4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FBD-0362-4F1D-ADAE-8D677B7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3D3-A1A4-436C-8E7D-3511386A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397-5328-4434-95C1-7A1A649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8BCA-77F9-450B-BBC2-CE3E8C180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43D4-78AB-48D1-9D40-537CAE584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C425-0E95-4AD7-84A2-8BC9BDC4F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y Did My Savior Come To Ear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He Loved Me 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G. Dailey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G. Dailey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y Did My Savior Come To Eart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2400" y="648828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Why Did My Savior Come To Ea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y Did My Savior Come To Eart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y Did My Savior Come To Eart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2400" y="648828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Why Did My Savior Come To Ea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y Did My Savior Come To Eart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y Did My Savior Come To Eart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2400" y="648828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Why Did My Savior Come To Ea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y Did My Savior Come To Eart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8:20:23Z</dcterms:modified>
  <cp:revision>35</cp:revision>
  <dc:subject/>
  <dc:title>Slide 1</dc:title>
</cp:coreProperties>
</file>