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0B3F-5967-487F-AF85-9AD1A26F7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E9E4-7852-414C-B236-E3CBB443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EDC6-FF5E-41B6-BA34-9DAF5C98F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E335-DBCD-4645-ABC4-0355AD2E3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3632-6D4D-436F-8BFE-61035F693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46869-BE89-4BE0-BF19-BBA02539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2C31-3B4B-487B-BA34-8B0C5B02B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392E-F2B5-42D9-8049-4E4210F7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281B-AD4D-43C7-BFE9-197085B2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FB97-1FD4-4513-80F7-9BB91D12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32F8-2AF5-4BBD-B9CE-B2E58FE5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EA78-B520-43B7-B737-EEFEC66D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29BC3-7987-4058-B476-8042F43A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5B58-B7CC-4D11-9DB2-742EEECB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C60F-7125-4581-BA7E-8165DD91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BB21-0F0F-4FAD-B3DB-37EAC7285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0FF8C-482B-4EB9-BC9C-2689B437A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E245-9264-49AF-9BDB-0CFE2B11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D42F0-58FE-46E7-8D26-8D6C69ADD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B7326-F352-4796-9056-E27D9601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66FB0-B32C-4B01-AE47-67012002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4130-3283-49D6-A0C9-38108D30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C446D-2BF7-406A-8041-93C28009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260CA-816D-47AA-A2C6-A92F2FA5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F9FDC-EACD-4CEA-B14D-5D611A76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EB502-F6AE-4EDC-997C-0C9ECF95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50CF8-CA0A-46BA-836E-173B20D0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D2911-77A8-4DC0-82BE-5A1D2661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E8F9D-DB67-490F-85D5-0D7FB5BB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5EB60-6277-4766-9BBA-B68869371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35A93-EF2B-4B58-895C-5CCD8DE1A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C5E9-2279-4F0F-9DD7-8EB989DD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03D9-0F50-4B00-98AA-3393B42E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76EB-1768-4FB8-83C2-977F47E6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1E4E-58BE-4286-B54B-CC6CE1CC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F4FD-F982-4E45-8B06-1BD1D5B8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4E1F-1704-4222-A4AD-5CD03E412F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DB78-CB60-4FEF-9D39-663635AB3B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B7A8-23AB-4F3B-9FD4-9C5EF5B2F1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hy Keep Jesus Wait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A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. C. Cline (188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. C. Cline (188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7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hy Keep Jesus Waiting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hy Keep Jesus Waiting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7480" y="6488280"/>
            <a:ext cx="35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hy Keep Jesus 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hy Keep Jesus Waiting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hy Keep Jesus Waiting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hy Keep Jesus Waiting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87480" y="6488280"/>
            <a:ext cx="35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hy Keep Jesus 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hy Keep Jesus Waiting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hy Keep Jesus Waiting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hy Keep Jesus Waiting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87480" y="6488280"/>
            <a:ext cx="35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hy Keep Jesus 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hy Keep Jesus Waiting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6:55:27Z</dcterms:modified>
  <cp:revision>31</cp:revision>
  <dc:subject/>
  <dc:title>Slide 1</dc:title>
</cp:coreProperties>
</file>