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EA65-D38F-46D1-BD9E-F60FB8A89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27AA-054F-4ED0-A5DC-87457148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9BDE-93F8-4107-903E-C7F0C252C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B0F0-882C-47A9-BB6D-C3DBB4D65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190A-0000-4CA8-AFD4-E6A876A9E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625E-E1AF-43B4-8BF3-639428B6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B90C-F810-4B15-9BB0-37DE282D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60C5-AEF9-4512-A997-779F77A3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0E5D0-AB14-48FF-AAB3-68300D31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9282-FC77-40EE-98AA-F606B7D9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C86CB-D057-4475-AC23-CD446BD2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E7B9-FC5B-4AF6-A779-BD1163FD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57F3-FF3F-4EDD-A26E-AC190932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B6A6-9E2F-42C4-9DC3-DBD3E19E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1E20-0A2A-409F-BCE1-BD8A9944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EA89-1F93-4430-A138-42B8EA557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F878-1135-4830-BF4B-CDD32E085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5E1C-4A8D-4E9C-92B6-0590F30B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1D51D-354B-4299-81D5-6E526694A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28936-8413-4FF9-90DC-1C8F88DE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CD2BC-CAF2-4EE3-BA88-F31FD0D3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7C88-7277-4664-9C4E-EB249453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F8523-C039-4815-9F6A-3B74F244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F9723-17E5-40FC-ACB9-BCB3AEC4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1A160-CC87-4BD2-8412-AA7CC295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4F570-E01E-467D-A45A-2183614B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D3947-F1BA-41EA-86D2-5A3F6A42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0FAFC-C78E-44EE-9005-0E087356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1C373-E9EA-464F-9E5A-DF814BFC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C9AA9-16D3-4507-BA3A-87267AEAE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E89F5-09CB-435B-BB9E-3B57FFBC0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4896-13FC-4C34-9353-538F3A74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6E8C-4018-4245-B8B8-8E68F87D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98AD-0F9C-43F9-8D1C-DD32D314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7256-8C39-487E-915F-E4F5E9EC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2D45-7DFA-4B3D-8232-2E1DD525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0E0F-BADA-4F27-B6A8-516871F6A4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712B-5F74-483B-B321-14DCA78084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669A-7FDE-4217-9C0C-500D17B9AF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onderful 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. D. Williams (192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. D. Williams (192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5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onderful Cit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5600" y="6488280"/>
            <a:ext cx="25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onderful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onderful Cit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onderful City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onderful City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onderful Cit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5600" y="6488280"/>
            <a:ext cx="25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onderful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onderful Cit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onderful Cit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onderful Cit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onderful Cit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5600" y="6488280"/>
            <a:ext cx="25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onderful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onderful Cit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onderful Cit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onderful Cit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7:34:57Z</dcterms:modified>
  <cp:revision>29</cp:revision>
  <dc:subject/>
  <dc:title>Slide 1</dc:title>
</cp:coreProperties>
</file>