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1E0-33DC-4740-B6FA-B443AD6A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C0F-1584-47FF-91D3-B34E1A4D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40D-8086-4CF9-9D07-EAA21015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EED-EF5C-42F0-9754-67F9CF2A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FE2F-BB57-4922-93ED-B8DCBF8B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3564-B130-4F77-B277-7ADF9FC1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D682-080E-4E6B-8F6B-EDDFED9F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300B-BC0B-420C-ADB9-F5AFE6EF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DF31-5F27-482C-8EA7-775DB714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79C2-0D94-41B7-94E0-BB0A1DA9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618F-B8AE-444C-B051-9B5F284A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ED0F-1BF9-4892-821F-FD32C2E3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D6E8-B4CB-4497-8161-4F4E488B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8095-F7DC-4EB8-A1D1-96D48715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54C0-6A05-476F-978D-4A4A8320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1684-3773-4D2F-86FF-E6306014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E006-0CF7-4374-A2D3-C4F47260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F65-CC82-4949-BBE7-C88FDB31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FD0D1-5D42-4143-BB5B-9A8F9CA4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70268-C7D3-41BB-9DA1-FC1AF672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365D2-AF44-48E8-98BB-574FE53A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5CE9-7454-4A31-9C31-3D6EFE21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0B030-6A8D-4AAF-A308-161F701D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CEC84-148B-4B10-B84A-707ED433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7D0B-0BFD-4050-A513-AF4A754F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14A26-FD23-467E-8C13-72296BAB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468C-124E-4E56-A8F8-97BEFD63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75182-B31B-40DF-87F9-B31A9791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8884F-636F-4FF7-8C5B-8C0CE665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4E77E-7F2A-412A-A9DC-BF20BBA9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03821-DD6B-4BF2-9A95-06A6FD81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226-F51E-4BB7-A387-5AF9356A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35B-C782-4935-B6C0-544711F3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ED5-7745-416B-BE7E-3A017888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8B1-B303-4CA0-91A0-8A406E48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F023-3A6A-46EE-92A1-6378E380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7D93-E573-4700-AA47-20B608AE5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2C2E-9F21-4AAC-A3EE-605F53D0B8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C0F5-A111-4A96-BBFA-6C4458F81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n We All Get To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E. Hewitt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J. G. Wilson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en We All Get to Heave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920" y="6488280"/>
            <a:ext cx="38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n We All Get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en We All Get to Heave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en We All Get to Heaven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en We All Get to Heaven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n We All Get to Heave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920" y="6488280"/>
            <a:ext cx="38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n We All Get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n We All Get to Heave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n We All Get to Heaven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n We All Get to Heaven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n We All Get to Heave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7920" y="6488280"/>
            <a:ext cx="38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n We All Get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n We All Get to Heave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n We All Get to Heaven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n We All Get to Heaven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8:15:33Z</dcterms:modified>
  <cp:revision>32</cp:revision>
  <dc:subject/>
  <dc:title>Slide 1</dc:title>
</cp:coreProperties>
</file>