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1F1-6D82-4378-96E2-9041DC4F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448-727F-43E7-8843-A276B640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1B0-DFD5-4F01-8E18-EF038255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FE0-8059-49DF-ACF1-5686CF9E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1169-830E-4BBA-AF67-E32AF1E5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8A93-377C-4A45-A585-AB22433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DEF9-1B8F-4187-8B91-172A6847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D70D-1949-4FE4-82E7-76D99547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8ECD-8916-4E0D-A750-0DC57ABF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8C2-796D-4819-ACFD-22C04074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524C-6A41-467C-AE68-7DC3725D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E46-C5BE-44E5-9853-D1F7097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99E1-808F-449E-A633-AF9F336F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206A-F46C-4D37-BC30-1FAD6DC2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F8A8-C222-409A-AFC2-160AE26E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1EAF-DFB9-496A-8378-F688C0D6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45F4-7E82-439E-A3E6-9E082000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CA8-9C44-4AC1-8F27-CFE0BB99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F7F6-DF78-4825-8575-3586E284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CE83-B917-441E-9C15-FD58B1D8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4ECE-97D0-4F6B-BA85-1A57DEDC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947-8402-40E8-8A20-29F042C6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FDBC-7785-4CBA-9A0B-BEF72054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8E11-A9C2-4103-8FEB-B4CF517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4AD6-4F90-4711-92AD-6C87BF39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EF50-03B1-4EFF-90C2-15F71D39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4432-C701-4D7F-B3F1-C1ADAF2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1D96-D8C6-4B58-BCA4-54330F8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747B-C305-4B8E-8D17-FB2D5E0A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6C00-AEC4-44E1-B105-81455507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8D89-C274-4135-91AB-44E02FB0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8D4-451B-4E22-8E9D-939DE441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FCA-ACFF-4E48-9696-1A407A7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7F8-19C5-47D2-B03D-B71684A3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39A-760E-435D-9D44-06D941C7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47B-382A-4E9E-9C39-6785D945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D8F7-2EED-435E-8299-5096FBCF3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C82C-D528-48EE-A512-282C9EA2D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1E64-04FA-41CE-85EA-250BC9E27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Words Of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Words Of Lif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Words Of Lif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Words Of Lif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5680" y="648828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Word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Words Of Lif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onderful Words Of Lif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onderful Words Of Lif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onderful Words Of Lif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Words Of Lif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Word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Words Of Lif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Words Of Lif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Words Of Lif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Words Of Lif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Words Of Lif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5680" y="648828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Word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Words Of Lif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Words Of Lif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41:15Z</dcterms:modified>
  <cp:revision>31</cp:revision>
  <dc:subject/>
  <dc:title>Slide 1</dc:title>
</cp:coreProperties>
</file>