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F52-55E8-4AB9-8FDC-DF6EA27F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8BF-464E-44B6-92A9-C6F99F4B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BFF-5DFC-4501-BA16-68C4D427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D26-4E43-4818-953D-04DA09D0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1276-24EA-4840-9B73-8783DDAA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C2F6-8FC8-43E3-AC55-26F8CF58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3AE1-4CB0-42BE-9328-B8403D33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31E9-A940-4A40-BD5B-62F87610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C4CE-4920-4B2F-AA3C-D372CA7E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0C28-E4B9-4966-9CD9-7F948D83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F96D-7010-402B-BAE8-D212E26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39A-69AF-47BA-B542-11B2D966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7BD1-A2CD-48DB-9A56-3C189AF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877F-9606-417F-A6D8-4BDAC1E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DFD0-1E35-4B7C-B3DD-7116572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FA41-C8D6-4725-AA78-F73A326F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453E-4678-4D93-9C2B-49CC87EF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C07-5C27-4485-8EE0-ACE5F06F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4FAA-BA59-4294-BB64-0F29FFAB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2646-1506-4CB2-8F44-CB313A74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660B-AC02-4312-9478-5A8FF926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718-F381-4979-B345-544A7971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DA00-84CB-469E-86F5-091441EC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B693-6157-4983-9BF4-5ED7FC8C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119B-32B5-43E8-AA40-FC9CEC78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65F6-CE5F-4618-B967-9018D4D9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08A5-EEC2-41B3-9864-7B48394C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82B0-2203-4F61-9705-7C84D16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4BFB-1AD3-45B6-A67C-B54CC2EB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A11E-7FE0-405B-B775-C85A6841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16D7-1A11-4138-BDB9-69CA1163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983-8E94-4815-82F8-699A4D7B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05B-066C-4816-8559-1AAFDB3D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52C-D5C2-482E-AA58-AAF776E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871-CF3E-46C3-9B13-3BDAAE1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F20-A719-4F31-B87E-F5671BCF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36A4-4568-4AE4-8494-8DE5E60BC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E0FB-ED97-4EB3-81C8-2E6E910C9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9ACC-087F-4B3D-8A2A-E6203815A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The Roll Is Called Up Y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. Black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. Black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The Roll Is Called Up Yond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The Roll Is Called Up Yonde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The Roll Is Called Up Yond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32120" y="648828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The Roll Is Called Up Y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The Roll Is Called Up Yond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en The Roll Is Called Up Yond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en The Roll Is Called Up Yond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en The Roll Is Called Up Yonder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The Roll Is Called Up Yond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2120" y="648828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The Roll Is Called Up Y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The Roll Is Called Up Yond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The Roll Is Called Up Yond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The Roll Is Called Up Yond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The Roll Is Called Up Yonde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The Roll Is Called Up Yond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32120" y="648828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The Roll Is Called Up Y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The Roll Is Called Up Yond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The Roll Is Called Up Yond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4:22Z</dcterms:modified>
  <cp:revision>31</cp:revision>
  <dc:subject/>
  <dc:title>Slide 1</dc:title>
</cp:coreProperties>
</file>