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0B6-8F1E-4D69-BED6-AA060216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FED-B0A6-4182-B5D3-22BC799A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5F0-A0E9-4BB3-8B71-77981DEC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574-E5E8-4FE5-8C85-E9EFF162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0D8C-FB6C-48BC-84AA-B0123D1B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EA65-ECC4-43E7-AC36-D1E0B30D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C6AB-449F-4450-9884-8278186B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33B2-BB9B-46AE-9B05-6645322D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D44E-8F2B-4709-9AD6-67BC9D4F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0336-C351-469E-967E-6DAD6E21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AF60-F757-4D83-B157-2650EB34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B8A-0DC5-4EFC-B0A7-71BDD9D9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99F4-4255-47C7-8D31-E275CC8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B45B-0191-4868-BCFB-D5026B48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45A9-1E6E-42A2-B91D-870F5B3F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CBCE-9E5E-40FE-A49E-7B43B0C9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8C9D-0811-440C-841E-89F355E5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82F-B204-46C3-92E7-7EC7B45E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DC538-4B7B-4035-8109-FAE39FB9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B4A9-1F3A-43EB-B55E-846CB887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7077-5B68-45F3-9156-544BFE41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F44-36A7-4CE8-B8AA-59AE9AA0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4CD1-8BAC-4264-8F9E-EEA61F80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DAAC-111E-4F36-A60F-C1B6483F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64337-7FBE-472F-A084-97A18A1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130D4-7A5F-4DA0-96C1-420B5462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E71D-B96B-4FDD-A823-84E20654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7B74-ADEE-4D64-BF91-3737B0D0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BC53-9A55-411E-A5D1-EAAA47A6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B09E-67C6-436E-B194-08F3FB80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DC39-E3AE-4A20-B2E9-BF5EFCE1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92D-002A-4D55-A478-B2714B13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147-8829-49CC-B32B-1E5108B0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1B5-84C9-4AA9-858E-B89A0E64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114-33FB-4D9C-9D11-F671D62E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394-5A8D-4898-ADF0-C668FA21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AA45-C9DA-4FA5-B234-EEB7FF1EA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9E21-285F-46E7-BDF6-B8CA026B3B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2DD2-4829-4750-992B-55B36950C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're Marching To Z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ome, We That Love The L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005360" y="2595600"/>
            <a:ext cx="14382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Were Marching To Zio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Were Marching To Zion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A picture containing sheet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90720" y="6488280"/>
            <a:ext cx="34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're Marching To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Were Marching To Zion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90720" y="6488280"/>
            <a:ext cx="34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e're Marching To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Were Marching To Zion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Were Marching To Zion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Were Marching To Z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90720" y="6488280"/>
            <a:ext cx="34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're Marching To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Were Marching To Zion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Were Marching To Zion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Were Marching To Z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Were Marching To Zi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Were Marching To Zio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Were Marching To Zion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Were Marching To Z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90720" y="6488280"/>
            <a:ext cx="34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're Marching To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Were Marching To Z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Were Marching To Zi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09:15Z</dcterms:modified>
  <cp:revision>40</cp:revision>
  <dc:subject/>
  <dc:title>Slide 1</dc:title>
</cp:coreProperties>
</file>