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09E-564E-463D-96BB-9D5A86EE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C8A-D9A4-4FED-895C-0D2174B9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64A-6CBE-494B-80DA-0B430236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789-5AE2-49B3-A6C1-DABF12C0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408-8BC7-4684-911E-1E71B0D8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B00F-4B62-491B-AF86-D3A8DD9B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9E9-70E2-4AE8-8D52-F5F6D4C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096-6283-4DA3-8C0E-FAF32B7F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43A5-BF63-44E0-9066-24B0006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E078-65B2-446C-9F60-62CF35C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62D-9753-478C-B215-018578A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1F2-2C93-4265-AAEE-C7F6141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8F8B-2479-4164-A560-3F76347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57E-83C3-4DC5-96F7-AF332270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B04-0E59-4CB0-A0F9-8EF1789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24E1-BF1A-494C-97BD-A455E8BC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7CA9-69ED-4AD3-BEE6-A3DB04E3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A7D-BF50-4881-ADF3-44628570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6AFD-3A63-4DA2-9C55-029AD47D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8D72-FBA7-4E03-BF18-E5A356E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38F3-1E35-4943-986B-DB045708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D19-EFDD-411C-BDE9-35B0B884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72B8-6A31-4370-B800-7D43382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2750-12B1-46A5-8656-2A4F07F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0A8A-DB3E-4CE0-95B4-E97E8A7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CE23-FE44-4FFA-868C-3C6DC0B5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3E4A-70EA-4454-8DF8-30B72BCF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1EEC-C57E-4BF2-98B4-D346EBB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6685-7A8C-4F31-AB58-EFF243C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914C-E562-45DA-AEC7-97C89C17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5407-F9ED-4336-8CE1-07AE12C8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E9D-87E4-4CC5-9346-A7356B6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8E2-DA32-4F90-A38F-EB531849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1AA-0A68-4538-AACF-97B69A1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DC4-EAA4-47CF-8862-29D8ED2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56C-DCBF-44CA-9A7C-7E6E786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1942-C0E0-4DEB-B0D7-E2F1F867E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C4D-E016-4529-AD7C-56442D4DD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B05-08AA-4661-838B-9805F29AA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rto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Plantation Hymn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rto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Plantation Hymn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9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ork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s of the American Negr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re You Ther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re You There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re You Ther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re You Ther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re You Ther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re You Ther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re You There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re You Ther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ere You Ther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ere You There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re You Ther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ere You There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ere You There_arr1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ere You There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ere You There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ere You There_arr1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ere You There_arr1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Were You There_arr1_v5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re You Ther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re You Ther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re You Ther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re You Ther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re You Ther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3080" y="648828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re You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re You Ther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re You Ther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07:52Z</dcterms:modified>
  <cp:revision>31</cp:revision>
  <dc:subject/>
  <dc:title>Slide 1</dc:title>
</cp:coreProperties>
</file>