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928-6275-425D-B63F-7353204A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60F-7F90-4BF9-9DE7-DA81D9AD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470A-206A-4ADD-ACD8-89C647E5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5FE-CC62-4B6B-BE10-6F0C3932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0A52-8884-4DAA-A5E0-71B24909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3DE4-CA7A-44F4-AD26-2A1B96B2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EE55-E4B5-4899-A54C-F679DF07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1BDD-2269-4DD5-A5AD-46F1CD8D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99BA-A04E-49FC-8B2E-4BCE79CD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081E-5622-41B5-8E37-DC900A5E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DBEB-2B7B-4129-9370-EF0A78F1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990-C7DA-4E2E-BE97-138387E2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BE61-C99D-489A-AA60-4DB4E9B2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EB25-A454-4763-8DA8-ABAE0548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FF37-9ED5-4149-BCD3-A86E6B52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7B89-9C64-4301-B13B-DC25292E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6B21-D727-41A6-A759-006D1693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481-565F-46CF-ADB9-F1C6E905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E3E90-AF32-49CC-BDA8-266B8E24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0FC34-3DCD-4C5E-8E50-F7724ED2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D12D-F068-4155-896A-20402654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567-AABB-457A-9525-2A99F2CC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0EF88-E4DF-4201-90C7-017EC787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DA9A1-4DC8-4BFC-A04C-1BCC5CE2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94C92-1B29-4284-9F67-A845C615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6F684-C3DF-4FFD-90AB-B91E9126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8EA90-7E60-4B04-B0AA-FACBF56A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5DFB-E615-4D03-AC11-4A257835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AB495-0CC3-4075-B0F4-13263ED9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4EC58-F8D8-467E-8E7C-12290C27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C6D9-656D-4A87-8848-733A7D8A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F56-2FAB-4FE2-8D45-7FE35EA6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4DB-0BD0-4608-AC70-96EE51C2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287-D46D-40C7-BA3A-1AC894C1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7FE-31F6-45D3-A2B7-8193CEC4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44D-4B72-43D6-A50C-BDA84418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F24E-CBAA-4CEA-AA99-60102A4C9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980D-D29C-4F0E-AA1C-F5698C3224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335E-9EAE-441C-AC95-6B3C39414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re He Leads Me, I Will Fo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W. Blandly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S. Norris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re He Leads Me I Will Follo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2960" y="6488280"/>
            <a:ext cx="44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re He Leads Me, I Will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re He Leads Me I Will Follo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ere He Leads Me I Will Follow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ere He Leads Me I Will Follow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re He Leads Me I Will Foll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960" y="6488280"/>
            <a:ext cx="44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re He Leads Me, I Will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re He Leads Me I Will Foll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re He Leads Me I Will Follow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re He Leads Me I Will Follow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re He Leads Me I Will Foll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2960" y="6488280"/>
            <a:ext cx="44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re He Leads Me, I Will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re He Leads Me I Will Foll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re He Leads Me I Will Follow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re He Leads Me I Will Follow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9:13Z</dcterms:modified>
  <cp:revision>37</cp:revision>
  <dc:subject/>
  <dc:title>Slide 1</dc:title>
</cp:coreProperties>
</file>