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BFF-859E-46A7-910C-FFB3B8C4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CA6D-5B72-49C6-8D93-44D13EBF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7B2-226C-432C-9830-B2D9F00F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0060-DE0F-487C-82AC-3E9C2FB1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4F47-DBB6-4C24-AFE1-7CDC689D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845D-A0FF-4287-BB2A-3243129B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474E-06C9-408C-880E-EE3ED329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9CD5-49F0-450E-B167-6E61E4A8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53C4-82AB-43D3-8998-8F43A078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9D1A-831F-46A4-88DD-05286C3F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8408-5A15-4856-B80A-3E969CF3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F54-A47F-488D-A29F-03E0CAAE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6C8A-E437-4ACC-83F0-9469C845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1BA5-23E9-467E-A809-1296A253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B7AB-97BE-4102-951A-88E3F5E5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A743-E2FD-402D-9D87-440F3CA3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3A23-5A35-4FA5-AAAD-88FDE252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FA2-5A6A-472E-90F6-2A42CBC3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99334-CC9D-476A-9949-7897B835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33F89-430F-47F6-BE99-813476DE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087C-AF71-4AFB-9736-E3C3AECF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DAB-482A-44DA-A929-2D604397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EDDC-0BBB-4473-BBF2-930D1031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CE913-E0AA-4588-A14D-C06B5584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2CB67-246A-45E7-864E-582BF073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583C-F778-4C59-9F28-EBC767DE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706A7-F8FD-4419-90D7-8B89A187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0D84-D278-419C-9D07-2E4271D7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FEC3E-9C96-4CD7-9CE0-7A0B5A24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73DB1-70D2-4EDD-9801-D3592132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A6D9-7365-47D6-9CC8-8DCF85C1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A4A-B126-4BB7-913B-76DC1455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405-29CE-4DF6-A50B-3394CFE0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62D-5364-483F-88B4-0EF469A1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2BD-08A8-4432-8DEB-1E1675D8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AE1-B619-4109-BB5D-82DBA5E3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43C7-F9D4-4122-B9D4-FE6B601F7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FAF2-DF0E-47A9-AD87-E9D577FD93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A7D9-C4C9-4F56-9CF0-DD4DB3DE7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alking Alone At 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Alone At E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E. Sweat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 W. Slater (19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alking Alone At Ev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1160" y="6488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alking Alone At 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alking Alone At Ev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alking Alone At Ev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alking Alone At Ev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alking Alone At Ev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alking Alone At Ev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alking Alone At Eve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alking Alone At Eve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alking Alone At Ev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101160" y="6488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alking Alone At 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Walking Alone At Ev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alking Alone At E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160" y="6488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alking Alone At 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Walking Alone At Ev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Walking Alone At Ev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Walking Alone At Ev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Walking Alone At Ev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Walking Alone At Eve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Walking Alone At Eve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alking Alone At E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alking Alone At Ev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alking Alone At Ev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alking Alone At Ev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alking Alone At Ev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alking Alone At Eve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alking Alone At Eve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38:56Z</dcterms:modified>
  <cp:revision>29</cp:revision>
  <dc:subject/>
  <dc:title>Slide 1</dc:title>
</cp:coreProperties>
</file>