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507-D514-4E0E-951B-4180AB2F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8A0-1C28-4226-8624-A677FB9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CC8-2A10-496F-957B-09CBD9C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A03-12AA-4ED6-B181-2C65DAA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27A-E732-4D39-828A-044D7EC5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CBD0-1798-4BA2-B59B-D0CDF695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68B3-3BF6-4E21-B409-B052164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E1E5-9E63-4AF2-9768-138764B5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CE61-5B1D-4BAA-94CF-ED092220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981-740F-4C47-9EA7-03CBAD3D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9B10-BB8F-4E41-8E11-D17FDCC1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C63-C0DA-4C2B-AE62-3DBA47DA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C048-A80A-402C-8933-1B1BA98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801-355D-4448-8EC8-42535F2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F4F-3549-4D8C-9744-A56FB532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E3E-92CD-43AB-8A5B-1EEE4953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FEE-B086-4A56-B978-E38F4B04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EFA-BDEB-44C8-AA1E-65C89A0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728C-B886-40C1-82D2-64B8DF51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F4B9-7DBB-458C-9D1A-573E1E5F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C504-A017-420F-9192-E1B5D0E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163-7464-4C2E-ABD2-9C0ABDE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1FA8-3ABE-4136-9E3C-DF79A453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8EF0-7EDF-4177-B4B8-4202AC6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E662-E5BC-4D2C-87B3-70E6C97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E265-DFE7-4CF8-9EFC-FFAA70B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2B34-6531-4E38-A671-07809C1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638E-5A7A-4E12-BAA9-2EDF516A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4CB6-30C6-4BC4-A293-C3BF5100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4389-A3DE-49F6-A7C3-796602EE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CFD3-4538-4C18-97BC-D7EE6D0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679-84BC-416C-8758-5772C98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711-9D2B-4F4F-B121-6A327631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414-5CF3-43F8-A629-765C1C1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A51-1019-42FC-BF82-02855A0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922-B3B2-4B0A-81A1-3FC2140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A8A4-6A81-4104-93D1-FF476E349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25F4-AC33-4B1A-8C4B-27A8A1525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5D4-6AC3-490C-8B40-1F493EB1C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ll Work Till Jesus 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Elizabeth Mills (1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iller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Work Till Jesus Come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Work Till Jesus Come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Work Till Jesus Come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Work Till Jesus Com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Work Till Jesus Com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Work Till Jesus Com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Work Till Jesus Com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560" y="648828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ll Work Till Jesus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Work Till Jesus Come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Work Till Jesus Come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Work Till Jesus Come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00:01Z</dcterms:modified>
  <cp:revision>35</cp:revision>
  <dc:subject/>
  <dc:title>Slide 1</dc:title>
</cp:coreProperties>
</file>