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583-2337-43A0-9EEC-F32AD3C9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B43-75DD-4997-B7A3-6B273F2A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D20-7B0F-498F-8B34-86CFAD8E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32C-6258-4621-BDFC-67BD9D63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7F9D-55B7-4814-8598-C34101C7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1E90-0A15-4238-B8DF-6CB3ED32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62BF-9737-4EC9-97C4-A282DBEE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F540-67D4-4359-8915-24F281C7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9B1E-D524-42B4-A87A-4C44B94F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8D6A-30A8-4790-ADCD-3AA1EC1B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EFDC-8F9D-4CEC-9B67-EC24F2F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7E2-086B-41EC-BB84-5F90336F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7DDC-DE12-49E5-8A0D-16D73E7A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EC64-7200-4E53-96D2-7AEEA23C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488C-68D9-4E36-AF6A-1484F0C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2459-E901-4461-A7FB-F1198A09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0478-B20D-4D88-B127-310FAB21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441-9095-489F-B801-701BE2EA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0209-8747-40BA-9E7C-919811DA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42253-56B6-4BCB-B253-2210E02E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F341-9553-48F4-BC22-76ED1CB2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A44-A5CF-4205-9D99-F51E0E81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17CF-4EB7-4CE8-81E0-F333DB94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F7C3-725A-410C-B7E7-06290BDA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3534-74EC-49B9-BD4F-C411B6F1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3BB2-E01B-491A-AF55-6C5DF0C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03CEF-2C10-4EA6-A2DF-B9AD23E3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7E00-8898-470E-9DEB-FD56CD8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7C943-70ED-4F4E-829A-F3F12565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53060-8F30-44CC-AF7A-5E0C4B3F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E29E-F56F-43B1-9B6A-25CD4B61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C8C-F88B-473F-B679-6554AF42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798-E549-4BBD-BA4C-CF77DCA4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CD1-F412-4360-870A-515D34AD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A50-A597-4D06-805C-F3D35953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4DE-25A7-41FE-8D61-5434047F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3A7-1E47-4893-BFE2-6E25FE3CF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F2B4-5068-4225-8125-2788EA1C68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91B-A662-45A5-9D62-F200FE887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re The Gates Swing Outward N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Just A Few More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re The Gates Swing Outward Nev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240" y="6488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re The Gates Swing Outward N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re The Gates Swing Outward Nev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re The Gates Swing Outward Nev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re The Gates Swing Outward Nev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re The Gates Swing Outward Nev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240" y="6488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re The Gates Swing Outward N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re The Gates Swing Outward Nev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re The Gates Swing Outward Nev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re The Gates Swing Outward Nev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re The Gates Swing Outward Nev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240" y="6488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re The Gates Swing Outward N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re The Gates Swing Outward Nev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re The Gates Swing Outward Nev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re The Gates Swing Outward Nev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3:39Z</dcterms:modified>
  <cp:revision>30</cp:revision>
  <dc:subject/>
  <dc:title>Slide 1</dc:title>
</cp:coreProperties>
</file>