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6692-CF12-4B6C-BD6E-A19C693B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C35-ED63-4F16-B395-6EF17000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7B1-715F-4883-AB4C-0CC210C4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224-A230-4BC5-97D3-2966083C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86A3-4D2C-4B19-80A6-327CC6D8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FEF1-601B-491F-9AAE-5827D1DE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4532-F344-45C9-AE43-4609E2F5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A795-2DB0-4CCE-B2ED-78012C3A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A042-CE1C-48AF-BC92-BB4EC3AB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4675-0043-4708-8145-1D6639AD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2D0E-DFD5-4E9F-B698-D212B7FE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3E1-B2DC-4511-A937-3C9478A0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33F5-18B3-4A3A-B4ED-DCB29E5E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BA95-B0CA-45CC-ACC6-60464B45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FC9F-FD53-43B2-87ED-7578725B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76C8-3C03-4253-BF3E-7FA7F4F3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7481-6E48-4D4E-B990-0011C3DA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B19-965B-4EAE-BD2D-0FE5A667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85645-2263-4363-821C-A99C2A99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6BCD-4BAD-43DA-AE2B-23953927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6E790-58FE-4EF5-AC99-3113D25F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0B2-2EC1-4F4C-ABD7-0F78F2E6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FA542-288D-44E0-BBCD-4AA6425D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9FD1A-2887-4DB5-A65E-2649A48F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2A8A9-2AF8-47DF-883B-69A2DEB3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79E58-2ED7-41D8-86F0-85403F54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65C52-3FB0-4F48-AD23-B2C39919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AC688-F2A9-46E6-B8B7-3BF6DB74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FA642-8F6D-42F7-940B-56E8E3BD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CBE7E-A3BD-4F48-B18A-22D5F9FE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A77EF-7C50-4B28-B704-B5A99BEC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8CDB-86F5-4700-9C4B-26E3BE17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F00-8C17-4D5C-A19C-BB8CB7E9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BDA-30AB-4679-878C-85915485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F7D-0658-4E7A-BCAD-BC7FEA09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4CE3-0A47-456A-A8DF-05C08D59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8614-9BA4-4CEA-9579-940D91FCA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C4DF-BA82-4D97-ABDB-BBB2F939F5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9D64-3BA3-4627-AF15-32C04961B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 Worship And Ador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WORSHIP AND AD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6.6.6.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onym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onym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e Worship and Adore You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2600" y="64882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 Worship And Adore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e Worship and Adore You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e Worship and Adore You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4:38Z</dcterms:modified>
  <cp:revision>18</cp:revision>
  <dc:subject/>
  <dc:title>Slide 1</dc:title>
</cp:coreProperties>
</file>