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289-0DA8-4A45-99BF-FE1718EE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CAF-88C2-42C6-B2F8-2F2958C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CF7-8403-4599-981B-410E4F94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3C6-4492-4E7D-8496-F83BF872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23C2-FF2E-4772-BAB6-D7069468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F500-D895-4B5A-814B-CB20CAA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8F8-B5FB-4053-8CCD-F3B96C8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1F0-1A08-4D8F-983B-813E33F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4014-C003-49E2-B911-4455D3F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5EC-BF01-433F-8DF0-206602EB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A04D-7DD9-4C46-80FE-4A786B7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AD0-37DB-4375-B35C-E7F5751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DF4E-2958-4BEC-867A-D3D988D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6C4D-8CA1-4868-A98E-F953483C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EEA-A80D-430A-9018-552B3C7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45C6-CF9F-4D0B-8D50-3A1DE8A1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B3E9-2C0F-4787-B0C6-F75047B1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289-C4C6-4F58-9D0A-C99CFC2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2CB8-CF9F-4123-9D76-8D77D91E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1AA5-46B5-4DFC-A9F1-12D32106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A2F6-BEC3-49A2-9E05-9806519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D02-5917-4462-B37F-73B88E9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FEE2-DF06-4508-BF34-5FB0FA7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6B56-CA02-4F95-AE3E-A5D174C4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4497-1CD3-4EA8-8AEE-430ED71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2739-626F-4ECD-B94A-5BB9AE9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9D1A-E842-410D-B27A-E525206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6E9F-5217-46FF-AC38-5ABAD8D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FAC8-C121-4B53-A2D7-5631618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9AC4-7AA6-4E03-A376-424F6555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FE9C-D628-4483-B1C3-3D8B6B9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FB7-5F35-46A4-80B8-94EFDF6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867-3074-4EA0-9E2D-502C0EC3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EFB-ECE4-4F83-932E-4532A80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19E-B4A2-47C3-BB0D-49B2C86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F93-2624-4810-904B-41A86BC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DB7-3593-4C22-8E61-F8CC0398B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118-E531-4C54-B8BE-DAC6B0DCF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2E4-1D13-4841-90DC-3136E0DF9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ill You Not Tell It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ell It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ill You Not Tell It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ill You Not Tell It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ill You Not Tell It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ill You Not Tell It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ill You Not Tell It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800" y="6488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ill You Not Tell It To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ill You Not Tell It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26:20Z</dcterms:modified>
  <cp:revision>33</cp:revision>
  <dc:subject/>
  <dc:title>Slide 1</dc:title>
</cp:coreProperties>
</file>