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E4A-4CCC-4503-9B4D-D3D3807B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3F4-4E86-42F9-8005-B97A2546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563-5433-4169-88E1-71787B74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B3E-CFF6-4BDF-B25C-D8D4060D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8B4D-8599-4424-B06B-9A4E475B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B9C-067F-460A-A8D2-1732E54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0429-325C-4EE8-AB5E-71EDEFA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F6B-2F51-47D5-BA03-E536AD9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506-0224-410F-9169-92CF656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D1B-4B67-4B21-998B-B368567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19C5-930A-445D-9A03-B9F0A79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C43-5631-4246-AAC0-558D1EA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84D9-8CB6-4EE0-B869-3E6B476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CF7D-3858-492C-80EA-D748679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41D3-4F3E-4F2C-BD54-A44AFEF5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E9F-5249-4BE6-AA74-8064381A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9046-EC69-43C3-B38E-24A6AC91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5FD-9F77-474E-8D16-FFCB8BD2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4A45-E5F2-4ECF-B6CE-E96A07CE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DF72-E0CC-405D-9FA5-E7DE66B9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2C04-DE0B-4E32-803A-313BF8B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3B5-4B37-4CAF-B397-A38AE29A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FE0B-7A91-472A-A3F5-7A9E39D3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389E-AAAB-47DE-AD1A-C28AB36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B291-FE0B-44D0-9D62-7D8EC98C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484F-8D1E-43E0-B4B4-FD22E0D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48FB-A860-4F84-9B84-F5E0986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C15B-A17F-4121-85B9-F4C27C8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776B-5624-41D5-8BE6-B2FA1E51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56D4-09C1-49D9-AF3F-3C35F4D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76A1-67E0-408B-8B0B-970076A9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9D-CCEB-48BC-8F70-D22612C8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142-4141-45C4-A683-7A483799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ED3-C2FD-4B1F-9B48-632D19D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4B5-3101-4946-BA1F-06653F5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344-2CDC-4969-B791-2BCD48E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1237-FC4E-4C35-BC80-904C37D45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D9E9-7394-4274-90E0-7FD757191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F7A-995C-4101-92BD-B0EBA4C27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'll Never Say 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E. W. Chapman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 .H. Tenney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l Never Say Good-By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l Never Say Good-By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l Never Say Good-By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ll Never Say Good-By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l Never Say Good-By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l Never Say Good-By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l Never Say Good-By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ll Never Say Good-By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l Never Say Good-By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0920" y="648828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'll Never Say Good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l Never Say Good-By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l Never Say Good-By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ll Never Say Good-By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7:45Z</dcterms:modified>
  <cp:revision>29</cp:revision>
  <dc:subject/>
  <dc:title>Slide 1</dc:title>
</cp:coreProperties>
</file>