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8B5-E1A4-4DAA-9AB3-DC5BA069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066-E51A-4B6D-89CD-7E841144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221-B5A4-476E-9C91-BFC10A83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87E-3E48-4489-85F5-C57933B6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AB3C-4A53-44E0-8205-87DD6FC0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51DD-95CD-4E8C-9548-EC53C688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186F-6B58-41FD-873C-399AEBE9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EEB1-E159-4EE9-9C5D-0D3CFA48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33DD-5D23-4073-BFC9-D20C3B2C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44B1-7EAD-41BF-AAE4-45B5A2F9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06BB-BB77-465E-9A72-7828DFAF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00F-DA2D-4764-831C-5301C223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32F6-BDC6-4C76-9B1C-70EB72E0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D3CB-6592-46B7-BFBD-8FABFBDD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C231-055F-421C-83D0-429601DB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7289-80CF-4550-B927-D1E91F9C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8BFC-9695-42B3-B449-8BA7D44E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92F-E9D2-4C05-9FDB-A6B2D06F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0CB88-5FDC-4BB8-B3CB-E25FA67E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61F1-BD12-45D6-8FC9-514929D0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9C60-2CEB-4429-A8C8-7A177E26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2B2-17B0-4DB5-BE12-F21DCE84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256A-727C-42E5-8DBA-F29769B9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DCC4-BEB7-4475-A03B-1474C744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DA9E5-C2E7-4652-B24E-3E474CBB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43D3-30CB-4E26-A335-468F36EB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B3F15-56D3-468D-A278-32AD782E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6FE2-A1E5-45D7-AD03-B4F1C9EE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413C-B6E5-4012-85AC-BA3F726F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61DA2-3F49-45B5-8C77-75EBCFAD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FCF8-3B8E-4B66-BE5B-FF2FBC28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DBF-4BAD-4063-8429-523A0564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0CC-F178-4B8B-B1E6-39D396C7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BBA-1F98-4E85-BFB6-384D8D63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54D-6528-495D-96C0-D20087FD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D63-9C76-4AA4-B1A5-BAAA73E0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50AF-4528-4590-909F-BE1F2DB29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DB04-C853-402A-AC8A-25B0BD4CD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86E0-6AFD-4BDA-8F3C-3DBE25887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‘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is The Blessed Hour Of Pr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is The Blessed Hour Of Prayer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is The Blessed Hour Of Pray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6080" y="648828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‘Tis The Blessed Hour Of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is The Blessed Hour Of Pray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is The Blessed Hour Of Pray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36080" y="648828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‘Tis The Blessed Hour Of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is The Blessed Hour Of Prayer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is The Blessed Hour Of Prayer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sheet of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6080" y="648828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‘Tis The Blessed Hour Of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is The Blessed Hour Of Prayer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5:18Z</dcterms:modified>
  <cp:revision>35</cp:revision>
  <dc:subject/>
  <dc:title>Slide 1</dc:title>
</cp:coreProperties>
</file>