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9D0-8A0F-4E62-9C26-2DDFD496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851-1E81-426B-803A-D1888BDA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42B-C034-4FC7-A345-529D3B50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A77-FC6C-4C09-92C8-BE02F365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05C8-A45C-4C53-B919-890F7BC6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8F64-846D-4DB1-A577-507C48B9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A7CB-C710-4455-82AB-6D296FB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D720-213A-4227-8B56-083364C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056-AF7E-4E43-852A-03FD746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749E-0DBD-4F3E-9C18-DDA7AB0E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6BD4-46B9-439C-9932-3C21685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447-47AA-4D52-BC30-4DA198CD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E5B6-0C3C-4CFE-9D9D-449B75B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C777-20C1-4DF3-AB03-91BF415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A78F-87A5-4448-8BD1-6F9348F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C2F-2119-4E57-A598-E7A5ED78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62D9-8519-490D-94C8-F82A5209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307-44EA-416F-A193-0A28EEA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0066-FE85-4842-BE23-C57084EA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D728-3C2C-4C23-92CA-F178D8BF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BCDA-BAAF-423C-8ADD-3591DD5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9F4-6655-43A8-A679-13F26753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233F-3AEB-4B57-A211-31D6895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C907-06ED-43F5-8749-F989D565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33FF-EC93-4CF2-9D66-5FC8F82B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69F8-EA6F-4528-9C72-C824034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2A6A-B290-4A15-9F18-32C4CD4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ED68-5080-41A5-A2AB-B8EDDE1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CE78-4A31-4048-AA94-A21B53D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9329-FCA8-4C1F-BBFC-5350B786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7DF1-660B-4691-94AE-7820FBCA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B5D-4DEC-4D5E-AB9F-CADF240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49-FDDF-448B-94DF-E950A9C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F5B-612D-4376-9E31-3C5A176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07C-C978-4A37-B4A7-2AC6D05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49B-C073-4F8F-A21E-7AAB09C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784-8805-4D6F-BE3F-0D7C1B961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B4C-1033-412A-A363-C66DB4198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AE2-47DF-4EBF-890B-6E3F0DCB2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me Enough Y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2248200" y="4230720"/>
            <a:ext cx="46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This song is free to all music publis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0" y="107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</a:rPr>
              <a:t>A false promise - Yesterday is forever gone, - Tomorrow may never come, - Today is the day of all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me Enough Ye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ime Enough Ye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ime Enough Ye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ime Enough Ye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ime Enough Ye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ime Enough Ye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ime Enough Ye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ime Enough Ye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me Enough Ye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me Enough Ye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me Enough Ye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me Enough Ye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me Enough Ye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me Enough Ye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me Enough Ye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me Enough Ye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3:25Z</dcterms:modified>
  <cp:revision>31</cp:revision>
  <dc:subject/>
  <dc:title>Slide 1</dc:title>
</cp:coreProperties>
</file>