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CEF-51F5-4C89-8150-4B5B0367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659-160F-475E-A97B-89CEE8E1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7E1-3316-4B0D-B377-1E71D131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50F-0944-4232-95F0-20E02EF3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D776-0009-47F7-B6B4-B1F5AB66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C5A2-9224-4AF1-8065-0A3C9FDD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8760-8605-4B82-A0AA-46C3754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EA6E-6C0B-4D7E-A6CA-C8C8A3F1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F027-AD36-416E-88AA-153CC976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9B40-D677-4933-BAD4-5953183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1F0B-9E2B-4EEA-B10D-C691939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F6C-ADA9-47E5-BA95-647F5D9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3C07-24A2-48D2-A437-18B59DB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7CE-1DD8-4F84-A46A-D1FBF4EE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0C6-0E0F-4635-A2AE-C0FFF2F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E2CD-C818-4FC6-B313-D7A44417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BCB9-87DF-4BF7-9893-F877B170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A06-1BBE-4494-AC1E-26B1BAD7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6279-D257-46EC-AE54-09DBB16C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A7AD-5AC2-4C7E-873E-1259D6F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48E6-D983-4C24-A9D3-953D8884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AA4-25B4-4EC7-950A-99D36994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6FA6-0780-4BC9-9410-5CD2E4FC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AFE4-C259-48BC-9B1A-ADF4F5A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3A39-DCA8-49FA-8486-6184C04E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C1BD-3956-4555-B331-85DEE03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6A36-B715-4D69-845F-905467E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D975-D13A-4370-8A47-DF85F05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ECBA-857C-4AF6-A0AE-CE0A17F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2D33-0CBB-43DC-A2DB-55FB599C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846F-78E1-4613-8CEE-A1246798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103-685A-445B-8BE2-8EC76EF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8C3-0B95-4DC3-9ECB-64397B7B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A0F-D12E-4F7A-9F7A-789BF42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60E-8ED4-40D9-B186-AF5FFDB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DD0-BE1F-4155-ADCB-B547FF2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BF2E-A30C-42C2-848D-E1B2381D1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AF63-FA5E-4947-A040-54D01601C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D2AE-A522-4D23-A084-A1A33F6A7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's My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23, Arr. Francis Rous (164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t.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cottish Psal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Campbell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rds My Shepherd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rds My Shepherd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s My Shephe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s My Shephe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s My Shepher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s My Shepher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s My Shepher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s My Shepher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rds My Shepherd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s My Shepherd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20:36Z</dcterms:modified>
  <cp:revision>20</cp:revision>
  <dc:subject/>
  <dc:title>Slide 1</dc:title>
</cp:coreProperties>
</file>