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36D-1368-45D9-8E3B-92266C16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68D-05D9-4EC4-8C92-DE11FC0F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9E7-19CF-44F2-BE3B-D9E909FD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C78-F24B-4C39-95E2-01117C03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2DFE-4D9C-45EC-9929-717F0883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4660-F87E-468C-8722-DE3C6478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B010-5EB0-4720-BFE0-098DDA6B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2FE0-CCC8-4DBA-8035-E46F836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51CE-DCC0-45E3-85F3-817331AD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6B74-AF6B-4989-8344-AC6FF666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D411-FA16-4264-A119-3EDBC842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ACE-F33D-4545-8EAD-C42FA4B5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AC7-11A9-4213-B817-84DF829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53FE-D346-4356-A0B7-CEA95E49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4E63-88B3-4D83-84BF-DCF4A965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DD26-0D06-4052-B0ED-95C0BB07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6F9F-E2BD-4F08-96D4-15DB9C36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E59-B2D0-437F-917F-B2D68817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1969-4617-4E65-8880-8AFF0BF0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5173-0FBE-48D7-B58F-B62C15C4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3E14-B764-4838-86B9-C088D390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D1B-B0FB-458A-A3F0-34B5A378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4310-B7C6-486D-A5AA-EACFF64D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AD97-4799-46FE-BE8A-A6FBCC6E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C066-0E62-4FEF-9DC4-E42756C1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9EBB-A9E9-4986-AC57-94CBE9B3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5AD5-91EC-4BF0-9E45-136D23D0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B0F2-8A5B-480B-BFEF-11583C4C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B769-D37D-4A56-A7DC-89E531FF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1AC1-D5C1-47EF-A41B-3DA5D7D6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5274-592B-4741-8CAE-567F7260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5F4-0E30-43AD-B42C-D588DE4D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219-882F-4E2A-B358-53ACE8C2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B09-4AF1-4494-8632-8D84016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5D0-7013-4626-9CAF-03C323F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DE5-2B3E-4568-97BD-EC43B519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5280-2BD6-4A3D-9F9B-BDED1C877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AA9B-367F-4123-9820-157A1F2AB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0DCD-2053-491D-9690-8AD17B4EB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s Midnight, And On Olive's B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IVE’S B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Tappan (18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is Midnight And On Olives Br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5160" y="64882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‘Tis Midnight, And On Olive's 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s Midnight And On Olives Br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s Midnight And On Olives Br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5160" y="64882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‘Tis Midnight, And On Olive's 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is Midnight And On Olives Br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s Midnight And On Olives Br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5160" y="64882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‘Tis Midnight, And On Olive's 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s Midnight And On Olives Br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is Midnight And On Olives Brow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55160" y="64882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‘Tis Midnight, And On Olive's 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s Midnight And On Olives Brow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5:28Z</dcterms:modified>
  <cp:revision>19</cp:revision>
  <dc:subject/>
  <dc:title>Slide 1</dc:title>
</cp:coreProperties>
</file>