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B37-CFD4-418D-A2DA-A87E3D1F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D26-3242-4109-98A4-3926879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D1A-9F41-4813-8AAF-AEE983B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131-4741-4392-84CE-C3C45FFD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6ACB-A2DD-403C-9D0F-36C349C1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4659-AD06-484B-8D28-19BDB0D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2A05-B1C4-47F1-9D2A-C360A01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855D-7C32-4046-A233-C01F1BC5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D65-50BF-45EF-9CB9-6797AF58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B5E-CB6C-4E76-A6E4-3AEB6969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51FC-CCE9-429B-A919-B9143DB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0EF-A07F-4A0D-A01D-AFC8CB93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853-19BE-46CA-AFD5-4EE9C17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144-E9CF-493B-91FE-9AA44D5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C334-FBD3-45FC-A097-B5425E6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B468-8408-47AF-BBEF-D9602B4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3ACE-3E00-47A7-9453-DAD7D325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C0B-276D-4229-910B-4F6E7BA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9CE1-C40A-4CF6-AEDD-1B66ED02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F2ED-B87E-4E53-9F4C-619CB35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DD74-DE90-43B6-8CE5-00DE285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F6F-5A3E-425A-B5D9-7AB3BA5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EFC1-E4C9-4EF3-AB86-46F9ECB8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5988-8EC1-4A73-88FC-2BDEC47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26D5-C8C8-49F8-B214-615172C0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054E-BA3B-4622-B346-00A94C2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5193-C415-4EA8-A0C6-A9E2FA5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601A-48A7-4422-9E89-03CA116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627B-6456-4765-9F26-AE3F570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4749-FA5E-4FED-A057-E6DA3601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15C8-DF58-4220-83B4-3AA58A79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AFA-737E-4212-8E3A-9AB816F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8A9-2ECB-44B6-A46E-8FC60CF6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598-43BD-4301-81D5-988596D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B31-4F8B-4F56-A60A-9487675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F90-6A4D-433C-9777-004FE26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1D3-9E49-4B7D-B616-E8398AA70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780-2715-43EF-96E6-72849A868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E53-E2E3-4724-8695-C9302428F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aw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9: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aw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aw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aw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aw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aw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aw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aw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aw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aw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aw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aw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aw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6:04Z</dcterms:modified>
  <cp:revision>29</cp:revision>
  <dc:subject/>
  <dc:title>Slide 1</dc:title>
</cp:coreProperties>
</file>