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F79-39E1-43E5-93D5-E35D8335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B00-8C19-4A73-9EDD-9E217B25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B38-BBC0-4A91-8EB3-C2DE6DA7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DB-6B97-4923-ACF9-CCBE587A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4C3-7FCC-4DEF-8B96-631EB0CE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B3A-C5C5-4C7C-9063-B471420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DC68-E9A6-468B-A6A8-8F52365E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D6F-2243-4D65-B13B-53A923FB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F5B6-2722-44F9-9234-6794E447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57C-B560-474A-A782-DDC9E1E3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586-48BA-41C1-8A53-B45F117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02F-5D15-40FF-848A-0782F94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3BD2-81C1-43A3-B425-BE8044B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D5BF-7881-4ADD-8B84-B2212780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0C74-58ED-43C7-AD17-C6D5AE62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E73-96F9-4B94-B780-DF747164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A05-A00E-4E0A-BDF6-57C0DC8B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022-A94A-48A5-B45E-657FD29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1B61-B0F4-4DD7-B541-282DC869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87A9-B5BC-4149-ADE1-1A17C1F3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08BE-A1AB-40A1-8AE4-0DAA7479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7C8-378D-4324-AC0C-F7BBE39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F0DD-3DC9-4E0B-9E08-5B442E48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C0B2-594B-4664-8B6F-80B94DC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A8EE-2C53-4450-BAB5-A94DD259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558E-B08A-46E5-9737-DBFF6E5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BB09-E705-4398-BEA6-46E7705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8E26-DB0D-486F-8FBE-CF14F89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846C-E359-4857-8CFC-D13AA69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DFFC-6375-416F-9B29-D75B413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4C0B-3B77-464B-8DE2-4FED2D9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063-0274-4D9C-90FF-E6295B9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09B-3433-4B30-99C7-F18986D4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8F2-D8BC-4FCC-81E6-C0330746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E42-CE04-4DE7-B196-110992B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8D2-2DA6-430C-80A2-F8B9F1E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C35-A567-48F9-9C70-EBC8FFF9E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653-E47E-40DC-93CA-B13A4AFA2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48D-B4A4-466C-A6AD-6E7DB98A7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’s My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I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23, Arr. Francis Rous (164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cottish Psal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Seymour Irvin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s My Shepherd_arr2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s My Shepher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s My Shepher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s My Shepher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s My Shepherd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25:54Z</dcterms:modified>
  <cp:revision>30</cp:revision>
  <dc:subject/>
  <dc:title>Slide 1</dc:title>
</cp:coreProperties>
</file>