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4CE-88A1-4748-BDF6-1249844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69C-7C04-4271-9893-9914AC15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926-4500-4696-B4AD-CC3A75BF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C54-D78F-48F4-854F-D77EAB2D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04B4-1A34-4902-8B58-1B1FF111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1133-CA1E-4451-87EF-A0AB9683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8CA1-D4FD-490E-A4FE-F21A3DAA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941-42A0-47EC-9B3E-5946D051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E42E-18ED-4E5D-B838-E1CEA0EB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0050-33F1-470F-8E65-E099706A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060F-0722-46E2-9CDD-8AEE49A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F4C-7C06-4AC3-96C8-E6EAA29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79E8-C86C-401D-9DE6-4011F36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F08-243D-4243-A630-EAB2A28A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EFAB-A09B-4B3B-B4F6-C38CE4B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478B-0A39-4EE9-BD30-030D81A9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5751-A0C3-4F5F-841E-5747B724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48A-4351-4D12-82E8-3362840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6586-72C9-41C6-9657-B277D8A5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2AAC-EB81-4F38-868E-D8585D40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4DFE-7644-4877-B249-142DE87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EFD-6B4F-4F56-A27F-BCFC0171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9BB5-B7B6-41E7-A7F6-472A523F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8FA9-2AEC-496E-8C64-EFEDD5E1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DE05-F0F8-4D06-AA89-0FA7199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3D24-863E-4D47-BA0D-ADE7BA0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D52F-46B6-44EB-8A50-7B35BC62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1DE6-8B6A-4F9C-9A48-6CBCAE4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E434-C4FB-449B-B29B-65AEE9B2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A562-CC15-41D4-86D3-A4AAC02A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9D92-AC52-45F2-8F71-61740CA5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AF9-E134-42AF-BA69-D8F6364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832-F549-4457-933C-15722398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242-F283-4FD0-A681-4C0DFC4E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DCF-4826-4D16-8DFE-477FB5D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A32-2061-4CFD-BB6D-CC2A5D0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57AA-A777-4C70-AC4A-49E35D1E6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320-6E16-4A53-9BAE-80488FB5B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F7CA-6B25-413A-A47C-57FA4C24B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End Of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I Get To The End Of The 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ie D. Tillma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ie D. Tillma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End Of The 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End Of The W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End Of The 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756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End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End Of The 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End Of The 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End Of The 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End Of The W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End Of The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End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End Of The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End Of The 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End Of The 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End Of The W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End Of The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756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End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End Of The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End Of The 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8:50Z</dcterms:modified>
  <cp:revision>33</cp:revision>
  <dc:subject/>
  <dc:title>Slide 1</dc:title>
</cp:coreProperties>
</file>