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9C8-BA03-4739-B18C-831E1268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ECE-1D26-4C44-9F6E-81997016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0C5-EEA6-4DC3-BB9A-7CE76C88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A25-DA6E-455B-B4A8-86168AD8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FC60-AA6F-45FF-8BEA-3745642B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71DE-D350-4DAD-AA49-D17D492E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0521-135D-4662-953D-AB3A9A58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C09F-9C1B-4C98-9033-6D17D268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9CF7-489D-450F-862A-44F81530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2ABF-BBB0-4660-86D3-8F5CD368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333B-A132-4EBF-BE25-8D665BE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082-FE40-4222-97C0-B7C5C0B2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FC1E-90F6-4D86-B6FE-579596F1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E9AF-7C7E-444E-8EE4-B107644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4110-E988-4C5B-8FBF-B91A3136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BE8C-9435-4F97-8D93-4685CAE0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E361-DB5E-4239-A4D3-D11CE569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BA0-89BA-47E4-AB98-3A536D0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24C7F-71BC-45A3-B2F4-F951AC0C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6880-1937-4897-B177-B8F85ADA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3176-B61F-475B-AD0E-6AC6F5BC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03E-21A7-4C2A-AB5C-FC178D56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A8B2-C236-4195-8830-FA9E9621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DFC8-65EB-4EA5-9F96-11DE69C1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2727-4B80-4EFB-A2B4-BF53B8E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1130-913C-4C79-9D67-270EEA9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0D2E-6A3F-4185-B8C3-E7E7C58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8C9AA-A465-46ED-AF31-BCB5D5B0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54C1-3D4D-4A57-BA0B-272F0312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E23D-455C-4CE8-906C-433F9D00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8FDF-E040-4F22-93CD-B4997C8F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3B0-FAEC-47A4-8014-B10A8AB1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1C5-2574-4378-B16D-B02AFF5C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D1A-4D3A-4675-AAB8-F8C8228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B03-C306-4D38-AB5F-4D09453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98C-3B10-497A-8D39-ED71391C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F595-5700-4335-B272-6B62016F6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C0DA-D274-4E03-A915-78CBB3828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AC43-9B85-4CD3-BCDB-CF1CF2CD8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Spacious Firmament on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8.8.8.8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 Addison (17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z Joseph Haydn (17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Spacious Firmament On Hig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480" y="648828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Spacious Firmament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Spacious Firmament On Hig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Spacious Firmament On High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Spacious Firmament On High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Spacious Firmament On Hig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480" y="648828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Spacious Firmament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Spacious Firmament On Hig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Spacious Firmament On High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Spacious Firmament On High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Spacious Firmament On Hig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480" y="648828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Spacious Firmament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Spacious Firmament On Hig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Spacious Firmament On High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Spacious Firmament On High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4:41Z</dcterms:modified>
  <cp:revision>30</cp:revision>
  <dc:subject/>
  <dc:title>Slide 1</dc:title>
</cp:coreProperties>
</file>