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E380-120B-4F01-AB47-784E3412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07EA-C5C9-4800-9266-D3D17787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6D5-8EFE-40B3-811A-4BDF8D79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508-3B57-4637-A35D-91B03400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E7E1-1A32-4C8F-8A99-0EE2499F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0CCF-7809-4983-A922-F75B3EC6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297C-BD06-4394-B290-D984E2BD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2710-3FEF-4F00-B267-6BE74D72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AD81-A5C4-4352-A904-457E4470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1AFF-8D8B-4237-AC66-91A73F10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0B3C-F3D2-40FF-8747-4678B01A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D01-38B2-4AC9-B15C-39C11910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5BBE-11A2-4B09-ABFA-ED5F463A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D87A-737D-4C91-8FB0-5CB44F7F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2BEA-5E9B-4AE1-A815-DF73B94C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29CD-5050-4481-BBE8-2220FCE6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821D-C71F-4E10-924B-12324AAF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EB70-A1F8-46C9-8144-3BB86FE0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58C11-0816-4736-ADF5-9276CBE4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746FF-EAB3-4038-BDFC-7B460955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5920F-C595-4446-B7D8-E97C26E8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3FE6-3966-461E-921A-509F7F03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28A3E-384F-4813-8295-2986517D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DF966-922F-4123-8214-2D8B4F0C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09465-A536-4910-AA6E-387013A4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6260D-F515-479E-B76A-080BD6E4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58729-C76C-4A65-8377-F8A3E4F1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AA99F-45BD-4AE9-BD72-5D4F7F0D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BB881-6932-42A8-8A1C-5F12F14D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0B3A1-1972-4DA9-BE17-B0519D19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B002B-3F17-43C9-8697-1F6FAFC8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3085-3A40-477F-A0FF-70A62DD8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E7B-E178-4E08-8373-1D2480B5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AEED-6513-4646-8CC5-0CD828E3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B8F-4642-4C34-9A2A-AA7E820C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4954-A41D-466D-876B-FB2F559A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8C5D-8B43-4F3A-A4D6-46FDCB402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64C9-0A4F-4901-868A-8DFE4A4F9B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AF67-A8EF-49F3-935C-BD534A4CD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Church In The Wild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re’s A Church In The Vall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r. William S. Pitts (186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r. William S. Pitts (186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Church In The Wildwood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Church In The Wildwood_vC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Church In The Wildwo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13040" y="6488280"/>
            <a:ext cx="400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Church In The Wild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Church In The Wildwo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Church In The Wildwood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Church In The Wildwood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 Church In The Wildwood_vC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Church In The Wildwo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3040" y="6488280"/>
            <a:ext cx="400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Church In The Wild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Church In The Wildwo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Church In The Wildwood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Church In The Wildwood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Church In The Wildwood_vC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Church In The Wildwo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13040" y="6488280"/>
            <a:ext cx="400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Church In The Wild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Church In The Wildwo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Church In The Wildwood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07:15Z</dcterms:modified>
  <cp:revision>35</cp:revision>
  <dc:subject/>
  <dc:title>Slide 1</dc:title>
</cp:coreProperties>
</file>