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7BC-6113-41C3-AF1D-7038D149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490-E533-4F15-96A0-CC0FD0C4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934-B716-4E0B-8FBE-FB9D706E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1D7-17BA-46E5-A667-3C7B092B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0DA-0FBF-4FA5-AAD4-F29158BF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DC05-32C9-40D4-8448-3CF6FE43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513-E501-46A4-A1CD-07D6DCE0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7A3-40F7-4B7A-A0D6-C496DEB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FC68-9FA9-4210-91C6-FF266FB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CA7-7AD4-471D-937C-9428DFFC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7561-2C54-4B8A-A650-5B09175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F5D-4F54-4753-B6D9-FD80B8C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CE5A-89CD-41C2-8F3E-6DC9F92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9575-F1A5-464E-A23A-9814710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7C65-F1DD-4ADA-B359-98DDEBA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A018-34FE-4202-A050-AFEBAC25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926-9D4A-409E-8A49-9100199B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D2B-3150-457F-ABE2-5B95B98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8FA9-5977-4891-8259-D720DCF3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2191D-5570-4A23-90AE-029EBEF4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EE0F-815C-4704-9A2F-210CA135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4A9-075D-4B9B-8C6A-E9A1120F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E752-B262-43C6-9C52-7D5B85C0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D15C-B705-434F-9BC8-6A106E1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8152-74F5-43A3-845E-A95C07BB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7FDF-D740-4080-9B6A-08FE0101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10D4-B22F-4387-9B24-D06D7A6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D578-6B23-4797-86BB-5FBC4BE2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A6CE-F0B6-498D-9085-69493062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CEE4-C47C-4D4D-93C5-BE7BD6B4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8473-486F-46A9-AA62-4E17583C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DAB-31B0-45F3-AD43-9E87891D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5D3-2E00-4DF9-A570-396370A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E56-4AAE-4185-BD01-5466236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AE0-0311-4FB1-BE3D-61043130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694-EA81-4A5A-93E3-2787CD3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C44D-68EA-4C37-A0A7-8EB758E86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3C6-3E89-40AB-8F06-B1E5FFA45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A16-2278-405D-ACCA-04467A195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rust And O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ammi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wn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rust And Obe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rust And Obe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rust And Obe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rust And Obe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rust And Obe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rust And Obe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rust And Obey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rust And Obe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rust And Obe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rust And Obe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rust And Obe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rust And Obe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rust And Obe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rust And Obe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rust And Obe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4:28Z</dcterms:modified>
  <cp:revision>33</cp:revision>
  <dc:subject/>
  <dc:title>Slide 1</dc:title>
</cp:coreProperties>
</file>