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D31-C613-4A96-B0D0-73D14E12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929-7B34-4D32-ADD4-5EDA10FD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1D7-3073-4F1F-93A0-1A059EC9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4D0-B522-401E-B921-3611D30E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BE1E-30BF-44DB-A0A1-FA7ECEE8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AF95-5135-4B5F-920E-E9B4EE7D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5981-27DF-4809-B997-60FC9C7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C623-8462-45D1-84A1-FE7A1568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D738-C87E-456C-96EE-48895C1F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4D2D-BC6E-4086-8183-318AF067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17FE-8AF4-4E40-9814-6991F873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9E2-D4CB-4A4C-B9B4-37F3D051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C7FC-ECE4-4CFB-88BC-31089C7E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4F4B-7B94-4838-AAD4-4A88162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7DCA-627D-4F45-8930-077EF750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7257-984E-46C3-BBD6-9C718F4F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2A90-A517-40F5-9285-170C1314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13D-9532-4D68-9BCF-747FA50D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9ECD-202D-4E13-BCB3-8DB3D61B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BB51-4AA5-4918-8430-5E4FE1D9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D29E-986A-4F53-A819-E0A96DF6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B2D-C458-4F90-9061-AA356ECA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AC13-4577-47F7-AC2F-71D7139C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8172-ABC9-4E63-97F6-435361F3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B758-799D-46C6-AA84-A9401E4E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A2429-05FB-488F-A12B-5AC8F79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01C3-C1C8-4935-9159-337FAEF0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B7798-41F1-476D-BF41-EBAD5774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AA3D-E7DD-495A-8436-7BF108D5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2EF7-309F-40C5-93E6-91FC4A3D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0B91-5901-4B1A-93A9-A00C5438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8D9-6EA4-441F-A288-A5722FBC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4D9-8D12-418D-AF13-0C25E51B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22B-F1EE-4D4D-91BD-2B6DC1DB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CB8-0688-431C-8392-DE357DA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F14-AA87-4B54-84B4-DEDF5C1D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6BEC-1693-40BF-BE9A-B7EDF1B55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8041-A558-4F0D-8618-F40121AE8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6C68-9D71-4CDC-B9A6-CEB9541EA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Old Ship of Z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YAR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egro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egro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Old Ship Of Zio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Old Ship Of Zion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Old Ship Of Zion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664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Old Ship of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Old Ship Of Zion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Old Ship Of Zion_vEnd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Old Ship Of Z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Old Ship Of Z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1664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Old Ship of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Old Ship Of Z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Old Ship Of Z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Old Ship Of Z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664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Old Ship of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Old Ship Of Zi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Old Ship Of Z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Old Ship Of Z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1664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Old Ship of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1:39Z</dcterms:modified>
  <cp:revision>31</cp:revision>
  <dc:subject/>
  <dc:title>Slide 1</dc:title>
</cp:coreProperties>
</file>