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1198-A713-4239-8F0D-27ABB3434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BC72-AF84-4854-A491-CEF0D7F1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70A4-5B27-4C2C-A7E9-D782255AE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5A5C-4089-49EC-B2F0-3B55CCCFE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CC11-002D-4D50-9F3B-42F74E985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0300-FB1B-4A17-9674-2CB898F7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4D70-3B5A-437E-BFBF-43370D25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19B1-B59C-48DC-8114-CFFDDEA2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90A9-84EE-4113-A0FD-6992C3F8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7FD5-262A-47AA-AE7B-2AF3D7A4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43CF-E579-49F0-8E4C-57D3D0D8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17B5-D87E-4C77-9C2E-72756986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CE692-6646-4D13-8370-F75B6ADF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C430-36E2-4E3C-8A83-40508976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2C79C-5D94-46F8-97AA-56AA8AC9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C3B8-7B1C-4DE9-8AF8-99737522E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18B8-574A-4BC2-8C48-9D12AA7D6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89C0-3E2A-4B5D-95DA-BCC17E10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7CE00-4C34-49D0-8024-1DCE15809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67C9D-19B2-404C-BF6A-C349EA10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5DFBD-7645-4438-A431-D45CE69C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8E91-7ED3-4BF0-AD2D-E484C2B87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09A34-8B7D-46B0-B49D-22FA89A9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8C792-60CB-4EBF-B906-67A9C329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3CF3A-FE6F-4773-A3BF-19D3E395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EDFB9-B273-4453-B862-3857AED6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DAC79-2639-4BBE-A8B1-5A7DC889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319FB-08A1-4DC1-9123-00897CFF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9B6A5-6E7A-4BE7-B841-29961C17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9E718-4F7D-4C3A-A0DF-D4C1A8CAC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DD3CF-1087-4F84-B030-93B96BF18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E27B-7FE3-44C2-9645-C3DFBA1D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66E0-87C1-4635-B9C2-9226BE94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60B9-0526-4008-A0A1-4B162C68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8B47-CC74-4D89-BC61-FB46B199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A6D0-F81E-42F3-A8A1-254FA94B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BAE8-9648-4F6E-A8FF-1650104F9A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6174-8A1F-4183-A6D8-90A6997BA6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D558-2133-476F-972C-E9648493EE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o The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A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anny J. Crosby (186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H. Doane (187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5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o The Work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4600" y="6488280"/>
            <a:ext cx="22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o Th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o The Work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o The Work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o The Work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o The Work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4600" y="6488280"/>
            <a:ext cx="22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o Th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o The Work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o The Work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o The Work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o The Work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4600" y="6488280"/>
            <a:ext cx="22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o Th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o The Work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o The Work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o The Work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1:02:33Z</dcterms:modified>
  <cp:revision>35</cp:revision>
  <dc:subject/>
  <dc:title>Slide 1</dc:title>
</cp:coreProperties>
</file>