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60F7-67E1-4C19-86BF-DA783FA2A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2805-8D84-4940-8CB7-8553CE40C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A4B3-C2F9-48F1-AD16-E18110002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B2DD-A7CC-4611-BFE5-BAAF71BF3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C2338-A9C2-4D1A-8909-78ED23F27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A7C07-48CA-405A-A1C9-D316DB286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91210-92B0-4499-A2D3-550F644FE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1CDD3-3478-4F65-A420-62AF7F47B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0F8F5-0ADB-4DCF-A8D5-E0342243D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DA573-F00F-44A3-8D04-AC90579E5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15A09-975D-42B5-9733-3FE65E2E0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89BF-1F04-44C0-9371-9FB3F68D0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6DBAF-85F4-4627-944B-8B6D8D73E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8F251-892B-4DCD-A9D7-37C58B5B0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A9041-F11B-4D66-8D98-DC1307F6E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D2510-0FFA-429E-824A-08131DC9B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4610F-39EE-4166-90D9-C311EF2EE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40E9-5AEA-4C86-B81E-87A99D451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657FCF-3357-4FAB-B536-30BF8E59B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414A51-2614-4F77-95AB-044539656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F67897-87AE-4D0D-B735-D35C69C0F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0EAC-A658-491C-BC92-DAC534F21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CCA1AE-C6F1-410B-8EA7-C73DF24E8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6D707D-B040-40D0-A19C-412BE0A54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DA2BD2-5033-4DA1-8B2F-FDDE0FD58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C24004-8879-47C8-9B7B-DBC30E683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4CB8FA-D806-4CA9-BE04-742E1F123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F7D344-C135-406B-84CD-AC86D4DFF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C75E86-7262-455D-8C03-C7AE6F23E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787B61-E2F2-46C9-8E66-59A48DE20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A56856-0C12-4E52-B219-AB0A1EED3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BE5A-4AF8-4BD2-808E-EBAA4802A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53AA-AFDF-4319-95C9-1FA1E9129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7379-6207-4A30-B170-6A59B549D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ADA9-2808-45CD-9B37-13F599721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3B18-8922-47B3-8AA9-92BD44C46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36A41-6714-4C57-9DB1-DE1148AC97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8172F-D569-46A5-8FE7-7A5B940A674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D6A63-006F-4072-A90F-AC1DB1B818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The Lord Is In His Holy Te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42120" y="4902120"/>
            <a:ext cx="124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D/D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Habakkuk 2: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illiam J. Kirkpatrick (19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43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The Lord Is In His Holy Temple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31040" y="6488280"/>
            <a:ext cx="418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The Lord Is In His Holy Te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The Lord Is In His Holy Temple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7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2T20:41:03Z</dcterms:modified>
  <cp:revision>16</cp:revision>
  <dc:subject/>
  <dc:title>Slide 1</dc:title>
</cp:coreProperties>
</file>