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6CD-6664-4F05-8AC1-1D8E0FE6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DB1-7CD8-4FC9-B735-644D6831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B2F-B466-4BEB-AE74-F5F70DB7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B7C-213C-485E-A1CE-BFCEDC09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3FC-D66F-4689-94F5-0AA07369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666-C5F4-4B2D-8073-86885DC3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CF7-50F2-463D-8DF4-C8938ABF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9B0-6CF0-480F-92E9-E03D39C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63BA-0F13-4419-9A50-5EA00C7E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5961-BB93-455E-981A-D2725660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0CD8-4BBA-4FA1-B14D-57A5E91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BE7-3AE4-42C3-B89C-6070FDA6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D5E5-E776-48E7-9773-FB8C330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8A16-F904-4C52-8E9E-DC6A8C4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027-A608-4E52-8BEF-0B4FED5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157-4957-43E3-A94E-E7CA5833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2674-9FFB-4798-81F4-C8E3CD4E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27D-022D-4D09-945B-65B01BB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0899-3936-4607-9C22-EF5F8CC3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9AB6-9E7D-4F0E-8D45-C734ADB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B2D0-651D-41C2-B445-2D793E7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A06-ADEF-4B84-BF72-FB8F3B2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11A3-CF9E-430E-9040-7E705BF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4178-EF7E-4EC4-9F1A-5DC8E74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E262-AE72-4F58-95C7-AB7BCA97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5D5C-A550-48EC-8F0E-147C33E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FF71-B56B-410C-B41B-29FAC5A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59A2-CFBD-48A6-9381-6E7966B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9514-6786-4560-9F2D-FCA75CF5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2875-8586-45BF-9F71-81B1260F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C736-0B46-46FB-8675-62212C1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D17-7B35-4E98-8FC3-AC6D9015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F18-1A27-471D-B93C-13634B6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F6D-D2F4-407B-8EE7-4BC3E3C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5FE-6FCF-4CD6-97BA-787696B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0A8-71D2-4A53-826D-1E0307D7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1E7-5F67-42B5-91AC-9486EC15A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D09-BB9D-40CD-ABE8-9CAD6D445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21D-DF7D-46A1-A2CB-0CD33D84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is Little Light of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s Little Light of Mine_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is Little Light of Mine_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is Little Light of Mine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is Little Light of Mine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is Little Light of Mine_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is Little Light of Mine_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is Little Light of Mine_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is Little Light of Mine_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8:36Z</dcterms:modified>
  <cp:revision>31</cp:revision>
  <dc:subject/>
  <dc:title>Slide 1</dc:title>
</cp:coreProperties>
</file>