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764-4F74-4D98-990C-4B1B4136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3CE-C4A9-4F9C-B02C-FC42EFED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A22-DD3B-41CA-A659-83602339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94D-C764-44D1-A496-115DAD39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2404-2F0D-42D6-A20A-B4E6B9D9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66A-CE4F-47F7-BBB1-85EFF30A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F5B-6556-4374-821E-79F96272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D9A6-073F-4867-AE14-3BE555A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B795-E547-45EF-A55A-B6D6E931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3071-F393-48D9-9B4D-86477ED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9BA0-0392-4F43-9F7C-10D4302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AB4-9FD6-45F6-AB1E-E825A7F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A69-F3F4-47FF-A163-5873ED4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D96-D27D-4C3D-8758-F8CA14E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D705-A052-4DDF-89C0-4F1928B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2B55-B15E-4627-B1FF-62F6C0C8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DA01-06EB-428E-9828-6AEE4B8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627-B39E-4526-AEDC-2BDC531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F265-298F-4B44-AE13-12073E8C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8722-602D-4232-89E1-5FBD1E6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BACA-6192-4B3A-A7CC-25CEE7E4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1FD-3328-4180-A608-0806C0F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0A2A-6BAF-4EEE-9F65-706FD83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F815-9CDC-48FF-9E3B-3525B9C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B009-98D0-46AC-B2CA-C70110BE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C896-86B0-4815-AE57-478FB0F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69DC-0436-4353-9AF1-45AA8A6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78E2-E07A-4D7B-AD0C-902C36F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84E1-1533-4E00-B09D-DEFF93FE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AE79-B818-4668-8AA3-6DF0248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DC95-B8EA-462C-8210-427F5D8B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D6F-51FD-48AB-8C6D-AE348C4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98F-8A6B-45CE-9B74-241E369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9AE-1CD6-45C0-8348-CCFDCB2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D96-84C8-485A-8FC0-715315A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383-BE10-4061-B52E-F70C23F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9A01-F409-4096-B887-A6B943286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469A-DCEB-4827-9096-C0B372BB9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BBE8-9D05-4B6F-BC8F-750B6BAA9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Pearly White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Holy And Beautiful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 + 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F. Ingler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F. Ingler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Pearly White Cit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Pearly White Cit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Pearly White Cit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Pearly Whit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Pearly White Cit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Pearly White Cit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Pearly White Cit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Pearly White Cit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Pearly Whit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Pearly White Cit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Pearly White Cit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Pearly White Cit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Pearly White Cit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Pearly Whit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Pearly White Cit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2:09:07Z</dcterms:modified>
  <cp:revision>32</cp:revision>
  <dc:subject/>
  <dc:title>Slide 1</dc:title>
</cp:coreProperties>
</file>