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C91-B1A9-45CD-985F-34E0931A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DED-78D9-4974-8230-E89269DD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FF8-E146-43FA-BCF1-6BB85102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FE2-8762-43B3-BF37-DEC7EE28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9746-0AFB-4C8D-8660-023EAD67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B72-E1CB-46A2-A309-5EA7B98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56AE-D888-4990-9B06-03364C0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473B-7C15-42E9-BE1A-A064524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2B50-7D2F-457E-AB1F-04E28B2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535-C35E-436C-9C33-8ED75F7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9D66-13FD-470D-9665-37A83BE7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090-A063-4B8A-9F05-9F7C178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E82-83F0-49E3-9F33-3A7F65B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701E-EE76-4EC7-AD37-6FE4BAE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7A84-8E32-4E48-83C7-E82B543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ECEE-6D8C-40BE-A089-0AE34F4A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BA72-9BE8-4091-9128-AC284584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90B-E36D-479C-B95A-A02B8C5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19F5-94D9-4CC6-9771-DF59A073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B592-E77D-4C27-873E-F251ABFD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BC71-2933-41EA-938E-37B138A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6B8-FD02-4C66-B526-4F56905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9DA6-B0D8-4588-95E5-15EA32E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9EC5-B296-4031-BB6A-9B8A63A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DCA2-BD3A-4882-9F99-60AE9AF6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505E-B389-42C6-8851-79384B3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354E-9CB9-4F30-9858-F382FDE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58CC-2508-4336-8AE5-DC86737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A6B9-D2F4-4477-85E3-5B0D2C0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84A0-82FF-44F0-B4C6-2224A140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3113-F5D7-44F1-AB16-0919E420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BF0-CABA-4A9C-956A-E9AB95C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C63-1E27-4833-834A-E17BC74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039-EB8C-484D-AD24-50DE270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D37-6588-476D-8865-4C6EA73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5E8-F4E1-443D-8257-EBB61B4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608-EA31-4D9A-993F-0C2EF567B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C4E5-6395-4226-B33A-DD9FC3A2B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2852-AF86-40C0-9F6E-C314F764F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ate 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A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ydia Baxt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ate Aj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ate Aj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ate Aj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ate Aj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ate Aj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ate Aj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9:32Z</dcterms:modified>
  <cp:revision>36</cp:revision>
  <dc:subject/>
  <dc:title>Slide 1</dc:title>
</cp:coreProperties>
</file>