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D3D-B35C-48C0-8AB3-BBEE25E1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D72-090A-457B-B181-8ACFABFA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8CF-1E74-43E9-BF97-6E23193D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ED4-9A89-46EA-9648-8C8FEC86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160-75E9-4B8F-9F35-285837E2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F5C-1266-4536-80F8-AE9A725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427C-FE0D-451B-9BC7-D1D057D3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E39F-4383-4AE9-A193-03E09AEF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DAFB-0052-425D-B621-DB00B477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89BD-FAD9-45FE-A8B5-7DE2CFF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079-D5C8-4884-99D2-E556093E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1F1-B601-4BBD-806B-DE1D79E0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8AC-7C64-49B9-B592-9903240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F8A0-E680-4EEB-B1F4-34832B1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144-588F-4D82-B474-165062D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DCB-9873-471E-B9DD-BF5CC96A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444F-A482-4D88-BC4D-AA661C0D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3C9-5E26-45D0-9129-2D36A1E0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5652-84EC-42B9-A6E4-5A9A36A4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13F2-935F-4BCF-B259-8C516A2F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5AB1-B7BA-42D4-B184-9B59551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782-C372-475A-BB6D-D31A08C8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BB73-1D61-4A29-9223-2F5A4E71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1155-2DCB-47CE-85CA-C6C70BF4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7CDF-5893-4486-B11D-C97B276D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6FF8-BFA7-4DDB-8247-8DBA977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F980-AD62-4388-B82F-91A1BC8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2902-DBD2-4EC4-BCFE-8A00589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F4EF-128C-411B-8D59-062D5769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3135-2448-4C98-8BED-8DC660A7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6F03-E248-4C83-8320-E0F5E330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A84-E072-4734-82B9-408F5AE5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280-A5A6-4FEB-9D6C-D4A9DAC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3FF-F827-4E69-981D-16F2360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B63-9BCE-4801-B6B3-EDBA7DC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D59-EE6A-4C5A-BCB1-C721619F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DCC6-3158-4F93-93BF-86D506BDC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021-4481-4051-A589-ADF99BBE2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C082-E705-4ABB-961A-33A8E56A0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Power In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ower In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wis E. Jone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wis E. Jone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Power In The Bloo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Power In The Bloo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Is Power In The Bloo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Is Power In The Bloo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re Is Power In The Bloo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re Is Power In The Bloo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re Is Power In The Bloo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re Is Power In The Bloo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Power In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Power In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Power In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Power In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Power In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Power In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Power In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Power In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9:29Z</dcterms:modified>
  <cp:revision>34</cp:revision>
  <dc:subject/>
  <dc:title>Slide 1</dc:title>
</cp:coreProperties>
</file>