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4D7-8E77-43A5-948B-D85D6E32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47C-83A1-49BA-B1CD-44F81670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470-B986-42EC-91D0-6C33A477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59A-8B3D-4A6E-8C34-5E3A37BB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D43A-B001-4F66-8C3E-E16CA889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8AE7-B450-47AB-8DA9-F46BEAA4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6D10-F326-45E6-BD50-80C6A85F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A813-1816-45FF-929D-9B3AEB1E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6327-712E-4078-AD4F-578D35A6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301D-89E8-4751-B88B-461E1FF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5B12-8DD1-4DB8-BFE9-5104903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664-C8A4-41A8-802A-56815026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A360-08C3-486C-9E50-730E07C0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0E2D-251E-46AC-9997-3807897E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7570-9441-47F7-A777-F42350F6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CCF7-F2D6-4603-AEC8-B57B944F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20BA-8259-4301-BE2B-D4950F66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031-2FDF-4C9C-AF07-83743F93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2F67-17DF-498B-BDFE-4E0064C5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E032-3BB7-451D-940A-FE28DB0B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2B39-A4F3-4DF3-959B-67534883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9D2-F53C-4AB0-B953-03C66D46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936D-BF49-4DE2-8CDF-64679A13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7CB7-875F-4219-803A-B066BCE0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DBCC-097D-43A8-BA03-D8EF4B24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36AF-380A-4FAF-AB28-1CBB9E9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4C24-0D89-4677-AB3A-ACC2A27D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E390-1F7B-45F1-A274-0CF8A92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36D3-250C-4126-AA4A-4A167615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5BD2-9CCD-47FD-8411-CBC7B920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C76D-3544-493D-9063-325C4605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372-B653-4BDE-8788-B41A799E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700-EB1B-43CF-9FC5-7CCD96DC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C92-29A5-430E-8649-3270B02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E89-33B0-4ED9-BB6E-3DA44F1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C98-DA40-480A-869D-8E7D297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74AE-6E27-4E5B-83D8-452C4616D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ACE2-306B-4483-8818-07848359A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8A39-DC47-4101-B284-1034BECB0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First N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English Ca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andy’s CHRISTMAS CAROLS (1883), Arr. John Stainer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First No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First Noe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88920" y="64882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First N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First Noe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First No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First Noe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First N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First Noe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First No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First Noe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8920" y="64882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First N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First Noe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First No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First Noe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8920" y="64882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First N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First Noe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18:28Z</dcterms:modified>
  <cp:revision>32</cp:revision>
  <dc:subject/>
  <dc:title>Slide 1</dc:title>
</cp:coreProperties>
</file>