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3C0-B42E-4E8A-A33D-EBD40BF9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B49-FCA9-43D4-BD43-5C5B6BD3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A33-CD25-44AA-9094-F965F024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2FC9-F930-4E6D-BEE3-F271EB02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7A96-E510-4834-AF01-A4119E04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17E2-66F0-445E-8376-FDC09CFA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83F6-1051-4732-8803-4A246F56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BF8B-72E7-442A-9354-09631124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FEDD-CD4C-41FC-99CC-F6219435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874A-9890-4BD8-AFAC-9804F711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7F10-D222-4827-92EA-DA4A7508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27E-D8AA-4EDC-82FD-DFB1952A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1FB1-7323-4845-BC5B-A2FE7350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531A-3572-4CAD-B974-4D1C1B97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6CA1-3DA7-451B-B936-A9929D90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76D0-F944-4DDD-BD9C-72F5582C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1671-9336-40F7-91A3-F848C089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5904-20B8-475F-81E7-C158BC6A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A1886-4A62-4402-AEAE-4C9F6B26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2D51F-7D7A-4C25-AFCE-C82FBE9D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0BAA5-3663-4554-80F2-CC85F41C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3B4-32A6-4883-96FD-78D57060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4E837-F64A-4DA9-B34B-ECBD6793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C0B1F-B59F-444F-8FAC-6D1ACA67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2F2A1-9EB5-420A-A58F-44718BA8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2CE05-F54D-4494-8B5E-0E49DE65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A189D-DDE1-4E6B-8108-A8AA225F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04F8E-9B77-4E32-9A3F-D3AB3607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504C6-98C4-4314-B4F4-3DF2590C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0AFD3-3223-4562-9099-4928E8B0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3C063-24A0-4588-9655-21C80FFF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B5EC-EA5C-4AE2-9410-DD314EAB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BF8-302C-4AB9-B7C3-C1B4103F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D429-9D90-4416-B818-B2739BAF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2C0A-9135-477B-8D23-4DD26285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AF3-4E13-4835-958A-C2110EF2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E8A9-CDC6-41D7-8D11-4B541BCBE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5C9F-1D64-47D3-8BA3-D8065ABB4A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6D87-CA66-42ED-A83C-48BAA8C67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ell It To Jesus A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remiah E. Rankin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S. Lorenz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ell It To Jesus Alon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6360" y="648828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ell It To Jesus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ell It To Jesus Alon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ell It To Jesus Alon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ell It To Jesus Alon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ell It To Jesus Alon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6360" y="648828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ell It To Jesus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ell It To Jesus Alon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ell It To Jesus Alon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ell It To Jesus Alon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ell It To Jesus Alon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6360" y="648828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ell It To Jesus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ell It To Jesus Alon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ell It To Jesus Alon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ell It To Jesus Alon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3:02Z</dcterms:modified>
  <cp:revision>35</cp:revision>
  <dc:subject/>
  <dc:title>Slide 1</dc:title>
</cp:coreProperties>
</file>