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F23-EB9F-47C9-85DA-1BC3A820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E40-506C-4671-813B-45C09AF1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D54-11C0-4EAD-9166-4006A252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502-E58F-4170-8323-11473449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6066-1022-40B3-83E6-44B67507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20C9-17DA-46C4-925A-11E4E56A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0E50-CE3C-4157-87F0-8BF44CD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C822-D96C-4599-A334-DD710EEA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C50F-9543-4DD4-BE93-98017149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AED3-B9CD-4E5B-B6E5-BFA1A221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FDAA-BBBD-4BF4-89F3-1ECC23D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A4A-523C-47BF-A41A-E127BA91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59DF-6741-4B4B-9297-80543BB4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AEEA-03E0-4A8A-BA72-C34ECFF5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C030-D22D-43D1-A45C-27A000A4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F78E-791A-4A04-BAC5-3CD0F761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CFF2-E18C-41F5-81AB-584222FF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31D-F5B1-4C6A-BDF4-656DEF37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CCBA-64F0-446A-A08B-84113EF0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5C2E-290D-4FBF-A357-498684B7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C911F-8586-4CCC-A754-270705E7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651-FA29-45E5-B74D-747FD06D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C4E7-1244-4919-B14A-3AD1B453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5187-E372-4B55-AA6D-D8B3C84D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38AC-1E73-48CC-A0CF-9141CE64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73DE-0F31-484B-85C4-EA1CA3DC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6924-D5EF-4B1E-B68A-7316234E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DF25-E8D8-48A6-AE4D-561D375E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DB8B-19ED-40C7-A8DA-458BD59B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320F0-1D65-4161-ACAF-DA713C94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AEC1-DCD2-468F-BBEF-E46800AC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F68-F48E-44EE-98D6-C9996E83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C98-1BA9-4B89-AF60-90FCD793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870-6BA7-44DA-96A8-680C97C9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9E4-3FCA-4C74-8552-A3BC6292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24D-0D34-4DD1-BF57-8C8B505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9737-9B60-4812-98B4-1E5E6A99D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D8A9-84F3-4B1D-A9CA-8582BCE942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86D0-B85E-49CE-A4E1-C804F239A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ke the World But Give Me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ne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ake The World But Give Me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720" y="64882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ke the World But Give M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ake The World But Give Me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ake The World But Give Me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ake The World But Give Me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ke The World But Give Me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720" y="64882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ke the World But Give M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ke The World But Give Me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ke The World But Give Me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ke The World But Give Me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ke The World But Give Me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720" y="64882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ke the World But Give M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ke The World But Give Me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ke The World But Give Me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ke The World But Give Me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1:15Z</dcterms:modified>
  <cp:revision>31</cp:revision>
  <dc:subject/>
  <dc:title>Slide 1</dc:title>
</cp:coreProperties>
</file>