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A7E-1F20-4782-87C8-DD0ED0C0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297-A3E4-43EF-8D62-0093944F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D7F-131D-48A0-8C6D-EA82BF7D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BF9-21C8-496F-9491-A156126A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08E7-0527-4B94-816C-F8A52208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9A75-5355-44FB-B7D4-96F3B5D5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0CBE-CD03-4198-A47F-131434ED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0B6B-5859-44F0-A3D5-94FFCE0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D96C-E132-46A4-99FD-60C71CDE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01F9-7CD9-466D-8205-DBEA5985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058E-E8A8-43CC-BD7F-9618A757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3F0-E1CD-4B6B-875A-D42DF0F5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0466-3F4C-4965-A7E5-B4DF74E9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C693-371E-4CFB-833B-47668335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6D3-AAC5-41E7-A6B3-7029E825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C4C0-D243-4541-8E4C-4E507803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31B9-989C-4D0F-AB53-6BA42754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CD1-BE3C-4381-8809-43FB30E7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A15D-FFC2-4F52-A4D0-CAE884DA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2998-8523-4312-A0E3-84571873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5058-8E71-45A2-B44F-3A0B93A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99C-CB88-46C7-836D-1EA97E36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9186-A07D-4139-874F-28A5F29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24A0-7DE9-47C1-902F-4E7EFD19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4911-CF2A-4D74-A03B-D7391893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E80CE-F3EB-4035-8E50-92629A6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62AA-F2E1-4F5E-A4CE-CB85E0F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A984-6CD8-4528-89C5-F4524F3A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C9C6-1FC9-4A6D-B865-ED730B5D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6EC6-048B-4FC5-A766-6A89ECA1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2F42-319E-41B2-9B53-830DF534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05D-2073-430F-A7E5-6E118238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185-64E1-4FFB-AADB-4837FC96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D82-1372-41CB-9B08-0E2BCA6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127-9F5B-4AFD-9AB6-EE94F0DD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7E3-0EAA-41A3-AACC-7CE5B5C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EB5B-D775-4EC3-81BD-398326101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BA2B-2EEF-4488-867C-3AC62935B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AAA9-035A-48AC-9B69-F4B35C667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s The B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om C. Neal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om C. Neal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s The Bibl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is The Bibl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is The Bibl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0880" y="64882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‘Tis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is The Bibl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is The Bibl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is The Bibl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is The Bibl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is The Bibl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880" y="64882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‘Tis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s The Bibl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s The Bibl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is The Bibl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s The Bibl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s The Bibl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0880" y="64882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‘Tis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is The Bibl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s The Bibl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4:49Z</dcterms:modified>
  <cp:revision>29</cp:revision>
  <dc:subject/>
  <dc:title>Slide 1</dc:title>
</cp:coreProperties>
</file>