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983-5CE9-4191-8A9B-3E8BB52F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208-0379-4D02-AC56-C1495CA6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A0F-38A2-42A5-8DEF-4E2D8880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1AF4-76C6-4314-8241-7FA6652C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CCD9-C55E-4359-9D86-12E00F4F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83D7-66A7-473E-A9A0-24D3BA65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E745-EEAE-4EF5-85B9-7236CCE7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5AAA-092E-4422-93E4-E206E1BF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C3E1-4043-4043-B00F-05A99E91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3A03-6959-4C1B-95C3-9F4D97B4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8E70-8067-4F63-A058-1CCA6ECF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C04-855B-41D2-8C35-B6A8A30E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B320-22ED-4522-ABB4-D5002D5A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3D1E-B01C-4814-AAC5-CDFDA5FC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4DFF-2A91-404F-BAD2-3AA42BCE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32F0-01C8-4F96-8E84-497B6B54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4BD2-A871-42E6-8641-29F441D6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D5A1-0CB2-40DB-BE51-160357A9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4D996-7651-4F4D-A83F-A891BEAF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6A7A5-FC49-4522-B471-66C6C5F0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218E7-DCEE-4797-925E-6E239ADB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8E7-3F5B-4A07-A6AA-7E53D5D7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A8E3E-8CEC-4B33-9F77-3C0F7190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E1CAF-D3FD-438F-82B1-DEA6E4CD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33E79-E4B3-4428-80B3-19413F11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D8236-9369-4877-A77B-C65B4C6C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EF871-4C91-4867-8F54-8F6DFDD8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D6A13-612D-46E5-BE8B-1536F3F0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1D37B-B8C1-44E5-AE5E-C5BC0A2F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77D8E-EC7E-4A41-BF2F-44700654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6719B-AD12-4266-8C48-19E6E7C7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C3B9-3E1E-4814-B74C-542ABEF6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604-47C3-471F-944D-5D722FAA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0A3-B7BE-410C-BF1B-89351724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555-974B-4C1F-86B7-1458F390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A719-8575-4FE5-BF15-8754C77D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908B-0BF0-4DF4-A0F4-4C71EEB24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CCC2-D7E3-455A-B803-4E4EEBD985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4828-3354-4CDE-89F8-EC9DD4501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o God Be The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Doane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o God Be the Glory_arr1_v3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1520" y="648828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o God Be The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o God Be the Glory_arr1_v3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o God Be the Glory_arr1_v3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o God Be the Glory_arr1_v3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o God Be the Glory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520" y="648828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o God Be The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o God Be the Glory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o God Be the Glory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o God Be the Glory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o God Be the Glory_arr1_v2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1520" y="648828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o God Be The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o God Be the Glory_arr1_v2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o God Be the Glory_arr1_v2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o God Be the Glory_arr1_v2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57:43Z</dcterms:modified>
  <cp:revision>20</cp:revision>
  <dc:subject/>
  <dc:title>Slide 1</dc:title>
</cp:coreProperties>
</file>