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443-DA34-4E8B-8042-91A0E37C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6CF-3492-452B-80B8-80AB7387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292-0478-4B38-9999-A42C171B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970-F9E2-4054-84A8-4BDD8AA4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8955-B513-47F1-9540-152E2F1D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FAF-11F8-4463-A879-8A1FBA3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BD8-4110-4F6B-9F2D-C12EE25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6385-D52C-48A1-A247-492572A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8DF-86AD-4C37-A952-6A89600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39B0-4577-4653-8E74-5D076BEA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6C4-A9C0-4514-A318-4FED7EC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FA9-A5CF-4B4B-807B-81259413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94B-A2F6-42BE-94D5-122DB4B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61F-0C90-494F-A9E3-E94AF92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6429-8496-44C6-99DF-4247861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6208-D2A9-4188-B9C7-C6601768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D2C-08F7-427A-9DE3-7F0022C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17B-C6D7-4CE8-804D-F32714A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E818-3EC0-456E-B419-78A626CC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87E6-384A-4841-A51C-1F7F9EAB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1325-5AEA-4F17-AD4A-3DA3A0E0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F76-1F1C-4736-9AD0-B976024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B918-35E2-4648-8D9A-DD4D510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DCA3-0ECC-4D57-B3C6-25A2ABA1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30BD-2059-4CF8-BACB-03C30BAE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5C85-78C3-41C3-8A5E-295546C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2367-9421-4D12-A3F6-8ACAB8C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89BD-ABD3-4176-9142-F2FB37C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E5B6-AEBA-48E4-B268-04BF2E7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CEAD-2F31-48BE-A379-5A62CB58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D14B-2067-49A1-97AF-3F6576B1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2A0-F468-46A0-BAB8-8F38F3B1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8AF-56C6-4D81-B6A1-FEA5125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930-EC7F-44BD-AACC-8227D7DF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154-B557-412F-AE29-2EEEE31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1D4-B339-4B8E-AC48-5EB0D981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8181-4FB4-42D0-B6FE-B758C898A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A9DD-1300-432F-B27A-3C3CCA5A8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1C3C-EF60-4480-B346-1FB972A9F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Us a Child of Hope Is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Morrison (17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Us A Child Of Hope Is Bor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Us A Child Of Hope Is Bor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Us A Child Of Hope Is Bor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0196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Us A Child Of Hope Is Bor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Us A Child Of Hope Is Bor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Us A Child Of Hope Is Bor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Us A Child Of Hope Is Bor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Us A Child Of Hope Is Bor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3:10Z</dcterms:modified>
  <cp:revision>32</cp:revision>
  <dc:subject/>
  <dc:title>Slide 1</dc:title>
</cp:coreProperties>
</file>