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47B1-D272-404E-9051-1193CDB1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522-1E86-4688-81AF-A19296A1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3C9-50CB-47B4-8BD7-D048A6C3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9BB-A752-4A7C-B165-25563CDB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E7B0-7B1B-4DFB-A66E-3D1A8D8F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F992-F33A-4356-8A08-44B152AD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BFC0-99F9-4516-9BE4-4D754DFB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D161-851E-42D9-B00A-7B3A5C82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DF48-66A7-4F3C-97C2-2866BDC0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002A-B7C7-4035-8605-12CD2178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EE04-2490-4C5F-9A6B-5C4DC95C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020-1085-4B44-821C-B3E41D24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62CB-8466-4DF4-82AB-096675A7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B15A-A047-483C-AC92-0B3BFCDD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CE0A-3880-4C83-8D2A-464FA303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0F6F-1BA8-43DD-BF70-C47058B0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9A24-9CA6-46BE-AE45-0D9C4F41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C63-3BA5-4986-A392-701A75CF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CE8FA-C334-4834-99AC-9D528E35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49712-C2C1-4ADD-A948-650D3B0C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A40F4-BDDD-4635-BD05-ED6FC7CA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2C6-747D-4C66-8F3F-BD440D83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1CD07-6435-4805-934B-306EB672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9718A-BD28-4E35-B57C-BFE0F071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C42F8-ECD2-47A3-B505-22CB7DD4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45B5-03F2-42F8-845D-FFDDB070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10A64-1A75-4FFC-B157-D4691425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D9D58-D424-4B73-BDA3-B08120A8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51875-A127-4594-B268-0221D0E9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3C51-DD60-4F1B-AA12-5F2EDF6B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662F8-9E3D-4004-BE6F-F94F66BC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2EC-7B8C-4F3F-B31B-6EE3AA69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A48-CAAE-4998-831A-383731D9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AB2-10F2-401F-93F1-79B690B5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5BD-CD6C-4DE9-A83C-58216310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7C6-489E-48E6-8CB7-FEAC536E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F2EE-649B-4399-A0D2-6D9B5AAD6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D368-06F6-4A5D-8FDD-B1379A29B6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63DA-A29D-4CA4-91B6-E0317AA30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ove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09728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erick Martin Lehman (1917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. 3 Meir ben Isaac Nehorai (10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erick Martin Lehman (1917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Claudia Lehman Mays (19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Love Of God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Love Of God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Love Of God_arr2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Love Of God_arr2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Love Of God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3600" y="64882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ove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Love Of God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Love Of God_arr2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Love Of God_arr2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he Love Of God_arr2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he Love Of God_arr2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ove Of God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3600" y="64882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ove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ove Of God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ove Of God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ove Of God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ove Of God_arr2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ove Of God_arr2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Love Of God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3600" y="64882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ove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ove Of God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23:43Z</dcterms:modified>
  <cp:revision>31</cp:revision>
  <dc:subject/>
  <dc:title>Slide 1</dc:title>
</cp:coreProperties>
</file>