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1EC-FDED-4313-AA24-C025EE15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F3D-0A3A-4E5F-A7F1-DC8EBF23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A79-D08A-4521-B590-A6B9480B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654-D80C-4023-A02A-8A734350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A883-2A27-4754-80BA-68B5678A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856D-F089-4F42-AE08-844488E4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6C92-01C1-4FD6-A906-F3514322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0476-4977-42B8-A135-A020C1C9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70C3-C4C0-4C8A-9CAA-B1BFEDBC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6317-74B0-40FB-8E97-0EACBA97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B612-AF22-42AA-A293-A25C004A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948-CBBA-471D-AFAD-4F8D747A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CB5D-1F75-4BE8-B81E-D0C0E146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F8FF-DD01-4DF4-8A77-7EBBC460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0370-B155-433D-8E10-80F28E69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4C53-8DEA-484B-A617-CAEF5A4C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5805-5A09-41E6-8523-04C23323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87D-EBD0-43F7-B0E1-E2B88D2C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FC41A-E918-4225-8838-20D153A5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9E21-EF26-4023-AFFD-FCA4AC26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60EE0-BE40-4126-BA40-841A06C3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7F5-FE62-47BF-BD08-48BA0B58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1A68-C190-4A24-8AA6-104504D0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EB0B5-BF17-41FC-A870-0FA60A39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CA7D3-2D87-43F7-8144-19D36225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CC77A-FB46-45DA-9F4B-41A133F8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A0059-42A0-4CEB-ADC0-4CA8ECB9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9697E-2951-4674-B709-F4A783ED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92D73-AB61-49DA-9C9E-3464D981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FCE7E-E8D5-4C98-8CBF-6CE2CB2F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3AC81-8355-48F7-8ABC-27515A8A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794-9182-4441-A04F-C892628D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929-84B5-4F71-ACE1-1F54D300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E97-47EE-40C3-9A68-D9121DF8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1F7-F27C-4EAF-ADE4-CEDB3DDF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23D-15B6-4F7F-8131-368C575E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4AA9-D9BB-457C-B1FB-D2412345D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EF01-7705-4D28-B973-501C37BC78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1FE2-BAE6-44F3-A10D-AE25A1764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row Out The Life-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Ufford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S. Ufford (188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George C. Stebbins (1888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9440" y="648828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row Out The Life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row Out The Life-Lin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row Out The Life-Lin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row Out The Life-Lin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row Out The Life-Li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440" y="648828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row Out The Life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row Out The Life-Li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row Out The Life-Li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row Out The Life-Li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82160" y="648828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row Out The Life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row Out The Life-Line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row Out The Life-Line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row Out The Life-Line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8:20Z</dcterms:modified>
  <cp:revision>35</cp:revision>
  <dc:subject/>
  <dc:title>Slide 1</dc:title>
</cp:coreProperties>
</file>