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44631-955D-44C3-B157-A0E32FC2A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60223-826E-4D63-B6EF-D15CD420B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387C0-9A61-4147-A272-0F953D14D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D9EB5-80DC-49B1-A1A0-7003FC811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855FB-DF3B-4CF8-832B-369467E3D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6F27A-9D02-42E3-9782-6538B5D08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94D6F-D2C7-4C98-836E-F8D864E73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33126-2054-4459-A765-4775848FB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F11C6-171C-43F1-B05B-640CE726C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0149A-621F-4BBD-A30E-261B39ECB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36381-4213-4705-B06E-D7618D66C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D94D4-B7F4-4B09-A36E-59A61DAC7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A3AAE-F68D-48F3-9FE3-784C2ED0A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7DCB9-9CC9-4B4F-9E67-979804827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92D5E-3503-4B4D-85FC-32F1785EA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795F9-E232-471F-BAB0-00FA58A9E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E887A-9775-4BFF-8150-989631FB5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0D779-78A0-4E35-B61E-00E9E7E55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A5D8F1-84BD-41F2-9714-DC52A51DC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5E3F13-B9BA-4BF7-A758-987AC75FF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CFE7BC-A21F-4499-9490-93F364A9C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A3040-5A03-423B-A889-379B8F16D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CC2B3A-6AD1-40FC-B8DA-99BD820AF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000FDF-459F-47F8-8C3C-2C1C21ACD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737F91-584C-489F-819C-DD3787D8C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755626-9740-4D75-B0C3-17687E1B1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2869D8-8D00-4A80-9076-AA1A23B69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AB84F6-271F-4420-83A8-6B5A410C0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5BF9CB-64FE-40A8-BD45-E66ABB892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D3DF7F-6611-4EF5-A32E-83E15180D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8023B4-DB57-4FD3-A3A3-52AC00285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73C15-E750-49FD-99E1-ED9D91059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0ADE4-893C-4158-A97C-74EA62F49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E45A4-EDB0-4356-A158-6F21EFC12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357C2-3228-4246-8C0F-E482C6737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663A6-48B4-421F-B2F8-D90E59912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CEFF1-E665-4616-A32C-4B9032664A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56AE4-1C67-4D02-8EA8-89F79B1D22F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5D8E3-5E43-4B1A-BDC2-EF5D8EC515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True-Hearted Whole-Heart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6/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F/F -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Frances R. Havengal (187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George C. Stebbin (1888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46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True-Hearted Whole-Hearted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74880" y="6488280"/>
            <a:ext cx="403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True-Hearted Whole-Hear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True-Hearted Whole-Hearted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True-Hearted Whole-Hearted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True-Hearted Whole-Hearted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2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True-Hearted Whole-Hearted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74880" y="6488280"/>
            <a:ext cx="403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True-Hearted Whole-Hear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True-Hearted Whole-Hearted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True-Hearted Whole-Hearted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True-Hearted Whole-Hearted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True-Hearted Whole-Hearted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74880" y="6488280"/>
            <a:ext cx="403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True-Hearted Whole-Hear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True-Hearted Whole-Hearted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True-Hearted Whole-Hearted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True-Hearted Whole-Hearted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7-02T21:03:50Z</dcterms:modified>
  <cp:revision>31</cp:revision>
  <dc:subject/>
  <dc:title>Slide 1</dc:title>
</cp:coreProperties>
</file>