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E62-DC07-44B2-91B0-2857E92E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5A9-43E1-429C-8009-B3642092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EDC-69D5-4939-A048-CCD9050E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4CD-B6FE-440D-8381-9AF38053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4B2A-6232-466E-9257-FBEF8473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BDE9-45DB-4F55-B23A-0415AB46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8D45-804E-49B9-BCD0-8F2985C9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C40A-61BE-4112-A5A7-9787CF0C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B121-D548-472A-8C7B-BACC8291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DF9C-3284-4DC6-8273-2216297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100C-2E5D-4368-9B6C-ED8C957A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A8B-0B9B-4CAB-9181-488FC1F3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F3FF-E841-4F8C-AB1B-AEBA4F4C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60E8-EE46-4BE7-9566-23A47E6F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8F43-5B47-41B6-AAED-E5DB0651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8485-393C-47C5-BB21-DBF69A4F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117A-CC09-44B6-9532-C5A83A00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F81-888E-476D-96CF-1EEFE688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7A48-8884-4DEB-A2F7-BAAA46F0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D095-A17C-4AAD-BA8A-A9098408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003BD-6EAA-42AE-8EF2-B02E17E0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93D-EEFD-48D7-A7CE-A42F075E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D2C6-F867-4B1C-A9BC-22EADADE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5032-981F-4DFA-A3F4-27821B6A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9889-6029-4FBF-8451-DC03439B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B02D-AECC-4F0A-A5D3-233310E1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07C2-4327-47B6-AE42-27B466D1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57E8-BCF1-4341-8836-3790D36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58956-B776-4756-B38C-902A5C3B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F438-C996-422A-84B8-81B15A8F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81E6-A7E1-4A07-B1F1-45F74571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06C-4F06-4AF8-B4A3-21C2857E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F5E-1619-444F-9B99-23520C84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40A-CCD4-42ED-93EC-954010A5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C53-3F76-4B6E-B2AC-FC7B5FE4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3CD-1C31-4D14-BFE5-ABD327EA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4A31-3C17-4D1F-B349-1828FC9DB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D8E8-0528-49FB-B483-F560BDB85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EF02-5B30-44DB-B9D9-E9477E545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 Our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O The Rock! ‘Tis A C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incoln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ngland Melodie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98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J. P. Lane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P. Lane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ord Our Roc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ord Our Rock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ord Our Rock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ord Our Rock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Lord Our Rock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Lord Our Rock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Lord Our Roc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01880" y="648828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rd Our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Lord Our Roc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Lord Our Rock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Lord Our Rock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rd Our Roc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880" y="648828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 Our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The Lord Our Rock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he Lord Our Rock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he Lord Our Rock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rd Our Roc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rd Our Rock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rd Our Rock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rd Our Rock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rd Our Rock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ord Our Rock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rd Our Roc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01880" y="648828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rd Our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05:38Z</dcterms:modified>
  <cp:revision>33</cp:revision>
  <dc:subject/>
  <dc:title>Slide 1</dc:title>
</cp:coreProperties>
</file>