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0BB-F8B2-468B-9DCC-3D4D7441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5DB-B517-4CE7-A1F5-3564FB5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26B-F300-4283-A82D-C9D630D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B36-2EBA-41F1-8B92-9D16E3A7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6BF-D0B8-47BB-9C71-A290990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A30-F026-4F3C-837D-EF0377C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A3F1-B7AC-4826-AAD5-680408D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B39D-11E3-40DF-ACFC-D382DE34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457-69F7-4F57-AFBC-9A919B0A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F3AE-B6FE-4557-B6B7-35D7FC5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CB2A-B22C-43DB-A153-A5C9736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274-1282-4640-BAA9-D444B93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1C91-FC3B-4C9F-85B7-32B503B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1AF-3FC3-435C-83E7-16BD036C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DEBA-D4D8-482C-BEB9-DFBDB3B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DE46-F382-43F6-8C72-16F56574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A07-7C3F-4A77-AE52-82BA9441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9F3-1A81-4E35-92E6-F821672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D8EB-854A-49AE-A272-7727E947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C010-E4A2-4410-B248-8FBD2969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F6F1-3FD1-47F2-8E2D-A6B65AAB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051-6109-4A8B-95BE-4E523DC3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B7B6-2F9F-4336-AEDF-3B4725C0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8B65-BDE8-4E15-8BA0-9D56043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C344-D8DD-49AE-8845-6033670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089D-B433-42A7-BD64-4E05874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B16D-22E6-47E5-B7FB-6961162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92C5-B4FA-4634-A543-2C50D2A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530D-8081-4C62-94B5-825CD42E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49F2-ECE1-4CF1-9A2E-8AF453F1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0B5B-BCE5-4318-8051-D5A51A25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539-3CEC-4356-AC6A-9E491556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2FC-B4CC-45B1-BFB7-9564173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067-CC7E-4948-A00C-83FEECB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9E5-FFFB-4C02-8C04-AE0285F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89B-A30B-41A8-8201-98787AD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91A-265B-4D1D-957F-F8D8B2468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1F7-6718-40F2-B1DD-54846F6B3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079F-6743-4CB1-9F05-C6EDFE43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My Life, and Let I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Wolfgang A. Mozart (18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My Life And Let It B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My Life And Let It B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My Life And Let It B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My Life And Let It B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My Life And Let It B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My Life And Let It B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My Life And Let It Be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My Life And Let It Be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46:10Z</dcterms:modified>
  <cp:revision>31</cp:revision>
  <dc:subject/>
  <dc:title>Slide 1</dc:title>
</cp:coreProperties>
</file>