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E60C-8484-4878-BA6F-0E5143D45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F1A7-6299-4F78-8786-CBB1734C8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7BCE-A4C0-4AAD-9897-583180EDC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F8D1-A261-453B-A4AA-240A4C847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4D435-59AA-4473-A98D-0B4B24854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900E1-3CC6-41A0-ADF1-8D3B71B76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0345B-1DEC-41B6-AC5D-D38869621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D30FE-77AC-4FBE-98BE-AC747E785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3BE86-30A5-41C6-B72D-91422FD9C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61659-8DE2-4D0A-B2F9-40BFFA2EE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0A3AA-AB24-4015-BA22-ADB8340F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E9B4-8423-4980-A364-2ED261039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7D3C3-6C43-42D7-84B0-C2205A5E3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83D40-F6D6-455A-BEAE-E65086552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29BF7-F839-455D-9E02-63EF5F0EC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D4711-CD43-4EA4-8DD4-C62256A9D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522F8-BDF9-40E9-8C5D-D26163599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E8DB-A072-4E99-864E-8A851F3F2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5BACF-CC10-4F47-9A59-1C4B77E56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BD2F2-27B1-4781-9ED1-2F2B20FAD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651D7-D08A-4A85-9FAC-6FC09C027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EDB9-A6E9-4461-897D-B5BE234C8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47632-D26A-461F-BCF3-4BB73A8E2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60367-96FC-4785-9E44-B10C281AE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1164F-6FFE-4223-BBE9-E5BFF511E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B3CFC-D2B7-4343-8740-EF2F8067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7A086-CA8F-46D1-97C5-5BF79A04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CF5F3-B8D3-45CD-BC5E-2EA69977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0C048-2035-499A-9BD0-4E6D37EFB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D1463-CA09-4EEC-9903-5DF40A40E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A30E4-6B87-4DF8-A906-EC9BADE0A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2C7A-B92C-4B92-94D0-CDB53D205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3D9F-A539-40F7-B768-5350A91D8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0458-401C-4C93-A049-0B78386A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4FA7-3F80-4646-9081-CDDA9D12B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CAE7-99BA-458E-AEB8-C64288FCB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3F3F6-B078-4356-91FA-188110E751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FB872-EC03-45C9-94D9-3EB00AA871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FC2C9-6516-4E53-81B0-4AB429A954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he Old Rugged Cro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D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George Bennard (191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George Bennard (191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2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The Old Rugged Cross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14120" y="6488280"/>
            <a:ext cx="329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he Old Rugged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The Old Rugged Cross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The Old Rugged Cross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The Old Rugged Cross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The Old Rugged Cross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114120" y="6488280"/>
            <a:ext cx="329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The Old Rugged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The Old Rugged Cross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The Old Rugged Cross_v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The Old Rugged Cross_v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he Old Rugged Cros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4120" y="6488280"/>
            <a:ext cx="329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he Old Rugged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he Old Rugged Cros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he Old Rugged Cros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he Old Rugged Cross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he Old Rugged Cros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14120" y="6488280"/>
            <a:ext cx="329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he Old Rugged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he Old Rugged Cros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he Old Rugged Cross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he Old Rugged Cross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0:30:54Z</dcterms:modified>
  <cp:revision>31</cp:revision>
  <dc:subject/>
  <dc:title>Slide 1</dc:title>
</cp:coreProperties>
</file>