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CC6-B634-4D00-8306-E974E14C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9EA-2054-4425-A3A1-50A5E965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1B5-6D7E-4F13-A3AD-4C49226D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058-47A5-4EC0-AFA2-FF9F51DC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FA5D-7BAE-466E-85D4-6971ED84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4E03-726E-401B-BE84-65A5CEAA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2356-DAAC-489C-A8CF-E1EC93C4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2A55-E088-4724-96C3-18A4B5BF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4FAD-648D-4665-908E-EB675144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C140-BDBF-4C2C-B0D5-AE2DFE08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C897-03F7-47FF-AF5B-7FE3203A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E6C-096A-4BA2-94C2-E48AB549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E0E2-DC3E-4DA6-B3DF-3393023B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49B0-AB6B-4E3A-A3CB-653FB9F1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1402-7828-4C0C-B5F4-B0C201C8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CEDD-0DDA-4E36-98F8-6CC594BC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B06F-B62F-4D21-8C4C-C0051158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205-8DA9-49B8-B8FD-9E20D6A2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5E5D-54C8-4C37-9C5A-E1B50334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941B5-0CA1-4B9C-8B70-9865588A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B305B-B8BC-4E61-BEFF-C73A2936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694-65E2-4C34-A2DC-CFE8A0C3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08715-0065-4B67-9ACB-DF777C25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3BD2-CA45-47D1-AEAA-3E40F5F3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68A5-1A59-4530-8195-64CAA895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AD8D-EF90-4BF8-BB41-45BB2712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1B886-A152-490A-84BF-DA15E5FE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2D35-8B0B-4CB4-BA2C-230D4AF5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4E7D-0A70-42AE-9DED-9B7BEBB6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9704-EFE7-4CB5-9C6F-1FC7CF7F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1051A-83BC-498F-945F-404EBADE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F9B-1291-4370-866B-C7FD6526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43A-34CD-45DA-B90F-C3EAA0BB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03A-746E-4985-8E0C-91C0E6AE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A91-2E90-4A0D-A5DF-EE268D50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CA4-7145-4319-A559-0F183275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8F27-3886-4A84-B276-3746EEEEC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B61F-6D5F-41A2-A8B8-84E5C52FF5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C708-C26F-4D65-A2E2-A3ADA719D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ou Thinkest Lord Of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ou Thinkest Lord Of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0960" y="64882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ou Thinkest Lord Of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ou Thinkest Lord Of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ou Thinkest Lord Of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ou Thinkest Lord Of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ou Thinkest Lord Of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0960" y="64882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ou Thinkest Lord Of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ou Thinkest Lord Of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ou Thinkest Lord Of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ou Thinkest Lord Of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ou Thinkest Lord Of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0960" y="64882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ou Thinkest Lord Of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ou Thinkest Lord Of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ou Thinkest Lord Of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ou Thinkest Lord Of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7:01Z</dcterms:modified>
  <cp:revision>29</cp:revision>
  <dc:subject/>
  <dc:title>Slide 1</dc:title>
</cp:coreProperties>
</file>