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7723-9B02-4011-A179-4BCEE591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689-24D6-4AFB-BF29-8B1CBE7C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0848-D181-4F2A-B02D-407154FA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FF9-3EBB-4F98-ADDE-EE178DD6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3E68-CBCA-4A62-83D6-6FB670F8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7A52-777B-4589-81D3-2DEEF1EC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9B97-C1AB-422C-B7BE-B4BEBCA4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A442-52CA-42E2-9489-F0F94C96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4992-02C3-4350-AE7D-D1B548DB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36E3-4422-4ED1-B379-9C36347C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46D6-BADC-48E9-8368-C6B12E61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0FC6-8C64-41AB-A624-6B80E128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E60E-BBD0-4066-BF19-F4701060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322A-6C98-4AD9-B16C-E4FD999E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425A-A7A9-4869-8FC4-2F22FC37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5B45-9686-4B5B-85CB-EBA0B568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33CD-BE70-480E-9F44-CDEE955B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1CD-69C4-4913-91B3-2A9768B8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7B23F-9405-4DBA-A4D2-62600778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D0ABC-99DD-4FC5-92CA-1716A7BC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359F4-90C7-4B9C-A82A-43F9EC1F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82A-3DAB-463B-A42C-1621BF26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56E8F-2406-4D83-8180-F9147AF3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A148-0AC5-45DB-86F0-584798E5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9FE3D-6BF6-47FC-BF6A-D3BF456D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6C796-AA25-47CF-A268-ADDF2D12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86D04-46DB-416E-AE02-1D49899F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45BAD-D354-4FC6-AA70-349D2948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97BE3-5D64-488D-8FDF-392C5194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6FE1F-700B-4D9F-AEE1-19B9F12B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97E17-39FE-4B81-B043-0F3D4891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4507-A6C5-4863-90ED-7CAB1A7F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A5D-5E16-4795-883E-CAB5BE2C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B3D-4272-493C-A742-6CA39B07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7AE-B7C1-45D7-9FA1-9567A04D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8B7-0A19-487E-AAE3-1D410999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D659-0D65-4DF9-8A2D-9B0A7C05B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ADE4-964F-497C-B617-6A8E2528CC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0D5D-5EFF-4540-9492-FAAFA35C9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Unclouded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O They Tell Me Of A H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siah K. Alwood (189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siah K. Alwood (189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0720" y="648828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Unclouded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Unclouded Day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Unclouded Day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Unclouded Day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Unclouded 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0720" y="648828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Unclouded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Unclouded 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Unclouded Day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Unclouded Day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Unclouded 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0720" y="648828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Unclouded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Unclouded 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Unclouded Day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Unclouded Day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5:57Z</dcterms:modified>
  <cp:revision>38</cp:revision>
  <dc:subject/>
  <dc:title>Slide 1</dc:title>
</cp:coreProperties>
</file>