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283-EC04-4BE8-A745-8F75FC6F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E9F-7072-456D-999E-268FAD0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24D-DC04-4A6D-9526-96156C77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249-3170-4074-9D1D-55864B8F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2E1A-FCA1-421B-A4B4-4D6FBF3A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850-4F20-4597-B96B-7A76205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268-8E02-468B-A8A2-7F4BFA6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5734-19B5-4D32-A350-E5C55E8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8609-BA4D-44AE-A833-CFA66D7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AC5-0A53-452B-9669-960EE82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C700-C5A6-49B9-B55C-2D10476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1FC-8A62-43B2-93E1-A85D246D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204A-3126-4734-9933-50ACB17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56E5-3239-4865-ADF3-679E8CF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7444-5218-4549-B530-E5EBF69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A17D-E2E1-412E-95A1-1C7E1269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6D8-3B33-4766-A20B-C2B39510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6D0-733A-4974-9B8A-D85EAEB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7E8E-4D64-47B9-9BFF-F7035F4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FC42-5E76-487B-B1C6-E51F6E9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E79C-E51D-4B53-9941-2A647591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564-ADF6-4776-A12D-9EA67B69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E3B5-E1DC-4012-9957-C949A5FE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04B8-0E88-4974-81AA-AE9B639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42D1-C442-413A-A726-FC22815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3A17-EDD6-4347-A4E4-EBA180A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A9C4-456C-427F-9294-BAAC6FC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82C6-A856-4519-AE4C-FF4E77E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3376-9BFE-470B-8E14-22A102C5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1A8C-43A8-40D9-A5B4-366B2A97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EB20-29D2-4ECC-83A1-A6134588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A01-8BD7-4EAA-BFE2-29568DB0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CD3-B496-4C56-A3D9-3E460E9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955-58AB-4F56-976C-36366C2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B5B-CE92-4004-B5C7-3F95723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481-F595-4A9A-B0BC-3055EB8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27C3-9DDE-4C22-89FC-76ADAC4CB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1D6-3E26-4B7E-A83D-4293B76AD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49D-CEDB-4FA7-B360-92FF12FF6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gh Your Sins Be As 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ough Your Sins Be As Scarlet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ough Your Sins Be As Scarlet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ough Your Sins Be As Scarlet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ough Your Sins Be As Scarlet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ough Your Sins Be As Scarlet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ough Your Sins Be As Scarlet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ough Your Sins Be As Scarlet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gh Your Sins Be As Scarlet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gh Your Sins Be As Scarlet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gh Your Sins Be As Scarlet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gh Your Sins Be As Scarlet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gh Your Sins Be As Scarlet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gh Your Sins Be As Scarlet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ough Your Sins Be As Scarlet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ough Your Sins Be As Scarlet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7:43Z</dcterms:modified>
  <cp:revision>32</cp:revision>
  <dc:subject/>
  <dc:title>Slide 1</dc:title>
</cp:coreProperties>
</file>