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4A9-8635-4355-A631-F79E541C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356-B6B6-48C2-9264-2DEEB277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222-2118-465F-8683-4B1718A6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1643-1B53-4500-ABD4-ED0FA169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719C-0CF1-445C-9502-14E82136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D698-654E-452C-9F87-2B76A637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9BCF-E408-4250-AB26-E387A0A5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DB9B-D28D-418D-A1D7-1725FC3B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DF3D-4387-4DB0-B85E-F57D8041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6759-AC1A-4232-87E5-B2D52849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1792-252A-45AB-B2C9-4332AA4F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CC89-58BD-433F-8436-7D172C31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D312-0004-419E-AD2B-A0D6151B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350F-F8DB-486D-B3F8-35DAAA15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90BC-F23A-4085-A0E4-85FFAAF8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2D41-697C-42D3-B630-F33084F9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EED0-1316-4EF2-B62D-CECBEDF9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576-F0A4-4B53-8300-56E4E589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D425C-B228-49D7-B79F-4D0E50EB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D683B-49FC-46D6-A530-1A0AACA8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A9AF-FE85-43A5-A656-CDF57E16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109-2301-489D-A863-156F4FE3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5A331-6189-4413-83F9-CED05754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C09AE-7DED-44BE-B54D-2A40ABF7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8CA0C-FBAC-44C1-8E87-39958D6D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8E730-A666-4201-8EB3-32FE9903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516A2-EB77-4715-A7E2-319BDF44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CE20F-293E-45C0-8143-12E57340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21D8F-3163-4117-90E8-778AC101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94EE6-FF3F-4755-A69F-EB5E2D5D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55E7F-6B11-4345-A61C-1775D5D6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4C9-5030-40B1-A7B4-D0AF7259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23B6-2108-4957-B3D1-643C6EEF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DC6-79AB-4693-A9C2-2F4CD7A1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53D-D19D-4CDE-A480-4C1CCEED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E5AC-81B0-4BB1-97DD-18EBE483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A738-279C-4EE3-9615-CA33BAD67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7E10-50EC-4C0B-9958-F60A5F208A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4345-0C61-48F8-A0CE-060BE0612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Kingdoms Of Earth Pass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R. Trickett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Fillmore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Kingdoms Of Earth Pass Aw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Kingdoms Of Earth Pass Away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Kingdoms Of Earth Pass Aw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29600" y="6488280"/>
            <a:ext cx="45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Kingdoms Of Earth Pass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Kingdoms Of Earth Pass Aw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Kingdoms Of Earth Pass Aw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Kingdoms Of Earth Pass Aw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Kingdoms Of Earth Pass Away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Kingdoms Of Earth Pass Aw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9600" y="6488280"/>
            <a:ext cx="45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Kingdoms Of Earth Pass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Kingdoms Of Earth Pass Aw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Kingdoms Of Earth Pass Aw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Kingdoms Of Earth Pass Aw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Kingdoms Of Earth Pass Awa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Kingdoms Of Earth Pass Aw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29600" y="6488280"/>
            <a:ext cx="45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Kingdoms Of Earth Pass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Kingdoms Of Earth Pass Aw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Kingdoms Of Earth Pass Aw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14:43Z</dcterms:modified>
  <cp:revision>29</cp:revision>
  <dc:subject/>
  <dc:title>Slide 1</dc:title>
</cp:coreProperties>
</file>