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7D5-371A-4E19-94BE-4D43188A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F9B-95A8-403B-9E07-DD7A5768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656-DB09-4206-A28E-DACC9D8E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E41-F969-4A6D-B952-AE6A0BD5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9FB3-29EE-45B0-88AE-C739BCD7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C2CF-671D-4B11-85CD-1184FD13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F5F6-3195-48CE-BC81-E9531DE0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4456-D84D-45BE-B4ED-536B8E6E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DF20-943E-47D1-8803-4C475F35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E971-4592-4E8D-8012-38DF7960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1C64-F69B-4847-9E56-B1D0306F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D9D-781B-4FFD-BB48-C36AAE70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71A8-277B-49AE-BD53-B75336D6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20EC-DCD3-42D7-A3FF-8E1AF8AA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749C-C7C0-4F4D-8F2C-A1DDF011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069D-84FE-4D8D-8623-13B3406C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25FD-E50E-439D-AA6B-AC75FB20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B04-2CA0-47E6-92C9-2D6440E8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6A041-14E2-46F2-A68C-FBEB51A9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21EE-2EE0-4EEE-AEFA-7A8F34F4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2FCFB-A6DE-4996-B20E-B8E14A25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706-F1FA-42F2-A20B-C0FED490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24DCC-C420-4409-B133-084100A1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DA93-782B-4EEB-987A-76B0E853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AA2F9-DF4B-45FB-B6D7-F1EF6817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AE59-AB06-4EE7-A830-CE0DB494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1E9E0-9D3E-4689-8C2D-C39B834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149D6-A5B2-4DAC-8E96-F6641FD4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C7CD-D027-47B5-8AFD-FEEE05E3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EB5A-2926-44F5-AE07-FD87D34B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1398C-D376-4AE7-A658-48EBD313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466-5F65-4C3C-BF55-6993384F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CCE-C74E-45E1-A305-EB7935DF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353-9B89-441D-A756-583257C7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2BD-6C26-4717-9A6B-72849320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B2B-8FDC-4ED3-931D-3F994EB6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A387-5AEB-4825-AFCD-45C3C9253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07D1-6FB3-4E05-AD56-A9A841D5C8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57E3-93F1-45C8-B659-A721DF1E0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Way Of The Cross Leads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Brown Pounds 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Way Of The Cross Leads Ho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4280" y="648828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Way Of The Cross Leads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Way Of The Cross Leads Ho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Way Of The Cross Leads Ho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Way Of The Cross Leads Ho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Way Of The Cross Leads Ho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4280" y="648828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Way Of The Cross Leads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Way Of The Cross Leads H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Way Of The Cross Leads H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Way Of The Cross Leads H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Way Of The Cross Leads H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4280" y="648828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Way Of The Cross Leads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Way Of The Cross Leads H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Way Of The Cross Leads H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Way Of The Cross Leads H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6:35Z</dcterms:modified>
  <cp:revision>30</cp:revision>
  <dc:subject/>
  <dc:title>Slide 1</dc:title>
</cp:coreProperties>
</file>