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4F65-BD17-45DC-AF8C-93D646FB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4E5C-A0E6-4707-AB9D-E949319A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C402-B238-4B7C-8D6F-803ACD2B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F8E1-B7D2-4DE6-85EE-5B76399E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E965-F073-4988-874F-5A3462D3F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C1B0-1F72-4A62-82F3-F4450126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7AAB-C367-404F-B7C1-78E05262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A55B-6132-4A8F-B738-985E6780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AAC1-98C8-4BAE-83D1-06FDF64E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4B46-1B24-434F-9295-62349317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40F8-6CAE-490C-907B-7F4400D9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D2FD-6016-4C04-A31A-6369F27F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D366-FC05-406A-8794-E618CD42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1D13-7A47-4EB4-962D-F85FF396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4DF0-CB72-4317-A0B2-AD81B4D3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500C-AF68-4923-A5BB-8F51ECCDE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6351-EC37-4BF3-9CC7-AA017F11D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75B8-36F2-4A12-971C-B2881608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8D2F7-439B-4BAA-B6AC-582C9853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C9FE3-4365-4CA5-B83A-716DBFF2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CBFE8-AF53-4DAF-AB96-90138DD5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D9A7-2F00-4783-95D4-103BF7F8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C51A9-6066-4E93-A7B8-53D411EE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F85A9-5AE0-4CC2-A3F9-1DF7C422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67343-2CBD-4703-87A9-BD3DE650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7A52D-50DF-4586-904F-5418D656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706B6-F6FF-4A50-9906-6DBD3728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A0F8C-C7BE-4C11-B63D-2A0E5892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F43F5-830A-4CC1-BDCA-86165D3E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088E8-EECC-4F3D-B5AF-161CF5902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ECEB4-1740-4189-A3D2-D7AD6B69E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8663-4EE0-4611-8C5B-541CEAFD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E732-0699-4A51-A104-370D8672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F9D2-C111-4E88-9AB1-A3E85BD2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E71F-4304-4090-9972-0203D2B6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F08E-E245-48D6-AF3E-F8C357BA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7679-B4E2-4A4B-AE9F-63C62498C1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3A1B-D1EB-44AD-B418-6808ADC9F1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2B03-7123-46FC-95F4-1B452D0C75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re Is A Balm In Gil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2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k’s </a:t>
                      </a:r>
                      <a:r>
                        <a:rPr b="1" i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olk Song for the American Negro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907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Vs. 2 Daniel March (1868), Ref. </a:t>
                      </a:r>
                      <a:r>
                        <a:rPr b="1" i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evivalist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(18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k’s </a:t>
                      </a:r>
                      <a:r>
                        <a:rPr b="1" i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olk Song for the American Negro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907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re Is A Balm In Gilea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5480" y="648828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Cho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re Is A Balm In Gilea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5480" y="648828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Cho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Chart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5480" y="648828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Cho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re Is A Balm In Gilea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15480" y="648828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Cho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re Is A Balm In Gilea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0080" y="6488280"/>
            <a:ext cx="361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re Is A Balm In Gil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re Is A Balm In Gilea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re Is A Balm In Gilea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5480" y="648828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Cho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re Is A Balm In Gilea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5480" y="648828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Cho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re Is A Balm In Gilea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00080" y="6488280"/>
            <a:ext cx="361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re Is A Balm In Gil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re Is A Balm In Gilea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37:14Z</dcterms:modified>
  <cp:revision>32</cp:revision>
  <dc:subject/>
  <dc:title>Slide 1</dc:title>
</cp:coreProperties>
</file>