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BDE-EC8D-4FAE-A763-9957F191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24B-B649-4B1A-8755-997F74B1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548-9F34-414F-BD4D-97F63193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9E3-DFE1-4199-AFDC-8AE86681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FD84-8649-4E5D-96EB-EC233599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A207-1465-4FB6-AD4E-49A42DD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06A6-F564-43C4-B56A-9C8BDD35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C007-C739-47A4-839E-76D77F07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502E-935F-417C-8E54-E8C737E1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E3AA-3643-4C97-8393-37DA3A3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8E2D-AA17-47B5-9A01-9962BC0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010-590C-4483-ADCF-51B00091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2593-31E5-4BAA-9A92-5522EB5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46D8-7F1D-4EE6-BF3E-B298FA92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CBF0-8E78-46A0-B831-20F737D0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70E1-FFFD-43D1-BDB8-4D149917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9B60-B521-4087-B96D-F3FAD036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CA5-6BDF-460E-AEF7-FEBA869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43AE-E1AA-4656-B7F2-06FA51DF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E7B0-C54E-4B97-96E7-9F17F74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4CFFC-7B41-4B3E-A1B9-5C5EF51F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BA0-92F0-4321-8003-8AAE1FE5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BF78-74E6-4F5E-A5CD-93BC0D23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8E7E6-7C30-4A61-B77F-41544B7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53BF0-B789-490D-AC48-C32E3A5F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45EE-2B90-47DF-A2A3-057A406E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814B-1C14-40C8-B5C6-804B6B76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61BD-DF7A-4FB3-9E3A-B12913D9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6C6F-7ED4-420E-A220-A3D456AF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8314-4C3F-4E78-A5C6-DA0711EE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90E30-F46B-4D4C-9274-43566F72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CD7-5BB8-4C50-8718-DAED49E7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C16-499D-4944-8BE0-D4C9559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998-79D7-4908-972C-9D25CFE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FF5-8791-4FFD-905C-72B1E10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D6A-0C31-4D60-9AE3-6684FFE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6DA2-EC77-4CE0-ABB7-FA0643E3A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AC9D-FC51-4618-85D7-C7B02D41F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D9A3-E577-4645-A410-AA68ED79D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Hollow Of God’s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Hollow Of Gods Ha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9960" y="6488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Hollow Of God’s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Hollow Of Gods Ha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Hollow Of Gods Ha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Hollow Of Gods Ha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Hollow Of Gods H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960" y="6488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Hollow Of God’s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Hollow Of Gods H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Hollow Of Gods H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Hollow Of Gods H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Hollow Of Gods H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9960" y="6488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Hollow Of God’s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Hollow Of Gods H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Hollow Of Gods H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Hollow Of Gods H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3:16Z</dcterms:modified>
  <cp:revision>30</cp:revision>
  <dc:subject/>
  <dc:title>Slide 1</dc:title>
</cp:coreProperties>
</file>