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849-D569-4823-8B33-0DB1B221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E78-6813-40F8-B4DF-73291CEC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428-D2DC-460C-8B0C-738D6769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D5A-32AC-492B-B363-4C2F2D91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11C9-8A09-4C77-90C0-8D5CBAFE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5CCE-57CB-4346-BB9C-E4815BAE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3B45-FAB3-4DD1-AC76-D240DDFC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9003-F89D-4BE8-B83F-DA5E09A4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87A5-CF33-41B7-A15F-EA720D55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07AD-33BC-4405-9AC2-6EC73BB5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65A4-4291-46AD-986F-0C635A6C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325-685C-416B-B784-FE348174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9006-62A7-46E2-B195-A6144623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EEDB-C66E-4818-896D-26C502DF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D45D-9F8A-4292-BEE3-87CF0C0C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A9EA-6ED2-4AE7-9C4F-1D1CCF5A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16B0-A71B-4575-A8E7-0045AA20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D44-350B-450F-B807-5CB0520B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8BD26-647E-4B78-943F-A7BB6D2D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A5C88-01E3-4373-B03E-E1AD9292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39FD8-249A-422C-8688-617A8847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644-6CDC-4B17-B950-ABB95376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78E48-97E9-4708-9021-E07127FC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9B9C0-9E16-43F1-8E5D-89982E23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896B2-830E-4950-9690-F288AB87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1B033-EE58-40C9-86C6-10D05FBE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34590-C211-4107-A381-281F15C0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C9BA-E1E7-4C00-B57B-F00969DF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38672-CDB0-4D7C-A6D9-6EAD7207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966AD-BC17-4238-B939-EB3DA409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26A8-6DCD-4E8A-856B-71F1F467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4D9-26C0-4E38-9D2E-994511B1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7DC-AF73-4F2A-A349-B87FEB85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410-7D49-496F-A651-3849CD14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340-5B2A-40A6-A570-D4694EA0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5E0-62A4-42F6-B75D-3C19DF48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790A-CE12-4EE3-A735-1E5DF6455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C878-B365-47F2-B6B8-505FC84D00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B748-ED69-469A-A894-F1C42CF65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Great Redee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is Foster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zley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Great Redeemer_v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Great Redeem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8840" y="648828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Great Rede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Great Redeem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Great Redeem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Great Redeem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Great Redeemer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Great Redeemer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Great Redeemer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he Great Redeemer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he Great Redeemer_v2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Great Redeem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840" y="648828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Great Rede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The Great Redeem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78840" y="648828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Great Rede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The Great Redeem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The Great Redeem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The Great Redeem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The Great Redeemer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The Great Redeemer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The Great Redeemer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The Great Redeemer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The Great Redeemer_v3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2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Great Redeem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Great Redeem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Great Redeem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Great Redeemer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Great Redeemer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Great Redeemer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Great Redeemer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0:57Z</dcterms:modified>
  <cp:revision>17</cp:revision>
  <dc:subject/>
  <dc:title>Slide 1</dc:title>
</cp:coreProperties>
</file>