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C2C6A-7C6A-4284-AD1D-8567BB1C4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6245C-18B9-45B6-BFE6-C7D203329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7D643-CBEF-40CF-A137-C3683ACA1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AFBE4-9DCD-4F3D-9B6A-6CD2866E8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4F808-5887-4CCD-837C-D9352D7B8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4725D-9255-4025-A81C-7E32DFC0D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748B0-6A50-4ACD-95A8-EBD83893F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533BA-AD13-40B0-9573-271E49FFC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828B9-FAA5-4285-AD90-875EFF8B8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5F072-D11A-4A1E-8330-0C15B35CD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7000C-E3C6-4FD2-9845-3DBBA5C56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ACA39-5410-4EC5-B879-70C29F065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C15CE-70C3-4064-9C9D-15946EF97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3B8CC-B434-4E60-96B3-472C8C77C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3BFC5-1F55-4843-97E8-E5CF2AFB0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CC047-12B3-4473-ABE8-E8F03A10A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2F50F-0BCA-438B-827A-E2BE86CE1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4A683-7808-4656-891E-9626BB6C6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C81DEC-43BA-46BC-8B09-0F0523EB1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EFC1DF-5CC8-43DB-8C4A-4B35C7A8C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C622E3-7164-494E-ACB6-52FCC5E1C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D9EA8-9D86-44AF-8C22-A3FB8C472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2A105F-9290-4E6F-BC53-03C0490CD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BDF0D2-023C-4955-8ABB-FEA825F5E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3683D4-582D-43A8-89E8-3BD1CE1ED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7CAE7B-BFF6-420E-9810-D01446CBF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9D4769-6FFA-4A49-885A-808567215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C92EEC-3EF0-4348-BDBD-DD78AD55F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47FA73-BDF8-48D3-82FD-AD0E298F2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8FF018-38B0-45E8-97E6-5BEF3D069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F92DCF-127D-4D34-9533-CEF9F0F76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696DA-8557-4933-8CC8-C07CE14C7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49970-0F8F-4E49-AAA0-0B3D27109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FF383-5A42-415C-88A7-D533DD828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B5115-A806-4ED4-BAA5-1488EEC23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85DF4-9FB4-4D3A-8B86-D2D2EAABE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A48DA-2898-45C9-89F4-00BEBA6863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71BB9-0A9D-4FAC-B15C-6D8F46AB861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945B8-1B2D-4A79-BE3F-3C8C7681BE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The Christian's Welcome Ho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C/G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29096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549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ary A. Kidder (1862)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vs. 3 Charles E. Pollock (191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Charles E. Pollock (191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39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The Christians Welcome Home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110160" y="6488280"/>
            <a:ext cx="425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The Christian's Welcome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The Christians Welcome Home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The Christians Welcome Home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The Christians Welcome Home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2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The Christians Welcome Home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10160" y="6488280"/>
            <a:ext cx="425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The Christian's Welcome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The Christians Welcome Home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The Christians Welcome Home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The Christians Welcome Home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The Christians Welcome Home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110160" y="6488280"/>
            <a:ext cx="425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The Christian's Welcome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The Christians Welcome Home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The Christians Welcome Home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The Christians Welcome Home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7-02T20:05:58Z</dcterms:modified>
  <cp:revision>29</cp:revision>
  <dc:subject/>
  <dc:title>Slide 1</dc:title>
</cp:coreProperties>
</file>