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F014-78A9-4F9A-BE43-C7A94E58B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6573-59F6-434A-9E89-884DA1E1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724D-C8E7-4DB5-8098-DAFE0C0CA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E0CE-A753-4430-ABDC-128092504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7D345-3445-46D0-9E99-068584D6B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5297-70AF-42E5-99ED-9447615E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77F4-3B1D-4AC1-9384-BDAB3D8C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25C4-49BA-4EE4-A96B-C8425930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EE815-B7CD-4BFF-8649-A41126D9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9F3E-1164-4C6D-A66F-A6A95596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45DD-CD06-4F6D-971D-7AFBB1CA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4EC9-E5A6-436D-944A-A7995E85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0F2C-3A8C-4A78-97CC-AF766674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432A-19F9-4FE1-A2B2-6BFEEFD4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F90E6-E0CD-4361-877C-0949F022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70E9-BDA7-4AE6-AAA0-F3E9100F9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F8D1F-FE91-42CA-ABF1-77ADA40E4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794E-E283-446E-BA2B-6F03717E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41936-4709-4B32-B444-3EABC09C0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62798-6B5F-4C6A-8EFE-3CE11448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2CCA9-A833-48BD-BC14-8832DCC0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48B4-8521-4BB7-8D4A-D626732C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3068F-2C33-452F-85D1-BCBF3DA2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BC8CA-B8B1-40AC-AFD4-536DA696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93A35-547F-474B-BCEE-87E26F42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4569B-3B7A-47D5-8F3D-D0BACE67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34D15-D4A6-4E28-B0EB-C1AB5FA9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55BEB-0882-4A18-B013-11CC744C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12117-3AF2-4660-9927-7EB12921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89046-4B05-4C16-94CD-625703EA7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7CF33-15B5-49CF-95B7-60D615FB2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4D4D-45B8-4A4C-9DAB-0B863DDD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2AD3-F6BE-4A29-8823-FF37F718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C31B-7672-4D20-9A40-6E6A4B96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AC17-3824-4C2D-9EBA-4A35840E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EBB3-E781-4D76-8E71-B3137702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2E6F-3324-4E66-818B-E88147D0A2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B747-955B-41A2-A2CF-7E62B543E9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8457-8732-4346-9150-BEEE6BD34A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ell Me The Old, Old 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E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Kate Hankey (186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H. Doane (186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ell Me The Old Old Stor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ell Me The Old Old Stor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ell Me The Old Old Story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ell Me The Old Old Story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Tell Me The Old Old Stor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33560" y="6488280"/>
            <a:ext cx="36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ell Me The Old, Old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Tell Me The Old Old Stor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Tell Me The Old Old Story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Tell Me The Old Old Story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Tell Me The Old Old Story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Tell Me The Old Old Story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ell Me The Old Old Stor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33560" y="6488280"/>
            <a:ext cx="36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ell Me The Old, Old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ell Me The Old Old Stor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ell Me The Old Old Stor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ell Me The Old Old Stor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ell Me The Old Old Story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ell Me The Old Old Story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ell Me The Old Old Stor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33560" y="6488280"/>
            <a:ext cx="36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ell Me The Old, Old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ell Me The Old Old Stor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04:39Z</dcterms:modified>
  <cp:revision>36</cp:revision>
  <dc:subject/>
  <dc:title>Slide 1</dc:title>
</cp:coreProperties>
</file>