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220D-F321-42F6-915B-97822838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D789-5C1E-45A1-A7A5-A1380E41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163A-55BE-4F84-933D-5A32DFA0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6C68-66AC-4036-A6E6-E8343A3A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5E35-34C3-4B5A-8CE1-E01DAFCE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2107-4EB8-48B6-A7D5-B50F2E08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A17C-E2EC-4355-9E4B-F7EE75EF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E678-83EF-4FBF-A477-9A807FFF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FC57-6590-4980-AE1C-E4FC3E83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EF07-C24A-4781-85F8-B6FD9373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3C28-9014-4A36-A053-741BBFEF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2E31-D417-4D8F-AF34-F269B2CE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FB7F-E68B-4E45-8D54-30FAC1DE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4912-82A7-421E-86D1-9B26E2E5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A28D-A1BD-4BF1-9CA6-85415830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AB15-7CB1-4512-B8EA-CF047A37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E8F9-DC0A-4996-9108-CDA62D45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BEAF-19CF-4932-AD91-B0C076C6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C6829-EA02-4875-96C9-D27F3E38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43E38-E05B-45C5-AC75-79E99558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8393C-37A3-484F-B035-2ED9AAEF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4DDD-1BE6-4F77-89C2-22D58128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CF315-8559-42B6-B318-46F09E2C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DCC94-6E4C-4F5F-BB16-732BE8A4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B808D-8D9D-4E38-9C39-29E1DA47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D1C44-2DDC-463F-ACD7-92CADDEA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04322-0183-45E8-8F7B-D10170A8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E1957-ED0B-4256-AA96-20D2D048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1BF7E-A27B-4EEB-9F7B-14E28FE3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9ADCC-6269-4D48-B702-65E9753F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2E302-C5E1-4F94-BA88-12EF9781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A97F-993F-4664-BECF-68E3C4B0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2A7E-E6CD-4CAF-8A3E-8D03C4BD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73A4-D133-4C78-9530-DDDCC030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4F2D-202C-4F95-B5C6-B5BEE09F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8093-A383-451F-A76A-168AB4E4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A253-096B-4A20-83FD-ECBA3E75B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E304-CC64-4BED-894C-5C584E639E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161F-66B9-4097-A754-018E18071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Lord My Shepherd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MAGNO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840" y="4902120"/>
            <a:ext cx="143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saac Watts (17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radbury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ubilee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(18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Lord My Shepherd I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Lord My Shepherd I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4320" y="648828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Lord My Shepherd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Lord My Shepherd I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Lord My Shepherd I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Lord My Shepherd I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94320" y="648828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Lord My Shepherd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Lord My Shepherd I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Lord My Shepherd I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Lord My Shepherd I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4320" y="648828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Lord My Shepherd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Lord My Shepherd I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08:06Z</dcterms:modified>
  <cp:revision>31</cp:revision>
  <dc:subject/>
  <dc:title>Slide 1</dc:title>
</cp:coreProperties>
</file>