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5721-0726-427E-B355-039BA71F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171-F860-4CC4-ACAE-9DE3F1AE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C0F-A3DF-4B2C-BB3A-E7439C5E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6C10-B87E-4C75-A39B-F1557AB4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2D94-90D2-4967-B988-F8AE104B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4E95-33BA-423B-8843-038ECCFA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F2E2-69DE-4996-BA3B-CC0E092C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DB07-2C18-4377-97AD-93C04214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793D-C487-41F9-A41A-A6145078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6B8A-955D-4C60-BAF8-D389E143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E62D-FA2D-46B8-AC99-A91B9AD6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C9D-D67D-49BE-9E68-C31F51F7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4D7B-5FDB-4C4B-B6B4-2FAEE7B8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393E-AAF8-42A9-900B-A6533F28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E597-E886-4E22-809C-3023FB5E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ED59-93F8-4A27-9BBF-5F758F2B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F68A-AB3C-42BD-97FE-4A9AB462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416-1CFD-4BFA-B1B8-8CAAD058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72B89-A358-4F58-9112-EFC47FAA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84223-3EB4-42FA-B1BA-809C6133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4B7C2-3938-4831-BF1B-91D20A8F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299-0CE1-46B3-BA83-AA69EA47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A2ECA-61DB-45E6-89BD-981800D7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E18EA-522D-4BFF-8EBD-063EAF89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3B819-D9FF-4A26-9E4A-6CDB9E00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C9385-F7B9-4CBE-BF5C-79346F8A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191D7-BBA3-492A-A1DD-596A21CC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DD9A3-BBF8-4270-A89E-3052E199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FDDEE-3942-4BB2-B429-E541F709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AA803-F93D-443B-89B6-4173FA83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BBD00-0180-48FE-BDFF-2366F534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A5D8-795C-41B4-A65B-578E467B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324-86C2-45C6-8C5D-F6E7B9E6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5AF-1396-4504-BFE5-8617C4AF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D2C-0367-4A78-B85A-D7ADCA52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B4DF-7CD3-49A5-AB03-4CCFA396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0294-C86D-444A-A981-FE55C09A8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4B24-A42A-4B72-A895-D99339F792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DD96-F19A-4B17-A641-4633240F1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Gospel Is For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M. McCaleb (19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cIntosh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ood News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76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R. M. McIntosh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Gospel Is for Al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4480" y="6488280"/>
            <a:ext cx="30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Gospel Is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Gospel Is for Al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Gospel Is for All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Gospel Is for All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Gospel Is for Al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4480" y="6488280"/>
            <a:ext cx="30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Gospel Is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Gospel Is for Al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Gospel Is for All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Gospel Is for All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Gospel Is for Al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4480" y="6488280"/>
            <a:ext cx="30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Gospel Is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Gospel Is for Al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Gospel Is for All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Gospel Is for All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10:09Z</dcterms:modified>
  <cp:revision>31</cp:revision>
  <dc:subject/>
  <dc:title>Slide 1</dc:title>
</cp:coreProperties>
</file>