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29F-AF96-4BAB-90C6-55D44D62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D28-BF99-4E42-A387-04609503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C18-884E-4247-A281-78231ADA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6A7-5EC4-4780-A966-4F561641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1372-36B7-4C91-9C4B-057E116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0F6D-A750-473D-AEDC-25E23E7B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8DC-F2E0-49B6-A293-7EE5777D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9D8E-5844-472F-8795-342AAAF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B96B-8332-453B-A5D4-15103613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5C02-8E2F-4B67-A15E-341A7BA2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D0A3-34AF-4E59-A127-FA459FE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64A-0F6B-4BB5-B12A-2F336D61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C2D9-C266-478F-9456-6F6FEA1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C1FC-9849-4599-9A75-72AB8CD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2234-7587-4724-AF8C-8036A58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B94-53DB-45F3-A1F9-EA129FA0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4F9-A0D1-486A-8AF0-1E99FAF8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BD7-97B7-4353-910C-D9E6450E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84FC-2A0C-4D41-817A-D472E494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4C58-6E67-4F53-B135-0610778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8D0B-9B5F-41BF-8874-34D718D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228-D29F-4137-BE40-77EE4BF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916C-0749-464B-9310-1EA77AD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8C64-4641-414B-9E56-CBB54D4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55C6-B77F-4003-89E9-75354AA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CCE6-B6A5-498F-A8BA-072ECCC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3DF6-74D5-4A73-B616-40543BA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0A47-8E5B-4D5C-98EE-E0B9167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9A66-8997-4BE6-BAEF-27D597D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62C3-F711-4F6F-98D6-9F21C769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C1A7-DB25-4863-B60C-47BF9BBF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B83-89C4-4B70-884A-C3B3D6E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107-392C-4B60-9975-5076F88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11E-DB5A-497F-ADFF-444A3D2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077-B4FC-439E-A6A1-A4E6A66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77D-6F76-4EF5-8FBA-8BA8D8B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C70-B7BE-4290-BB33-2557E170C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C3E-7851-451E-A8AF-7971BAAF3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2938-9D44-4091-A47E-F380505E2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Rock That Is Higher Tha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Johnson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Rock That Is Higher Than I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Rock That Is Higher Than I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Rock That Is Higher Than I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Rock That Is Higher Than I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Rock That Is Higher Than I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Rock That Is Higher Than I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3:28Z</dcterms:modified>
  <cp:revision>33</cp:revision>
  <dc:subject/>
  <dc:title>Slide 1</dc:title>
</cp:coreProperties>
</file>