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0FD-7409-45A1-B771-66D39702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6C1-ABD9-41FC-AA8D-59D4AC3C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70B-C05A-4D7D-B202-FAA66FCB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213-A2E4-44A5-84AE-25189D9D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ACE6-054E-4925-B51C-5C33FBF9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AF6E-4C64-4CC9-BC52-34395A17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E901-4804-4D5D-B44A-160332EB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B016-EFC4-4F7B-B868-0B1B9561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E276-FC06-4D56-85D6-C2EA7860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DBEE-313E-427F-BE93-273A4D0F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6C90-7462-4DE8-ADD0-E1C8763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B2A-8F95-4458-A61D-3BA93BA4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C810-3705-41CE-BF04-EAFD630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3DC9-0A29-46B0-9180-E4C0391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C8B5-8E0A-45B6-B688-7D164C66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1C7C-4BF5-41E2-B5DF-C5D238BD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6713-47C4-418F-9856-525BEBAD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E28-FB8B-4865-8138-F65D9558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926B-EA39-48AE-B542-C6DC39E2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E279-2436-4F5E-884C-178CFD53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2633-F055-4BCD-8803-5CB3A61B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F00-7737-493F-B90E-E0A61A19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3D8A-CF93-459A-B80A-0DD27752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3A79-5DDE-4A3E-8537-D46B0724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6522-C0C9-46FD-B99B-D06BF16E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9381-AC48-4DD9-9570-07611F47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2CC9-2C0E-4761-8AD9-DD8BE2E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63E6-5DE5-42CD-A200-27D4F91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440A-5B06-433B-AF07-6F103556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882B-4187-4468-B063-CF84CA4B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B41C-D170-4571-BC35-AF6F9E22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192-8173-4090-B2F4-C98EED98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820-F919-49D2-9B31-C611A775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DF4-DA10-4B21-8A2B-0145C8B6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4B5-F7EB-410F-837A-74A9ABAF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6C9-8A9D-4ADA-A203-A6AF93D5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492E-E6B5-4263-BCDE-882FC334C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3CC3-D517-43B9-9DF7-F1A7E2BFAB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BDE-2AB8-44BD-ACA7-069C64C34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Time To B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O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1.1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D. Longstaff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Time To Be Hol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000" y="6488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Time To Be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Time To Be Hol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Time To Be Hol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7000" y="6488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Time To Be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Time To Be Hol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Time To Be Holy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000" y="6488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Time To Be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Time To Be Holy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Time To Be Holy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7000" y="6488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ake Time To Be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Time To Be Holy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1:47Z</dcterms:modified>
  <cp:revision>31</cp:revision>
  <dc:subject/>
  <dc:title>Slide 1</dc:title>
</cp:coreProperties>
</file>