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5E3-14D3-4444-9EF6-46170E11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617-BCF5-4551-ABF2-B8061CF8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9F4-AE79-45AA-A4C3-D2EE68A3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F42-20DC-45CD-8326-8A21A5A7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A96B-EB2B-40A4-965B-6F4A732A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6055-8FD0-4766-8D9F-E95236D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B821-9DE4-4135-AA2B-71EAE433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D75E-B720-4C3E-BC45-A8045ADB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4BDE-399A-4C96-A58E-A51C6519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7AAE-DB3B-4D4E-A77E-778A596D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EFB4-20DB-428E-8114-0D41966D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E7B-8D6F-4237-9F57-C14F0B1D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6414-1777-4F66-84A9-8CF9D7C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3B03-B9B5-4907-9851-6ECB63F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B38-738A-4B8F-8D41-E27503A7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94A4-4A88-4BE6-BB10-5057E72A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1B12-E451-411A-A8CE-E0EBEB1E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FDF-3A6D-4222-81F6-23557E74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93DD-8885-4812-A5A3-D374AA5C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D262-B3D4-4BF9-9560-C128D372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4E507-F587-4C44-83CF-3A626883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D7E-BDED-4432-BF5A-3E4A0CB5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E3E2-1AFE-48A2-B069-7C71AB0F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29E9-8774-488D-8885-43C15FD1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0F3F-E4D0-41ED-AE65-5FD2F260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2C36-994C-4DA5-83DA-BE51E2A6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C7A1-A087-4823-A1AF-2601948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163E-DDFA-4865-8FF8-ED67F4A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4F07-E2B8-4677-B517-78D0560B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EB02-B562-49BF-AD17-B75869B2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65DB-7001-4AB7-8CED-53270213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D13-C9AE-4EB9-9C44-2D8D28D1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604-EDC0-4ABF-9499-4B831829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83C-23EE-4BB9-B9B1-5B7A6694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73E-C190-4F37-A19E-0048C590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BB6-38C2-4635-B6D9-A203263F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EF0-D768-4579-B7C7-1807A5738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C3BC-EF10-4F9F-A916-12BCA3DE8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18C3-EAC3-4C25-B488-FF9A14B2A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The Harvest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n The Service Of My 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l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l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The Harvest Field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5920" y="64882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The Harves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The Harvest Fiel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The Harvest Field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The Harvest Field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o The Harvest Field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5920" y="64882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o The Harves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o The Harvest Field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o The Harvest Field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o The Harvest Field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The Harvest Fiel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The Harves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The Harvest Fiel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The Harvest Field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The Harvest Field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The Harvest Fiel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5920" y="64882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The Harves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The Harvest Fiel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The Harvest Field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The Harvest Field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7:06Z</dcterms:modified>
  <cp:revision>31</cp:revision>
  <dc:subject/>
  <dc:title>Slide 1</dc:title>
</cp:coreProperties>
</file>