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E1B-1483-4159-96BA-B5A48E2A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004-D7F5-4052-A6D5-C822E08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539-44E0-4DF3-84F0-7B28991A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B36-7B87-493D-A294-4A43826B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7655-66EE-455D-9FA4-4B3C84A4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D048-CAB0-4610-A58A-C9153C6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E2E4-7E85-4E16-8D29-52B9D766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ED0A-DEF7-4048-9B47-1911FBF1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84F7-9EFF-4331-B110-54B8C47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857F-05B5-4712-8C60-97D4B47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B6D9-8B03-4EE4-992F-D0D5964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276-5239-4CE5-8BF7-B15EE5F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11F-098A-4B4E-869A-61E6A28A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5DCD-9B0B-4EB3-ADEE-DBEFC8F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3D45-A37D-4D8E-9C83-108F7106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293-E76E-4E71-A394-27E5A2AC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2550-F825-4D32-9BA0-8CB34346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520-E28D-4CDC-BEDF-CE3D9E1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9739-41FA-4BF7-93B9-6A6BAD24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C280-E478-43D9-868D-D340B1B6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7E9F-0D5D-459A-9888-7502E87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377-B981-4660-B8C1-08D1119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784F-6140-4BCE-BBB2-9073EC60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F090-11B0-4B67-88CE-08447BDB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9E93-E715-44C4-8497-990379C4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CFF1-3E49-4F5A-AE03-19FBD75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9B3E-50E8-4EA4-9790-4F2A0C7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688E-DB86-4E90-AD0E-F37968F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A2C7-3219-4192-8A3A-F7AA5550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04CB-E1EC-4F6A-A141-C1031D1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CB6D-63B6-4E3E-B105-53617D0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80A-B3E5-4A22-A581-D8FA971F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700-5645-48FF-837E-702AC4B5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610-8873-4D09-B9AC-548A0AC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6F7-10AD-4495-9634-270DD873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328-ED5E-4CBC-AD3D-A05AAF5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1233-5836-4AF0-B227-C37E37717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0940-8275-4E75-94EB-902AF3FC4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A54F-08EF-4F5C-A11A-684EE0C09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's A Fountain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Free Wa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B. C. Slad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A. B. Everett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's A Fountai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s A Fountain Fr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s A Fountain Fr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s A Fountain Fr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s A Fountain Fr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's A Fountai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s A Fountain Fr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s A Fountain Fr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s A Fountain Fr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s A Fountain Fr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's A Fountai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s A Fountain Fr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s A Fountain Fr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s A Fountain Fr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3:30Z</dcterms:modified>
  <cp:revision>36</cp:revision>
  <dc:subject/>
  <dc:title>Slide 1</dc:title>
</cp:coreProperties>
</file>