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EA57-98E7-4DBF-A7B0-04D145D5F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0946-77E5-4676-8DFD-4447DA5D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7760-B3CE-4EC6-9729-BD38CEC5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6302-FD15-4AD8-903E-7CD94E385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C36D-1A5A-4FE2-8843-392BA78C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847C-821F-4076-9C4D-708E8D9A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E6A1-26DC-44FB-A805-CEFBEC41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2DB5-D2DB-4CC0-9F6D-2D4A6F76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A57B-4BDB-44E7-8F1C-4D5670C4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9523-DEA1-4BB2-83A5-D748D040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0264-1B9D-4A0B-B24D-89A97EC7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7704-6D6E-4DE5-A2D1-0B27FFF3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E335-DDBD-4111-87F8-0213461E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85AC-32E7-4A10-BB5E-C48A2A9A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005C-4CD6-42CB-B84E-4D1E0BEF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8635-5DC4-44AC-8B53-2689A592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4FA0-F1C3-41A9-97BB-4A77DCC86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9E95-8C06-402C-9111-0BE9D371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708E6-8833-4175-9BDC-CB4CC6FB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5B78B-D0D8-40E4-AE74-D9EECABA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18879-F280-4C66-A162-E5367812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9B6F-46FA-4F54-8800-D10C4F13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31EFF-BBE2-453B-BC14-B0E4FBE9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A3CC7-4FA4-4C1C-969E-624D6E1D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6A409-C458-4D28-9D8B-F54958A4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47473-B921-4625-B0A5-05018846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CB89C-2833-49B3-9B09-1571677B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C1C08-7538-4BFA-A053-66FC3822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A5570-7D5E-4A16-9563-DDC4F677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40485-66A3-4340-80F6-A9DC5FC44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33A71-D893-4760-A309-1878821FF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0D23-2FDF-47C0-8F3F-880B49E2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7F82-BBAF-45A8-953D-246B3B09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32A2-5FC1-4145-879B-FA7068C0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B7D2-DDB4-47C2-92AC-8C5DC953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B63F-9C60-41F6-BF2E-8A6FD614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316B-1F65-4959-8D76-FAEF8D0C61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ECBA-2D51-46DF-B6B5-B2912D1CDB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42A4-DB5A-442E-8C5D-EE0A1EAF43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re Is a S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ZA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rgenson’s Great Songs of the Church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vs. 1, 2 (1921), Lula Klingman Zahn vs. 3 (192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ula Klingman Zahn vs. 3 (192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re Is A Sea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re Is A Sea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re Is A Sea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78120" y="6488280"/>
            <a:ext cx="24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re Is a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re Is A Sea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here Is A Sea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here Is A Sea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here Is A Sea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re Is A Sea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8120" y="6488280"/>
            <a:ext cx="24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re Is a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re Is A Sea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re Is A Sea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re Is A Sea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re Is A Sea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re Is A Sea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78120" y="6488280"/>
            <a:ext cx="24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re Is a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re Is A Sea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re Is A Sea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40:37Z</dcterms:modified>
  <cp:revision>32</cp:revision>
  <dc:subject/>
  <dc:title>Slide 1</dc:title>
</cp:coreProperties>
</file>