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2B7-188E-4F63-B7A3-989ACB4B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91D-377C-4182-9DEE-893C2DF4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EE1-E924-4182-B6BD-AD76649C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95A-66EE-46F1-9CB2-FB4A0D46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034-A9BA-40DC-92CC-7AC2FB90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DEF1-AAB4-47DD-9CC2-26056982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A84-6414-40EC-8F35-328750B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6B9-2F01-4CCB-B82D-C7EAC031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6798-05A1-4D10-98A0-E664C5D7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73CB-4280-49CC-9E10-7404EF0B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E9F-DE32-47ED-9A5E-B748CAB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49F-2BBD-4B85-A435-9E4F57D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BF9-11D5-4765-8A86-B988C97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015A-1271-435A-A8FF-C08AA52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642-C657-446D-BAB1-AF907BB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8146-A8B7-4B9E-9A2F-FCA7334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6AD-E4F9-4504-A33C-2ECBC60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27C-18F9-4832-864E-E2EDA1E2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1F41-88AC-49C8-A7B0-B358223B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EE8F-FC1C-4571-BD22-C038EEA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82AD-F15F-4CC6-AC2F-9B3E96C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4F9-CC5A-4478-A628-258DAE7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9854-D249-45D8-9E76-44F73C1D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19471-C773-460B-9829-EC9603E6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68F3-75A8-4B7E-B648-C06EB80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88B8-12C8-41FB-9936-9E2CEA0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87AC-3564-4B07-A0BA-5558EC1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8420-C291-49F1-899A-1DA3BC50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7A5A-20C7-4862-B4CA-4314508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501A-363D-4D48-86AB-DC082F8A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C934-C0C9-4101-90AC-9E39A144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82E-DEEB-4ED9-A2A9-3FB01356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84A-0FF7-4F01-BE0F-9C82B3F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4F6-8256-43E7-8073-01F6370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769-D6F0-4F23-BE5E-3F4EF69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25F-A73E-4926-A89D-2FA85D8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BA9-FD41-417B-98E9-CBCCBCEF8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0BA-A9C1-4CAD-B4F3-8D6C8B837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AA2-70AF-45EB-A5DF-EE455FAE2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Ninety And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C. Cleph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Ninety And Ni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Ninety And Ni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Ninety And Ni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Ninety And Ni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Ninety And Nin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Ninety And Nin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Ninety And Nin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Ninety And Nin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Ninety And Nin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Ninety And Nin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Ninety And N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Ninety And Nine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Ninety And Nine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Ninety And N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Ninety And N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Ninety And N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Ninety And N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Ninety And N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Ninety And N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59:25Z</dcterms:modified>
  <cp:revision>32</cp:revision>
  <dc:subject/>
  <dc:title>Slide 1</dc:title>
</cp:coreProperties>
</file>