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3C26-9B6B-40B4-9F71-10CAB1E7F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830F-BB6D-4D50-B432-2E0F37CE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0E06-B25A-4C20-A2F8-714C9CE57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B668-72B9-424E-B7E4-5A87DE277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CF24-A352-463F-B7F0-08212FF7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2C15-8EBE-4032-A07E-5DAA8290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5936-A1AB-4FB1-B5D0-F6DA3724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9E71-CF6F-4996-9827-8163AD83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718C-1790-45B9-A12E-4D68EB87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1C98-0326-472B-A93A-E34630EE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A6D1-36C0-4665-BB2C-CEC601B1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E970-FEA5-424F-A44C-24AB4DC7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2A2B-283A-4824-9D55-FC3EC5C3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2F94-66D6-4E3B-845C-21C6BABD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20EC-043A-47D5-A0AE-DC700EBF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587D-E704-4A81-9080-E8A5420B1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60B1-5F75-47C6-A310-A07B11280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4725-B9B6-4FB7-B498-2BE76241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D03BA-84FC-432B-B174-D9C411849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FBC95-1A4E-4E3A-ABCF-EBA79F20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D1B25-03D5-41E3-917E-39EF4FCC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DDFA-9AEC-439E-9F75-34B28287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AD764-0F7F-45B3-A177-49C0F9C8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41246-0EE0-476F-9296-1C56E280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3DC5E-499C-4196-BFB6-D2D17780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E0537-B9BC-48C7-86DA-F6B39629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D6514-9A1E-435B-AE20-4B874D64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CEBE6-45B6-4DD8-A242-B70B1EC7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A61EC-A055-4B20-ABEF-62BD4BDA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14CC2-7323-479C-BA66-07E8F97D2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0797D-80E7-442B-931F-316D72F15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BA08-D345-4697-AFF3-29770B88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2B40-6666-4C35-BB73-6819E326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4089-35D4-426E-BCFA-2D544D87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7F47-712F-432E-A38A-16E49E23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B50A-37EB-4F1C-AFF2-D3DEA615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A70C-3AFE-4619-B617-54059FA3C9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803C-234B-4F8C-AB56-FBF08E33FE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C8F1-E80F-411F-975D-6DEC148CC7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is Is My Father's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TERRA BE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S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65160" y="4902120"/>
            <a:ext cx="132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altbie D. Babcock (19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 English Melody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r. by F. L. Sheppard (19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4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is Is My Fathers Worl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9720" y="6488280"/>
            <a:ext cx="359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is Is My Father's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is Is My Fathers Worl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is Is My Fathers Worl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is Is My Fathers Worl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is Is My Fathers Worl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9720" y="6488280"/>
            <a:ext cx="359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is Is My Father's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is Is My Fathers Worl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is Is My Fathers Worl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is Is My Fathers Worl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is Is My Fathers Worl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9720" y="6488280"/>
            <a:ext cx="359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is Is My Father's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is Is My Fathers Worl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is Is My Fathers Worl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is Is My Fathers Worl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45:24Z</dcterms:modified>
  <cp:revision>15</cp:revision>
  <dc:subject/>
  <dc:title>Slide 1</dc:title>
</cp:coreProperties>
</file>