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ACC-0318-497D-932B-CE6F167F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C82-BD64-421E-B96D-7E1A3A2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781-5E41-429D-9C38-32026B78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189-B6EA-4424-B93C-245A86D9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EA4-4E45-4647-8C08-34AEFAB6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069-4FF6-4F81-963C-9EAA88F4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EB2-83F9-41A7-9D70-9FCBCB13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D8EF-D4CB-425F-B5A1-0205376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7F9F-2639-4CDC-AC16-BCF0B0FD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30E-84D7-42EA-ADEF-DF16069F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59D4-E899-4BD2-BF4A-BF66263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C35-E006-4D3A-8FB5-C1AAA3E6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8B26-B4A8-44DF-8E98-90F3624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D479-677F-47F0-A553-3B61EDBA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5709-8826-4FB2-8063-974B7C1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FCC-2C0A-4B59-9EF1-6E41B88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0104-B013-4AF4-A3D8-AD3B41F6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4CF-8AED-4D30-948F-C23B38A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B8EE-3E22-4885-9342-F4B2BCF2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7ECF-08A6-4BD8-8D60-EF8FEEB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912D-B392-4351-8DF6-679EE4D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210-FE1D-4244-B0F0-25952B3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D042-B409-480D-949E-3493BE7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F428-6B0D-4806-888F-977F9CA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7D60-A267-48EB-ABFA-1386C6E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DE83-7ED4-481D-8C07-FFFACB3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C5B2-0480-43AB-839E-B684CE8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24AC-C00E-43A7-95CF-692CE17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8F13-C9AF-4E9C-B5E7-C3381DB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C980-30EB-4586-817E-5398CAC0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F598-6AF4-46E6-837F-C080272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4C7-B022-4E22-A093-6F51210A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5CD-1B34-40BC-A0C0-7B6FBAF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8D2-874A-4632-AB68-AB8FFEE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893-083F-424A-8FE6-BB1CBE5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C24-913D-4015-8DC3-E959CA9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117-4829-454A-B2BB-987D3D38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DE6-BBE6-4F66-90CF-854A219EA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81A4-7191-4858-AC67-EB88CA2F0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Me The Story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ene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Me the Story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Me the Story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Me the Story of Jesu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Me the Story of Jesu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ll Me the Story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ell Me the Story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ell Me the Story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ell Me the Story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ell Me the Story of Jesu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ell Me the Story of Jesu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Me the Story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Me the Story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Me the Story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Me the Story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Me the Story of Jesu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Me the Story of Jesu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Me the Story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Me the Story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3:41Z</dcterms:modified>
  <cp:revision>27</cp:revision>
  <dc:subject/>
  <dc:title>Slide 1</dc:title>
</cp:coreProperties>
</file>