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0C3-DFF9-4C1D-B309-D679D65A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618-4E86-4BE8-9CCB-9F046145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2CB-0014-426A-817E-C65557AA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51D-EF83-40A7-8F5B-D6657817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A88B-17E6-48CF-998F-ED1428F4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C270-A995-448A-99AF-81793CFF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DEA6-BE12-45D3-8B85-99052F63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55A9-45CA-4D4A-8441-60F38C87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582C-17D6-4FF7-86CF-8569BC87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5227-FF11-4AB7-A573-E3DB8815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00C4-6736-4297-B93C-4137CF51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D8F-619D-49B5-A968-48B11D96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5439-B8B7-4101-8481-5DA58BAB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29B5-9C7A-4B78-993E-62584D18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C421-501C-44CD-B62E-230EA5A7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4EF0-1113-42DE-B6DE-54BF4BFD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11A7-2EC9-44AC-9F70-63931956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AE6-D9EB-48B5-9062-8D3E0F2A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C9E0A-CC34-4A02-BC0F-2AB7BC42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49CB-AD2C-4A16-AD1C-242E4A11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749E-4C1C-49CE-ABAC-D45F1B19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221-B38E-47F6-866F-DD3BADAF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2D83F-877F-4DF2-89F1-8524410F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DB980-4FBC-4887-B27D-9229DB7E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FB843-456B-4C4C-885D-07560350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5F4D8-0C89-45BB-8DF1-965412CF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8D92-C192-40AE-ACDC-98215EBF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734F3-411F-445F-A241-BF378DE9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D332-2933-4A18-8D45-246BBB9A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D8E1C-187A-434E-AE2A-9B2041A5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D838A-D585-4116-B85A-E246B901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085-7985-411D-9CC8-6D124F2E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CC3-4D8C-4B3F-BE4D-8936DC4F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B5E-A531-4465-8191-7C948245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A9A-C2CD-479F-A7F8-A9A9E00D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790-3BF1-45C0-9992-0196C09E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A61D-0221-442C-B437-B8F46C493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8C0D-A67D-4FCD-8649-9F4841900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77DA-76FD-462E-9859-5745845AF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ake My Life, And Let I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YARB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ss Frances E. Havergal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cIntosh’s &amp; Cunnyngham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New Lif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79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R. M. McIntosh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ake My Life And Let It B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9520" y="648828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ake My Life And Let It B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ake My Life And Let It Be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ake My Life And Let It Be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ake My Life And Let It B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9520" y="648828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ake My Life And Let It B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ake My Life And Let It B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ake My Life And Let It B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ake My Life And Let It B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9520" y="648828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ake My Life And Let It B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ake My Life And Let It Be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ake My Life And Let It Be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19:52:11Z</dcterms:modified>
  <cp:revision>29</cp:revision>
  <dc:subject/>
  <dc:title>Slide 1</dc:title>
</cp:coreProperties>
</file>