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9261-3834-4E08-9103-DAA3EB40A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C7E4-AD8F-494F-BC63-939D13F98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526A-E91A-45A1-BC4B-BEB520680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E295-FC94-4034-BE28-5AF03B7B9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2E2A0-C57A-4D37-B990-4457FF2C2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65F59-071E-4454-A678-324F3E627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D0A7E-2986-4BE6-A9EC-627C70DDB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2B8F0-D40E-4FDF-AEA4-B84419F65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5824B-00EE-4724-BB32-39823045E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77E2F-8066-4269-8A20-14361B8A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1E326-905F-4873-81A2-B4EA55EB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5D5C-A204-4F7D-B1BE-6E5A2A829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D348B-1859-4A98-A53C-E834A7DE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D8869-4E01-4476-89C5-39BCDD56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80BE6-4063-4F52-A555-B686089FD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2D4A8-29A7-4FBE-A8D5-A51D655AC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344D8-5BCC-4C5D-85A0-FE79DA76F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0533-434B-43F9-8AC2-971875702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86551-F285-4A39-BF81-6985FAD2B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EE0DE-0E32-4C7C-B640-9AA4C0750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25D1E-952F-46C1-A067-177EBB21A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197E-318F-4CA7-AB37-B9E547870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C14AC-1787-412F-81F5-07AAD2C7A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ED351-613B-4E37-91A0-5BA159C4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45889-EEA4-4398-8B5C-187C7BBE6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3D4AE-5061-4801-BA70-A1623683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496F1-4E77-4F4D-90F8-3A24909E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311DC-1A4D-4911-8DA6-EECEB9EE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08F8F-C69A-458A-80F0-A8DD6AB97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6459D-7D84-48E1-9EE5-783B96247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8B941-ED24-444D-AA6B-EF02A7A25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7088-B790-4598-AA18-3DF8B6826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8FB4-A716-4000-8627-84669DD41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102A-D4BA-429B-907C-EBD654D8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B45B-0D96-4F5A-BC1C-AD210328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93F7-29D9-4A5A-B0C3-FCC8EC31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9280C-F321-444B-9301-05862A98CA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AE738-0BF2-4019-A227-847896201E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7276B-77E4-4D73-A920-D265AEE634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he Last Mile Of The 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F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hnson Oatman, Jr. (190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Edie Marks (190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he Last Mile Of The Way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13040" y="6488280"/>
            <a:ext cx="361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he Last Mile Of The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he Last Mile Of The Way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he Last Mile Of The Way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he Last Mile Of The Way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he Last Mile Of The Way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3040" y="6488280"/>
            <a:ext cx="361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he Last Mile Of The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he Last Mile Of The Way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he Last Mile Of The Way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he Last Mile Of The Way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he Last Mile Of The Way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3040" y="6488280"/>
            <a:ext cx="361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he Last Mile Of The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he Last Mile Of The Way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he Last Mile Of The Way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he Last Mile Of The Way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13:58Z</dcterms:modified>
  <cp:revision>31</cp:revision>
  <dc:subject/>
  <dc:title>Slide 1</dc:title>
</cp:coreProperties>
</file>