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0AE-2FB5-4D49-ABA9-4D69C690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1FF-EA3D-4253-99C1-D8B83AB7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312-CA83-47F7-B4D2-1774EA4E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653-C3CF-4459-86FF-EA892D52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CBD4-F44A-4965-ABC3-D42A5DB1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139A-D7E8-40E4-9DCF-65405868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2B0C-296C-4298-907F-E3FE2F7B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37EA-2BFA-432D-AAB6-A9111B60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243C-71E2-48C8-93E7-93628112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2293-D962-4E91-B084-0813A93F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907E-0B66-47DF-A2A3-DCE9ED97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AFF-52F2-4DC4-B61A-36B10223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9BE2-D53D-4B85-8D6B-4D9F53B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2EDE-9486-40DC-B2BD-C813254B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49F7-2456-49DE-B4E1-56594A89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C983-4D74-4487-AA5E-CF497FE5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C49C-5E4B-4C99-A250-FBD12AF7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8DB-4A64-4B88-B525-AEF55E14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2BE94-86EA-4B51-BC13-269162CC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5CF70-FDB6-4291-BE04-35445317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C7F1-BB65-4B75-90A9-E5D6FBC8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AD9-E8FF-4618-8942-CAB3721D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2DD3-6879-4DE9-8F74-DED88CA1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704A-05F5-416D-9FE9-8DF24DE3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435D-0DC8-46B9-8C7C-EECCF410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8F0DB-D0D5-44F4-AF33-7F086A72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9B98-1F17-4C6B-832C-73227FF0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6875-4751-4848-B9D5-C61BBBC3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31D7-5588-40F1-A6E3-06EC354A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C64D-A45F-4521-865A-0C61572B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E1FD6-F529-43EE-8E51-C4D90A41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00A-40B5-47F1-808A-28A74B56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5A8-C2DD-4A72-A5E5-DB792FAF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488-5718-472D-ADDE-37D99C2F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385-C95D-43FF-81E9-8CB5E6F5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B6A-8812-4921-99E9-1C4E7C92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4C2B-D109-4FE3-A046-56426ED8F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3118-65EA-4344-9656-3558AEA98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8D2E-0366-458E-823B-4032E84AE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Sands Of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6.7.6.7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e R. Cousin (1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retien D’Urhan (1834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Edward F. Rimbault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Sands Of Ti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Sands Of Ti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0548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Sands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Sands Of Ti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Sands Of Ti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Sands Of Ti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48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Sands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Sands Of Ti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Sands Of Ti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Sands Of Ti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548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Sands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Sands Of Ti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Sands Of Ti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Sands Of Ti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548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Sands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Sands Of Ti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4:08Z</dcterms:modified>
  <cp:revision>32</cp:revision>
  <dc:subject/>
  <dc:title>Slide 1</dc:title>
</cp:coreProperties>
</file>