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060-9934-4B23-A227-AA29AD8F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4E3-7671-42C9-B3C0-5C97B907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EFB-992A-484A-8E0B-1766C114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D43-C49B-4DBD-B592-2EF981CE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AF79-CF66-4D73-8CFB-3637B4A7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7BA8-9768-48B1-BBBD-B0A82CEB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E8C5-81C6-4237-909C-4357D92C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777A-36D7-41EE-A9CB-7E960A68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D731-014F-475C-A75F-79ECA1F7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0A02-E684-4396-A44C-120BD422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D0F2-AB0A-48B8-B7A7-6BA3BA04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614-7FD5-4667-A008-33310450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A623-B56D-4F83-9C20-1E362642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D30D-E1BF-4DEF-B5CD-F07F4743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B3E3-34C8-40B8-8B54-697F203E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CFDE-CD5B-4D5D-AB6B-B900CBF9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702A-278D-41CF-BAAC-2980DB13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951-6148-4301-883B-4E5BE67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87F8-D64C-4722-BE9B-1DF3D7FE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6D8F-94A5-43E2-8C56-A70925B2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AABF-1E4D-4538-AF09-A8057301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580-715C-4068-97AD-198592F2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36EE-419D-4C40-AAA9-33B92C75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21F8-9954-48CD-A720-D7427CD6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5955-981C-47EA-9D2D-96D14865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7335-DFB0-4F38-A50B-0D9BC08A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E7B7-4640-4899-A441-5C0AC401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A6A0-620A-4517-BFE9-F0F156C9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8630-7CE4-409E-AC20-3CEAD563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70859-B49A-48CE-8A0D-884B7C34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D09D-EE3E-4AD9-BD1D-276EBE54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828-EC0A-4CDE-B643-E6A5C9ED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807-9537-4A01-BD60-13980D03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CAB-B1AB-4FF3-8066-807831B8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BB2-2082-4310-9CC3-F1A6090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DEC-A693-465B-B50A-5C3F6F29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DC28-589C-4928-A839-D97BEA646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1435-F999-4A95-8457-A4DA60334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28B2-12E3-45FF-966A-E354263D5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's A Royal Ba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Banner Of The Cr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 Nathan (188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3 by L. O. Sanderson (194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s A Royal Banner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160" y="648828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's A Royal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s A Royal Banner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s A Royal Banner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s A Royal Banner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s A Royal Bann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160" y="648828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's A Royal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s A Royal Bann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s A Royal Bann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s A Royal Bann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160" y="648828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's A Royal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s A Royal Banner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s A Royal Banner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s A Royal Banner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4:38Z</dcterms:modified>
  <cp:revision>38</cp:revision>
  <dc:subject/>
  <dc:title>Slide 1</dc:title>
</cp:coreProperties>
</file>