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5E1E-C272-444E-9E32-041EB1194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8AA3-E821-4B3D-9021-5A4BF8E0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0460-B3B3-4C63-8EE1-89FB38FBF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23D2-2073-469D-A6B0-EC402CF4F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6D71-1A96-49EF-87A2-86178661E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5EC8-716A-457C-AF6B-9AFB6613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AFF3-E59F-4A30-A455-41DC4715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FEDF-D624-43C5-AC89-FB06AB80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3BF2-E337-4017-B2F0-BB3D4711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F7E8-11F4-4086-AE97-A971132B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E226-7D72-4F78-9EE2-EE63EC51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A183-C1A4-4F78-90CB-78ED8340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AACE-26B7-4490-AEC6-F328B010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B06B-5FAD-4458-884F-D31D4C8E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8CDD-AC6D-4A12-B2E7-4FDB7AA5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6DE9-D5F0-4AF8-978C-C91B03CA7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762B-93AC-4144-B829-F9E96E1A3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E10E-89F2-4BB4-A191-360C68E0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8B74C-AF1D-4567-99D5-BC1FBCCEE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7B79F-5DEF-4798-B7CC-968AC0C1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804A8-6599-46AB-B922-108C8AF9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37AC-C113-44F2-92C3-ACA271C6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42651-808A-4ECE-98BD-4B6A361F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BC05E-F093-4F6C-B12F-8C9F8775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D0E3C-4BD1-445D-8B96-6A939636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E7348-C3B1-476C-96AF-8F5F36F1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BC7E2-BFE1-46AE-860D-D971E01C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FEF0E-26D1-44DF-BEAF-55472E85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F61BC-B0FA-4736-BB07-D6D27BA8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B7ED3-9AD2-474C-9E6A-003A3B1B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9D926-234E-4EB1-9754-46E78B9B6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1A3F-E0A9-41C5-8888-786BC48A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5E79-A506-4AF1-A7F2-3358E8FF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1F07-076C-449C-A012-FB803836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18AD-2257-4C11-9AB5-B067AFB3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AE22-A883-4549-A7D0-5BA223EB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E093-3435-46A2-B0D9-AAC4D2FF59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2D4F-C425-4794-8216-F0D3444CAC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3DD2-7559-46A8-8111-64D80EA299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Haven Of R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. L. Gilmour (188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D. Moore (188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Haven Of Rest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4320" y="6488280"/>
            <a:ext cx="28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Haven Of 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Haven Of Rest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Haven Of Rest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Haven Of Rest_v3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he Haven Of Rest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94320" y="6488280"/>
            <a:ext cx="28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The Haven Of 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he Haven Of Rest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The Haven Of Rest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The Haven Of Rest_v4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Haven Of Rest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4320" y="6488280"/>
            <a:ext cx="28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Haven Of 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Haven Of Rest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Haven Of Rest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Haven Of Rest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Haven Of Rest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4320" y="6488280"/>
            <a:ext cx="28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Haven Of 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Haven Of Rest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Haven Of Rest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Haven Of Rest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12:32Z</dcterms:modified>
  <cp:revision>29</cp:revision>
  <dc:subject/>
  <dc:title>Slide 1</dc:title>
</cp:coreProperties>
</file>