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575-5426-41A3-9AFC-D68238DD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ECB-203A-410B-86C0-92BC4FA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D41-A0A8-4E6A-B0AA-DF121D2E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800-22C3-4A3D-AA13-0F8468A3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CD4-4FC4-4248-AE71-D536BC2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CEA1-D6FC-4A5D-918B-30F7731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7337-4EE7-43D4-8E08-8C4143E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79A-22F0-4A36-87E9-865E413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3EEE-F000-4218-8F4C-522FCC5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8642-6371-4421-A49B-617D032C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1DA-5345-41BB-84E3-D2D8846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FB8-E6D7-4857-8D81-EDEC8E9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D608-C514-42DD-A86D-54F1DD3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21AE-88D4-48FE-A03E-C566FD6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0A1-0EEE-4333-BE29-313B465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CE3E-989B-4F81-99A4-08F6ABB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E0E-2B24-490B-9353-4DA9D899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25C-2E55-4C11-811C-793156AC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080E-1401-49F9-9A77-523FDB45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EE4E-4280-4624-9E1A-947BC32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7119-5E35-4BF5-A3D2-51F3779E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31E-FF1A-45D2-9C06-5A110AC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3A92-CD7D-4849-9392-6587D561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4182-9E81-4DF0-8268-F7DC411B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D6B5-8DA1-4355-83B2-E0F2CCC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2D92-4EA6-48D7-A67B-72B082D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E10E-FF3D-4A6F-8BD3-D0D99D6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DBB7-10C0-4279-98E7-6B1F640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2644-DB64-4165-9180-4D5D705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DD3D-8626-4F3D-93D7-1A1C3978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D20F-9ADF-4811-83C2-CA344559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E20-F853-4BD3-B690-51F23D0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651-02DD-4204-B104-0B27827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413-07C7-4499-9EC4-AFFB871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1FA-8279-46ED-89D6-C4D1711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429-99D6-43E9-9FA7-F4DBAF2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A6A4-798C-41BE-B907-CD7E62721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5B0B-F35E-475F-90FE-1F066B981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F01B-90F3-4D15-B4D1-E15E24D90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Great Day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L. Thomp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L. Thomp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s a Great Day Com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Great Day Com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Great Day Com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Great Day Com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Great Day Com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Great Day Com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Great Day Com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Great Day Com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s a Great Day Com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Great Day Com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Great Day Com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Great Day Com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4:07Z</dcterms:modified>
  <cp:revision>33</cp:revision>
  <dc:subject/>
  <dc:title>Slide 1</dc:title>
</cp:coreProperties>
</file>