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1DD-C7A9-4990-A81A-0F34746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47A-31C8-499C-81CF-5F25B9BD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CB5-9672-4913-9EED-A38CD507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007-68BE-4230-8D88-C261C588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5FEC-1823-4860-BB3A-1A8BF7F9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F38-9FD2-464A-BB15-C0EE808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87EF-8A5E-44F6-9541-8B82C9E8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792-6B27-4086-8DDC-6DB7E3D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66B-47B5-40A0-A630-92C856C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21A4-C12B-4143-AB13-D44BD267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8B32-C811-4F51-9C08-6F0EAD7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56-F17F-42AB-BBD6-F372FC9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525-13F8-4272-82FF-F643C1F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F12-5111-4A45-97AC-C1F0701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370-365A-4B00-8AC3-80E0682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7600-5B41-4990-9EAE-CCBDBDE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AC4-1B7E-4E40-8CED-664578EC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85C-CEBC-4451-8C35-D742848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8BC9-1CB0-4C0A-9701-CA47F097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1863-7680-4160-8457-E6C208C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7946-8D1D-4D24-A4B3-85F2907A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E59-C768-411C-BF11-D0DC559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8A62-1B61-4592-8CFC-138C87C2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739B-6753-40C9-8106-A724B25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85B7-4C17-4EF5-A168-DDFDE222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51B2-D773-4335-9E4B-DE0D4BA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846C-64ED-45DF-98C5-8AC0666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CE26-4272-4786-9E2E-6AA5506D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949B-4CA8-4A1E-A5FB-FD743AC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4BF6-D828-41AD-B2BE-E721041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B620-9991-4A16-93E6-52B21E80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E00-D862-4CF2-86F1-F4FD974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901-223B-4687-9257-E05F474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BEE-E7E4-48A6-9EBB-ACDEBAA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1C1-B006-48AF-A3EF-5D573A8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DD6-FAA4-47D7-8E29-296493C4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33D2-2882-4D65-ACD1-D2C55FA4D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F8E-AC65-470C-9A6A-7ABD95BA2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5DC-D4D3-4156-80CA-6EE8DEB87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Hab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ve H. Jameson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Rosecran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Habitat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Habitat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Habita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Habita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Habitat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Habitat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2:13:09Z</dcterms:modified>
  <cp:revision>29</cp:revision>
  <dc:subject/>
  <dc:title>Slide 1</dc:title>
</cp:coreProperties>
</file>