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600-DD1F-4636-B45C-76C795E8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721-CF91-49B2-97F4-B9396B60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56D-3FF6-4CC3-A23F-E6A47FE8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4A4-A916-436E-B763-BB5254A0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04DD-D0D9-4080-906A-E2935D78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7FDD-DFE2-4B83-B5C9-4FDF6998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C971-4E96-40A8-A14D-B2057F54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3EA7-3A20-4EBD-8B6B-97FFC93B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E3A3-D835-4BA0-A5C0-DC426427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231C-126C-46AC-9DB1-DA6A5944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C1F0-F244-4FA2-A83D-2F8309D2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7A1-4884-4BA2-ABB4-17741C0E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9C51-4BDE-4935-AFFA-B3D24DCA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C8C7-9801-4FD8-8529-566A6D42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D305-B368-43B7-AC6E-76C8B846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1DB2-F5BA-4041-94F6-99B9CF26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B66E-8E4B-49A2-9517-949390B1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E19-619D-47DF-BF69-67FB3ED6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D7C77-A4E0-4144-8362-004FA235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E68EB-F3CE-4EC3-8823-B21FDA3A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42FF4-6717-4225-8CD0-AC7A06B8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F58C-0F6D-4729-9829-BD4D5318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8D320-968C-4E81-9359-F1C9C11B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C487C-BD47-4654-A32C-3775A31A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FEB58-C364-4FD0-BE36-4181221C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960A9-43BF-4E32-9DFD-6EA36BF0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23BF1-1706-4E4B-99EB-A451E94E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2163D-AD89-43F7-A7D6-B74740DF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A89A-4211-4B8D-B2CB-90C4C0BE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37BBE-CD95-4778-9595-F8F66980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CCF83-16B5-40C9-8C35-9FEFC639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45A-2A89-47B8-B982-6BA5890B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C3A-9990-4367-B0DF-D211C9CE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2A0-3806-45A2-81F6-55A384B2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6CA-7F8F-4C0E-A49B-69FB6C78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62C-C2FC-4488-8CB9-8837CD32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2F2C-4E87-449A-9B90-05A1899D8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6A05-DC37-401F-998A-7C11078B78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CE9E-F9AF-4117-AB36-A07BA6DF1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o Love Some One More Dea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My Ta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ude Louise Ray (1903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. 3 F. H. Pickup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L. Ashford (19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o Love Some One More Dearly My Task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o Love Some One More Dearly My Task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81800" y="6488280"/>
            <a:ext cx="42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o Love Some One More D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o Love Some One More Dearly My Task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o Love Some One More Dearly My Task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o Love Some One More Dearly My Task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81800" y="6488280"/>
            <a:ext cx="42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o Love Some One More D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o Love Some One More Dearly My Task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o Love Some One More Dearly My Task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o Love Some One More Dearly My Task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81800" y="6488280"/>
            <a:ext cx="42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o Love Some One More D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o Love Some One More Dearly My Task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0:12Z</dcterms:modified>
  <cp:revision>30</cp:revision>
  <dc:subject/>
  <dc:title>Slide 1</dc:title>
</cp:coreProperties>
</file>