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209-1D12-41EA-A9A7-88CB6E1D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057-64B9-440F-BE57-C0BA9750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218-32B2-4DBD-9C47-6C74A3A7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2F2-276F-4D3E-8189-D5622A99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035F-3D98-4435-91A6-7784F9F6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8674-8EF3-4A6C-A61C-61BB46D4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8CFF-3A51-4F02-95A3-84EDD44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4B9A-EFD2-4402-A8BD-F6E82572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9BC7-FB1C-41B6-BDC3-486F741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AA1A-5B84-4784-B054-5C0135F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DE5F-FA1C-409E-9A3A-ED728475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B34-A452-4F24-A10A-AF7F9B6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75A2-8090-443A-B90B-30BD51A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AB8C-F6F4-4CC1-862C-21C8C97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B49D-BC16-42C2-9F2D-14679345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0E15-1D8B-4B75-AC91-233B7D60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6E1E-123F-491B-973C-4BE0BA2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93B-4145-4964-B0E7-7658C0CE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2F2D-D3D7-451F-A32B-28CC9E7A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3B58-ADCB-49B0-BEC7-650897EA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2FF9-3999-4857-BD87-82D81523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BFF-FC98-4961-BCF2-2FC0019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4F45-0A13-4B75-A688-1D8D08FA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306A-DBE9-4B4B-BE73-0346B5CD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3AE9-093D-4540-B706-6A88E41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E8A4-4E02-4640-9AA9-7791EA9E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BFEE-7F5F-46AE-B81F-11B7B59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9AFB-8534-42BC-8DDA-7F9D234D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6E23-AE4B-49C6-9632-579BEC41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8EA0-AB1F-4E04-836E-84341C8D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AED3-69CE-4CDF-A8A5-251ECC98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49A-BCBB-4525-9612-5DC87488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B71-946B-4F8C-9C17-BE7D3E17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23C-847E-4D14-A6C1-2236623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BEE-0653-4072-9663-066875F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A0A-383F-4342-A0F7-7B9F6ED6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3DF1-399F-4340-9EFE-E9B31A25E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49E-8E22-49F2-A7FD-F383C44CC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513-263D-4070-88B6-A4732867E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reat Physic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unter (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reat Physician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9640" y="6488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reat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reat Physician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reat Physician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Great Physician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reat Physicia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640" y="6488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reat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reat Physicia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reat Physicia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Great Physicia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reat Physician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9640" y="6488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reat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reat Physician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reat Physician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Great Physician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1:52Z</dcterms:modified>
  <cp:revision>22</cp:revision>
  <dc:subject/>
  <dc:title>Slide 1</dc:title>
</cp:coreProperties>
</file>