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980-EAC4-47BA-87BE-93A4A46A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AB7-4209-4D56-BE62-7FA8BC93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5BD-6E9B-4A8A-9F7C-20A49505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4DC6-F2AC-45D2-A5A4-F0E23D59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3C9C-69C8-43A3-9F21-C20DA3C4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ECAF-F3B5-4FCA-A6D2-42A741F0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C24E-9D8F-4676-9A9B-62443642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9F89-58D6-41C6-9D82-D62E138A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74DF-572B-457A-B841-8F0FD8F6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56C2-5718-4ABE-AD03-81E4DE97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FB6F-859C-4FB0-B77F-7DB757F4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B4B-A5AA-47CD-9067-72EC2B63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92EF-DF64-4D8D-B427-7276C082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EDB2-35CE-4CD7-B68A-FCA51D06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87AD-1A97-43D0-A297-731879DB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D66E-4DD5-4EB4-8CCE-B7EBCA4D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85FC-1875-419F-B90E-4AFE4464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84A-5CE1-4BEB-AC93-18E8BC22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EE387-ABB6-4BC1-ACC3-DC697B8B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8D0F4-59BA-46A9-82DB-829425D5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5357-2A3A-4BB6-8B6E-38E1E0A1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621-9BE0-4F28-A04A-22BB5516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8B02F-9E36-4C65-A3FA-C65ABB18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6E6E1-1DFC-4D60-953F-7E1987E9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32921-BB60-4575-8882-3BB0CAB7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053E-84CF-4AE4-AB54-0F647AB2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92524-3447-463C-8FB0-AFBD1651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94246-D854-4103-88D3-7FAB6150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B440E-DEB3-4396-9466-3B158ABD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12A0-06D9-4C09-BCF8-CDBE0418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4E4C6-DF9F-45E9-B939-7B77C922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635-90DC-43FF-8470-1E87B55E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D6F-3CCC-4291-9128-4A1F1B77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948-829A-4249-9154-33E7E167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0E5-A5AA-476E-AF3F-5BB7358A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31F-13CE-4785-AFEB-BE2C333B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7C8B-456F-4683-A6CD-D5C1FEC0E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EF61-F8CC-4015-AD31-1E1335D861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B3AD-7CFD-488E-A943-CF7E55DFE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ord Bless You And Kee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LUTKIN BENEDIC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W/ SEVEN-FOLD 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Numbers 6:24-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eter C. Lutkin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ord Bless You and Keep You_arr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4000" y="6488280"/>
            <a:ext cx="45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ord Bless You And Keep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ord Bless You and Keep You_arr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Diagram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ord Bless You and Keep You_arr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ord Bless You and Keep You_arr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54:13Z</dcterms:modified>
  <cp:revision>29</cp:revision>
  <dc:subject/>
  <dc:title>Slide 1</dc:title>
</cp:coreProperties>
</file>