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634-5575-4DE8-AECD-918BCFFE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2E2-DEA7-4EBA-BC94-1225A311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34D-C52E-4798-BBFC-59019CC1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7D19-B0CB-4438-B41E-F3DA1522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B147-6CFA-48B7-BDE6-9CF9DC39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0382-AF52-4D40-9BCF-35F769CA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3D3B-84B7-4769-BE1E-0AC96B33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A7E8-ED17-4CED-8395-3E063B46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272E-1641-4442-952E-9FA7F907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8FE9-F6BF-4876-929B-6B296FFF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D422-C8A6-4E45-AC2B-8FCA3E34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103-366D-4A71-B1D6-3F7CFAA0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9FE1-F59A-4BC7-BB1B-3269C069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F9C9-55C8-4714-B6EB-E500F4D0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4D4C-2963-4F6C-AA9E-A248DBC4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BB90-4D8A-4295-8A1C-B29EE00E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6B62-EADB-4951-B076-3E8C9D2F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2C7-54AE-47EC-BA9F-AFCC3440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CB15D-3C4D-45CC-BAF7-ADA36800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AE2E3-CB32-4C1A-A3E0-49D95578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F861F-B0D6-4436-A074-4BEB7186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E06-4811-4037-A37B-0A143C64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3188-39A9-496C-B820-DF8BA51B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4A9C2-1EEB-472D-B904-264E0B09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E4096-91AF-4B3A-B448-5C95BC32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96435-1504-4D32-98EB-A402FD0D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EC922-0E86-45A3-ACA9-22D3BD10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1BEB3-0F9E-4084-AB3D-21DEDE43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55107-4DC2-481B-99C6-D1EF908B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70516-D0BE-4B98-84DB-3E2B640B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1B95D-BCC7-4E85-92AA-8E3CD9E3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5DA-5EE6-4ADB-AB43-947C8E82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9ED-1BE7-4981-A2B7-78320AA1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E7D-2C31-4C5F-9985-3CE9190D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2EB3-B8A1-499F-83E8-305EA739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CF5-29E4-4855-8571-EC0EB9BE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6C84-6497-4F2B-99E5-FD1B0B62A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797F-9ECC-45D2-A692-9CA710411B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123F-472B-4102-899E-608DF4A04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 Is Sunshine In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E. Hewitt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Sweney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ext, line, fon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000" y="6488280"/>
            <a:ext cx="40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 Is Sunshine In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 Is Sunshine In My Soul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re Is Sunshine In My Soul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re Is Sunshine In My Soul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 Is Sunshine In My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000" y="6488280"/>
            <a:ext cx="40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 Is Sunshine In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 Is Sunshine In My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 Is Sunshine In My So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 Is Sunshine In My Soul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 Is Sunshine In My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000" y="6488280"/>
            <a:ext cx="40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 Is Sunshine In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 Is Sunshine In My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 Is Sunshine In My So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 Is Sunshine In My Soul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1:35Z</dcterms:modified>
  <cp:revision>36</cp:revision>
  <dc:subject/>
  <dc:title>Slide 1</dc:title>
</cp:coreProperties>
</file>