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47D-8490-459B-9CFD-1A59FF3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ECE-1CEA-4814-AE45-54351CD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478-BA1A-4142-95D3-19ED6D4D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915-81F4-445A-ADB8-7696E295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1F0-3F1E-4089-A11C-66ED2026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0A0-506B-4F46-B3E1-6B4A0327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F2B-2E1C-4AF6-9A20-93F4DBA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83C-0E03-40A8-B568-60EFFC4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4E5-3858-4983-A870-A40AE39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4103-1261-49A9-BC4E-54C823F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D02-553E-4E10-BA1D-F564F94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EC5-C6EF-4760-A392-7464FF0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1273-47A4-47E7-8DC7-06FFBDA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B74B-66F1-420C-87F5-C727E53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36D-FC49-4B56-A9F6-E81F6D2A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CB6A-A28E-4435-9562-0D74A57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0BB0-20A0-48D5-A8E7-66672A66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ED2-75F3-41F5-8934-E460A6DB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6204-7BA8-4F5D-9CA5-7FEFEBAC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D6F7-AF2B-4575-A7A5-5D68084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EB5E-2604-4CA8-A5D9-951FFA0B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6A5-2BBC-42DC-A061-72BC5FEE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3BE9-E98A-460B-AB84-CB757AF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5310-CEB8-452C-92A7-56F268A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EE73-FC24-4600-B384-62951DF8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9B4E-F0F5-47DC-AF70-5376C76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21F0-22D4-49B9-BB99-4F48E6F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C3B0-10A5-4DAC-AE1C-FD4843E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6B8C-643C-4382-8C0D-4E029DB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3CC4-18AB-4F8C-9251-A6BFF6D3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B74F-E414-458A-BEE1-4C7054CF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399-B28B-4EE2-A37E-D1387FD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9C-5704-4B2A-A2A0-82FEBD0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A67-CFF2-4F59-8888-84998A6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311-0BB9-4B57-A7C5-6C85B73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CFE-8C15-465D-A6A2-42531B6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BA0B-E09D-4478-BCE3-69F21D5DD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56DD-9DC2-4992-AB61-20E5AE87A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5BE-852B-4B0C-AE7D-68637D39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ach Me Thy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AM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Mansell Ramsey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Mansell Ramsey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ach Me Thy Way O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ach Me Thy Way O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ach Me Thy Way O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ach Me Thy Way O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ach Me Thy Way O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ach Me Thy Way O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ach Me Thy Way O Lor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ach Me Thy Way O Lor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5:18Z</dcterms:modified>
  <cp:revision>32</cp:revision>
  <dc:subject/>
  <dc:title>Slide 1</dc:title>
</cp:coreProperties>
</file>