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2B86-1F26-4E6C-A45F-3DDA76259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EC3E-9E96-4FA8-8262-943D88AB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569B-01E2-468E-862F-DF33233EC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0E0C-F57C-4514-9C95-D01788692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E517-0856-4428-B56C-70051254B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7048-6CCE-4EAE-99E7-E7129DBD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EDCC-215B-4790-9A4B-3843E2F3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F16C-7569-42B2-BE06-B7F57EBA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6034-F1FC-4528-A944-480C6FF1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C8F9-A636-410B-80DF-65327D2A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2717-489B-4278-B89B-D0FCC4C8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E132-53EC-43CD-8AFB-82C6615B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A65B-E6EC-40AA-B0BD-7C9282F9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98EE-5BEF-4D5B-B402-D695CEFC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8D17-7D43-40BC-B727-DBEAF34C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2FDA-E2AD-4CD9-8DD8-8CADD63D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60405-5B8D-423E-9E5B-0006502AB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2648-249D-448B-8ED2-840E572C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A2B4C-3D85-4F9D-BA25-585A0CD35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D9747-0ED9-4024-92D1-2C28A360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A7356-DD7E-40B6-84B3-55CEA96B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D237-9DD8-4124-9768-F7FEDB5E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4B154-C6FD-4E32-B895-E0834344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A0940-954E-436A-9650-B7B3F47E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35CB9-991D-42E0-A1E1-6019AB20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6A44A-9454-4A44-BE61-4D654768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022E3-2A52-43E8-A1DF-E6C664A1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A6591-B57D-4171-B8BE-1EA1FA68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A39CB-F10B-42A8-A56F-9AF43AC5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B4CF2-CE61-4EF3-9FC6-0A34F6283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18BF1-8D88-4EDE-8F49-EF36278F4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480B-5A5C-4811-902C-0E697917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A716-87C4-4D52-8932-91DB115B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4D67-CC94-48AD-A543-D7BEB65C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9735-0261-474D-B8FC-E5CBBD21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B53B-70CB-4456-A67C-70213F28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9DE6-C4E0-4F3F-B539-2B93B05683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E1A1-6433-4569-B9A7-FCA0E904E0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00B0-3D7B-4B3A-B7EA-0E332AD63D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wo Little H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F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adi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adi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wo Little Hand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wo Little Hand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5040" y="648828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wo Little H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wo Little Hand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wo Little Hand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wo Little Hand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95040" y="648828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wo Little H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wo Little Hand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wo Little Hand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wo Little Hand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95040" y="648828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wo Little H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wo Little Hand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46:27Z</dcterms:modified>
  <cp:revision>31</cp:revision>
  <dc:subject/>
  <dc:title>Slide 1</dc:title>
</cp:coreProperties>
</file>