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22D1-9350-4AC2-85E0-D830CB458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02DA-1C8C-44E9-86DD-9A0B57387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F50C-5DB2-4D28-A041-455905133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2E97-DC3F-4959-8E5F-DBB45F82C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A49F2-9F4C-49A0-9A76-EA23CEF24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84DE5-B61E-488E-9ACC-1342A5757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61A00-22B9-48FF-A4D1-167E6401A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CFD1E-C50D-4E20-BB79-7AB05E545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135E0-4701-410D-A128-31555219D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6E5C9-15C9-4FCF-8AA5-7BD4644FB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EE1D8-7F30-48CB-ADCC-40530FA99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288E-314E-4144-8E8E-1E861C7FC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DD07C-EC19-4590-B1E1-5C467054B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C034B-65F3-4B05-A9F1-20CB3C79F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6E5CD-4D82-4B91-B0D2-900541D43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1AAE5-C9CA-450E-AFA3-A1796C268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ABDF4-F16C-46DA-AADE-71CC26696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9595-6DB9-4E61-8DAA-A533B3D3A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503E6-4D48-4C5E-A445-60C003D55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4F806-8776-4947-AB77-05FC36591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CD41F-1A9E-4301-A727-9EE7ADD9C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A18C-2B6B-48D3-BE0F-A333B7393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BDEF7-CABF-4639-A0AD-E229FE909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CE71D-F144-4F1A-BC1D-8BFC48473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A3798-8529-4492-95C4-B98430C72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E8148-C089-41DF-A76A-F952418C4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97DED-28DF-4296-8535-73577DA0A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4CF03-B17F-45A6-899F-A25E09BC8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9B1A3-C8F8-4BEB-8395-96B52681E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C0040-B4FE-4483-9C6A-EF2C997CD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B61DD-87F9-41AF-815B-AFDFF3AFF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FE0C-59A2-46FC-A982-3907CED14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BE0E-D54C-461B-A562-6DF859380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62D8-E7E5-4FFB-9E11-6C552348B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44B1-DC5E-492F-80D3-8683DB29B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F2A7-42AF-4A4E-8C0E-A8A77A0E3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6B428-6F08-4C46-AA3E-5D2627E1B8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8F90D-B0B1-48E8-8DE2-5A3603A8F7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B858E-8575-412F-BD04-0A2C90A587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‘</a:t>
            </a: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is So Sweet To Trust In Jes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C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ouisa M. R. Stead (188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iam J. Kirkpatrick (188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Tis So Sweet To Trust In Jesus_v3of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62000" y="6488280"/>
            <a:ext cx="410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‘Tis So Sweet To Trust In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Tis So Sweet To Trust In Jesus_v3of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Tis So Sweet To Trust In Jesus_v3of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Tis So Sweet To Trust In Jesus_v3of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Tis So Sweet To Trust In Jesus_v4of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162000" y="6488280"/>
            <a:ext cx="410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‘Tis So Sweet To Trust In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Tis So Sweet To Trust In Jesus_v4of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Tis So Sweet To Trust In Jesus_v4of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Tis So Sweet To Trust In Jesus_v4of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Tis So Sweet To Trust In Jesus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62000" y="6488280"/>
            <a:ext cx="410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‘Tis So Sweet To Trust In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is So Sweet To Trust In Jesus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is So Sweet To Trust In Jesus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Tis So Sweet To Trust In Jesus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Tis So Sweet To Trust In Jesus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62000" y="6488280"/>
            <a:ext cx="410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‘Tis So Sweet To Trust In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Tis So Sweet To Trust In Jesus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Tis So Sweet To Trust In Jesus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Tis So Sweet To Trust In Jesus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20:54:11Z</dcterms:modified>
  <cp:revision>31</cp:revision>
  <dc:subject/>
  <dc:title>Slide 1</dc:title>
</cp:coreProperties>
</file>