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E64-EDE6-4EFE-8E40-F1707F57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CE8-D256-47C8-B6B1-9856380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881-C904-4002-94A6-2F056994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D36-CE72-45F4-8F86-835A749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15FB-F9E5-41CF-90DA-B54BFC9C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C466-E85B-4A88-8A52-CC1FD1C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0931-3D41-40C9-959B-CE86601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6EDB-52A7-4858-94CF-B6262CE8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FA3-A927-4609-B044-D6366357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F2D-5D79-44A7-B25D-6EADE15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095-0F49-476A-B86E-7F773A8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9B3-577F-408F-A898-59B1C26B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7B9B-CD4C-4C7A-907E-F2759C5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DB8F-E095-4830-9C51-0D7188D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D9E-3C53-4EF6-9984-985F87CC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5884-0F4D-4816-A2BD-DD79051F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EBE8-EE79-47E4-9421-B33404F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792-C5E4-420E-8A3C-C4E1F77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EFB5-8FA4-4E3A-A2FB-FF57A50D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599A-03C4-4C19-A68B-D966450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64B9-7751-43E5-BAC6-FD7B9A83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355-0FD6-4EF3-8ECB-6CB928D6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C4F5-202E-43D6-BAF8-C7D0D19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8690-5E4B-4D5D-99DE-32C636C0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F08F-93BD-45A6-8178-4DB74E8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381D-F4E0-4A5B-86FC-4B7375A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8A6A-2A35-4125-A7CD-3FC99B5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D75A-959F-4C68-988C-D20EDEC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99E1-DF09-45AC-92C2-FC98368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82A9-C0CB-4C6B-B9F3-4C302EE6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8589-F110-4045-A2B3-27E70B3D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E65-CA20-4BE0-9C03-C68945E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62A-72A2-4041-892D-BFE1B60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F47-2F3F-40D3-9942-821E369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A39-E5D8-4296-8512-A0B7804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493-404C-4F38-89E6-E6C9D4D7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8A7C-390C-4F7B-BB3C-50166816D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1754-9745-439A-B09B-1062DCE85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E5A-5005-4597-BDFC-846F0B375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ily Of The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Have Found A Friend In Jes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. Fry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S. Hay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ily Of The Valle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ily Of The Valle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ily Of The Valle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ily Of The Valle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ily Of The Valle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ily Of The Valle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ily Of The Valle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ily Of The Valle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ily Of The Valle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ily Of The Valle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ily Of The Valle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ily Of The Valle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6:38Z</dcterms:modified>
  <cp:revision>32</cp:revision>
  <dc:subject/>
  <dc:title>Slide 1</dc:title>
</cp:coreProperties>
</file>