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A37-6C6B-4746-9A05-6C101032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9BB-9A6C-45A6-B185-6937483E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8B5-54F9-463D-BFA8-8CA74EE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804-A8B7-4F8A-90FE-BC65BAB3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E24F-F428-4A55-816B-3B30624A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17A1-D3AF-4BE6-AB46-C6BEF71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24CB-7D70-4D94-8E1C-08D97EE5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FDA-A0E4-4923-89BC-6DAD3405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84C-6B56-497F-9CA3-2908A33E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3999-D706-4FA2-A0C4-2B9DF08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1F4-1DB5-4AC2-85A7-10874A4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1E4-EC3F-4711-8D05-8F2D356C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F47-1FCA-4A5B-8FA4-37C42FA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DFC0-FEE3-45FB-BE02-BA8C422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40F-13A2-432C-906B-7D89748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D9D-48A2-4FEE-97DE-00D9BD96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141-C068-429F-80BE-16AEB00A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D13-242D-4FEB-B87C-DAE716F0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EE56-25D0-43EB-9BB3-CACD856E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919E-7582-4ABD-8199-D0A43DC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5CEA-B675-4EE1-A681-6B98F57C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B61-5399-46E4-9DDB-530834C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2E54-66DE-4942-8CE3-6F58C4DA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A6FE-71AA-46AA-8F71-E640E81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11AF-7369-4CF9-866B-866C8F6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85E0-8613-4E4F-AA01-9A334D4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E85F-CB64-4F53-9CAD-81E46A8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1552-2677-4BB6-B574-692E3DD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A4DF-B1B6-405C-A7A4-8267DA9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1D03-1109-4C6C-8AD4-B92E9B60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2461-11A4-4469-9057-32DD4664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15A-2209-4A8D-85DE-5F32B6A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D2D-CFE8-439B-AC1F-0A013174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38C-2C6D-4E5F-AAB7-B91AB83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97D-4EB3-4E5D-9CC3-09BD4D9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780-8EA2-43B2-8A03-4D27EF4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323-C867-436C-ACB6-5AB7B809A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B4F1-2A21-40A2-AEC0-F0EC59971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DEE-7BEF-4FA9-954D-9697B2349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rry With Me, O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S. Smith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rry With Me O My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rry With Me O My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rry With Me O My Savio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rry With Me O My Savio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rry With Me O My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rry With Me O My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rry With Me O My Savio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rry With Me O My Savio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rry With Me O My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rry With Me O My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rry With Me O My Savio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rry With Me O My Savio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2:28Z</dcterms:modified>
  <cp:revision>33</cp:revision>
  <dc:subject/>
  <dc:title>Slide 1</dc:title>
</cp:coreProperties>
</file>