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DCB-EA4D-443A-BBC1-65BFC37C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CD8-6DEA-4EC0-98C2-4C5DF092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67D-FA09-4C0C-B6EA-E8B780A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4B2-3726-4AB3-B10A-6283D0CA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99E-3A94-4AC6-BB98-D1FEF5B3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21B5-AE5D-421C-B8F3-50D4B29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BEC-A936-4BCC-8C01-B4849EC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647D-EA84-4D3D-8649-BCB9822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49C-5DCE-4FFA-839D-7F88D2C0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76EB-94E7-4B5A-B876-042A8E0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D06D-1CFB-46B8-8383-8779865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1F2-EF2E-483B-A607-9FE1D05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D0CA-B194-4AB4-8C1E-C77741A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BA5-0CC5-46C2-A067-6F63E17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6BD-6B91-4861-B906-BD9FA88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BFE-529C-42C2-9021-96E7DED9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F243-1B72-4A88-914D-40DD5564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345-7A88-45A9-9AD3-42DBCA5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D295-C1D3-41C6-AF4A-9FA64DF6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CEE5-0DE8-486F-89E6-A5F4BE3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7E1C-7871-483A-A69D-667C097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1D7-C50D-4084-8785-0863EC3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7BEA-7C94-4DF8-952D-4808E3C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8555-050B-4AFB-A04A-D9370FA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E2F1-7765-4218-B53B-6EED312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F3AD-DBAF-4592-BC4B-537B019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C7A4-D81E-4722-ABC9-9D848DD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2EB8-DFF9-4C95-AF25-18A837E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4250-E356-4ED3-9752-8257C54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672C-F77D-40BE-AEC3-80B50AD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0905-1259-464F-928E-54CE522C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403-2291-4F3D-9B5B-A40003BC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68C-E4E6-431F-915D-DC0A296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AA9-5A69-4818-BBB5-CB41C92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D70-0887-47AC-9023-74EE07B2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CBB-87AD-43A1-8C24-6E69AE7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3F29-AF5A-437C-8A4D-54EDB7F40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6C2C-6E8E-4C57-B243-CD24560F6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C83D-81C0-4D2D-89E3-AACEDA826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F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LEANSING F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Cowper (17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American Melody, Arr. Lowell Mason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Fount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Fount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Founta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Founta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7:49Z</dcterms:modified>
  <cp:revision>40</cp:revision>
  <dc:subject/>
  <dc:title>Slide 1</dc:title>
</cp:coreProperties>
</file>