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214-3C2F-4A67-A99D-21C02EE5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57F-6C28-48E1-B549-AB92821D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A5B7-D812-4FE1-ACF6-8D6BB676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015-B6AD-4EF1-AE8D-884EC053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01ED-2073-480D-8CD9-AAFFA2F7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701F-9746-4255-B165-2B0854A1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F555-55F2-44E9-9900-F6B28E99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EF74-B809-4CCD-A4DE-DB7ADB01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7ABF-9A7A-48D2-BDC7-032A5DC4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2A14-9A63-4229-8DD9-5D191E00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FC15-FB99-4E2E-9B85-14B5FB4A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3D8-7F86-4D9C-A0BB-D0FE5E7F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96A6-B6BC-4450-B6B0-52F88CC8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49C9-E2B4-42FE-94CF-7CCB4386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19F3-08BA-4F72-ACDF-C176606C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21D5-7D5F-4CF6-8194-1AA636FF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CB39-AD39-4C59-8641-5ED332D6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E5C-E784-4293-BED3-FE3265F3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6C565-D722-4B1F-8E71-7613CCAA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4532C-B19E-4FAC-B933-0595FB01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F9CD4-A486-45FB-BFE4-9331DF7C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DE7-0179-467F-A2BF-16C39D4B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9F8E9-3EAC-4BDD-956B-78BCBF02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D8F68-159D-4B47-9F4E-7E4393F1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CE3D0-AE22-40DD-B97D-3C36D9D1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0DCE5-6F15-4C63-A540-28C4BC9F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FA189-10D3-415B-A9F0-53E14077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4E24A-2276-4A94-8946-C9DBC0D3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152EE-2B78-4EC9-B0BE-14F4A80D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019C5-47AA-4713-AAF6-5A041757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5B645-176A-4FA0-B443-C7DA990B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937-D2D2-453D-82F5-29142F4A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A8A-5AC8-460F-9F50-09139DE5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582-E09E-4619-9C62-C6DA503B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FD49-CF30-4750-9844-F05695CF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8672-FDEB-4813-B274-BFF31D2B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1332-E0C5-4AE1-9D6C-015B36557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5116-7871-45E6-A2E2-5F02331F3F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1AAB-09BE-4A14-B275-7585C1635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o Canaan's Land I'm on My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here The Soul Never D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M. Golden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M. Golden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o Canaans Land Im On My W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0160" y="6488280"/>
            <a:ext cx="44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o Canaan's Land I'm on M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o Canaans Land Im On My W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o Canaans Land Im On My W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o Canaans Land Im On My W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o Canaans Land Im On My Way_v4of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0160" y="6488280"/>
            <a:ext cx="44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o Canaan's Land I'm on M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o Canaans Land Im On My Way_v4of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o Canaans Land Im On My Way_v4of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o Canaans Land Im On My Way_v4of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o Canaans Land Im On My Way_v5of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110160" y="6488280"/>
            <a:ext cx="44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To Canaan's Land I'm on M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To Canaans Land Im On My Way_v5of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o Canaans Land Im On My W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160" y="6488280"/>
            <a:ext cx="44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o Canaan's Land I'm on M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To Canaans Land Im On My Way_v5of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To Canaans Land Im On My Way_v5of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o Canaans Land Im On My W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o Canaans Land Im On My W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o Canaans Land Im On My W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o Canaans Land Im On My W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0160" y="6488280"/>
            <a:ext cx="44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o Canaan's Land I'm on M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o Canaans Land Im On My W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o Canaans Land Im On My W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o Canaans Land Im On My W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55:56Z</dcterms:modified>
  <cp:revision>34</cp:revision>
  <dc:subject/>
  <dc:title>Slide 1</dc:title>
</cp:coreProperties>
</file>