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69C-7675-4184-8300-8550BCF8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558-4592-40CD-8B42-7F850A73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ACD-4F36-449E-89EA-900BBD41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F71-BC0A-4C68-BC38-E44A6BF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3D85-EE22-488B-87E2-6291ECFD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BF5-63FA-42D5-87A0-DEE7CB4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5151-CBC5-4976-9E99-7725FC7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DC32-39A1-49F3-AD6A-6CD5A48D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B13D-3F48-424A-9C0D-A85021A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FEA2-4135-4E3C-861B-753FF61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BCC9-78A2-403E-9057-5A86ADB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CB4-95FE-4C71-AD6E-B004C6A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192A-9DE9-4535-AF7B-87E0573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5CD-592A-4295-A223-211372E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BD59-EEBC-49DB-A942-D1786D6D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6634-16EA-47D1-A0CA-C6988801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0C6D-C436-4AE0-9913-067D425D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6BD-D88A-49F7-AC29-20EFA77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7C7B-9775-4864-811A-8A6DA32E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108F-81D9-47DE-9F10-0CB6984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7A38-15A1-4B5B-A41C-F9FECEA2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C02-B60D-4150-B133-88EB1643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F178-2B6A-4199-A671-D4C80955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4106-0376-482C-B0CB-94CA5AE7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29A6-314E-4EA6-97AB-F77FA70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A8C4-8E42-4120-A499-57C396A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D918-7F8F-4142-8DAE-F53572D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A55B-04A5-46F7-A02A-52A4049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9B4D-AD1D-4521-9013-EAF868A1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E6B2-268B-4090-8B45-92289CFE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87CD-F256-4579-A7E2-23075314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692-F034-4989-B5B2-2B0A5124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6D0-5262-45F1-B7BA-364A1F1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E0-6139-435A-A8F9-4211B87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36C-D12B-49FF-90F7-D3CA40B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180-CC0E-4DD0-816E-0371EA3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E7F-D222-4E6E-A58B-32B01A83B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7E81-134C-41C6-A803-62F64F73B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3F5-357D-491E-8F59-608B52793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 Art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AW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1040" y="4902120"/>
            <a:ext cx="137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W. Doane (18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alch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 Art The Way_arr1_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 Art The Way_arr1_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 Art The Way_arr1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 Art The Way_arr1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 Art The Way_arr1_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 Art The Way_arr1_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5:54Z</dcterms:modified>
  <cp:revision>32</cp:revision>
  <dc:subject/>
  <dc:title>Slide 1</dc:title>
</cp:coreProperties>
</file>