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2A1-8F49-4945-A482-C3C5458F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57B-5D51-42BB-A8E1-A9151D9F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A12-0FED-4BEA-B278-8713127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00F-B659-4D1F-9D9C-2BCC86CD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7257-0915-4D94-B3D3-7D1E3BC1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DA45-74A9-4EFB-B991-844633F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C254-9A9E-492F-B165-F2F515D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1C80-3A20-4982-95C5-830A7DA9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4EDD-B4A3-4402-A313-10253FBC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50C-006B-42DC-8360-2EC74648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D8EB-D9B2-4B37-BA34-9E55123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CB2-6141-445A-814D-ED0BA32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A401-DC08-4049-93B5-326ED1F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317-2EE0-4C22-9739-0CC66C8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85E2-F308-4F22-887B-6A49EBE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98A-8EEB-45C9-9398-13F88F08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A3D4-C768-4706-B0BB-462F9264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2B2-C3D6-4201-B118-7CEDAE77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E5B2-93CC-4770-82AD-6A666BDD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590B-638F-44B6-86BA-F41F631B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02C9-E3B0-41A1-B2E3-F3ECEB7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A85-168B-4BF5-A8D2-2F6F892A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0E70-9E83-4F7F-A3E6-86FCE818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B6BB-ABF8-4FAD-BE63-0333A28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5BA8-63C1-44C5-A750-DF412030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9E04-E116-4712-BCF9-A304A07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644E-6E98-4752-A67C-FD09EF1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1955-42DA-42E7-AAB9-DAAB5FA7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BA22-8858-4EB8-8837-5F906E13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5946-ED48-4D11-94D2-34995580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0AD6-0446-43F9-9C1A-7598E5C8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39E-663E-4E6D-8E95-9D75AFA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05D-869C-43AD-8AA6-406CEAC6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6A2-5A34-40D7-9C09-6EC0DDF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310-68FC-44E0-9AA6-EAEA434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20C-E826-40A9-959D-E03DED5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B08E-D90A-4B71-8CA6-BA8AFF1AC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E052-287F-46D1-B2EF-826F06D2C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DE8-9956-4D50-BC5E-0EEF4901F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Church’s One Fou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J. Stone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J. Webb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Churchs One Foundation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Churchs One Foundation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Churchs One Foundation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Churchs One Foundation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Churchs One Foundation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Churchs One Foundation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Churchs One Foundation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Churchs One Foundation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Churchs One Foundation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Churchs One Foundation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Churchs One Foundation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Churchs One Foundation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Churchs One Foundation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Churchs One Foundation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Churchs One Foundation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Churchs One Foundation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6:36Z</dcterms:modified>
  <cp:revision>31</cp:revision>
  <dc:subject/>
  <dc:title>Slide 1</dc:title>
</cp:coreProperties>
</file>