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D5E-5A2C-4837-AA64-88E4FF6C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27F-E7B2-4253-8D62-C0D3FB56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C63-9895-4898-9527-4FEC9562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0C3-3B3C-442D-B08C-58A45C2E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7282-2650-429A-8E1F-8DC1697A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F51D-7633-491A-948A-BE1F619F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0C57-18DD-45FF-92DB-43179AD8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BFB5-6180-4A56-A190-3E0F29E2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644A-C631-45CF-80D1-69A6B235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9C5C-E35D-4334-A2DE-92FEBAE9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DFB4-2351-453E-AF63-61049CB5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A7F-6577-4ACE-911F-8C57773B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A7AC-F059-4935-8912-5BE969AB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5F4E-8E93-4D81-87D9-C44E2002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7924-7E1C-4A51-B11F-A4464B6D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17B3-899F-45C2-834C-5750EEDA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10F9-D0B5-44BD-AACD-A15F34AF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2C6-F375-46DC-8BF3-057CD5B6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E260-0F42-40AE-B795-4B93BC38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5488-4F26-46F3-8884-BB16F37C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3CD1-49CA-4BB8-AB3D-98A034CD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DCF-B8B9-4790-9F1E-604C5242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EC375-8D04-43D7-8417-9802B6C5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92531-2EC7-40D0-88A5-934FB9E9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23BAF-A036-455A-BD17-C5D616FA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F4B97-B712-4C5E-8E3D-D8A9E2EA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AE3FD-25C7-4138-A1BE-129AE54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F941-0161-4689-BF71-2AB53A10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89FB7-5236-47EF-B7BF-B59FBC52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292F4-5D85-4995-AD26-50EA0114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3A6F-5DD6-49D3-952A-0033405B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CD2-6956-4CFF-B8E4-5FD9BFEF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3F4-957C-4B8B-97FD-258594E1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03B-BA56-434C-9A5A-B336C686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EC7-8C54-477D-906E-700706D8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9E0-3ED9-4CB6-957C-FB4C804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3603-A34A-43A1-8DB1-0A807E860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A47E-3121-4B13-8B78-B55E79C0C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BE04-1117-4B25-9FBD-53309924A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Sunset 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lfred Barra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B. Mos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Sunset Gate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720" y="648828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Sunset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Sunset Gate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Sunset Gate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Sunset Gate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Sunset Gate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720" y="648828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Sunset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Sunset Gat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Sunset Gat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Sunset Gat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Sunset Gate_4v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720" y="648828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Sunset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Sunset Gate_4v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Sunset Gate_4v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Sunset Gate_4v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Sunset Gate_4v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720" y="648828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Sunset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Sunset Gate_4v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Sunset Gate_4v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Sunset Gate_4v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5:18Z</dcterms:modified>
  <cp:revision>30</cp:revision>
  <dc:subject/>
  <dc:title>Slide 1</dc:title>
</cp:coreProperties>
</file>