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F13-6B01-455C-9468-7E5877F8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6CF-8A36-4643-A8A6-AF01219D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0DB-4B09-4CF8-A28C-FFF1CAEB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DD5-ABAA-457C-AAEE-5C9072F5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52D7-E19A-4E6C-A1EF-161C67AB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4783-D0E8-4FF3-87B5-A827E7F1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7A30-3FF1-4A77-9C9E-524D31A3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1282-7424-4413-A287-29B57A7E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EDC1-5938-45BB-8DF7-73D04DFE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650C-90F2-44F6-91BF-D964527D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03DB-610B-44C0-9F92-DC6E561C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E27-DE3B-4137-82BC-A89F2D26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3789-42AA-41F5-8027-DC5A98AB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747D-C3FA-41F3-A9D5-CAE6E72D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B963-2993-4EEE-960A-EF1BA60F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78BF-8B76-43CD-81E1-F75DADBD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DD76-B013-453E-A7A2-CC271DFD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A2B-D4E6-4785-A181-80930F63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08B5-0841-48C8-BC18-915718DB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D841-ED0C-4D0E-90C9-6ECC0B3B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619E8-9BC0-44D0-9FA9-D0AAEF24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EB3-550E-452A-9A55-0751B3CE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675B-5C93-4FEF-826C-0F72AC6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955A-5CAB-4239-B934-0347F048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62B3-DECE-4DB7-8FB1-203FE0A9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52F5-E64F-47A0-8062-8616D55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BB44-BD5B-474B-81D5-4AD7E3EA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1E0A-D598-414D-9834-BC25B2E1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0739-2FE1-41A4-A98E-5687802A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D79AD-59F2-43F7-BAEC-70407E8F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1176-A719-44AC-B8CB-A4292928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0E2-B3C8-4DBF-AE2A-D99F57B8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834-B094-4A23-9FFB-6D5B2146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D2A-2F06-4786-A21B-1DFE016D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B5E-FE2E-4FA2-B19E-5151CDC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963-EA13-43C5-887F-520E8931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09BF-3B73-4C34-BF85-31D9CC95F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D54D-74A9-4A2A-B706-36F9300EE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8877-CAB4-4F4E-A633-888A9706D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Shall Be Sh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HOWERS OF BL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 W/ 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W. Whittle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4240" y="648828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Shall Be Sh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A picture containing sheet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4240" y="648828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re Shall Be Sh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A sheet of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Shall Be Showers Of Bless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4240" y="648828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Shall Be Sh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Shall Be Showers Of Bless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Shall Be Showers Of Bless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Shall Be Showers Of Bless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Shall Be Showers Of Blessing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4240" y="648828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Shall Be Sh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Shall Be Showers Of Blessing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Shall Be Showers Of Blessing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Shall Be Showers Of Blessing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2:21Z</dcterms:modified>
  <cp:revision>33</cp:revision>
  <dc:subject/>
  <dc:title>Slide 1</dc:title>
</cp:coreProperties>
</file>