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3503-9F4E-44CF-9B71-77BFDA1F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A3AE-5417-4975-B509-6251AEB8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B637-1C36-4BA7-B1B3-C88DACAF3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66F9-F1A0-4651-8B78-196DC28C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4ABC-9289-4C7C-8487-BC1B577F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9AE9-5D94-4DC0-B423-3CB7BFB4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D5AB-4805-47A9-B7B6-16197087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9C78-6A48-4D8F-81A9-A975803E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5759-E13A-41FC-9EE9-AEF47DFE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A8ED-34E9-4476-B3E0-E79FEE1A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6603-3349-4086-AAD6-FC62BDF3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51C2-A4E4-4C58-B6D8-8196C018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164A-14E0-4278-A68F-95A97A7A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608A-DF0C-4E0C-B5F6-8DEE78E0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EF41-9AAD-4597-B2AF-E5E51538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C255-F5BC-4CE5-A17F-5FCC7225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7230-E43C-4D07-9899-B82EC786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12EC-6D50-418B-BFFE-DE7F5D2E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7910E-1807-4E4F-AD54-121A2CDF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C2B8C-BCFD-473D-A154-ADD30CB0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1895F-68EA-4661-A1E6-F4D37BF2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8B25-4929-42EB-AA74-BC0346F4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667FD-8AF0-4C05-8CD9-BC547B54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AA5E7-B96C-4389-B633-C7C189A0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2CA6C-54E8-4941-8845-38EEF157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F1FEA-3136-4ACA-86FD-4CC8EA37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1D870-67D7-4E16-A4C9-F3B95CC6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9E743-92D0-4EFA-9BBE-5077A888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322C5-32E2-4B30-9732-61F7A875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76C4D-76CA-46A2-91FA-B3D70948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472F6-5BEE-4B5C-9BC1-92070A60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809D-F425-454C-AD50-F9431C13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6206-213E-458C-B511-B4E6DDEF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E9C7-E564-4574-B6F0-13604D7D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335-C987-4F67-B8D6-1F09A4BF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A290-1BDD-42D3-8A71-26DD4A41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7169-F691-4D67-9B7C-C0EF8317D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4872-674C-43F8-BB06-C7CD03ED24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F8CC-55A1-497F-A743-DD608DE02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o Christ Be 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o Christ Be Loyal And 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E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lisha A. Hoffman (19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. M. Wilson (19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o Christ Be Tru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1160" y="648828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o Christ Be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o Christ Be Tru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o Christ Be Tru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o Christ Be Tru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o Christ Be Tru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1160" y="648828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o Christ Be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o Christ Be Tru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o Christ Be Tru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o Christ Be Tru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o Christ Be Tru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1160" y="648828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o Christ Be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o Christ Be Tru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o Christ Be Tru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o Christ Be Tru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56:31Z</dcterms:modified>
  <cp:revision>32</cp:revision>
  <dc:subject/>
  <dc:title>Slide 1</dc:title>
</cp:coreProperties>
</file>