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6EA-7634-4ECA-AD38-30C1F438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D50-296C-4D56-8256-AAAD3E8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1F0-D7AC-4F77-81FE-6D0D540F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EC7-96E0-4E41-9B4E-B24C812C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2708-3414-4920-90BA-3D984CF5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111E-6C94-4166-9D6A-61997546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F19F-B2D9-4D08-B0B7-2FD6F5C5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1EC0-649A-4560-83A3-E9FC81C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D69B-AD6E-413B-9C21-225FF855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9419-5178-47E8-986A-FFD09DF6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AAA6-3601-4FF0-9A36-D4C413E9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B52-03B0-4126-8840-540A338B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D708-43E5-42EC-98B7-8915076B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372E-3DAF-4E62-A953-665B58C7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4A3B-0190-495E-8031-06E3645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AAA5-195A-453D-BEAE-A7B08B05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34B5-2E18-4E98-86CE-EFEA6197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CEC-83F6-4318-A3E2-0D30CF0C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BCEA8-3DA3-41D7-8E7A-300870EB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0EBE-7ACA-4602-B9FE-3ADAAC4F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F87D-DA4F-43CF-97D6-89BBBA3C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60A-3DB5-4C55-8821-AE74D421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AA0BC-1478-430A-8ACD-5A4122C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9D9E-6F80-4DE2-8239-8197B771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C461-8BC2-4A2E-962C-D443ABA8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A18F-421A-4B06-AEB5-35061CCF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0B1D-A3E9-4391-8D39-5C4FCDB0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9A181-5168-4725-AE7F-E61E138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D254-5C7F-4104-AC0C-E649B7C8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87FC-ECD5-4BD6-B464-1CAA4FC4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F40C-0DD7-487D-92DE-E6279994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5E7-99A5-4F82-B467-3238ED58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625-5357-44D7-B465-4FE57E66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9D2-6179-4E9F-9283-F4162F78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37A-50E3-45AE-BAE5-669AFF00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617-14E6-4F9D-91BA-2B80DD3C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7BAD-03C8-45AA-943A-DAD2D7808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1C5C-A1CA-4A7C-B9F8-238277207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481-8469-4BDC-915E-5DA272014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Old-Time 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Old-Time Relig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Old-Time Relig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Old-Time Religion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Old-Time Religion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Old-Time Religion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Old-Time Religion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Old-Time Relig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Old-Time Relig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Old-Time Relig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Old-Time Relig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47:42Z</dcterms:modified>
  <cp:revision>36</cp:revision>
  <dc:subject/>
  <dc:title>Slide 1</dc:title>
</cp:coreProperties>
</file>