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76D-356B-4DE4-B396-AC25469D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1F0-A49E-4C50-84D3-9CCEE95E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AEC-15AC-4F42-A0D0-08C8EE29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E86-7309-4DA5-89D3-B3FAE0D1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A51B-918B-4BFB-9C88-62737967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EFF7-0C27-4071-83B5-15D6BAE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82B2-88F9-4E7E-B4F3-8DAB253F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E3D-3FD1-40C2-BF2E-9C0F83EF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FE05-4758-4968-BFF3-A113F987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3708-11C4-4B6F-BADC-51904CEE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4F05-E1E4-4EB8-886E-C8CD6D0D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A26-0623-4569-A357-4F3DAE0D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44E-DE90-4CAA-A9CE-005D7D3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4340-CF66-4503-B6AB-9913775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71B8-9EC6-4520-BF95-039FAE30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B794-6D18-4693-80D2-E0EEB6A2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4703-B2F8-4C70-83E6-5AA4A2D8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5F9-2990-4BEB-8C15-9362A88B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9E35-5C92-44DB-967C-57484DE8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8D74-346A-447E-A40F-0CAD05EB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6B84-0EA7-4101-BFD0-79F6DC71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FA2-6951-4AB2-9725-ABE4804B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54DE-211E-4319-BAC7-8985D562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B774-3B86-49D2-B9FF-4C0DE599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C4EA-CC8E-4E5C-B3C1-F606481E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7FA4-527A-4AE9-AC79-44CEF8B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AB89-356B-40B2-BC36-763A513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22CF-B7F3-41AD-BFD8-5042CC9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190F-BED1-40CD-B8D2-017E81DD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4FB3-BB50-40B4-B77C-2ACB8444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847C-D44A-420A-82E4-440BFACD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6F7-325B-4FDC-B070-CE1F902C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9A1-1D2F-45A0-8F0C-1DC3979C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CC7-763C-4ECD-816B-4A6727BA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341-5B63-4D9B-B660-7B80213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A32-5E16-40C6-9E3F-F565F53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2F9F-7A74-46CC-87C8-5AEE8D4BA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725-6931-442C-82FD-28BCF22FD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CA31-230E-4397-AE5F-35D8E498C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Stands A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unday School Journal (1871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f. Tullius C. O’Kane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ullius C. O’Kane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Stands A Roc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980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Stands A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Stands A Roc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Stands A Roc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Stands A Rock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Stands A Roc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Stands A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Stands A Roc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Stands A Roc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Stands A Roc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Stands A Roc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Stands A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Stands A Roc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Stands A Roc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Stands A Roc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2:56Z</dcterms:modified>
  <cp:revision>31</cp:revision>
  <dc:subject/>
  <dc:title>Slide 1</dc:title>
</cp:coreProperties>
</file>