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22A-5470-46BD-B116-FC4DE133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0DE-A42B-4E10-B7F3-7DD81BC8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16B-252C-4545-A971-868E8992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BB1-94DF-408D-AA1F-C59E0A73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C9B8-4994-42EC-91C6-FCFF1713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72F-4E93-4F2A-A477-47E0BB67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652B-A3C6-466E-A3E5-9D068C32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27B7-83E3-445F-870D-0DC269A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3F62-79B1-46D3-8588-EB41B7A0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41FA-42D6-4339-B418-07CEEA9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026B-4870-4EB0-B6F0-BED144E0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EA8-9BF8-4C2E-B9ED-980A019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AA0B-62F9-4C08-893B-DD36641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C356-D478-4A1A-9381-AF1D376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205-27FA-42C0-90D4-30E9CE4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0062-CC10-40C4-A312-30C65C66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9463-8487-40AE-ACB8-0C848DBB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FD9-73AC-464F-A42B-CCC5BC03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1142-1097-4BEC-947B-298C21A2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BBAB-8DF1-454B-BEEC-FB5F4BE6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CD69-F1FF-4A3A-9D06-84BE1690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7E3-033C-4FF2-850E-D82F8AE2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17E2-0F98-4588-ABB2-3E785A5C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CE1F-7B5B-452B-80B4-27BBA13B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805B-1AFF-4CCE-AB95-850CECC3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BF6B-CD00-4027-BEDF-0027737F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2DDF-5E90-41C9-8A3B-22118F8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6B8B-35E7-4131-8D69-C8738B8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0989-F864-4D94-B988-3F9178A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F360-ED83-44AE-A174-A1566523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93B0-C299-45F9-A383-C7F633E4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C77-D04A-4049-835B-D21DEE3D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445-C79E-4391-B1DC-69491B22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31A-F615-42A9-813C-F4B6AB9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1D1-6BBD-4C22-8946-01C74412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3C0-D3F5-4509-9819-22D5D7C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744-A77D-463A-B5BE-327B9D987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5671-5A0B-4383-AD8B-B9CDF1788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73A-FBDC-4460-A4CB-8403419E6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urene Highfield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ve Of God_arr1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ve Of Go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3600" y="6488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ove Of Go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ove Of Go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Love Of Go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Love Of God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Love Of God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Love Of God_arr1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Love Of God_arr1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Love Of God_arr1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ve Of Go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600" y="6488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Love Of Go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93600" y="6488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Love Of Go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he Love Of Go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The Love Of Go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The Love Of God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The Love Of God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The Love Of God_arr1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The Love Of God_arr1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he Love Of God_arr1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ve Of Go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ve Of Go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ve Of Go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ve Of God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ve Of God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ve Of God_arr1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ve Of God_arr1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22:50Z</dcterms:modified>
  <cp:revision>16</cp:revision>
  <dc:subject/>
  <dc:title>Slide 1</dc:title>
</cp:coreProperties>
</file>