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2EE-E19F-4C33-9258-90E95E42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6E3-5A92-456A-85F7-E9176229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3F3-F6E4-4DA8-A0B7-E15E799A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42F-B7CE-41FA-90C4-E4813AC9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73A2-54AD-4953-A783-78EDA0F6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7E3F-4EBF-4CA5-AF8C-2AA5A51C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95E2-E1CD-4121-B720-2C27067F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4D10-F6A7-463B-91D0-749F1B82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720B-BE8D-4318-82B5-E5B9EBEF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5CED-7937-4239-A15B-8C56FFF7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4446-33C0-4CA7-88A0-D1DD373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3A2-A3AA-464F-900B-722EF94E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6DD4-9A1D-4A14-B5D6-6D2E8D6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9D73-448D-4633-B888-270B5E8F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BAF3-20A9-4FB6-A825-D950E89F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487A-6197-4C3A-86A9-9E377C02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7340-2DFD-4C7B-8DB0-5F855B38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350-B8B1-4BB8-BE97-8AA88223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1A12-C1CD-4281-8F14-4DB9564C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8EF2-7478-434A-9802-6F4C4BA7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AC33-72C5-4B79-A2A6-D2C40FF1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719-714D-450C-8FA5-CBC8D609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55A80-DFAF-4522-A19B-FB1CF85C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9341-E68F-499E-916B-7532CF37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1BC6-71C9-4EAE-B601-C2EF2109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0707-2543-4F6A-91D4-964630EC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E692-88DC-48C9-9746-D292E237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E8791-AE08-4008-B22B-5958ED00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3F0A-5769-47EF-B066-77F0822F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722EC-C743-43FD-A6EA-CEFEC8CC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F091-44BA-452B-8359-8649ED90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7C2-7620-48FB-9766-93124293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7EC-253B-494B-B973-E53EB66A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49A-E467-4222-AB7C-20307E8F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F2D-C888-4E5F-8750-238EBA91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083-A7A0-48B8-BDDA-7402D71F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A9DD-014A-4FDB-8850-A9B9C9D45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CEC6-341A-403D-B65D-5F7A6DD22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98C3-1C7E-4D2A-BCE6-4663A91A9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ke The Name Of Jesus With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Lydia Baxter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ake The Name Of Jesus With You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8960" y="648828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ke The Name Of Jesus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 sheet of music with notes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ake The Name Of Jesus With You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ake The Name Of Jesus With You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ke The Name Of Jesus With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960" y="648828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ke The Name Of Jesus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ke The Name Of Jesus With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ke The Name Of Jesus With You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ke The Name Of Jesus With You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ke The Name Of Jesus With You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8960" y="648828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ke The Name Of Jesus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ke The Name Of Jesus With You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ke The Name Of Jesus With You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ke The Name Of Jesus With You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12-19T14:29:53Z</dcterms:modified>
  <cp:revision>37</cp:revision>
  <dc:subject/>
  <dc:title>Slide 1</dc:title>
</cp:coreProperties>
</file>