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C2A-1FB2-4043-8885-F3297EA1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52F-C0E8-4975-8A0D-7D9E51F9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6E3-0911-4486-A42B-4B08FF28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F5E-2F47-493D-8C49-C71091D9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68CA-85AF-480B-81E3-F19C033C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8EF-B93B-4BAB-9F3B-29458B9F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DC3A-DE46-4C66-BE5C-4B95166D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CF36-4E50-458F-B1DB-065A5B72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4DD1-DD36-4812-8C3B-9823838B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F51D-33BC-4A0E-BB7C-D206EB67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9A70-722F-4C38-A227-B9AF91B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D62-9538-4E32-BB79-B13460B5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2392-CD41-4AEC-AC7F-7EDE85F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47E7-C738-4A27-8288-786FD25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CD96-CB43-440E-8001-5720A0C9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D959-6252-45EE-AF21-E64C8373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B063-9168-4982-92B1-69627B79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D36-5504-4B46-A931-DAB38335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720E-D729-4811-AA5F-055E53E1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DA0B-0D62-431C-A886-030A8C22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9934-77A7-4C08-BF94-630A4DBB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139-37DD-4D1F-9B6A-1969062B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8723-73A8-489D-B25D-31AAFB55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B78C6-53F0-49B7-B702-2F7C3238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FD3A-D035-4439-9AA0-7B454EEA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4321-2765-4D99-AE1F-9073CEE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970D-0F3F-4DEE-9622-6602D9F3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E0B7-7A44-4DA7-9878-A2B46CAE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52CB-BF0B-46AA-877C-AD0369E7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3C7B-1505-4B4A-85B9-138C3DF1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A81D-8DEB-4EF4-85C6-F1DC6E20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310-A181-4E3B-9354-EB789048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F1F-DFE7-486E-A087-C245D6C0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98B-A12E-4232-A7A9-F75E0636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E20-2E94-4760-A633-37634E9B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CED-1998-4188-8002-CD0E2528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C3CA-8EFA-4248-99C4-A1E3EF720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337E-3D71-46B4-A1AD-8FC9DDB1F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E2CD-EA45-4398-A346-188AE5FCC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avior, Lead Me Lest I St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M. Davis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M. Davis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avior Lead Me Lest I Str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3320" y="648828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avior, Lead Me Lest I St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avior Lead Me Lest I Str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avior Lead Me Lest I Str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avior Lead Me Lest I Str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avior Lead Me Lest I Str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3320" y="648828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avior, Lead Me Lest I St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avior Lead Me Lest I Str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avior Lead Me Lest I Str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avior Lead Me Lest I Str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avior Lead Me Lest I Str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3320" y="648828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avior, Lead Me Lest I St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avior Lead Me Lest I Str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avior Lead Me Lest I Str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avior Lead Me Lest I Str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19:54:57Z</dcterms:modified>
  <cp:revision>29</cp:revision>
  <dc:subject/>
  <dc:title>Slide 1</dc:title>
</cp:coreProperties>
</file>