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E80-EC32-4C46-8637-FA00572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D3A-5FC9-4EA0-BFB4-51094961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D73-234D-4837-AD5F-C1BEDFDE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BA5-9E3C-4AB5-A781-D21B047B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6E5E-00C2-4059-831A-80216819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9183-C878-4DE0-8812-689B57F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1DE3-EFB0-4AAB-8497-FE9774E6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8844-EA30-47D2-BBCF-AE6F1DFA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35FE-C4F3-411A-81BC-260C8B2D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AE51-5253-47D3-9D2F-B58396EA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6B7-BE53-4961-AECE-7121312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CE2-AF9F-488E-9DF5-ECC3E453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66CA-4A28-4E55-8A8D-71E4C9A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714-8B70-407E-8524-9C2558D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7E7-A9EA-4A28-A214-B12F45BA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0E0C-826A-4538-8ECF-63CD1BB1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B440-5F87-4A02-9710-1A7A7631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D1E-EC43-4946-8B52-1F352925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1AD4-F781-4C92-B4C9-4178C912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4084-6493-42B8-9594-CEA79BB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E54C-AF37-4FD8-BF40-BB22707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74C-37CC-4161-ADF0-68C60137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2A64-93E4-4ABF-8726-9DB81FE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C38F-9C8A-4B3B-9F36-F17FA14F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FD15-347F-49D6-AB4A-5C3E7F5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982F-BA43-4E92-9015-C03A0E2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7CFD-33B0-42E0-85ED-9051B81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970F-EF60-4542-BFEF-C5F3E0D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E969-754A-4FAE-B037-8453D817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09E9-3926-4404-8948-67A29EB5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3707-0D0A-44CF-8226-D4F6D40D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593-219C-4114-80C9-C2F71161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DC7-ED39-4017-81A7-5C97947E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979-05A2-4856-99A2-ABAAA65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03E-EC5B-43B3-9542-F3AF04C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B8F-2EC7-4BF3-8542-92D479D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823-A797-4A04-A585-9DA5F9541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A59-A663-47CA-A9FA-D69AE786C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507-73A1-4706-A8A0-9FFB1F84A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vior, Grant Me Rest And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ATE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cinda M. Batema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ior Grant Me Rest And Pe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680" y="648828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ior, Grant Me Rest And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ior Grant Me Rest And Pe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ior Grant Me Rest And Pe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2680" y="648828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ior, Grant Me Rest And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ior Grant Me Rest And Pe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ior Grant Me Rest And Pea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680" y="648828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ior, Grant Me Rest And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ior Grant Me Rest And Pea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8:06Z</dcterms:modified>
  <cp:revision>29</cp:revision>
  <dc:subject/>
  <dc:title>Slide 1</dc:title>
</cp:coreProperties>
</file>