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A93-1CE5-4EBE-A01A-4DAC04B9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D02-BCA5-4463-ACCF-C9A3D66D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2C6-9FAC-4C46-B2B6-72DF92AA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70F-8E04-4CFB-B8C3-6A2836AE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9CD4-EF06-4F59-8B49-6302A190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33EB-731D-43BF-B506-6DD60D34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66E7-9542-4819-ABFD-9FC18FE7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8B01-937C-4DE3-A9A1-3E361AD9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48CA-0BA2-47BD-9F7A-80502AE3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70B4-A640-42C1-A5C4-E70494AE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8577-CDC8-40BA-85E7-C1900DBA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5A4-2328-416F-ABFC-2F981E84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3A20-363A-47B2-A65B-70C3B0B1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899-AA08-4B64-A5E6-615334BF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205D-3ACA-4DFD-8014-4A8199FD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654B-C411-4C47-9D71-9C3D21DB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1BB6-6CD8-40E3-8E2C-1296891A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AE9-EB6D-48F5-B684-76D461E0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BC2AC-F804-462B-98CB-E4A28091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4108-94BD-4D59-9CFB-B39919B0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4E8FE-3EF5-42F4-B9E0-BE8183F9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BDF-DA94-4BE3-ABCB-CCB0E364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3C75-D703-4BDA-B3E3-324C48CB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F78B-644A-4033-8C3D-82E68513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19E2-1E37-46F5-9B3B-258D52D0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2EA5-D2FD-4DE9-9351-ECE1B6DF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5647-3C4D-45FF-97D2-25869356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6286-3096-452D-B1CB-069F16C6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67AC-79B9-4A4C-AB40-722DE608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066D-AB71-4D82-B8B5-BFAEB9E8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9BDA2-AEB7-4480-9E4B-4BC54C3D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D9C-720B-45AC-96F0-958F8E74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F81-2167-4B8A-BDC6-4FE01616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59F-D83E-4DD6-9AE8-5755EAF3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AFF-F5C5-4E22-9D7D-A7F4AB7E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026-210E-44D7-B21E-062B39E2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3A85-E709-4097-9DF7-C7AD89316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4052-8763-4ACA-85C1-B0993BF41A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D4BA-8B23-4A44-A21D-68BCF7180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ound The Battle C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F. Sherwin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F. Sherwin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ound The Battle C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5400" y="64882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ound The Battle C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ound The Battle C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ound The Battle Cr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ound The Battle Cr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ound The Battle C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400" y="64882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ound The Battle C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ound The Battle C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ound The Battle C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ound The Battle C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ound The Battle C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5400" y="64882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ound The Battle C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ound The Battle C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ound The Battle C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ound The Battle C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12:48Z</dcterms:modified>
  <cp:revision>31</cp:revision>
  <dc:subject/>
  <dc:title>Slide 1</dc:title>
</cp:coreProperties>
</file>