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4B8-A79C-4C8B-8926-8C22CBBC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2EA-6F55-4BAF-B729-040F48B7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4D0-641E-47AB-88FE-CD8D6C71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670-90E0-46B1-93C2-866F1093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D44F-13CB-4A99-BAC7-C46647A6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1626-644B-4BEB-BD58-F3C2E161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878E-CE1A-4C13-AE13-8C24D43B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07BD-3140-4542-A8CB-758C6029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92B2-BE70-4E71-985B-8B207100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07F1-EEF7-496B-8107-006895EE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DADB-1D36-4784-A5F4-76965546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AE6-79ED-416C-B55F-B2EE8196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473F-E31D-4753-8BD8-ECE7751B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535D-BD22-49B0-9EF0-42A7A297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0D7F-94DF-4818-BAEA-679D8975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0127-2A80-4E02-A43D-13E1028C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FE7A-201C-4783-A79F-06374B73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B07-4924-41B1-9C74-73BE9A33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208D-C9B4-4823-A297-A1AD7202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D60BB-498F-422B-94F3-690CFC32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7FF8-A2BB-4E1C-A043-510E0BB2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422-C8E2-467F-B741-F859D52B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7CE8-F763-4415-9B9B-AE24BD4B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D493-2DA5-4915-AD0C-5BDC6693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97374-F5E1-40FA-8E56-5AB1F1B2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9736-3F06-4990-9695-1407EDF1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8548-95F7-4798-9A01-C2C38B3F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7B9E-E378-425C-BF10-B9F0C4F6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EFEE-B9E0-4E40-BBDE-658B64CE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2AE8-C45E-45A6-899C-86140A06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35CF-9376-412F-8B24-F5CC17A5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990-CB61-41DF-AD78-3D4FFC18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F14-2635-467F-AE20-0CC0A72D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E6F8-76E3-474F-AD4E-04CC7C9F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2D4-22AF-4E56-A8FC-3FB1B1AE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A29-E5D8-406F-9885-09C3D275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1CDB-C9ED-4A3B-A30C-A1CA1643F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7618-8DA3-4AAB-9C1B-2F01CF08CE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0AA7-231C-4B36-8E7D-B1ED60DE0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weet Is The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Will Not Forget Th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weet Is The Promis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weet Is The Promis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weet Is The Promis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82800" y="64882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weet Is The Pr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weet Is The Promis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weet Is The Promis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weet Is The Promis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weet Is The Promis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weet Is The Promis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2800" y="64882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weet Is The Pr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weet Is The Promis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weet Is The Promis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weet Is The Promis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weet Is The Promis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weet Is The Promis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82800" y="64882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weet Is The Pr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weet Is The Promis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weet Is The Promis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40:10Z</dcterms:modified>
  <cp:revision>31</cp:revision>
  <dc:subject/>
  <dc:title>Slide 1</dc:title>
</cp:coreProperties>
</file>