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A73-CE54-4194-9DD8-60927E84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0BD-DB57-4AED-A29B-8B627017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35E-4C2A-40B8-88BC-089BAEBB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C0A-8B09-403D-BD40-F142EED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D1BA-FC47-42F4-99DE-10901BEA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3DC9-EE3E-4440-B923-7A9B3F48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1057-4FC2-4820-85B3-223F3079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53F-177A-4959-BD5C-B535ED8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CE84-E8B8-4E0D-BB01-963F7C44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BDD0-03C0-40E9-8354-163E9DCC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C1FC-8A14-4834-9561-A901D5E3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085-7979-4DAF-A349-9F5EBD95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0777-1007-4C1C-AF2F-FFA46BB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32B0-157A-49E0-8341-71B7CA9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2711-62E2-46D7-A295-97C74E6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860-C629-4D9E-86E0-B2737C93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EEB5-099A-4D5E-9350-A634A325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C94-3585-4515-A789-EFDAA997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547D-4DC4-42E4-952E-D6760A2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4D0E-EB40-43F0-B07F-E9C771DB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C0A5-F450-447A-A49A-5596EB10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39F-B5BD-40F9-97F6-52FCDA06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838F-3AF9-470C-A0C5-7DE23A3A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BA83-1A2A-4D6B-BD73-E4E7B709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357F-8834-4CD2-BC34-5A4DC80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3C30-6D9E-41AC-9471-0BD181F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70C2-C99A-42FC-83C3-FE97019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3032-43F9-4C41-969F-9DD5037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C753-8039-4D2B-AA64-852949B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1359-C1BB-4EA9-9D5F-04272264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F0B8-DC37-4A22-9EBE-B1579CFA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C9B-1854-4072-8CE7-7730D08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914-26AA-4F17-AB82-A999AB3A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FFA-D37C-41C1-B64C-E727DFF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75B-E05B-41C4-A4A1-EAFBF1C8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61A-6D94-4B02-8618-6F55330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87A-ED9A-4B31-A400-AFA279A8E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CE8-45DF-410E-8957-DD2EF4974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87C-FFF3-4AC0-9844-1B3F39C96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vior, Teac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EYM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ne E. Leeson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von Weber (18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ior Teac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84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ior, Teac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ior Teac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ior Teac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784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ior, Teac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ior Teac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ior Teach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84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ior, Teac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ior Teach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00:55Z</dcterms:modified>
  <cp:revision>29</cp:revision>
  <dc:subject/>
  <dc:title>Slide 1</dc:title>
</cp:coreProperties>
</file>