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417-6C01-4FDE-961E-8D31D48F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29E-DD1D-4356-9D76-D74E365F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525-736B-4963-8D58-2BBB91B3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7A8-3521-4C49-9F65-4D69DD68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2B71-A75A-4406-BF99-33856F94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7C9E-BC9F-449A-904D-AC683C5F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9185-A4F5-4DCA-9CE9-FED0E869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D73A-01D3-475B-B93C-AC2DAE17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7EFD-CC11-430B-A6C2-909C5284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FAB0-613E-4000-BD03-FB4E08A9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F472-2EF4-4A11-8326-4F4D741E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7DB-4A1F-4131-9DB0-6FD654C5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24D7-02C3-489D-8F29-2F0F1005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3FC4-625C-44FD-82B7-CFCB411B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52BB-0E46-42C7-A35A-47C2D046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5CEA-2978-43C3-9FF8-7E7B0FC1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4C34-D7F2-443E-846B-4F637A0C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C52-A2E9-4A9C-860E-7219E350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5B5B1-0591-4013-8ABC-58A6A0EA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AA86C-09C1-41EC-B103-4B71DAAB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AED3-AA8B-4741-8FEB-8D0B111F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B64-729E-40BF-8D59-D254D027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803F8-B086-4912-AED4-3B25AA01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3E2AF-1697-4CD5-AEBA-72A17F9D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F645-CE0E-4572-BA70-E3E58C2C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37D0-8244-451B-98CF-E14A595C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8923-3633-4639-AA4E-9D669344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36B7-5662-451B-860E-242A5C9A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9A1D-41B8-4971-994F-10820717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366B-F11F-4549-B24C-87A0A1F1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0C7E-4C5B-4FA4-9421-9CF929F4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6F5-3C5C-429E-9E81-FCB3E632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B1D-648A-4C06-B1B5-E57A73E0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4E9-F8AD-4093-83EB-4103F3A7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AE2-98DA-4C75-91B3-A7866846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DCD-1F1B-453F-8EAD-57D9431C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CF1B-64C9-4B19-9CC8-1A345230F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392B-E727-4FA8-AB26-16606DD2C4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E2E7-8AFD-4207-85C0-7F737BDC8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omebody Did A Golden D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Clements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nfield S. Weeden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omebody Did A Golden Dee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omebody Did A Golden De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6640" y="648828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omebody Did A Golden D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omebody Did A Golden De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omebody Did A Golden De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omebody Did A Golden De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6640" y="648828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omebody Did A Golden D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omebody Did A Golden De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omebody Did A Golden De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omebody Did A Golden De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6640" y="648828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omebody Did A Golden D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omebody Did A Golden De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11:21Z</dcterms:modified>
  <cp:revision>31</cp:revision>
  <dc:subject/>
  <dc:title>Slide 1</dc:title>
</cp:coreProperties>
</file>