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114-685A-49BA-B641-799AA286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190-5AF8-4719-90BF-7192A782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59B-59DD-4D38-ADD0-4E3B2AB2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3B8-2DB6-496A-91C2-2578381A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B600-D347-4D41-A894-FE8E9CCC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7608-E515-4066-97D7-66F5B0E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2A2-FC65-46E1-B262-B9642B2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6268-F8F6-459B-BAE1-B257B83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2236-A88A-4E08-BC63-E4C4F97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4992-8890-4D7E-AFEB-577F9176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845B-3376-45C0-A706-6CCBEB2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B64-CC27-4E5C-91EB-69493140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040-A4D6-43A2-A154-B0F4462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7AF5-31B8-4878-9147-403DF1F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BBE5-6F45-49DE-851B-6900A42C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573A-4DE2-4E9D-BFF0-E6007FE7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1510-12B5-4927-97C8-352BB35A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E06-34AC-4729-BA09-6B2E4513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0DFD-204C-4F61-A528-6E397762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44CF-F2D3-484A-8B64-EFF4810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BE23-218B-4CF5-BAA9-8EC32777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192-348E-48D5-A47A-32F34145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9462-9E1A-49DA-AECE-0AFC8E8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0AC0-8062-49E0-8D8A-96C2C5B8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5FDE-272C-4221-99AE-B7C9395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A79F-E41F-4396-A617-B50DB2F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2AD4-E0E2-4106-9768-4FBAE60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3844-CA86-4E37-B7F0-21B0E70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14F3-C150-4A46-93FF-8633FB8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57D6-8597-4A94-931D-324A1B7D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2886-1E02-4EA0-ABAF-58211FAC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26D-D50C-4580-9CF5-F352B242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4DB-4ECE-4996-BA22-ADC30D1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04E-0792-4C17-AF0C-659B081E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778-324B-4DAA-8222-E52FF4FC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80A-6E54-48B4-BE08-8F3F683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983C-BE99-4600-A15C-D2FF074ED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CE69-4C29-47CF-A506-DBCB2B885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273-BB55-414D-98B3-9EDB6E27B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er Than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oward Entwise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weeter Than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920" y="648828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er Tha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er Than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er Than Al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er Than Al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er Than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er Tha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er Than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er Than Al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er Than Al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er Than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er Tha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er Than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er Than Al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er Than Al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6:04Z</dcterms:modified>
  <cp:revision>29</cp:revision>
  <dc:subject/>
  <dc:title>Slide 1</dc:title>
</cp:coreProperties>
</file>