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401-7E9B-4039-A461-50B4812B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CC4-773E-4D10-AFAA-C53C824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10B-F869-4812-B5EE-240CFFB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884-FF31-461C-BF15-6B847D2A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0798-0F76-4A83-8175-09021D13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AF43-C390-4EB9-9462-9D97E80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4AF-51CC-4170-BAA3-33408C7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8283-3E96-48E4-B0BA-6F70CAA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BD2-6545-455F-8F75-00E642A7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BE3-F253-4057-8268-5DFF78E0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978-B544-4A10-8C9D-2216446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C38-77DA-4F99-A60C-AB090304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D548-8C04-4C10-918F-91E7EE4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C6AA-3B16-4D82-9370-1AB7E61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EB7A-F6F7-4E52-B38A-3F2C487B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41C3-E3B8-4123-8637-B19B34E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0A0E-BEC1-4413-B2B6-3091EE9A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862-C42A-4A29-981B-DE513EF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B2D5-32A9-4EA8-AF2C-4700D26A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A266-AC21-493F-BED2-A307CC2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BD94-5A8E-4215-9206-1AFAD19C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482-0AF2-46E9-9867-D1766AD5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E43C-391E-4EFB-8427-DFAB3D2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B50F-691A-4B7A-B196-70168D4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694C-C83C-4FB6-BBD6-09ED2C2B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0052-283E-469D-B239-FEEB47A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967B-E6A4-4AD4-8DB0-C68616D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B40A-7D01-4608-87FF-205B759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AA40-4AE0-4127-B245-97A618E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62CD-12C1-4808-AD17-F5A4E667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06E2-63B6-461A-8012-A35A4660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D1E-C5DC-4813-8CB1-91366F9E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558-3C79-481C-A909-B78933B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CC1-3285-4CE0-8E30-D422F61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7AE-5D26-4E86-A42A-138D6C8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947-2094-470F-832B-D1DB1ED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BC68-AB53-4B04-BCA2-C03FBACA3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E25-C6B5-46E3-B78D-3D066037D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AB46-433B-40B6-89F6-987323E43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tand By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8100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A. Tindley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A. Clark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tand By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tand By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tand By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tand By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tand By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tand By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tand By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tand By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tand By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tand By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tand By M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Stand By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tand By M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tand By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tand By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Stand By Me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tand By Me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tand By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tand By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tand By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tand By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tand By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tand By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tand By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tand By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4:27Z</dcterms:modified>
  <cp:revision>32</cp:revision>
  <dc:subject/>
  <dc:title>Slide 1</dc:title>
</cp:coreProperties>
</file>