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F01B-C7B6-459E-838A-7E095017D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FA8A-4C2E-4F78-AF6B-5D10513B3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80F2-A85D-4FC3-9B20-D8F6446D7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3E6F-79D1-484E-B434-14F80E3BF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33795-87B8-4614-B4E6-48F5A1048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613B1-0292-454B-BC3B-D26DA332E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10C54-97D4-4BE5-8ECC-07D037DEC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43427-990D-4A0E-85CC-0747E5C72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2286A-B344-4E6A-A1C0-654E4590E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69055-F491-47FC-9A67-8D30023AE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51507-EF0D-464B-AFA8-4A4A0C520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B060-7AFE-4C00-950C-DC4863386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7F485-180C-46B1-B864-D63975CA8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273BA-7270-4F61-B6BB-5A2196E73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C4077-E659-4659-8533-08B89C864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4A550-AF5C-43F5-88D7-694E2B1BF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43AE2-EFE6-4D20-9C38-02AFDBC14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7B86-77C1-4D4F-AC2C-8AC01EA6F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B878FB-8ED6-490D-95A9-DBE5F7C2D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57E293-A4EF-4B93-A3FE-225917202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01BAFE-A522-4680-A2A9-EE37B853C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EBD8-10B8-4FCA-BC1D-E28B20164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3B15B8-EA55-4D5A-9C3D-A4A245618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9B1F39-E6E8-4CAF-84F7-168A0DA7E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3F0A56-484F-4DF3-89FE-E5EDFAD67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D65415-D3F3-450F-B3BD-C647B2B0A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ED7D02-DAE6-4F74-B9BD-CD6B1EFF7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C0AD59-46C3-4517-A93A-4CFECDD58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CA79E4-C48B-40F8-9179-EB2F51BCA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7F08EC-393F-4476-A12F-2E6446CFA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760DF3-6F41-4EAC-AE0C-B0D7A5D1F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6534-E627-4D35-85B2-53CF3BD8F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B544-B3CE-4A00-8C3F-9D3DEBC49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0B4F-A329-4B1F-AA3F-65B8B4779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95C9-79CD-48C8-97D7-36589D78F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E444-E1B2-431D-88E7-FD1CDFB6C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17BE1-4E5E-4B4B-BE30-40D8FEA7D3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7EAD0-287B-4538-865A-0CC9C78935D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0DF9C-38C7-4838-868B-45A151EC39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Sunlight, Sunl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E/B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. W. Van De Venter (189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. S. Weeden (189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37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4" descr="A picture containing chart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90360" y="6488280"/>
            <a:ext cx="28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Sunlight, Sunl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Sunlight_v5o5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Sunlight_v5o5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Sunlight_v5o5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Sunlight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90360" y="6488280"/>
            <a:ext cx="28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Sunlight, Sunl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Sunlight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Sunlight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Sunlight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Sunlight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90360" y="6488280"/>
            <a:ext cx="28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Sunlight, Sunl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Sunlight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Sunlight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Sunlight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1T20:17:45Z</dcterms:modified>
  <cp:revision>34</cp:revision>
  <dc:subject/>
  <dc:title>Slide 1</dc:title>
</cp:coreProperties>
</file>