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D415-F1ED-4FD7-AB92-CD2305D91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2BB1-4735-4B59-8567-4F319D33F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2359-71DB-4FCC-9612-187667A3B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0030-01E1-423C-A7CC-602E0B7DB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1CEE3-CD9C-4F70-8EB8-0014DBE9A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2C1FE-9B66-46E6-AA1B-16C8653A7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A4845-0E87-4F68-9F98-8DFA9F43E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CF7D3-CE70-46D3-A7A3-3FFE25DBE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21792-FC28-43BD-98D6-EFA79F26F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7176D-B76A-41E0-A491-3FBA75064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26AFD-5D63-44E7-850B-B945A499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BEAE-EB0E-4641-9FFA-BE326C289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9405B-26EF-4B6F-890C-A94ED2EB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CB5CE-9201-4D8B-858A-41503520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0040A-0953-47DB-9708-07F36C801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6F664-12E7-480A-948A-085ADFD1A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944A5-BBF4-4E7B-975F-96EE2B334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D203-3689-4556-A220-8A831A70C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39087-C8F4-4D68-BA30-737A0C479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40F6C-C280-4F3E-A9F8-650794B1B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80F83-46F8-4371-ABC1-4FAC46C8C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3CAF-0869-40CC-9A49-559D545B3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0BFC8-A68F-4F88-8120-BB2480E2D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D9E8A-C2CE-43B6-9566-C2E397A77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402DE-3287-4CCF-9CFF-F5E141C94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706F8-5505-40A0-9E50-9A07E032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756B4-936F-4C78-BA13-739C52DB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956C6-B0C7-42FA-9EA3-A907098B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7CCFD-65D0-4D5C-B032-4AECE000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E23B7-4387-45E7-BAC5-400CA917B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53FBE-6043-4CE9-B048-B9E3E000A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047F-7916-41F9-870A-7F76BA1D0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D0DD-8812-4AF9-9B6E-D5FD91449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5A96-9934-4B35-A632-94539549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7291-CA6E-441F-9539-5CAEDD52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5593-D1FC-41FC-9FE2-B996B410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61E8-9D76-4EC9-B968-119FB28DE6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01315-D857-4494-A40A-8FDB3E4959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345A5-6C1C-4504-991B-5F8265E5B7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Savior, Breathe An Evening Bles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EVENING PR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7.7.7.7.7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56160" y="4902120"/>
            <a:ext cx="1344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ames Edmeston (182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eorge C. Stebbins (187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4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Savior Breathe An Evening Blessing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9800" y="6488280"/>
            <a:ext cx="476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Savior, Breathe An Evening Bl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Savior Breathe An Evening Blessing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Savior Breathe An Evening Blessing_arr1_v2o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09800" y="6488280"/>
            <a:ext cx="476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Savior, Breathe An Evening Bl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Savior Breathe An Evening Blessing_arr1_v2o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Savior Breathe An Evening Blessing_arr1_v3o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9800" y="6488280"/>
            <a:ext cx="476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Savior, Breathe An Evening Bl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Savior Breathe An Evening Blessing_arr1_v3o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1T19:51:38Z</dcterms:modified>
  <cp:revision>33</cp:revision>
  <dc:subject/>
  <dc:title>Slide 1</dc:title>
</cp:coreProperties>
</file>