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527-F766-4CCB-9411-47B863E3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65C-0513-47F4-867F-BFF1AC84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9FE-656A-4EBA-9E64-674EA4F6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3C2-DB25-4F93-BAE2-ED02F503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3C69-6A70-459A-B5FF-08D811DC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8DF6-0D91-456B-91AD-352CE5B9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5602-A215-45FD-AD8D-237A0702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1600-9CB6-4600-B483-C0C973E4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927D-0ACA-4C03-93D7-BD8455DB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481F-5721-4B0C-8D24-E756EA1C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AA51-0EB0-421C-BCEC-B8153AC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C2C-1EEA-4B40-8FAF-6494E834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9903-3B81-4823-8712-39DF8F45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6C86-B182-4DBC-B8CC-9B8C3A33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8794-DF8E-4E9B-AC28-6E64F59F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4803-1D52-41AE-818C-1A335B01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9B09-DA1E-4C02-9327-C6E094E5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ABF-4F71-4B05-B966-B098F000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DC70-47D0-450C-9BF1-9C706A94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120E-6A1C-4E8A-BC1F-F74D00B9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5FD8-8B7B-42E3-85B7-FED55823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30B-1CB4-42E3-B400-AAD7C80B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5AC11-A435-41A6-BC2E-81A8D0CD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F491-F7DA-4DFC-A291-8C604A7A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1205-35A2-45E7-9EC7-68E243F9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3E9F1-7211-48D2-B37F-C6DCFE7B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1AF6-1E18-4A25-8324-A1D3BB15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B1E8-7F73-454A-AE56-253FA1EB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007B-048C-487B-94D3-1AABF15B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800F-BE3C-43A3-A75B-EE09B85A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64B6-50A4-478A-A2D4-A487244E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B50-065B-41AB-85E0-E65AFBD6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597-F2AE-4E27-98ED-98D33CF8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7D2-A161-40FD-B3AD-A80309D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13F-D132-4168-B03E-7554BFB6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72A-173D-483F-9E8D-B9618788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213-4E1E-49B1-85CE-B914BFCCC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3D49-12D0-490B-9518-7B4BC97C9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DAE7-C254-4806-90B2-2062914DE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un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URS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Keble (18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atholisches Gesangbuch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774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William H. Monk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un Of My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560" y="648828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un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un Of My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un Of My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9560" y="648828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un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un Of My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un Of My Soul_v3of4of6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9560" y="648828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un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un Of My Soul_v3of4of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9560" y="648828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Sun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un Of My Soul_v6of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27:25Z</dcterms:modified>
  <cp:revision>36</cp:revision>
  <dc:subject/>
  <dc:title>Slide 1</dc:title>
</cp:coreProperties>
</file>