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D9D-8A03-4663-BE33-38433999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7CB-9DFD-4DB6-A47B-E7FE6534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2A8-943B-4EF1-A3D3-F3229952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905-004D-4A67-8749-4C6CB6A9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4415-1EA3-4427-B250-A6A079C1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DA68-C8C1-4DAE-8E15-32E7A677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6708-87D7-4F97-AE93-3351C0E5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4399-24B5-4F7D-84FB-7B0295C8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7F69-67CF-4083-808D-A5E7D32C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3039-E5F6-4D1A-90DB-1030B771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6EF0-4A58-4F3F-8A93-A75E789D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109-5A5B-47B9-A668-45A34300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D3C3-9073-4140-9277-F0AB06F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85BC-18B4-4DBF-9D2F-115D885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866B-3841-4674-BC00-D919E116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7840-E35D-4ED9-8D63-777F25B5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723F-EB41-476D-9728-8107F6F9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0F8-164B-40F7-8B5F-95BCCDDE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63D4-2EFE-4474-8DD1-2B53ABF9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7756-1379-4535-9E26-19A99550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052B3-2FE2-40E8-A7AA-8B6AF965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0D0-3542-48BB-842E-EB0758FF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C00E-C73C-4061-88DE-B05CCCEF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3E7C-6451-4E57-BC1F-645618EC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1E73-AFEE-4CA1-9DF1-76ACE789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DD308-C1CF-4761-977E-F7A7A4A8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A288-B592-46F0-AA10-B96BF3AD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6C19-C352-41A3-86B5-A5A282A7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BF10-F4A5-4C0B-9F5F-B3A104E9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898D-6E90-4C89-9514-7178722E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EA9C-DA30-4887-9563-0616C0CC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74E-55F9-4B6F-878A-F80EA0D0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6FE-2BB7-41B7-A69A-0B61749B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56E-1EF7-48A8-B342-A3306055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DB4-B254-4E81-A3DF-74090158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E19-670C-47BC-8C98-2494D144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71C0-C9B1-4A73-A539-A7BC84512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D1A4-A11B-4990-8E03-868E8DAD58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1462-7F0F-40F9-A191-72DDB2443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Sweeter As The Years Go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+ 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C. H. Morris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C. H. Morris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weeter As The Years Go B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9800" y="648828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Sweeter As The Years Go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weeter As The Years Go B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weeter As The Years Go B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weeter As The Years Go B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weeter As The Years Go B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Sweeter As The Years Go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Sweeter As The Years Go B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weeter As The Years Go B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weeter As The Years Go B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weeter As The Years Go B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800" y="648828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Sweeter As The Years Go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weeter As The Years Go B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weeter As The Years Go B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weeter As The Years Go B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1T20:26:44Z</dcterms:modified>
  <cp:revision>30</cp:revision>
  <dc:subject/>
  <dc:title>Slide 1</dc:title>
</cp:coreProperties>
</file>