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A25-33AD-4F5B-8195-BC61E17F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28F-8515-4652-84F7-182F1543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B11-1F71-4686-9D82-12D4370E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B85-71AE-4D20-8E17-195AD7CB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42A-AB6E-47CE-8EB9-C4C9EE0D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0FAD-481A-4FBB-8A53-4510807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7EE-850F-458D-9183-572ECA5E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3A5-68B6-45C5-A2C2-AD6045EE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EFD8-46B9-4080-87E7-DEA0F9A5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206-14CA-46B4-96A6-9246AB1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F87D-EA52-49A0-8FE1-4B83B6C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79C-006A-431E-9B2D-46E7C64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3F7B-E66D-4560-B04C-EC649A6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5256-5D3F-4142-BACF-FE1B8F9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B480-E967-4057-BEE3-614D6C8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404-1E23-4635-8072-A0231C9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D7E-9CAE-484B-BFE7-E885B74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0D2-D985-48C0-8697-8DFFA0C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5164-6F92-4E8D-B7C5-64FDC459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4893-C459-4894-A9BD-5BBF4D7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11A3-7D4C-497B-9F49-421D09E9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3D0-CF88-4ACE-8D84-99972A6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37C4-DBAA-4DD0-B677-CB470483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B2CE-0887-413C-AC02-2144135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52CB-6A8E-4CE5-85E5-0FCF3E93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F073-6992-460C-BC5A-1CA81F4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1898-997B-4B8C-B5E6-F7BB5C3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63DB-022A-4377-9258-725AF30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53D5-4D99-4FEA-A49D-00CB500D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7505-7EB4-4CA0-B516-584E4F05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CEB4-4ED8-44D8-8464-F785D7AE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4F6-DBB3-45AF-82E3-A1FB8794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463-79E2-416D-9850-D111FEC4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1DB-7495-40B0-848B-035E10B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FD4-4F4E-43C2-B091-AB9285E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3FD-F219-4DFD-857E-332A78F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F0F-9642-46DE-B487-8130472F9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718-7B0B-4BE9-AED7-68C58C4ED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BB82-1DE0-4B5F-A33D-158A10D39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More Than Life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avior More Than Life To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600" y="648828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More Than Lif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avior More Than Life To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avior More Than Life To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More Than Life To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600" y="648828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More Than Lif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More Than Life To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More Than Life To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More Than Life To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More Than Life To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600" y="648828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More Than Life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More Than Life To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avior More Than Life To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avior More Than Life To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8:51Z</dcterms:modified>
  <cp:revision>30</cp:revision>
  <dc:subject/>
  <dc:title>Slide 1</dc:title>
</cp:coreProperties>
</file>