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C09-5E8D-4CA0-A91C-C52881C8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26C-FFAD-47DA-81A5-F07D7C4E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523-9F67-4F62-9E94-23649D8F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BB7-E7B9-44E5-BF4C-BEA9724E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4408-7D8B-488C-A4F1-19DD67E9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D023-EC44-46C4-B814-F062590F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FB15-7DF1-41D2-949C-F13C80F1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BB02-E7B9-4CE2-A9D7-F4816BAF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77A1-A638-4767-90F2-10B90AA9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776C-7565-429C-9EF9-452008C6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7662-08B3-4FD1-9DC3-9E6C4E55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E59-1986-4D13-BAAE-95129325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A1FD-F119-43D3-8800-5050CC50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DD96-2FFC-4642-A57E-D8704AF2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F115-C6E5-4A1F-AA93-B9AF2B1E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E827-F231-4E0E-85BC-964A1EB7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DC14-3F62-4976-93E7-961EA4C8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0F7-1D5F-460D-AFC4-A21F1A68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1BBF-E653-4AB6-880B-6B6F588C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73FA-CAA5-4D45-AB09-ACFAF9AD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E9B4E-D145-4349-94CD-CACC71D8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6DB-A25C-465B-B6E2-F690C236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5FDB-5195-400E-B603-AB3ADC85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6E06-63C4-41CE-BA12-548A0F5B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39810-F804-4243-A91B-9DE7D8A1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E6A2-48DB-4EAA-8AD3-4278FF20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03E0-1D6B-4F82-8D4B-6ED85856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D113-7EBB-48C4-8D11-DDFCAB09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F052-CE87-47EC-9736-80717732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E1729-6172-40FA-AE24-E94CD4D6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0D1A-F486-4293-A98D-66D02BE6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A40-58DA-4BE3-A478-22B53442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637-63B4-4641-9161-B1440CDD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174-F207-46FE-AFE4-62630AE5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4E2-EF7C-42E5-BE1F-B85E282D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CB3-EC70-481F-8738-C8E2EE7D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6F1F-34B3-4A6D-98B9-90DF99F37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DC75-8721-468E-8752-262A4A08D2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C1C7-3E29-4CCC-8FD9-A814F678E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oldiers Of Christ, A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KIRK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sley (17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 picture containing tab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28160" y="6488280"/>
            <a:ext cx="34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oldiers Of Christ, A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8160" y="6488280"/>
            <a:ext cx="34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Soldiers Of Christ, A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A picture containing tab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8160" y="6488280"/>
            <a:ext cx="34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oldiers Of Christ, A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A picture containing tab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tab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28160" y="6488280"/>
            <a:ext cx="34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oldiers Of Christ, A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Graphical user interface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tab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8160" y="6488280"/>
            <a:ext cx="34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oldiers Of Christ, A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hart, box and whisker 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09:55Z</dcterms:modified>
  <cp:revision>32</cp:revision>
  <dc:subject/>
  <dc:title>Slide 1</dc:title>
</cp:coreProperties>
</file>