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C6D-0E7E-4FEC-91DA-1588C51B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CC3-5E7A-4AA2-884D-8A471F86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5A0-4C8F-4B34-83E7-BF189FEE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D87-16FC-4E13-B2FF-EF814EE1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ED53-58F5-40D9-B420-9AA49D4B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E2F-B7E4-4230-966B-651FD78F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808B-D76E-4ED2-BA27-BB24917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A667-B53C-4166-A256-F807B7E4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00E5-DB3D-4EBE-A517-50A6DC08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59E5-8388-46B5-B967-28990D1C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9789-79C3-41BE-9239-98D1D90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256-3BE8-4872-8234-2D7A1C87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A2A5-EB69-4DB9-85E2-5DD5C98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6828-28F1-4E40-B4AB-E03E6FA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9B09-DA52-4F8C-A788-974850C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ADFA-64A3-4244-BBDE-A46CEE99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9BA3-E3FE-4ACA-B5EE-3998FF09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1A3-7AAD-4AC9-B94F-B0BFE331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D761-B550-49C1-9A23-BE51A2E8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C459-5306-448D-A78F-BF4922BA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271F-4525-4A75-9CBA-FE75705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06C-E3DE-4D76-AFD7-3E92279B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C56A-F96D-4808-B146-81CE0A28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CBD0-6CB7-44AF-9032-BDC06AF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012C-FC03-4355-B557-26EC61FE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FA42-BB49-4D37-BBE5-D280611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70E1-3021-4364-962E-29C3407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0D59-6763-4105-9D52-BF9D372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1FF8-7332-4478-9197-1C6C2860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1DAD-C8A6-4C75-99EF-08712254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60AA-DE55-4843-AB26-A039D6D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3C6-48D3-4F6C-B3B4-656285B4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691-DC18-4925-8ABD-2B8D3914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683-0CFA-4ED9-BF7E-916633D5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C52-DBF9-4635-A0BF-E31CC09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DCD-0B17-413C-9A7A-0EDB2B0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3C08-065D-479D-BE97-6C2F34B26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BC09-0C7F-41E5-84DF-D72EA4424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97D-6A12-42C3-8E01-DB222AF5A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hall I Crucify My Savi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arrie Breck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ant Colfax Tullar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hall I Crucify My Savio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200" y="648828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hall I Crucify My Savi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hall I Crucify My Savio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hall I Crucify My Savio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hall I Crucify My Savior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hall I Crucify My Savio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200" y="648828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hall I Crucify My Savi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hall I Crucify My Savio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hall I Crucify My Savio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hall I Crucify My Savior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all I Crucify My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200" y="648828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hall I Crucify My Savi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hall I Crucify My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hall I Crucify My Savio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hall I Crucify My Savior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hall I Crucify My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200" y="648828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hall I Crucify My Savi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hall I Crucify My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hall I Crucify My Savio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hall I Crucify My Savior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2:34Z</dcterms:modified>
  <cp:revision>33</cp:revision>
  <dc:subject/>
  <dc:title>Slide 1</dc:title>
</cp:coreProperties>
</file>