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2AA-B167-48CC-8653-EA0020CA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385-5F6C-48C6-BEAC-AE21E1D5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1AF-2F29-4AEA-B640-93301CEE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45-F45E-40F1-9D8F-A0C74739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4330-A7D1-4AD7-8B8F-3E8281E6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8DC-43A2-482D-B3BD-426BFB9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2DBA-9F1B-4C49-B306-16AD072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528-C11C-47BF-8227-D66E39B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67E6-6E08-4084-87A0-D7FF5AB5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7D9-788B-4913-8180-0BCFD4FD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47EA-31DE-4CB0-955E-A0447A1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438-4D7F-4D5F-BCA8-3962F65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64A-7CEC-491A-B4C2-C0FB25D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B8D-95E2-4F5A-A8AC-73BEC3A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8A2-AAA1-41A1-9964-E44BC9F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4946-94BD-4BA8-82FB-437D046B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E13-7669-4B04-BA06-6E548146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E31-36B9-45FF-A45A-90175A4E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206D-ADE7-432D-911E-6E41887B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9122-6CA5-49A4-B6EE-0DB0D023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BD99-5F58-474D-B423-6890BA16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333-5449-4B9B-9986-E5AE861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7EEE-8130-43EF-B08A-03DF4064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6AB6-55BD-485E-90FB-45E65C0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B35C-C5A0-4771-B1E9-9F2D08F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47D8-E7EF-43A9-AD6B-141A4DA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A3B4-F9F3-45E4-9E34-2E2D8E6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BBC9-F4A7-41E6-83A5-8635A8B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5F10-B427-4468-841B-0BBC154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E11D-8B2F-4CCD-846F-CBFD9501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A527-731C-419A-87DC-95300821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234-0B1C-4979-9ACC-170511BD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F59-E62F-4BAA-8FD1-65E70A6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5DC-C3D6-4E32-8D82-9F6C9FB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691-8026-46C0-AF32-04FB58C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336-19A6-4EDB-B097-6087682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1AB4-322F-4A7C-A581-9E84AC841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B6C9-6156-434A-A24C-C4B94BFA3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847-789A-4ED5-BBE2-5577B2D20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oftly And Tende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oftly And Ten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oftly And Tenderly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oftly And Tenderly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oftly And Tenderly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2960" y="6488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oftly And Ten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oftly And Tenderl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oftly And Tenderl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oftly And Tenderl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oftly And Tender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oftly And Ten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oftly And Tender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ftly And Tenderl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oftly And Tenderl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oftly And Tender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oftly And Ten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oftly And Tender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oftly And Tenderl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oftly And Tenderl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4:10Z</dcterms:modified>
  <cp:revision>32</cp:revision>
  <dc:subject/>
  <dc:title>Slide 1</dc:title>
</cp:coreProperties>
</file>