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A31-AB62-42F4-AEF8-8DEBF209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F24-F204-449E-8FFA-3AED297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E47-F3FD-4A93-8EBC-8CF8E8E9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A43-0B18-4349-AF88-7AFD25CE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730B-B213-4AC4-952C-592BE1E2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4C5E-3B4F-4032-A945-5F4CCD0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CDC-5C7A-4931-B46F-8C41E783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F659-5A7D-4347-91C9-217F62F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BB3-80BA-4091-9642-0B4BBC0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4259-EDFD-4AB2-9839-1A330975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504D-4ECD-4C18-B666-DC71921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D5F-3B0E-4372-BC1D-6D674B7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5242-BC51-4FF3-9032-38983E0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B608-8691-454B-A0B3-8824713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7DB-1660-472B-A63E-345CAC7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642-6B7C-4706-B245-A94D9BBB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606A-D45A-41F1-A13D-B2CD1600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433-D3AB-4112-9212-1FE0792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9A24-14E1-4A7D-86BE-B7FB2DCC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CA52-657E-40A7-936D-3CF32D5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0B3D-CF14-47AC-9239-A1C3DA50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BA9-8068-4DD9-936C-7289075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DB75-8218-436F-B1CE-F41B378F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6917-8680-4DB9-8137-B5B8228B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2875-C685-44B5-B348-D488041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05E3-63D7-4814-B93F-5AE9257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E623-E907-48F7-A4B6-4EEDD83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A785-C519-47AB-A1EE-5FC4107A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59BC-B226-4A84-8D50-BC4C56E8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6E56-F333-4E67-91A3-1D92CAC3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CF60-E7E4-426E-AAD1-420F45F0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20E-A069-47CD-B796-0720372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09C-8281-4917-B50E-D622768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7E2-BBCF-4941-842C-70FD80F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625-1C24-40DD-AEEF-8BBB3E1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AE6-1E4A-449B-99DC-5B96E3D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694-7EE9-456C-A5B6-AE41ED0D5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5FBC-0B3B-4AF7-8BC6-99A088AC1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F153-9CA2-4B93-9BA9-4689202E6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tanding On The 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Kelso Carter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Kelso Carter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tanding On The Promises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520" y="64882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tanding On The Prom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tanding On The Promises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tanding On The Promises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tanding On The Promises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tanding On The Promis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520" y="64882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tanding On The Prom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tanding On The Promis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tanding On The Promis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tanding On The Promis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tanding On The Promis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520" y="64882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tanding On The Prom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tanding On The Promis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tanding On The Promis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tanding On The Promis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6:03Z</dcterms:modified>
  <cp:revision>35</cp:revision>
  <dc:subject/>
  <dc:title>Slide 1</dc:title>
</cp:coreProperties>
</file>