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94B2-384E-44C5-A1ED-B3087011C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22D2-7B03-4B87-9F81-C3BBF4470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4163-1D15-4494-91FE-A9B4161EA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3C40-B489-4312-A465-13C427AE2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BA0C4-2F9F-45E2-8451-FA52A042A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7FEE0-55D2-474E-8701-B7207A6F6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630FA-A88E-49AC-9293-676B7C9CC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964EF-0A44-4688-A95C-267B85A42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5E1B9-5077-4E38-B9AE-A8AA3B97F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F72CC-C2FD-4F81-818F-AE5850C2D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61607-6475-48DF-B6D8-D3299B7B0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2295-1C17-4978-98C4-77B84DDBD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D6EA9-8A76-4B45-B034-BDEFCA32C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4D07B-3D78-4342-8C62-C53BA10F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16A6D-394E-464D-B478-2488972A4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1D98F-E5B7-4492-9895-FB5D4A2C7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F12EE-BEF5-4CE7-AA1F-2DD41BBA9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5CB88-9E19-444B-8F60-B34A3652F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2150C-B070-40F1-B357-FC71D504B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A6F8A-9A19-43EF-9EB5-8DE754679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44960-1781-4409-A5A7-64AB879A8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2CC1A-E3D0-428E-BC3B-B3B7ADE33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E3B7-6BEA-4E56-AAF9-B4AEF83C3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B8C98-4CBA-4CE6-9D2D-BC6ADBF09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378ED-EFEE-466E-B8B8-85528DD33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40F92-E9DF-47AE-8E59-059B6C006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CDA02-4CE9-4C69-81BF-7711177D9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4051E-ED6F-45CA-A801-E4D5DF8A5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CA653-9C46-43A0-A012-24AF48B31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7AB64-3D8D-4826-B2B4-33353C6E0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8CAC-4A3C-4F0A-80A8-75A50EF9E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D2E1C-5BFD-4263-95F6-9A2F4D88B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4BF5-D56C-496B-B568-E7399C234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739B2-165D-4391-B144-76ADE1F97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3DEAC-9DF8-4360-BD05-9EEB54A2F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DAC1B-324C-4F8C-9B7E-50F95931D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2941F-4FA0-430C-9370-37567F215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D08B0-5B83-4D47-8A5A-677342830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75468-DD9B-4391-831E-BA3393F8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62D6F-EC5F-4A34-950C-2A1599355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13981-9580-4937-88BD-434981DCB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CB2FA-B76B-41DE-9028-A6045A705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C625C-27BE-4934-80D5-1F230C795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B089-9396-477B-9E0D-C38C1C280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E51EF-CAB0-440E-BAA8-5DA51A4B3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E8A6-1262-40AB-A9AC-2A2B99186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E0FB-B604-44D5-A836-4BCEC526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4F90-6FEA-44E6-92E1-10B85196A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8CC36-0FAD-46A5-93D3-A113F71EA3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0C3B6-3109-44F9-B789-D2DFE72FFF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EE339-24D1-4190-8540-6817FF786A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E354A-C77C-4C2B-A245-27F5DDF665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Softly Now The Light Of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SEYM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7.7.7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A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George W. Doane (182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arl M. Von Weber (182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6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Softly Now The Light Of Day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5"/>
          <p:cNvSpPr/>
          <p:nvPr/>
        </p:nvSpPr>
        <p:spPr>
          <a:xfrm>
            <a:off x="123840" y="6488280"/>
            <a:ext cx="39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Softly Now The Light Of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Softly Now The Light Of Day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Softly Now The Light Of Day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5"/>
          <p:cNvSpPr/>
          <p:nvPr/>
        </p:nvSpPr>
        <p:spPr>
          <a:xfrm>
            <a:off x="123840" y="6488280"/>
            <a:ext cx="39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Softly Now The Light Of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Softly Now The Light Of Day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Softly Now The Light Of Day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5"/>
          <p:cNvSpPr/>
          <p:nvPr/>
        </p:nvSpPr>
        <p:spPr>
          <a:xfrm>
            <a:off x="123840" y="6488280"/>
            <a:ext cx="39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Softly Now The Light Of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Softly Now The Light Of Day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Softly Now The Light Of Day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5"/>
          <p:cNvSpPr/>
          <p:nvPr/>
        </p:nvSpPr>
        <p:spPr>
          <a:xfrm>
            <a:off x="123840" y="6488280"/>
            <a:ext cx="39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Softly Now The Light Of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Softly Now The Light Of Day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2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2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1T20:35:25Z</dcterms:modified>
  <cp:revision>32</cp:revision>
  <dc:subject/>
  <dc:title>Slide 1</dc:title>
</cp:coreProperties>
</file>