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5233-0291-423B-8128-1CCA336F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254B-C4B6-40B0-9599-963A191E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65E-9DAA-4A2E-BB3A-8B6C3C03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0B2-0E56-48DC-A273-937B3D58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9ABF-04AC-4E14-94ED-2D96FAE0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BC59-ABCF-4E99-80EE-D78E3F4F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8E66-5D9C-4FA8-BFB3-1788BA63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4D54-D7B1-4D6D-B559-F0047E48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F008-15E3-4258-AA2A-4DC41470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E79E-FC4D-4827-9245-8DF318F8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4671-BCA1-4DF8-AF1A-65F759CE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B328-EE42-4659-97E6-2867EA74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276C-93F0-4448-AEED-4B56DA5D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DCB3-290D-4371-9C03-325D0F7D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F960-DD62-4B7B-8F3C-9094887A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DBB3-0058-4E20-911E-378F0471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70D9-0FA4-4B97-ADE1-FC85ADFF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9DF9-CE63-4E8A-A8C5-5D735598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3CB85-FF51-4A6D-AC1D-CAD6353A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8576-101B-4993-A6A9-A91173AD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18DAB-6612-41AE-A902-E99597A5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FF2-2F66-48CC-996C-3D7A8739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2CFC3-BC6C-461B-9189-FC1E3529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4616D-282E-4C47-A12A-3977A8E8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AC0F3-EBBF-4A63-92E6-E2E06617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5D6A-2EBC-4059-9E4C-06B9AF23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3A177-B230-4788-8B1A-DA71839F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93748-0465-446C-BAB5-600AA2AF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70B34-E9B5-4201-9DAD-D2E60B3A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60DDD-36EC-4E09-91F3-EB790547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C64CA-EEB4-46FF-93C7-C8038F50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7EB-B420-439F-9173-6A6875D9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ECB-D985-48EB-AC88-6DD16EEE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6817-79A2-4D54-8744-49A78B4A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ABA-7842-48A4-82E2-5A27AE7C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7354-2874-4F5F-8F19-49C1C5ED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77C1-FB1C-48D5-AEF5-737D4DC09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5935-5D19-4179-88AB-84A4B2979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5196-E8EE-44C4-956F-C984F9C36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oul, A Savior Thou Art Nee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ssie Brown Pounds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lmore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oul A Savior Thou Art Need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7880" y="6488280"/>
            <a:ext cx="43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oul, A Savior Thou Art Nee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oul A Savior Thou Art Need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oul A Savior Thou Art Need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oul A Savior Thou Art Need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oul A Savior Thou Art Need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7880" y="6488280"/>
            <a:ext cx="43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oul, A Savior Thou Art Nee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oul A Savior Thou Art Need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oul A Savior Thou Art Need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oul A Savior Thou Art Need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oul A Savior Thou Art Need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7880" y="6488280"/>
            <a:ext cx="43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oul, A Savior Thou Art Nee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oul A Savior Thou Art Need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oul A Savior Thou Art Need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oul A Savior Thou Art Need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12:00Z</dcterms:modified>
  <cp:revision>30</cp:revision>
  <dc:subject/>
  <dc:title>Slide 1</dc:title>
</cp:coreProperties>
</file>