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2DE-6C86-4AAE-B478-2E14E5D8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68A-0959-4BDA-808A-DF536BB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045-E964-404A-960C-4FB431A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CB0-8986-4BCC-B2CE-3987E7C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371-1881-4045-AC42-5DF30A85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FC3-670A-4C58-AA0D-D1EE968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CD0-5B9C-4CC5-9456-BAA67E7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D7AE-5FE4-416D-8F15-24282E7E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C780-B2A2-4C05-96C7-4359E408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11CA-8930-4920-8754-3CD55F7F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223-DE6D-4682-B3E9-D26A9FF1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5F4-37AB-4EF8-BC73-67CE7FD9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D62A-3D8E-4E4B-9516-CC2D6B3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BDDF-B317-4E50-9B7D-F044668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5EA-9464-4C69-BC55-AAD51FE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E1B-32A2-426F-8D17-30EE3C2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0F9-84E3-4ED4-B299-23173FAC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2CB-2496-4E40-BFE1-73A47296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B7D4-D2AF-4EEB-86E8-CCFA6D86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FBAF-BEB2-4F5E-8CAB-BACBD5F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7752-5066-4A2C-8CCE-12311AB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601-8BD4-4094-854E-CB197A6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A32C-E128-4490-887D-EBC94BB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5056-DEE3-409D-8F66-EA35CFD1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1A01-C42A-41C6-81F5-237B21E7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E130-523D-4E62-BAFF-BE2A4BC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5DA6-CED9-45E4-B70C-1BC0A447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0DA5-280B-43CE-B731-D72E51C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069F-8185-47DC-A843-C929DB6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1C90-F080-4E4B-85F0-BB20C39C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00FF-4C45-4FEB-B423-22AAE769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0B7-CA51-4367-AA1A-DBB7348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1A6-F2AB-4CB5-B359-D0C8A9AD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A4D-66AC-4B6A-9A76-6B2BC58E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E5E-2A70-4D5F-8531-71C6A7D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F7C-C941-4334-A9BB-AFDCF59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552-98B9-4877-BAB9-3AE8D14E0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C5CA-5ED5-4B88-849E-562491F71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D50-DA9C-47BA-AB1C-81DA9D7D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mething Fo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avior, Thy Dying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D. Phelps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mething For Thee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480" y="648828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mething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omething For Thee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mething For Thee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mething For Thee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mething Fo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mething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mething Fo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mething Fo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mething Fo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mething For Thee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mething Fo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mething For Thee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mething For Thee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mething For Thee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2:04Z</dcterms:modified>
  <cp:revision>21</cp:revision>
  <dc:subject/>
  <dc:title>Slide 1</dc:title>
</cp:coreProperties>
</file>