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9C9-FC50-4C6C-B4C0-3EFE8DDA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5FA-CEF7-4F4A-9A71-174C1699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6B7-32C3-45C1-8F59-8DD87D9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9A6-E551-4663-8791-8BDAB38B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A7F-2BF9-4B98-92CD-1D28EC1A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4B19-B6D8-4666-88F4-E7C918D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3827-5603-4575-996C-0084F30B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088-E3F9-4E3F-9A9B-770F3ED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B6F8-7553-47B7-9E8B-1127D9C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07C1-8F0A-459E-A90E-FE6FB07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32B8-5C56-4875-A43B-83C14E5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957-C7E5-4258-B2DE-22B4634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147E-CCDB-40E4-97DA-E1ACEBC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DA5F-2264-40EF-92C6-582EED9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6ACC-0CE1-4CD8-BE13-B7F98299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734-23B9-4DCF-A686-EC9DAB54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DB52-F3B2-4B88-8DB8-3CACF5E4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E9C-F62A-4924-B681-DF900898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933E-2619-4C47-8AD2-2082D109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E7A1-4495-489A-AF87-4262FD64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C388-A8CF-4A08-902C-48A9B88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F39-2E94-4B1E-9FD9-DC914BD5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CFEB-FA5C-4837-B5CE-7A19E05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7E03-F3E4-4A9F-AAFE-1A8D96E7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EFB3-E6E5-459A-9418-D8BAFCC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CBE6-37D7-4AA0-8017-D92ABA1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819A-3D56-4384-8A88-B92BF3C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732E-8C61-4379-8AE5-5E2AC382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527D-2C61-40F3-A571-6C88334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CB57-220A-4232-A211-A3B0233F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5E8F-CE81-47BC-AC1E-3397963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745-7F2F-46FB-9584-FF5AAB27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925-9AD6-4981-A250-290C270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05E-CDCB-4EC0-9E6C-D131D182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6E0-9D70-4A78-B42A-F3C8DB8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E4D-5E19-427A-9043-933D8A6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F2B-068C-428B-9BAC-311234031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7C78-FADC-41E8-85C4-942B45C44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30A-7105-47A1-AF8F-697557F69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tand Up, Stand Up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Duffield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Webb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tand Up Stand Up For Jesus_arr1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tand Up, Stand Up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tand Up Stand Up For Jesus_arr1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tand Up Stand Up For Jesus_arr1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tand Up Stand Up For Jesus_arr1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tand Up Stand Up For Jesus_arr1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7360" y="648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tand Up, Stand Up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tand Up Stand Up For Jesus_arr1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tand Up Stand Up For Jesus_arr1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tand Up Stand Up For Jesus_arr1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tand Up Stand Up For Jesu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tand Up, Stand Up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tand Up Stand Up For Jesu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tand Up Stand Up For Jesu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tand Up Stand Up For Jesu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tand Up Stand Up For Jesu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tand Up, Stand Up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tand Up Stand Up For Jesu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tand Up Stand Up For Jesu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tand Up Stand Up For Jesu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5:11Z</dcterms:modified>
  <cp:revision>33</cp:revision>
  <dc:subject/>
  <dc:title>Slide 1</dc:title>
</cp:coreProperties>
</file>