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294-B615-4AC6-B8C6-6ACB67B5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C46-D5DE-4E60-A07D-FE7327A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2A8-B007-4AF7-A505-7A1B5803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488-56A1-4837-84EA-26C3C911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66D5-B94A-4CF5-81EC-7DAF7A9B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D129-6E24-4975-B4E3-9212FEF8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22C8-1BA3-4AF5-9A14-BF86E6BA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C0E-B49C-4C96-A4F4-287F5BA4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AD0A-2EEF-456C-B3B7-092A2B5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DB96-33FC-4C69-8341-C0B14B99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B6F7-13E9-41BB-933A-395B75DF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470-1CB3-49D8-AB37-69913D63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A8C2-34C3-485E-91A1-4A263A5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A90-AE75-499E-9A68-29394285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9628-9CAD-49E8-AC3B-64C4A2D2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25C9-0D5D-4676-B3B8-FE4559BC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C682-70BE-404F-955A-65F0B813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97A-DCD6-4E2A-928F-5C7F797F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E5E5E-606F-47D6-8C5C-F5FBCE02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0D3E-7241-4E4F-9FFE-25B7F9EA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EAE8-E142-4E89-8D5B-EAA59321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39D-E794-4F9E-BA8E-9C892933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22A6-32D6-4618-8A88-97F30E9D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E9A1A-0896-44A6-9F72-51100A6B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AB4A-36E2-4E15-95EF-75D7BC3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7059-A2CA-421D-9E6F-70394BBD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C573-72C1-44AE-9CF0-CD5A9F8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2B0F-7FF0-463C-95CB-6918CC0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63F8-4AE2-4F92-AF99-83692749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3111-D11A-4B4A-B90D-273DA171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6D8E-FABD-4CEC-8464-E8B5A211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FCF-1D3A-4D1D-AA46-BD5180E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632-5A72-4BA5-B483-763E41DB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FAC-6E5C-4D8E-9BD1-B5C4E6DE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341-E6BD-4FD4-91A2-1E7419D1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A2B-4BE7-470E-97F9-85E6AF23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1DF0-2F3E-4C8D-9A02-A534525F2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B81-EC7D-428A-B620-94AF8002A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EE5B-DF74-4540-BEA6-553E15861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afe In The Arms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37160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afe In The Arms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afe In The Arms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afe In The Arms Of Jesu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afe In The Arms Of Jesu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afe In The Arms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8440" y="6488280"/>
            <a:ext cx="36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afe In The Arm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Safe In The Arms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afe In The Arms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Safe In The Arms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Safe In The Arms Of Jesu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afe In The Arms Of Jesu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afe In The Arms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440" y="6488280"/>
            <a:ext cx="36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afe In The Arm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afe In The Arms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afe In The Arms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afe In The Arms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fe In The Arms Of Jesu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afe In The Arms Of Jesu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afe In The Arms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8440" y="6488280"/>
            <a:ext cx="36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afe In The Arm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afe In The Arms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19:50:18Z</dcterms:modified>
  <cp:revision>29</cp:revision>
  <dc:subject/>
  <dc:title>Slide 1</dc:title>
</cp:coreProperties>
</file>