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0DC-AAD5-4C51-9D2D-F138627F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1C6-BBC9-4F78-BFB7-7CFC2269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F87-C27E-486A-B15F-65DCB37A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3A1-2AEF-40C9-8826-DBAF5B86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B8CA-BF23-431A-9B79-98DA0D78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BE83-9309-4C69-A8A6-4F41325E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8650-3854-4AF9-AAC6-29079627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539A-5DFC-44E3-9E4C-ABE40177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40E0-35BC-45C8-925D-C266B2DA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E1E8-AEC9-4539-8340-EFC9BD30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3F0F-1194-47BB-9030-7659DF87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C39-94CB-4CE4-8F2B-C037F963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2872-F4D7-4E09-8F15-FA02F137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A8CE-574D-483B-A444-457950B9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12EA-0EA2-4FD5-B1B3-ECC36C80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BE69-48A8-441D-B523-61578477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C0C8-74AD-4112-A391-93A319A3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68F-212A-4C62-A563-E3126810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C722E-EFEF-4B35-9ECF-9C9027F3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09AA5-36A8-43DF-A2B3-F0B85356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0B716-75E1-4DB5-A00D-A0C61FE0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514-BD70-48A2-A19C-DA19F30A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D3D2-8001-4D16-96B4-2025C9A3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ADEE-0424-422A-9FC0-9B36CEDC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AA2AE-6386-4995-B1E3-2B87D6C5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43F19-AA4F-4580-9193-175FB03F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E69A1-FA23-445F-A7D9-52E4982F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4156C-29E0-4ABD-B9CB-5F9182D5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0737E-768B-4A47-9C2B-9628D3BE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60748-6A5E-4056-B077-C5F05D17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707F-9956-4549-AA38-9743BEB7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7B9-33FB-4624-9FBA-BE493A1D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FD12-E602-4CEA-B683-BE38AD95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E4E-670D-4DE4-87BC-0143F7DB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64C9-E46E-4FD6-83AF-9C277B39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F6A0-59BC-4176-AAAE-1E08D2C3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E468-EBE3-418C-A46B-1A369EB81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4C2F-0BF3-41DB-B395-56B6A9394C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7629-4BA3-4F7C-9786-A6E6764B8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ince I Have Been Redee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in O. Excell (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in O. Excell (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ince I Have Been Redeeme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ince I Have Been Redeeme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ince I Have Been Redeeme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ince I Have Been Redeemed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Since I Have Been Redeeme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0280" y="6488280"/>
            <a:ext cx="40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ince I Have Been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Since I Have Been Redeeme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ince I Have Been Redeeme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Since I Have Been Redeeme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Since I Have Been Redeemed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Since I Have Been Redeemed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ince I Have Been Redeem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0280" y="6488280"/>
            <a:ext cx="40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ince I Have Been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ince I Have Been Redeem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ince I Have Been Redeeme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ince I Have Been Redeeme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ince I Have Been Redeeme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ince I Have Been Redeeme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ince I Have Been Redeem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0280" y="6488280"/>
            <a:ext cx="40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ince I Have Been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ince I Have Been Redeem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04:56Z</dcterms:modified>
  <cp:revision>14</cp:revision>
  <dc:subject/>
  <dc:title>Slide 1</dc:title>
</cp:coreProperties>
</file>