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1F7-53A1-45F1-B40E-83BDBAB2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252-885E-4D0B-A10A-EC149C0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B16-E4D4-4ABD-8FAB-3B3C483F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AC6-E691-4959-9D2E-420F9C99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9E92-8854-45CE-8D1C-989614B3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BA14-0AD1-4D0E-AF72-2DA9A08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977C-BDB1-4C7D-918A-68CF3650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B629-5B29-451A-BD5E-366E5504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D47B-DEF7-4BE0-8FE1-830C1284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E230-EE49-4431-9764-82BD8A74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4B7-EA77-4798-989B-C46B95E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7C3-F07E-4890-8E8F-8DA78320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64F0-0040-4B4C-B26B-229CFCB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D219-306F-4D4E-967D-0FF7CA1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5461-0245-4CB9-BCDC-C4CF89F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68E-A36F-4227-8D47-C771B97D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E080-CA55-47A9-8ED3-CAE22794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8AF-5676-4165-9A5F-3A38CA31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0837-8EE2-441F-9FF9-01592705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4C0D-B145-41A6-9F67-AF8AB13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A340-65ED-4FC1-A69C-5A8E3D27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425-642D-46AD-8BF7-CA7F7CE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446C-40F0-4AC3-9B50-D5C390B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0A97-5836-4762-9170-AE53D21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7EAD-01B6-4146-815C-B82970C2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D651-5211-493D-8487-DACD1F5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9767-791F-40F5-B28C-86C31BF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9C28-9BAB-4B1F-8312-1F309F3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4841-0FF6-483E-ADE4-10E57EC8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BA23-C047-4C05-B8BA-8F06374D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48F3-92E9-46FC-AC2E-43AE623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216-9E92-43D8-8EDA-4E6530A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98F-F765-4208-A4AF-42CB71C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7F2-817F-4A3D-BB8C-D394761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405-E20B-4D82-A703-BB92807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6DB-5AF4-4870-8CEE-7103055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1ED8-E0B0-4F23-800F-F1D53E959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F95-79B2-417B-913A-7D3F41946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FA78-98F0-43DB-9FFA-F7DD849F1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end The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end The L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end The L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end The Ligh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end The Light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end The L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7480" y="64882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end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end The L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end The L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end The L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end The Ligh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end The Light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end The L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end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Send The Ligh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87480" y="64882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end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end The Ligh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Send The Ligh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Send The Ligh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end The Light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end The Light_v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end The L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end The L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end The L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end The Ligh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end The Light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end The L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7480" y="64882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end Th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end The L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1:41Z</dcterms:modified>
  <cp:revision>31</cp:revision>
  <dc:subject/>
  <dc:title>Slide 1</dc:title>
</cp:coreProperties>
</file>