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D90-ECB7-4564-B51C-A8F024EA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C8C-5A2F-46C4-8451-26BEACF9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DBE-9F4D-4484-A0DD-4643C941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0F9-8450-4B2F-AD38-DAFA79DA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C609-363C-454A-A7CE-63B3A1F1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EDB2-78CA-46B3-8910-ED74198C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4607-7608-4949-8096-79F7BDD1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C407-E2E9-474F-B512-C74A7B13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3EFA-6556-4566-9E92-DEE1DD62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4488-2C05-4FEC-9802-D67A05A6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B28A-2DF6-49A1-B340-8695D3A9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89C-2D72-40FE-9096-E2C68728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26B0-3C1F-4A00-A8EC-E70C18B4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CA40-CD7F-42E6-9577-130B1A8E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DC07-30FD-4465-8238-E32588B7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315C-8447-4843-9CCF-24705EA1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2155-45DE-4D78-A1B0-E878844F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3BA-AD5C-46C4-A08A-E410047A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AF3CD-5C5E-43D7-81B7-E75BD7F0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51351-55F0-417C-8D1E-8A0C6D86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69718-633E-4360-BAF0-0919D97C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11E-65DC-479A-A657-C5F988B9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3124-0C39-4C39-BE4F-8C7B8B1F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E28B-4307-44B8-8E4B-463AC064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405D-6F64-491E-A350-F83954EC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879C-E4D3-4AB9-9215-642665E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94E30-98F0-4B27-93C5-E4A4E09B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652F-0700-4E6D-B104-7183B188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3DFCA-E3B9-47E7-90F7-7830B1A3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A429-4650-48AE-A754-4E056D29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A522-F5A9-41A4-8A7D-05C16898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1C2-C752-459F-B188-BD5EC5CC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AB3-8793-40E9-BB1C-97E2F496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40C-FE6E-4DEE-8C1D-D221B4AB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277-9B53-4C65-8BF0-5FC4FD72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085-5694-478B-9118-C6A551E6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8A42-4860-45E0-8BAB-E67A5E528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BD2E-C277-4607-AC4E-09993C0A6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A4C3-F5B8-4D7F-9D5D-94A63CA95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cattering Precious S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Hugg (189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cattering Precious See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cattering Precious See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cattering Precious Seed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cattering Precious Seed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cattering Precious Se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8920" y="648828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cattering Precious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cattering Precious Se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cattering Precious See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cattering Precious See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Scattering Precious Seed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Scattering Precious Seed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cattering Precious Se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920" y="648828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cattering Precious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cattering Precious Se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cattering Precious See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cattering Precious See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cattering Precious Seed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cattering Precious Seed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cattering Precious Se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8920" y="648828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cattering Precious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cattering Precious Se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19:59:42Z</dcterms:modified>
  <cp:revision>33</cp:revision>
  <dc:subject/>
  <dc:title>Slide 1</dc:title>
</cp:coreProperties>
</file>