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785-4A07-46D3-908C-5F30CC40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483-D94F-4DF3-A60F-E74B9A4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99E-BD0F-4C10-A8D6-6EFA978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319-BBAC-40B7-BA01-DFDB9FC0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81B-5CBC-4157-86B6-A66FD1CA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5656-73D2-4815-AF39-58A25183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DA2-36B9-4FFC-A191-48AAFD8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78D1-73D2-4E7D-92B5-9F9D23B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B8C9-B6B3-4241-903F-044ED1A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9A0B-0686-4634-808E-82DFE587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8C2-BE01-432D-9675-D839A91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FBA-2BAE-4B49-B65E-42E7AF5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9AA3-1FED-4A18-9A98-277E789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614-F433-467D-9550-658B020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2836-777F-42D3-95B5-59D06EB7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92FB-DBC8-4DF6-88C2-728CFE97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BFB-3715-4A9A-A5C1-73F803E4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619-B592-405D-B922-5F805E3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8DF3-9119-4A36-BCC0-77DD054B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9CEF-8A58-4DBD-9E13-07999CE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0790-F81C-43A7-8B99-814A92B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02F-E401-49F5-B997-07B966F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2785-DBAD-486B-A60A-03DBC4C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7E1C-C418-447D-B749-3997E51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4D2D-4252-4167-896A-FAE14D5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97DE-1980-40F3-A901-2FF4156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4F08-8390-4D50-9235-4F73E535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38A6-925C-47E3-B680-E9614E5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42E3-38EA-4468-B554-7961852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4881-92D4-4959-9FEF-5A7F46E4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F7BD-8B15-4923-80C0-834C1A46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575-AFAC-4E32-8133-22FAF468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1E1-2552-41E5-90F0-F02741F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A81-191E-4975-B1BE-8C811C6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479-D60E-4EAE-912F-DF25D215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7EB-A452-43BB-BD95-F8F31D5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150-6AC3-4A3F-AFD8-F42F1328B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8CD-5397-464F-9037-8524CE6D2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7D5-EA43-4D3A-B1E2-F3EA89887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 Peace, The Gift Of God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P. Bilhor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P. Bilhor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1760" y="64882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 Peace, The Gift Of God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 Peace The Gift Of Gods Lov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 Peace The Gift Of Gods Lov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 Peace The Gift Of Gods Lov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 Peace The Gift Of God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760" y="64882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 Peace, The Gift Of God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 Peace The Gift Of God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 Peace The Gift Of Gods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 Peace The Gift Of Gods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 Peace The Gift Of God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760" y="64882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 Peace, The Gift Of God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 Peace The Gift Of God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 Peace The Gift Of Gods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 Peace The Gift Of Gods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0:25Z</dcterms:modified>
  <cp:revision>33</cp:revision>
  <dc:subject/>
  <dc:title>Slide 1</dc:title>
</cp:coreProperties>
</file>