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A75-EA3C-43CB-B52A-8CB7F4B8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160-2CA7-4334-94A4-6F12336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C70-33C5-4DFD-9C3C-CCECE689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0FD-DD74-415D-8129-B65A1376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ED4-5063-4EBE-A8B7-1BBBBDAC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ADE-CBF3-4DFF-A527-90184366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641-A51F-4B67-835E-963EAB4C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5A3-CBA0-4FB6-B533-9F66294C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224D-3FF4-4518-A061-8E374543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AE2-FE1C-481D-B53A-E11ED56D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9AA-3DB0-46C9-A28B-109A952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C20-44D5-4F37-933A-79976F12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8535-F473-48C1-8193-6B11AC6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E82-68A2-4CA3-B1B5-75F557A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136C-13A4-4EC7-BC1D-4F4E4A96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008-8712-49CE-A8D0-E6578252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A8E-BA89-4A40-BA53-CB3E6BB6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226-876E-4A67-89CF-095CBEA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8796-F7B5-4C7C-913F-D2D67C46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6999-F9CC-4D16-9478-30F1F721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4BA4-1F45-4CFE-BB90-A538E15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485-4DBC-4194-B657-11DF6065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B672-00AE-46A3-8389-4D5BE6B6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61B3-961E-47B6-A632-E4659579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A875-DDFE-4232-9072-7E5988B5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4699-6DE2-431E-9107-4750BD0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554C-BD82-47EB-8DD1-3A855DB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31CA-C939-42C1-8D72-82BEB5A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4F7D-8B84-48B2-9396-7A18B72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9CF4-477C-47B8-BBAE-5D642E05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9BA4-1DDF-47D1-9322-A7A20D65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9F5-6EB1-4508-B469-B212512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112-71D0-4EED-B453-D0DFCE27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A84-0F30-48DE-8DE2-06A8D5A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CD4-AF5A-4BD3-BEEF-F9A1EC0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034-94BB-42AA-897E-5503F5F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F2F-7357-4B82-AF1A-9F6FE3BB7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E4D-1591-4E01-BEE3-291BC8DA6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ABED-19DF-43D9-992E-2320032CD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Like A Shepherd Lead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RADB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rothy A. Thrupp (1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360" y="648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Like A Shepherd Lead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avior Like A Shepherd Lead Us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avior Like A Shepherd Lead Us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avior Like A Shepherd Lead Us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Like A Shepherd Lead U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Like A Shepherd Lead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Like A Shepherd Lead U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Like A Shepherd Lead U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Like A Shepherd Lead U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Like A Shepherd Lead U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360" y="648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Like A Shepherd Lead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Like A Shepherd Lead U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avior Like A Shepherd Lead U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avior Like A Shepherd Lead U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5:59Z</dcterms:modified>
  <cp:revision>33</cp:revision>
  <dc:subject/>
  <dc:title>Slide 1</dc:title>
</cp:coreProperties>
</file>