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0753-B68E-42B1-A996-EE6423B5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8A90-EBDB-4267-97CE-0E82C0D2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9673-CC4B-4C4E-9D29-A03EA818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C0EC-191C-40B0-ACBE-5B97FECB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B298-B45A-4E1E-B5A4-EC22EBC94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0F2C-A8C2-433E-B01F-03CD57EA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4A81-4B5D-4A33-93EE-5C21D282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A280-331D-4687-970D-6BBF59A7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D923-90E5-4B17-A642-70275016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7A41-BD3B-44C6-9579-16E4E574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487C-ED97-4C36-8B48-D5BDEB68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A2F8-4F21-4FFF-836E-0811C3F6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5E37-26D0-4938-950E-0EB9A572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51AC-5496-4C9B-A2CB-0C4D0ECE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9776-701B-4765-BC87-17B178AD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7D74-DEAA-4AF6-B36B-1DDDF4D4E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9424-D309-4A60-A8A2-9EE94E51C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30C2-06FF-4D36-9BDF-B2E97D1E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93191-CF05-4D76-B98D-56929CAC7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5F017-1DEA-484F-BEC8-A9787A65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67546-7845-448B-AA7A-7728FE28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EC5E-1A78-44AB-AC82-E8FA7CB9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4DD40-E2A2-4BFD-9DAA-FC01154F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2F97C-481A-4B65-8A1B-B1003FD1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D7594-B8B9-4D9A-9C4E-608E2BB7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7ABC5-9861-4610-8007-9725B1FB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52194-6518-4121-8BA2-C1689184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0C8DA-B4E7-4BA7-AD4D-B63D8784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D3FB2-546E-45CD-AD79-E4CB5C48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8D5F5-F1D1-42D4-A5DE-DBBD6F5BF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F9220-D61A-44B6-8E20-4A47C6EB0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C1CC-F8FF-4233-9BC4-FA051A54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14B6-6C9C-472B-9A3B-33CB8AF5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25BA-E4F1-4CE3-8159-2A94F054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BE15-4E6A-4857-8327-26DF206E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7273-A81C-4208-A7A8-6682FBEB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FC8D-B52C-4744-8973-4D3BF41D8D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0819-30D7-4768-916A-3C9716F8EA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E39D-A59A-4BD3-9DB9-7E79CA9DF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Stepping In The 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liza E. Hewitt (188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J. Kirkpatrick (188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Stepping In the Light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9720" y="6488280"/>
            <a:ext cx="32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Stepping In The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Stepping In the Light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Stepping In the Light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Stepping In the Light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Stepping In the Light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99720" y="6488280"/>
            <a:ext cx="32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Stepping In The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Stepping In the Light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Stepping In the Light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Stepping In the Light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tepping In the Light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9720" y="6488280"/>
            <a:ext cx="32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Stepping In The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Stepping In the Light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Stepping In the Light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Stepping In the Light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Stepping In the Light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9720" y="6488280"/>
            <a:ext cx="32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Stepping In The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Stepping In the Light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Stepping In the Light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Stepping In the Light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1T20:17:03Z</dcterms:modified>
  <cp:revision>31</cp:revision>
  <dc:subject/>
  <dc:title>Slide 1</dc:title>
</cp:coreProperties>
</file>