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5A32-9BDB-411A-89B7-AE381F90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37A-E7C9-4A48-AF33-236D54F2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968-AD7A-4FE1-A89C-EB6C939E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0733-4C26-4530-9487-D9A4A334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56AA-6EE8-4C0F-AC45-E7059616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8BD0-AA02-4700-B4CC-0663109B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60AA-5DA7-499C-BE4F-45AC4B0A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C01D-FC90-4FDD-9DFF-972D4DB8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A159-BEFA-4BB7-9305-C93C324A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9826-E703-4672-9857-EAAD8F5D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AB92-6727-4BE8-9196-AEAB7F92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8765-EE5A-4AD2-802F-E1FC448D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F746-4067-445A-BAF8-A8047543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DC6A-C66A-4DB7-AA2D-DF059DE9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0BD1-2307-4547-92C2-20FB88E9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3CC4-3415-415A-9CBE-FA4275B2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E21C-0765-447D-BE37-DD569D1A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F415-CAA2-48E6-98F9-F1CD0A82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976C0-8C5F-4DA2-AC69-EE6276AB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45000-0D9C-49A8-AFF0-A7E8471A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D45FF-3508-4C87-AE4D-9AB3EE48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E3F-B029-48BA-86B4-3B35F031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EAE0-4B47-447E-BBBF-BA8B89FB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526B8-2072-4CDC-8E7D-84099A55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BAEEE-BE2F-4169-90C9-E0326732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5F7B7-676B-48E1-B96E-B162F871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FA17C-2CEC-490E-85DD-DDCCDF95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A8B86-8F33-4819-834A-2DF5D664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859BD-053E-4AEF-958D-281424B7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F13A9-A9CD-4B54-ADD2-9BFAB4DA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BBFFA-C233-4229-8B62-91E4BA4E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CEA-7EE4-4BE9-9394-B0D12221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2041-4417-4F72-97E8-28D02033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2994-1081-4D67-902D-EAB9E53A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DD1-49BE-455E-9EC7-42080342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4CE0-7C98-41B5-9679-BACDFF2E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0EB5-5134-411F-A4F4-544FCF2FF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12F3-7A08-4788-AB6E-4EFB8AB58D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D16B-3D30-4C65-94F3-BC98168D8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  <a:ea typeface="Arial"/>
              </a:rPr>
              <a:t>Saved By The Blood Of The Crucifie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Saved By The Bl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. J. Henderson (19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aniel B. Towner (19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aved By The Blood Of The Crucified On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48320" y="648828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aved By The Blood Of The Crucified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aved By The Blood Of The Crucified On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aved By The Blood Of The Crucified On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aved By The Blood Of The Crucified On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Saved By The Blood Of The Crucified On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48320" y="648828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Saved By The Blood Of The Crucified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Saved By The Blood Of The Crucified On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Saved By The Blood Of The Crucified On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Saved By The Blood Of The Crucified One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aved By The Blood Of The Crucified On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8320" y="648828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aved By The Blood Of The Crucified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aved By The Blood Of The Crucified On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aved By The Blood Of The Crucified On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aved By The Blood Of The Crucified On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aved By The Blood Of The Crucified On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48320" y="648828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aved By The Blood Of The Crucified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aved By The Blood Of The Crucified On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aved By The Blood Of The Crucified On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aved By The Blood Of The Crucified On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19:52:56Z</dcterms:modified>
  <cp:revision>32</cp:revision>
  <dc:subject/>
  <dc:title>Slide 1</dc:title>
</cp:coreProperties>
</file>