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602-0017-457C-BF7E-348E8108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030-C2AB-4EFC-AA75-DC0B6CDC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76B-3B4B-49A7-BFC6-AD5B43DE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058-725E-4041-9284-CCF35A39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E17-D6DA-41BD-B086-FAD2F5AE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1CE8-8276-4F0B-A9D6-14C6DD60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F0D2-BF5D-4CED-AF1C-9A8B7511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C66-C218-443E-B753-8534308A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03B3-FA7F-48A4-9746-9EDABBF1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5E03-1287-4ADC-A2F8-4EDB007D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272C-4592-4564-879F-2F2E16C8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F13-AAC1-4361-8D30-08406250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9737-B3CD-4925-947C-CBB88952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6DB7-EF00-45D3-82D4-BD6CCAE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1125-232F-4441-9D31-0E01FF9E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750C-769B-4880-BC70-4333FED0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D28E-0EE0-466D-A3E0-D0A77B7E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3B4-650E-44A9-B645-0E72BD82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7002-1BF0-4B40-8DF4-ECA80C1F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752F-8767-4B41-A6F9-3B30588F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9CFF-5C9A-477C-9C52-C564BDAE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BDD-8E30-4882-8574-093E0DE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2381-3127-4DA1-8993-AD2F59CD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4563-EC0F-4802-B8EA-2390C3B8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2F7B-62ED-4872-A59F-3778D329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3F31-DFEE-415A-A32A-34D1FA0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26C9-2F4A-4288-A091-E6BB9656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4354-96EA-4557-A690-C39F4067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0B9E-0C52-4055-8621-196DAF7B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A13E-14DB-4E92-880B-A47E1955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B4E3-97A0-4AC0-BFAD-7B0699D7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F7F-306F-4920-B726-A42234DB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40B-9FD8-4C5C-BC2B-1CED2A4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485-E9E7-4A2E-AA0E-6EC0233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2D4-331D-4A66-88E4-6955F8F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231-9E1E-4511-97B6-1147951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97B8-2B21-46F3-83A4-EDB5D3B44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FD63-6922-46E0-BB9A-AFCDF2FB0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395C-226B-4850-9533-700C94662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ome Day The Silver Cord Will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Saved By Gr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ome Day The Silver Cord Will Brea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1040" y="648828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ome Day The Silver Cord Will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ome Day The Silver Cord Will Brea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ome Day The Silver Cord Will Break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ome Day The Silver Cord Will Break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ome Day The Silver Cord Will Break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1040" y="648828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ome Day The Silver Cord Will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ome Day The Silver Cord Will Break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ome Day The Silver Cord Will Break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ome Day The Silver Cord Will Break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ome Day The Silver Cord Will Brea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040" y="648828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ome Day The Silver Cord Will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ome Day The Silver Cord Will Brea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ome Day The Silver Cord Will Break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ome Day The Silver Cord Will Break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ome Day The Silver Cord Will Brea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1040" y="648828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ome Day The Silver Cord Will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ome Day The Silver Cord Will Brea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ome Day The Silver Cord Will Break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ome Day The Silver Cord Will Break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10:36Z</dcterms:modified>
  <cp:revision>34</cp:revision>
  <dc:subject/>
  <dc:title>Slide 1</dc:title>
</cp:coreProperties>
</file>