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EE3-0279-42CA-8345-834292E1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CBC-73FA-4458-B853-4686492F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01C-A9F2-4065-897F-D73796EC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4AE-F18B-4FDB-972B-FB2EDEBA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8A4A-7A4E-429D-91AA-55D77561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B979-DF25-4EBE-BD77-432FA0E6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87B9-3362-42A1-8009-5632FBB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AE7C-C02E-47D0-A976-3D50C45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DAE4-B752-41FF-BA2F-A7B5EED6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EEDA-4F14-44F9-B8C6-747A4AB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C70E-5966-4A1D-93AB-42B52D3B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8E4-1E86-45D9-AD6B-C3A0C789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4955-A7E5-4B8D-8F54-7788247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8C50-31BE-4771-B86F-0042A874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D53D-78BB-49F9-8D3F-62488B2C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4A8B-BC8B-45EF-A8B0-2147403B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E03-2BF3-40A2-A71D-0FC3BC34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814-28B7-4CCE-84F9-20320EE9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6326-6E64-4139-9946-9A2F8ACC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B2CF-5254-4333-A443-5D683E56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20F4-6D4F-40A4-8118-A0BCD618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C6A-D4E0-4884-AA9E-201FD93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9ECE-4AFD-44BB-9312-91172B8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FD71-053E-40FA-9BBD-FE3BFCF9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6A54-B58D-4A65-98B6-066D8179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2216-C654-40F2-B57A-8149C7E8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2E9B-AABF-4161-9588-E4433626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0B6A-FF8F-4EBC-87CF-0747A825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6051-46F1-43A8-A6E3-BDECFF67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556FC-4DF9-4E0B-B843-FCC582C6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63E8-01DA-4CCF-8D94-624A20C4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47A-5184-4234-A460-E8AF22FF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5AD-7AFB-4144-9626-4E2EE88C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B89-1519-4902-8EFA-7916A1D9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EAF-094D-44E0-92B2-8EBA8CC9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582-D5A2-415D-A82D-8CD32B6A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E40-ADD5-4797-A15C-9CE614E0B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B6DD-F1EF-4BF6-BE43-EF13AA839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075D-C8BA-48B1-A0B6-99F760E83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ing On, Ye Joyful Pilgri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ing On Ye Joyful Pilgrim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708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ing On, Ye Joyful Pilgr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ing On Ye Joyful Pilgrim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ing On Ye Joyful Pilgrim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ing On Ye Joyful Pilgrim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ing On Ye Joyful Pilgrim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ing On Ye Joyful Pilgrim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ing On Ye Joyful Pilgrims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ing On Ye Joyful Pilgrims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Sing On Ye Joyful Pilgrim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2708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ing On, Ye Joyful Pilgr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Sing On Ye Joyful Pilgrim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ing On Ye Joyful Pilgrim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08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ing On, Ye Joyful Pilgr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Sing On Ye Joyful Pilgrim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Sing On Ye Joyful Pilgrim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Sing On Ye Joyful Pilgrim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Sing On Ye Joyful Pilgrims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ing On Ye Joyful Pilgrims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ing On Ye Joyful Pilgrims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ing On Ye Joyful Pilgrim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ing On Ye Joyful Pilgrim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ing On Ye Joyful Pilgrim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ing On Ye Joyful Pilgrim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ing On Ye Joyful Pilgrim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ing On Ye Joyful Pilgrims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ing On Ye Joyful Pilgrims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07:30Z</dcterms:modified>
  <cp:revision>31</cp:revision>
  <dc:subject/>
  <dc:title>Slide 1</dc:title>
</cp:coreProperties>
</file>