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1F5E-2710-4D01-94E4-B75964A7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FF0-F3B4-426D-A263-A33B0D82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2F1-F52C-4369-98C7-FE403001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524-C8FB-46BB-AB61-002EB041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1B54-0481-45A5-9BF1-CC92F81E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DA60-4481-4D8A-A7FB-C9BECBD4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DA02-5F14-4132-8AEB-CA2FB643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CC61-F53E-40D0-965A-C067D876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60E4-BA98-484E-8C77-446833EC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F6BB-386B-4EEC-9437-8F29FBB7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B062-B88A-4E7D-A028-4A255B0D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4DE-A1D6-4F69-B9A0-97939730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866B-A6F3-482A-AE44-C5441E3F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6055-F6DD-4CDD-8492-8E60CA84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5EDE-1DE7-4B80-A15F-B2596545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D0CC-D882-477C-B491-8474E2B1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CE1C-FFC1-4EBE-BB2D-F5C02FFB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308-E43C-418B-B2DA-4639BE6E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E3063-9B3B-45AF-91B7-87F9AE22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8B83B-F0C5-4E44-892B-CC219A93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279E-C9B2-465B-AFE1-C5F50BCE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39A-B49E-4BDE-8518-EB99BAC2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6EEC3-364D-4240-B408-667DE059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A669-BE48-4269-A5BB-0B28BB51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7E242-AE7D-447F-948C-0DE5F372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E381-41F7-44E2-B383-117E02D4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3A21E-FFC5-4A53-83F1-92F2D172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7694-38C3-4757-A5D1-249285DD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81A4E-EDB8-4DA8-80F3-31D098CE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2B3D-1791-459B-A34B-AD5914D4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9EE92-BFAC-487D-B59A-FE2E3699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252-269C-41BD-B42C-BDC39953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83A-7741-4FF5-B90E-3BA1B75F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0249-0BF9-484A-95BE-BDB6879E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490-6DA8-4450-84E2-AD5FC017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7CE-6FD0-43C1-9BA8-37E07F68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61AB-4F04-43CE-B811-F5BF98FE4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8AF3-A103-45D3-8701-3B070325E8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6E6E-1708-4298-9919-AEDC70846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eeking The L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 + 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eeking The Los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eeking The Los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eeking The Lost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eeking The Lost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eeking The Los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4320" y="648828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eeking The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eeking The Los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eeking The Los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Seeking The Los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Seeking The Lost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Seeking The Lost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eeking The Los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eeking The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eeking The Los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eeking The Los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eeking The Los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eeking The Lost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eeking The Lost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eeking The Los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4320" y="648828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eeking The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eeking The Los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19:58:33Z</dcterms:modified>
  <cp:revision>31</cp:revision>
  <dc:subject/>
  <dc:title>Slide 1</dc:title>
</cp:coreProperties>
</file>