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70B-9B67-49D7-A972-5E9B2CE1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2A9-D21B-4CE6-9763-2CB6356B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7D2-ACB5-47E1-BFD5-196BC336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EC2-89EF-4817-9A4A-C9CC4909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81A0-6EBA-42F6-A9B2-39074934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1189-8F0B-4B8E-AD9F-070745C2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81FB-7FD2-4C5E-BA3F-B6BE036B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9614-37AA-43FA-AA04-79BCB06D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0BEA-1415-4641-991C-5C42CEE9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3D11-BF97-49ED-953C-CA615F5A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7F7B-2BA3-46DC-B58D-5DA85159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B36-C668-453F-A9E9-F9E74964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60CD-5254-40C6-9353-AF63E6BA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8593-AF3F-4A24-9DBF-B33B36B3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B6D4-68C7-465A-85B0-824CBC1E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6277-B0C7-4B2C-A6AA-19FAB6D8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3B27-EE13-46AF-8DFF-EC415560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3E3-6E6C-4C60-9E89-6DB02823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BF9B-8948-4F18-8CF3-0A22D8FD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D6C1A-2574-4BC0-85F2-909C5AE7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CA972-6976-447C-B70A-D305189A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DDE-3B76-4DE9-B005-96045263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BB53D-F36D-4E14-B555-5CFD0BE3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9271-C6AF-4E85-8890-86C4340A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B4165-C407-4FBB-8D4F-AF1AA782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09AF1-90B0-45D5-B536-44C04CF9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51182-4B22-4728-8576-087DF1D5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E82BD-4AE4-4620-9627-D6135E57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90C9E-525B-4FEA-8217-5F9A2E41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4C81C-6E0C-48DA-B2D7-58E94166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C15A-2EED-467C-8FCD-2072D619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57F-EA3D-46E6-9DD8-8AC07C7F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037-73D3-4396-8F78-A4B0FB46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702-D63C-4B6F-AC32-B57149BB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6E9-2D33-499D-9B39-2993FE4E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BAB-BCE5-4EBE-BE7D-001E2C97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5B17-DCCE-409C-91B7-B691AF9EA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791E-3085-4117-A3BD-B0A71518CA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3F05-1D77-4F46-9EE6-BA6FE85BD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weet Will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My Stubborn Will At Last Has Y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 + 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lia N. Morris 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lia N. Morris 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weet Will of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2800" y="6488280"/>
            <a:ext cx="28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weet Will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weet Will of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weet Will of G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weet Will of G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weet Will of Go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2800" y="6488280"/>
            <a:ext cx="28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Sweet Will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weet Will of God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weet Will of God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Sweet Will of God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weet Will of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2800" y="6488280"/>
            <a:ext cx="28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weet Will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weet Will of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weet Will of G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weet Will of G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weet Will of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2800" y="6488280"/>
            <a:ext cx="28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weet Will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weet Will of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weet Will of G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weet Will of G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22:59Z</dcterms:modified>
  <cp:revision>27</cp:revision>
  <dc:subject/>
  <dc:title>Slide 1</dc:title>
</cp:coreProperties>
</file>