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BEB-7A91-44D3-B850-293E22D2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FE8-D2BA-4A19-9DAB-3A1F5E29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A47-15C3-46EE-971F-8582450D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530-850C-4E34-977A-4FD49A27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72F5-DE19-48DA-BDD2-B2CA9946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61E6-6F2F-456D-937C-102B7F55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9C5F-BFA6-4046-80AA-16DE4E6D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48E6-6DB3-48C1-8483-6F3FFB6E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0868-AABD-4513-8BAA-45A03687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4E2C-FDB5-4D7E-9380-E23D31AE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0A89-6BE1-4560-A721-789CA0A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8AF-3ADD-480C-8E9F-5D6F2B1B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57E5-29DB-4835-9D96-734AA654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A5B1-EA4F-4FCA-A476-A7B9B87D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EC22-DE8F-471E-B63D-206547C2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6FB2-E9DC-4819-AC51-4D55597C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32CC-D004-4576-A079-FBEA72BA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714-B742-45BE-9316-E957B57D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6600-F6CE-457D-BE01-DFA6DF01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8A7B6-DC9A-4DF2-8682-4D4AF657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64D1-A3D4-4A00-8B5B-DDAB186A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147-D635-4501-A27A-B1417BFC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8BCB-92FC-4B3B-AA05-B769C371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E967-0FF5-431B-904F-D0660559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59E3-09E0-4A7F-B3FB-0E29753E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8878-AB1A-422E-A67B-0830B980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18C8-0A7D-4B04-9E63-9AD852F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1444-3DD2-4A21-92A9-40531582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5D92-A4F2-4B30-A9DF-473AA47D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8ACA-5ADA-462E-AEEA-5F290C73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2C26-48A3-4D8F-982C-6D51A976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506-5BF5-4849-80A6-21645BD5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8BC-10B6-42D8-ADAB-218D7B98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6F7-6155-46AA-A20F-B030DA5A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588-5997-4F4D-BE81-F87443B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231-BEDE-4A38-9DE6-5A5B648A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4960-E501-455F-A61A-46BEBA7B7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3BDC-D539-4410-BD68-3DEDEA03DC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2B0F-6FD5-4AFD-ABAA-02E649D3B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weet Hour Of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WEET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L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1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W. Walford (18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 (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weet Hour Of Pray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3080" y="648828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weet Hour Of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weet Hour Of Pray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weet Hour Of Pray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weet Hour Of Pray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weet Hour Of Pray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3080" y="648828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weet Hour Of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weet Hour Of Pray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weet Hour Of Pray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weet Hour Of Pray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weet Hour Of Pray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3080" y="648828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weet Hour Of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weet Hour Of Pray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weet Hour Of Pray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weet Hour Of Pray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9:19Z</dcterms:modified>
  <cp:revision>31</cp:revision>
  <dc:subject/>
  <dc:title>Slide 1</dc:title>
</cp:coreProperties>
</file>