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8EE-0186-4D6C-BCAF-2C3F7E8A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8EE-65E3-4AE1-8F3E-BD0A5515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6FB-9D1A-4B94-92F1-DEFB2238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420-0B0A-4AB8-A6BF-063FB148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57C0-FD6A-4C3C-8430-3E0A3733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41A5-D3B7-4D9E-B669-0AB0E8C7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0473-1A68-4381-B55D-50E8DCB6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75FF-E117-4024-9920-CC38850B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32D0-86E3-4B8F-86AF-BB77F193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BC59-A8D2-4A05-A946-F14593A1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3D54-C46D-433C-8677-3C08053A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B42-3987-4E0D-B8A4-C84D210F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EEE6-13D0-446C-AE0F-B79D8EF8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04A9-1AA9-43A3-BECA-6633215E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62EE-ACED-4872-87B7-FC7AD86E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6D0A-94E2-49BB-979E-8A8A39F8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394A-4727-47AE-BCB3-EC7FD671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79D-3D90-41E5-9DB7-40F27535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82543-4AFD-4F8A-89D0-8A63493B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52AA5-D350-465D-BDA6-49BB6CAA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87041-02CF-4A7A-A134-AB958B65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22D3-11B8-40FD-BEDA-0266CFA2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F88EC-BCF0-4EF6-B03B-32798986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EAB53-0922-46BC-8EC4-44132A0C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68725-8EE8-49DD-818E-A44C8309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CED80-8839-4D56-8CA4-76BFB552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6591A-A27D-47E3-A290-46D37BC4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F24F5-BB71-4730-8A60-FFD8279A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D58B3-811D-4024-85FD-3AA97963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5332C-C6D8-4A52-A51C-4E9D6FD7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F5F6F-5A32-47FE-83E6-82A5F7CA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34A-EBEF-4421-8273-F873B635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731-3BF4-4287-9A5C-EA31A1AF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749-91DA-4444-A791-A712CCEB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898-0B29-4999-AE89-0B708882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B7C-CFF9-4E88-9CCE-951A241C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341C-D083-4810-A949-8982A405A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FFED-C79C-442F-94B9-927B12C145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BA51-8FA5-4EF2-A0CD-361E4F05A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hall We Gather At The Ri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hall We Gather At The River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3040" y="6488280"/>
            <a:ext cx="40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hall We Gather At The Ri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hall We Gather At The River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hall We Gather At The River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hall We Gather At The River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Shall We Gather At The River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3040" y="6488280"/>
            <a:ext cx="40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Shall We Gather At The Ri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hall We Gather At The River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hall We Gather At The River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Shall We Gather At The River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hall We Gather At The Riv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040" y="6488280"/>
            <a:ext cx="40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hall We Gather At The Ri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hall We Gather At The Riv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hall We Gather At The Riv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hall We Gather At The Riv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hall We Gather At The Riv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3040" y="6488280"/>
            <a:ext cx="40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hall We Gather At The Ri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hall We Gather At The Riv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hall We Gather At The Riv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hall We Gather At The Riv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03:22Z</dcterms:modified>
  <cp:revision>35</cp:revision>
  <dc:subject/>
  <dc:title>Slide 1</dc:title>
</cp:coreProperties>
</file>