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6F53-085D-400D-8353-EE5E20C30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45D5-118F-4A9A-A646-FD69340B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3AA6-C831-4980-B126-1D8BE23CD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BF20-B0AD-4776-9539-3FD55F13B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2470-0BB7-4C48-9259-A58F245CD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2920-6BD5-4CD6-8DC6-15410410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981F-48BC-4F0C-9135-126DD496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A788-BF9C-40EC-A3BF-77FE6F50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F25E-3CD7-44EC-803F-B12A2E8E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D7D1-D75F-4D72-ADA6-4D79AEAC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1AAA-BBE9-4C1D-A677-665DE32C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E800-D486-4393-9EC7-4DC8123B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09B0-598B-47C3-A5F5-6633767A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AFE3-46F2-4618-B6AD-56CFA503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4D56-D07F-413D-99F2-B4D91263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9E95-C1D5-4B13-A2F3-6A3A173F0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BBE1-73DE-47D3-8902-884561A2F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7068-7716-4B8F-AE36-93B30144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9DB07-5EB3-47F1-9836-6B79767E2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8B963-4148-4E6A-A8BF-9EEA884D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B7B7C-34B4-4F43-9FB0-E6D1EE4F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B882-ED42-4D36-AD40-79825B8E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FE548-D8DC-4190-A8E2-616CA457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45422-AB8A-4546-9870-728360FA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8DD6A-23B6-439C-A4CA-CC1F1708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09CFC-0E89-42BB-87A1-283B6AF1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6678F-FB0B-4F41-A2C0-E0D4B3EB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4BD8D-9927-4847-965F-E66ECBF1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C45C8-6530-430F-B864-559983A2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83DBD-F9D1-407F-9A85-5A42DF79E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8EA7A-FD29-48AE-86E6-67B4B5B7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63DD-FA6E-41E7-81EA-07D690A8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1026-2108-49AA-A24F-7EBBD443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9369-CA65-4088-A1F4-736334DD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FBE5-6BA2-4F74-882E-CF9C6D62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D0BE-4AC4-48D1-B4A9-04E205DB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30E3-A641-4BEE-9DFA-0DA7CF7F1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6BFB-8E8F-43DE-A90A-51236C3927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98FE-40D7-4F92-A03F-BA95D1B4A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Sowing The Seed Of The Kingd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D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ed A. Fillmore (19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ed A. Fillmore (19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7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Sowing The Seed Of The Kingdom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32120" y="6488280"/>
            <a:ext cx="45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Sowing The Seed Of The King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Sowing The Seed Of The Kingdom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Sowing The Seed Of The Kingdom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Sowing The Seed Of The Kingdom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owing The Seed Of The Kingdom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2120" y="6488280"/>
            <a:ext cx="45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Sowing The Seed Of The King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Sowing The Seed Of The Kingdom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Sowing The Seed Of The Kingdom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Sowing The Seed Of The Kingdom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Sowing The Seed Of The Kingdom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32120" y="6488280"/>
            <a:ext cx="45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Sowing The Seed Of The King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Sowing The Seed Of The Kingdom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Sowing The Seed Of The Kingdom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Sowing The Seed Of The Kingdom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1T20:13:32Z</dcterms:modified>
  <cp:revision>31</cp:revision>
  <dc:subject/>
  <dc:title>Slide 1</dc:title>
</cp:coreProperties>
</file>