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A09-3EAF-41F7-8136-9817CBB6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A7B-D080-4423-8503-9B1EB9F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390-B98B-4E73-BB6E-B6F0BF0B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E52-8E42-4591-ABD0-5C8E3CE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31DA-E3C7-4CCF-AB2D-C1D82303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A72E-7F37-458B-AFCE-24DAAD4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1B1-E02B-4FF3-8DFE-2CE8738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F3A1-3E89-482E-BD00-3241DEF8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2CC9-6CD6-4D41-95D9-1CC72227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D4F5-FA8C-4333-86C3-2EE362C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339-6C68-45B1-BE6F-7B3215E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67E-B35D-4911-9C24-04720912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1777-25F7-496D-A1DD-73CE2B8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F575-EE06-4BF5-AA40-1EDF1A1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9FD-B549-4FFF-886C-92E25A2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4535-2AC8-454D-9DD1-4FBF15C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FFC1-1E5A-4228-B02E-1591B313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849-9A78-46DA-8AF6-1251A117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11E6-7EEB-4106-8FBB-72D5C66C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D761-848A-4C53-BEE4-8A214A10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372C-46FE-4B3D-A65A-A9D01CE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60C-01D1-4B3F-8974-3F9728C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3E55-E3C0-4ACE-9976-20CA352F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4C7D-A88C-4A35-8D10-2FCC1D0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8B57-4875-41E6-88D4-48444FC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E1CD-F4E2-4359-B542-A6CEB2E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04D7-D77E-42F6-83D9-CC1A02D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AE37-72AF-4B07-B902-C9F9DD4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7765-3C52-4365-9A7B-1CEFDCF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8A46-A804-41D3-BF8C-759F8C42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9D5C-43BF-44AE-A0D9-EF82B74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6B9-6021-47C1-ACBF-B0D5AC0C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E5-F0E3-4EB6-BE9C-939B350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266-9AFB-430E-AF81-EB06B9A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B2E-FBF1-45F5-B209-6830BDA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F8B-0A24-4387-88B2-F934065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CB0A-B461-47C5-B5FD-BC89F9A77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763-234D-4E33-9911-78334AE34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CC6-C306-45C7-BB01-757B55EE1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ing To Me Of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da Powell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jamin B. Beall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ing To Me Of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480" y="64882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ing To Me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ing To Me Of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ing To Me Of Heave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ing To Me Of Heave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ing To Me Of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480" y="64882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ing To Me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ing To Me Of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, fo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ing To Me Of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480" y="64882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ing To Me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ing To Me Of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ing To Me Of Heav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ing To Me Of Heav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38:42Z</dcterms:modified>
  <cp:revision>33</cp:revision>
  <dc:subject/>
  <dc:title>Slide 1</dc:title>
</cp:coreProperties>
</file>