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4EE-5E7A-43AB-82E7-E1073022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80C-70E2-477D-AE7C-90F6EC95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63D-EE90-41BF-AE5B-AC6EDD7E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3C2-53E5-4BB1-BA50-17A3E02C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7E09-1292-4408-A872-2109B468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B16A-7BA9-4E3C-AD62-9A64E5BA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54F0-3320-403A-9017-038BFCB7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DA7E-EBB5-40BA-81A5-FD31C11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8D18-2449-4313-B002-03CEE30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1B3A-BF10-469A-AD7B-F2FB1D6B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E78-807F-453C-B5B4-1755861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864-72A4-497A-B6B8-17622089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DE1-3E2D-4F8B-BAE0-E5EAD53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E89-D53F-42AB-B9B1-F36EEC7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9D03-F26A-4BFF-A4B8-30CA3EF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9B4D-ED28-42EA-B446-4F8718FA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8B6F-87F7-49A3-900E-B23F02D1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BD1-C11F-4618-8E96-D5A8A272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462F-C97A-48D4-A183-23DF8936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22C5F-44B1-46FE-B68F-3D17F45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DE1C-ADAF-4CDE-877A-5E5F0332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781-1BEA-4B2D-B67E-8400FCD1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B2FC-8C2B-4F8F-8CFB-C437C27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E2A3-151B-457C-9EAA-A94CA16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2B6E-FF0B-4CD8-897C-AA4E1837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B146-136C-4B1F-813A-A61BD8B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F706-C350-49AF-969C-B33765B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6C32-C161-4C66-93A4-B8AE96A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EB70-D371-4D2D-A150-5816FF87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C6AB-F483-4611-9E60-C95D573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0B4E-624C-451E-82F0-77D13372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FA3-A20C-47A4-8C8F-35719FD2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CDF-6DDC-49C8-800F-80D39D9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23F-DCE4-437F-8F18-D703ACC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D52-09EA-400E-B3D7-8C02957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2AA-604B-46CB-AB5D-5707689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336C-243E-4C21-AA87-EC1000307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C6A1-5A7C-49B1-A2A2-9891D814D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655-F8AD-423B-8DE8-C6E2B80E4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 By An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Fillmore Bennett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P. Webster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weet By And B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732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 By And B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 By And B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 By And B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 By And B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32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 By And B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 By And B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 By And B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 By And B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732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 By And B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 By And B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 By And B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8:35Z</dcterms:modified>
  <cp:revision>31</cp:revision>
  <dc:subject/>
  <dc:title>Slide 1</dc:title>
</cp:coreProperties>
</file>