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ABF-23DF-4283-90B8-7BB88EBE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B33-0F4E-4547-80B1-258625FB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EED-7C48-4903-908F-11153F82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81C-D7E4-482C-A931-F25116FA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5E8C-B1EC-426A-BA74-F2050331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2A66-4543-4846-A760-4FB3B3C3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8FE8-3258-47C0-9749-2E1FD745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E50C-C8FF-40A3-90B8-03051180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3926-A029-4EF4-A4A8-DAB9D911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2B3D-0472-4F20-BE74-933080FB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ED0A-8827-44DB-AA86-7A78F69E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703-5394-415E-A704-8064B626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89F2-6A64-403A-A010-66CA19EF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4168-8EC4-484F-BF69-94383B11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658A-62D4-4833-ABF8-1E445801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2B91-F38B-405E-A4F2-FA5CFDE9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14FC-783F-4BDB-BEB8-7385420A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ADE-E370-4577-8C5A-8A798930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9716A-A334-401B-93D2-CF3EA68A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20EB-CC9B-4CB0-9402-4B64034D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6A83C-744E-4B05-96BE-49229092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FF7-F3DE-4C79-9A75-4ECD2DC6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CBFCC-0516-4640-9C9B-DF33C0D1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5F250-FC4A-43ED-BA2E-8EDB4066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E1441-68E1-450B-96BA-FA66DA06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81015-1676-4DEF-A029-C7510286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EF38C-2D06-4B6C-B2A1-4A233C51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29EA9-D634-4267-992F-A30DED27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6A8A9-9728-457D-A5A6-F04F79C8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894BF-8339-448B-93FB-817B6171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4B90C-78E5-40F9-B663-B434F649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A95-43CC-4409-ADB3-15B2135A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E2D-598F-446A-98D5-98A56029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8A4-196C-45D6-9576-F0385BFD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98F-8170-4F2F-AE03-89F7A61D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6F8-DB6B-4B13-B826-2D0AD78F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E2CA-9456-454C-B52C-321D77544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F8CC-F916-4BFB-9570-CE9AACA3DA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85A4-0251-4AA6-A7D0-02D76EAE6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esur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F. Morris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B. Mosley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Resurrection_v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esurrection_v1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Resurrection_v1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Resurrection_v1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esurrecti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7680" y="648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esu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esurrecti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esurrectio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esurrectio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esurrection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esurrection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esurrection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esurrection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54:40Z</dcterms:modified>
  <cp:revision>31</cp:revision>
  <dc:subject/>
  <dc:title>Slide 1</dc:title>
</cp:coreProperties>
</file>