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A79-36F7-4F1F-9DA7-3914C130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AA6-9D8C-4EC0-8CE1-CEE0439A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46C-193E-4F34-A4D4-8406EC7C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38D-0BD0-45FD-8123-42C5CC39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84F1-D40C-4A3C-98BB-60486669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428C-6121-439E-BECF-CE79835A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6EF5-CDC1-408D-A89C-4C159828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1C46-1240-4555-9C16-2E44850C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F9BF-4F9B-4D93-8ECE-39F29A3C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A2B0-1D40-48DD-8578-DEC7BCF8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C9C3-4F0C-4A33-AD35-0BAAB228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28F-A47F-46C0-BB7E-47666814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C413-D568-4B75-91A9-8B407D5E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5EFE-FE5E-4623-AC4F-3F50EAF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2C9C-884B-4663-89C5-91BEDA01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05B9-36AE-453D-BE09-5E38908D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EDDB-38CB-416A-BE4D-0A5F185B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872-DF7A-43B5-9889-031FB8DC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B939-B95B-43B1-BE77-538D9125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C022-F6E9-42F4-BE59-BF114CE1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0C91-C0F0-42CF-A112-DF2ED75A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1EC-3DB7-494C-B30C-00CAFD1B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84B7-288E-441E-9411-7D2335DC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0C7E-2AB6-4BD8-963C-69C20CB0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69AF-A6C9-423D-866A-4C1F3262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BFEF-8734-4158-AB88-2494EA3E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957A-F489-4683-9640-1E93DCF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0D5E-AA90-4326-B37F-818D8F75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786F-8B1E-4F70-A98E-CCD5C0F9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3509-2818-486A-BC9C-747FFC12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E626-E1F8-43F9-92B2-881BB478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BDC-7F6E-4A0F-9962-BD821734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BA5-0A7C-4954-9660-C335C23B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EAE-F196-4BCF-80B1-AC180761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29E-AF3F-4525-8278-7EB0212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BE9-034D-40DC-A769-FF2BD81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6B24-F7E5-49B1-A523-376BE0BDE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EF0F-AFFB-44DD-824A-289959095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5FB1-8D71-4B4F-A936-AA190D1C3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ise Up, O Men Of G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FESTAL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P. Merrill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Walter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ise Up O Men of Go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88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ise Up O Men of Go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ise Up O Men of Go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088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ise Up O Men of Go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ise Up O Men of Go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88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ise Up O Men of Go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ise Up O Men of God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088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ise Up, O Men Of G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ise Up O Men of God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6:08Z</dcterms:modified>
  <cp:revision>31</cp:revision>
  <dc:subject/>
  <dc:title>Slide 1</dc:title>
</cp:coreProperties>
</file>