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8A1-6CB7-48D6-9A3F-37D9652F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8EF-BDAC-4014-9441-BF530336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086-DB28-41F5-A535-B7D84C06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E6D-23B5-4132-B278-A226C462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A8D0-1AC3-44C4-95BD-0AC7C42E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6C4F-B9ED-4F75-A127-48F9F89F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9F8C-ED39-4A83-B8F9-AED9EC69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336C-781B-4B91-9A22-92DE0F7C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F761-82B5-4044-B02D-BFA18FA1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2884-2C98-4360-A8F0-BF6FAEEF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2481-9DA6-4298-8CA6-B135ABC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828-DDC0-4540-8DCD-C36C0976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6721-F500-44C0-B60C-DCD6891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8359-FF35-4722-B92C-C396F3F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04F5-8CD8-4EE2-88A2-ABC24D29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D6F1-3640-4266-97FE-8C08D32D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29C2-364F-42C3-B537-9D615677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00C-1CBD-49CE-81D5-CC2B931E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3109-AA31-4BB9-8E11-E7B97EA9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F2D8-7A17-4760-92DA-7B2E051D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7700-68FE-41BB-A4BA-F8D1E29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FCE-5282-4035-A809-CD68194B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E06B-BAC9-47E8-BC6F-6B8F03DF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A93C-8CB9-4355-A2A5-BB71BEE5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E5477-B00C-4D27-B13E-CC3EB999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76D1-16C8-4C09-9B7F-CEB10033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CC65-B76A-4F52-9BF7-8B6C3C0D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8480-F97D-464E-86BE-ABBCDF5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47D1-11F4-41A0-952A-7B6824BF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43C2-23B5-4184-85D9-B11D385D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9510-47ED-4E7C-8BCE-9DF509DB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A56-822C-4961-80E5-5FD3D14C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03D-97F4-4850-8DE0-D1D73B76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D55-653D-457B-9DCD-2D43A05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070-8178-4659-8B57-7389D51B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627-1763-4BB3-962A-E46AF09C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3795-61A0-492A-A791-CF705DC92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5BB1-2BE0-4F5A-BD8E-81951E499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C543-7FD1-4AC9-87F3-DD22A05AC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Re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Ready To Suf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 + 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C. Palmer (1845-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ie D. Tillman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Read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5800" y="6488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ead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Read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ad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Read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5800" y="6488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Read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Read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ady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ead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5800" y="6488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Read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ead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ad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Read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5800" y="6488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Read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ad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ad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30T02:48:14Z</dcterms:modified>
  <cp:revision>32</cp:revision>
  <dc:subject/>
  <dc:title>Slide 1</dc:title>
</cp:coreProperties>
</file>