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B1F4B-067E-4E8C-AB0D-0D0E815F8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7F020-9226-48CB-97D6-041E8B8BE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EA3F1-62FB-4561-94B0-4C018B720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1FE16-DF53-4762-922E-B682DACDB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F1C95-EDF2-44EF-925A-4E34059EA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CE90F-5585-4D64-808F-EA3E9240C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16A0D-8C41-47A6-9807-860D15522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48402-BAF7-4556-8089-20B9D473A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E92CA-4CCA-4A99-90B5-71E3CF156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A929F-8BF6-4EC0-AE55-19FB75923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A040E-9A82-4401-B9B4-0B02ABC91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011C3-3F78-4C8C-9ED8-EAC98951B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66B6E-4C2B-4C65-A627-167A85BEF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7CABD-242A-4332-8066-D3342B168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A77FB-02D0-4AB3-B76C-12588D451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8358A-0BA7-421C-B571-F60BA2815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F98A5-BF17-48F0-892C-93FE44AF2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47B71-2349-4550-8482-613EC7303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46274B-48D8-4D41-8ADD-8CB28781E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ED80CE-AFA0-46FC-A53E-407BFF949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D5AEC0-E798-4A50-9849-639332D9D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A6988-514E-4FB6-A27A-28B24DE21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C49577-73D9-4776-82AE-A23185BCA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24B2B5-F5DA-4FA7-83F6-5C8194B45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3C7D88-8072-4354-B9DA-C52DB99FA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486C50-1735-45DF-9B29-B6E688685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8C9D4F-7B2A-40A8-AAA1-13EDCA988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B5D20D-2D43-4F39-B568-03C90E10E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BBBFB2-EBD5-4D9F-BDAB-5D9B5E20E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7EA4C8-A627-413D-953D-84C3DE1EE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6A9ADC-41B5-4510-8E9C-72ACB76B3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B1AD2-3E21-4C0B-A1A2-6DD14499C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93D18-3D48-42A7-AF31-35FA1BD8B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FD8B0-47E8-4C67-B978-187BBFD13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C901E-29A3-41B8-AE54-33AA3FA1B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A9BF2-861B-4590-81E4-A8663B9E1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89C64-A7E8-4C11-A7A9-D74DDD6E27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3B993-9A72-4388-8468-523E41042CE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30EA1-32C0-4172-88DF-D7A5BE3D72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Rescue The Perish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F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4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Fanny J. Crosby (186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illiam H. Doane (186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34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Rescue The Perishing_v3o4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Rescue The Perishing_v4o4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92520" y="6488280"/>
            <a:ext cx="320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 ~ Rescue The Perish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Rescue The Perishing_v4o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Rescue The Perishing_v4o4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2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Rescue The Perishing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92520" y="6488280"/>
            <a:ext cx="320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Rescue The Perish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Rescue The Perishing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Rescue The Perishing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Rescue The Perishing_v2o4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92520" y="6488280"/>
            <a:ext cx="320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Rescue The Perish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Rescue The Perishing_v2o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Rescue The Perishing_v2o4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Rescue The Perishing_v3o4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92520" y="6488280"/>
            <a:ext cx="320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Rescue The Perish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Rescue The Perishing_v3o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30T02:53:02Z</dcterms:modified>
  <cp:revision>32</cp:revision>
  <dc:subject/>
  <dc:title>Slide 1</dc:title>
</cp:coreProperties>
</file>