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984-B3AD-4A00-A465-FF3778F5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EA3-0F4E-454C-8359-4355BEC5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EAA-3C15-415A-B09F-DF252002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463-9EAE-44C3-AFD6-63209FFB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2048-D5F9-4D81-979F-4AFFAEA4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9F21-ECDD-4C5C-9ECF-7946B47B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D859-2C65-446C-BD5A-5119D97A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BEE9-A501-4B0D-A699-BCDDC6F4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59CA-5198-4B23-A7B3-5F82605B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CB04-C7ED-474E-A11C-A3002AB5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2A2D-64CA-4DCE-988F-3D4CAF59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6CF-77BD-4D4C-9EB3-7110E80B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6622-F505-441A-BA00-56A9F180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BC89-59EC-471A-8746-8C3ACEB9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DAF7-6390-4197-8C61-1FB935D1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E6B0-142A-469A-BDA5-ADE92A5A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3A4E-39BE-4C2B-8080-EEC63426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60E2-85DE-4636-A3AF-8D607477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CCA7-38A8-441D-8383-CF993A3F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43665-7357-4938-9A09-3CF978BA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B9C82-3517-4667-93C9-9D5DA780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CEC-1784-4935-A093-EA3AB614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0D1D8-1364-441A-B936-282DEDC2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1AB9B-C13B-47B1-9227-E0406ACF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7B85-644A-477F-8D31-9116D9CB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D0BD1-86D1-48DC-B453-4ADFA52D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00BBC-9D7C-434C-9C7F-9E14B202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2DF4B-8772-409D-8CE9-EC821D94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4F07C-F938-4430-AC51-24292F50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2944-63C3-4A63-9A38-F4FC5039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7E8EE-944B-436B-A302-770FB10F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EAA-7A8A-4976-BA32-E2FAE66A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1E50-C06D-484A-88D3-4473B635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F2F-496C-4F27-B659-8F99713C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719-B34A-492A-BCE6-A6E91B3B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C7F-EA5F-4A60-8609-BFD54309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4F33-59CF-4527-AF72-CD930E433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8A18-7440-4127-A2E9-124D41975F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D253-E32A-4DEE-A711-97BD24EF3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ise Up, O Men of Go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TH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P. Merrill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aron Williams (17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ise Up O Men Of God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600" y="64882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ise Up, O Men of G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ise Up O Men Of God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ise Up O Men Of God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1600" y="64882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ise Up, O Men of G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ise Up O Men Of God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ise Up O Men Of God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1600" y="64882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ise Up, O Men of G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ise Up O Men Of God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ise Up O Men Of God_arr2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1600" y="64882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Rise Up, O Men of G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ise Up O Men Of God_arr2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57:24Z</dcterms:modified>
  <cp:revision>32</cp:revision>
  <dc:subject/>
  <dc:title>Slide 1</dc:title>
</cp:coreProperties>
</file>