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4424-FB97-404F-AD28-276F26A5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2105-86E9-41BE-9002-A541C045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3746-A00B-4432-8BC7-3AD41F88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AE63-14EC-4FA7-860A-7CE92EBD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4178-25A7-418E-9400-33ECDF1F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C721-369E-4CAF-A7DF-825C684C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CFBA-54DB-4BB1-8F55-BFFA2C93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E515-D3CA-47F3-B2FA-79C6D55A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334A-FFDA-4837-809C-B33995A5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35E5-2919-4EAD-9B05-B3A75446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2BAD-6EC2-4498-8144-4686B65A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A053-482A-4943-8D73-B117A755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56A2-339C-4C08-B8AC-22A11BE9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CC20-E1AB-4E51-819A-072A9C64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1558-7EB6-47FF-9514-0A8EDDB2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84AF-76A3-4223-ACC9-83ED3498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46AB-9F8D-41FB-86BB-E857D40A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0B75-0F02-4F33-9DB5-9414E401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ECB7F-1EDA-4B2A-9C19-DE262BD9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5E127-1DCC-4391-9B0A-4B6E3373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9DC30-E4D5-467D-8130-14F31ADF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6CCE-EE47-46E3-BABB-A614A8A3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58F46-5AE2-4234-A62A-84A93417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B38B4-34C1-46D5-976B-864374E9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1B8C7-B5A3-4E5F-84C4-3F20A4E0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AE108-00F3-4F00-A839-FB17C683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AC800-00D2-4C2D-9BA8-DDB16F31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5AAF8-B783-412C-A1DF-0119EC5C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2F3B4-CBC5-4C13-941C-D5D41A55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655AB-BCD9-4348-B8A5-A5BBEB88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70EF3-43A7-44E6-B20A-88CD7FA5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E41D-75AB-4125-BB87-9507F401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19DB-05FF-4EFF-883B-CF300286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B0BA-36C1-4E0B-83C7-DB60C006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BE28-A992-44CE-916B-0A127AB3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A37B-70D9-410A-BFCE-CDA35880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9257-F337-4B37-AF42-20BA4C31F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C58E-D0ED-4A3E-99A3-53222448C5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DEE2-D881-4E15-9A06-44D5A7185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Revive Us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We Praise Thee, O G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P. MacKay (186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J. Husband (c. 182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Revive Us Again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6400" y="6488280"/>
            <a:ext cx="26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Revive Us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Revive Us Again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Revive Us Agai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6400" y="6488280"/>
            <a:ext cx="26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Revive Us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Revive Us Agai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evive Us Agai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6400" y="6488280"/>
            <a:ext cx="26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Revive Us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Revive Us Agai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Revive Us Agai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6400" y="6488280"/>
            <a:ext cx="26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Revive Us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Revive Us Agai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Revive Us Again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6400" y="6488280"/>
            <a:ext cx="26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Revive Us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Revive Us Again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30T02:53:54Z</dcterms:modified>
  <cp:revision>18</cp:revision>
  <dc:subject/>
  <dc:title>Slide 1</dc:title>
</cp:coreProperties>
</file>