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D11-5FA0-4DE9-AA5F-81CDB2BA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7F4-D3BC-400B-9238-D8F55FD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EC3-6D91-415C-B5FA-CE32D61B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A83-30EE-4CF3-B367-0D8BFD9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2FA-51EE-4121-8F79-978D4666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065E-1858-4FEE-AA2D-154906A6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325-E47B-4F94-AF8D-31F02DDE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358B-6657-41B9-94E9-B9B8860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E0C2-77B4-4D88-8369-2B15BE1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253-D4CF-4075-A754-802F444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4A8-E292-4A23-B10D-F269CB4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D80-A7D9-459F-A65C-B34F8D8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71E-6DE6-4191-BE9A-C11F2EC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B7B5-7EDE-4E40-B954-877E5FC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8FE-0660-43E1-9190-82C019EA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9C4-586B-4B2B-9F05-F58211C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B55-229E-49E6-8E85-27C132B3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4BC-FF29-4B32-8A2F-4CC79BF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395D-00F5-4A00-83AE-BA86AEA5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D686-E83C-4620-B462-6DF8D6B2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3AD3-B475-47CF-B289-6ADD2D1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9F1-1D18-49DE-8EDF-1EFF509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AE76-F5CE-467F-8796-6BBA28D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DD64-20D8-4D09-8AAC-BCA5F1F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7229-901B-4502-A940-3020E3EB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BE8C-18E2-4D0F-9647-E91E071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150C-B2E7-4E08-BF0E-505A0E2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F88E-0F5C-41FF-B307-9FED903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13E4-C835-45C0-A61E-EAA2F78D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B38D-2A51-4EE2-A8C7-96EA2DC2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1F1D-9F7A-4B1F-BD41-FA3FFB9E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477-3D4B-4C70-9BC9-6A6C847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35E-9450-45E1-9E6B-F3BC0EE4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C5D-324B-454E-BCD3-874FCEE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D85-15CD-402F-B635-782ADE3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3DA-52E5-4B17-B7AA-16E3F8D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07BC-399E-4936-BA62-A407E289E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36E-F987-4F06-AA06-2013E61C4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D5D2-8BEC-4C9A-B54F-413AAB92D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ock Of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OP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gustus M. Toplady (17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ock Of Age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ock Of Ag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ock Of Ag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ock Of Ag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ock Of Ag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ock Of Ag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880" y="64882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ock Of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ock Of Age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1:14Z</dcterms:modified>
  <cp:revision>35</cp:revision>
  <dc:subject/>
  <dc:title>Slide 1</dc:title>
</cp:coreProperties>
</file>