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BAC-6F9F-46B6-A740-C4FC5AEE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D13-DE02-40BD-93A3-94BECD9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E5A-0971-4207-9DE0-2047E8AA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55C-5F17-4000-986E-7A58927C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85C-8FA9-4511-9811-CFF4E75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06AD-9F86-4274-800E-C7252E5F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92A6-BCBE-4B98-B13C-97E06FB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1352-0CBB-4B56-9D18-DEFB62D9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CD11-C5C5-4A5B-8558-41454167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CDC-C8A5-46C6-A300-F5FA37D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A1C3-391B-4ABE-A843-EE7BE1E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857-59B1-4E3F-BCB4-1020985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4893-B181-4A28-890A-C33AE34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2640-C4A5-4DE6-8903-7AFBD30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BE4-6FC0-474E-ABEF-DDBA8FE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D41-7A16-4698-9239-1C84785B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AB60-1DDB-4427-9DF0-20132377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257-3AF0-4357-8F4D-19B92FF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85CB-F8BB-4A6F-9EC7-D66D716E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8BC6-6537-4694-ACA0-D73140D3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AB95-553E-4B81-9BCF-11FF6B7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209-12F7-45AD-AC52-DF160C5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EDCA-C785-4DB4-8FA4-AC8C5E8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A4B1-7F6C-4AA8-AB90-7ACA863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8768-4995-4836-8430-9CD6BCF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DB02-ADC2-4C76-9F75-7FA0ED0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CF3B-E500-4145-AFD4-0E3FC7B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99D5-DAD9-4A62-80F9-B8B0C1F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54EF-29E3-48A7-9AF8-7ADCB25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A8A2-4720-4E0F-A023-FC60134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943C-A907-4B10-81B3-A44F6B3E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0B6-3CA7-4AEE-A964-D3A6F87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913-5737-401D-BF65-F284ED6E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60E-9A21-484D-ACFB-57699F2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014-8EA1-440B-A7FD-250F050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2A6-1125-4350-B77F-CFD07BE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372-798C-4315-8F25-5E467579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F5FA-DB28-4D16-9D39-F74E8D74F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D7C-F159-4082-9720-5EB116F60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’m Redee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A. Ganus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deeme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deeme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deemed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deemed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edeeme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deeme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edeemed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deemed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Redeemed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Redeemed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deeme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deeme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deeme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deeme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deemed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deemed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deeme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deeme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50:11Z</dcterms:modified>
  <cp:revision>33</cp:revision>
  <dc:subject/>
  <dc:title>Slide 1</dc:title>
</cp:coreProperties>
</file>