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586-2BD8-48A7-AC64-F66BC293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60D-4CA7-4BB3-A08C-8D0035EF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332-488B-4FEE-BE92-D7D809D9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173-302B-49D0-A4F9-1EB65178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2A56-6790-461F-BB82-9E35DF42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66FD-3AEB-4145-87FC-325E9BD5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13C2-C03D-4CF1-A04F-28A0FDDF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849C-8E65-4684-9DF8-19FC6435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342B-C590-4F17-BD87-E62B6050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64E5-7D52-4152-9973-D358FF06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DEB5-1A17-41C6-B041-4EA6307F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A92-2AFC-4535-9D29-1B549C83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1C46-2357-403E-863C-5F8EF6BB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BD40-B14F-4140-A763-D421730B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04EC-4279-4630-AFBA-ED582D64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DD6D-9527-4034-B2FC-6E8E1CB8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9334-1D06-40E4-95F4-BCDD1BBE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6BD-6480-4674-8873-30EEEFA0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8D47-F210-40BE-8173-C2208EDC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BF561-1EE2-442A-8D98-9F34999F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5D256-C3A0-4C5A-B9B6-10B17E3D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75C-5248-40AB-BF53-C2C6A8E4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833C5-C8D5-41DB-B9BE-AE26626B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BE25-6B49-44B6-9D7B-31381F5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1D9C-591F-40A4-A46E-D3A98285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C425-A880-429E-AD1B-8BA9BD7E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B958-0A24-4179-93F7-D5AA8BEC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C2F65-D2D6-4A52-A63E-0E3CB7CF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64DC-77B5-436E-95E7-5A9FAD48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39C7-64A8-4852-8485-5279522B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76A2-A8E4-43C0-9E1B-C26E57C3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F09-D324-4DBF-AF22-31D00E2E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B3D-C01C-4FCB-B3CC-F8BB5C7C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8EB-507C-4973-9BC0-5418879D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562-B663-4BB3-957C-8EB4A60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B91-8183-406C-A202-22A6B35C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4585-8280-4779-B892-6C9EFEEF8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E55B-5C55-4B39-868A-C17FA3B52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1CFA-C369-48C5-9ED3-E6F17022C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dee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: Fanny J. Crosby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deeme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deeme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edeemed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edeemed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deeme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deeme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deeme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deeme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deeme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5800" y="64882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deeme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deemed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deemed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49:10Z</dcterms:modified>
  <cp:revision>30</cp:revision>
  <dc:subject/>
  <dc:title>Slide 1</dc:title>
</cp:coreProperties>
</file>