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347-772C-4D9C-B332-6555F073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019-4A49-4206-BC98-E499D451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FCC-88C8-466B-AD6D-FAF01C70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26D-002A-4A35-8418-03B3AAAA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6D59-E8BF-4D34-A171-8EF6B4C4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EB1B-D108-42CF-B98D-7881767B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6056-6C19-4E0C-B64A-6E1F641F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2362-4933-442C-9BB6-67ECD416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0893-3EFE-4396-A1B9-D94113C1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D121-5A2D-4C1B-80CE-80F607C9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D994-959E-41F7-ABAB-670C2257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0AB-1F2B-4DAC-950F-717BF8D1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9D3-508E-4B69-ADAB-D582DCD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C30C-9143-48BA-93BC-7E650410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C59-E393-4386-9F30-22094723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D8A2-DB99-494F-9B34-52F77445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189-B31E-430D-9AAF-11C7FAAF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6ED-5EF3-4A42-9373-5003CA29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F467-CC81-43B0-A588-D3EDC02D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5CCD-F3F1-458E-A7B1-D1D8821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5C0D-417D-4F27-91B2-9CCA276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BF9-EF2D-45D3-8E34-0E1583CD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8D46-F4B3-476E-8B33-990AE5AB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D9EF-6BA8-494C-9845-2C6889CD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1B3B-494D-44FB-9FF6-3C86FE91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95FE-DFC9-4566-8B56-49A8A0F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A617-37D7-4BCF-A83B-6F5FD70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B768-2726-4787-A42A-26DCDE40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EC40-5ECF-4B52-AA07-13CC759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19C6-FDB1-4927-87C8-D712FCB1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1F16-6BE3-4A11-8A66-458FD51D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645-0FC4-48EA-95D8-16D8B0E3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209-9580-461F-BFE7-477FA282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92A-C273-488B-9676-0035D87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1FD-1612-470C-A919-5EDF0101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B3B-23FF-472B-9E39-00E9DD39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0C75-CEB4-4F8B-9426-8331D8B2B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6C1A-7928-47FE-9363-A2A7B59A0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8B58-0ADA-48EF-B58C-67733BC48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ing Out The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ing Out The Messag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ing Out The Messag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ing Out The Messag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ing Out The Messag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Ring Out The Messag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ing Out The Message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Ring Out The Messag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97200" y="6488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ing Out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ing Out The Messag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Ring Out The Messag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Ring Out The Messag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ing Out The Messag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200" y="6488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ing Out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Ring Out The Messag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Ring Out The Messag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Ring Out The Message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ing Out The Messag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ing Out The Messag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ing Out The Messag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ing Out The Messag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ing Out The Messag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ing Out The Messag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ing Out The Messag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97200" y="6488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ing Out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5:27Z</dcterms:modified>
  <cp:revision>32</cp:revision>
  <dc:subject/>
  <dc:title>Slide 1</dc:title>
</cp:coreProperties>
</file>