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CB5F-AD6B-476F-8531-922797F7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D33E-4721-4C5F-A042-65412A4D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EDB2-7D3F-4764-B55B-C93E37726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2529-1EF5-4875-B1E6-87101D8EA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3F29-8018-444D-B032-14B59C7D8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49F9-8F61-49F2-A637-D5E79963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CA19-14D5-4AF9-B15E-46F09BE1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54C1-67E2-4A9A-87E6-0F78981D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428B-92D1-45B7-A23F-B12EAAF2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DEB3-099F-438E-9C1B-83916704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4ABA-C0CC-47F9-9E1A-9C1C008D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95CA-887B-4A02-A5B5-9983619E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5074-4B81-4AA9-9FE7-D1594CE6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A37C-9E6E-4883-B949-DA963F8D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2611-20CD-4B2C-AE62-AC109304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4110-8786-4B93-896A-83F79484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4116-95C0-4D02-A7D0-944E5B899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9BD5-4D78-47AD-B80B-18A5DB1B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61A27-167E-4631-BB2F-5BE22E166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1C32C-0E13-43E3-82B7-E835D24F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423C8-4BE2-49EA-9E49-B479646B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9A62-C613-43E4-AE20-2722A49F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30761-B0D5-4A70-A1F9-6AE7F91E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F7C52-A8C9-4975-AAEF-8C2C8600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A2C96-F177-43C1-B96B-0C2C6047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E1369-714D-4C87-A07E-076571D5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FCFCB-E8E1-44ED-8BF2-8D787148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EBBB8-C2F2-4F73-B1A6-6B994750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2A9E0-1F6D-40A8-8F5C-9C54E240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535D8-96F5-4AAA-B280-3FEA99A8C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77C5A-DE98-4E6F-A88B-2FAA294FD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DB2D-A9A4-4565-946D-BE876050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9175-2C7E-4D21-A0C1-DC44165D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E23B-FF46-45F4-993C-1B58223C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C96F-B8E8-4F0B-AFCF-67785A3D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15B5-522A-448C-93F2-A93CF86C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3B47-2029-45A9-A59C-2ECC51879C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C006-B78B-4029-B128-BAF39F0A07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1D4E-A520-4852-A2FE-23AB8A9BB6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Praise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PE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7.8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Kempthorne (179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owell Mason (184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Praise the Lor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Praise the Lord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81720" y="64882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Praise The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Praise the Lord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Praise the Lord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Praise the Lor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1720" y="64882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Praise The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Praise the Lor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Praise the Lor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Praise the Lor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81720" y="64882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Praise The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Praise the Lor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Praise the Lor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Praise the Lor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81720" y="64882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Praise The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Praise the Lor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9T22:57:14Z</dcterms:modified>
  <cp:revision>17</cp:revision>
  <dc:subject/>
  <dc:title>Slide 1</dc:title>
</cp:coreProperties>
</file>