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2D5-B68F-4BFF-BB0A-D35E59B5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184F-E04E-4693-86F6-8840AD2B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8643-7650-4FEE-A213-5A0A9638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307-880D-4B88-B340-78616B6A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8E18-680C-4B9E-97D2-709ADE60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18D5-E061-437C-823A-0C041DC4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2705-9CC7-4FA7-90E1-7F6E46F3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BC04-DB6E-4D4B-B081-E53E3768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1B08-6909-44AF-AC9C-4E89C4F3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8564-FE06-4CD3-AD72-221B9FB3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A4AA-F92D-4966-B9B3-262F3798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C9A-8F3C-44DB-8F8F-1077EB65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9A99-00EB-4160-87F4-F2417F10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3FDD-806D-4ECE-861F-B1DB6B2D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A2A3-C375-40EA-A5B3-4E2D1044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5DC4-47F3-4828-9B90-6F4E4014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F0FC-2E14-4536-8BF6-89B11BEA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AB2A-1FBB-4CDC-BE32-510FE047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F27C0-5E79-424A-99A1-4D815C6B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E2B66-7B9B-4C69-B0D2-8DDACBBB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A05FF-9D9A-424C-BAF2-DC87DF9C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CE0C-63BA-406B-9C03-FDF98303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A059B-CFCC-4336-B1D2-09AAEE76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9DEE2-2E7D-4470-B54E-0D0707A3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CC3DD-2CDF-4B41-AF63-938A95CA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366E3-174A-44C8-A2D5-A1D03B70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F5EC9-91AB-43A8-B0C0-4443DF57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66E3D-D027-4B8D-A9E3-58DF8DA9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8E2DB-5DE5-4B21-99B6-EC52074E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9ACAE-5426-4618-9E85-EDFE067A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A9894-7167-4868-AB7C-ADA6A2E9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DA4-F7CC-422B-BC1D-4F0AB065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DEEA-B876-4537-A4C1-4F9EF475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8AC-FA49-48F9-AB4B-2ED627C5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E19F-6343-48C8-901B-10FA1C9D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78F6-1070-414E-A3B5-36E13DC3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837A-1631-48CE-8AE7-631B90740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C4C7-5EE5-489E-AF79-BF838E06A5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2BEF-2A8C-4FBC-9B97-260ED1D3A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aise the Lord! O Heav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USTRAIN HYM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508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e Foundling Hospital Collection, London (17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z Joseph Haydn (17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aise The Lord O Heaven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160" y="6488280"/>
            <a:ext cx="38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aise the Lord! O Hea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aise The Lord O Heaven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aise The Lord O Heaven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aise The Lord O Heaven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aise The Lord O Heaven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1160" y="6488280"/>
            <a:ext cx="38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aise the Lord! O Hea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aise The Lord O Heaven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raise The Lord O Heaven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raise The Lord O Heaven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2:57:54Z</dcterms:modified>
  <cp:revision>31</cp:revision>
  <dc:subject/>
  <dc:title>Slide 1</dc:title>
</cp:coreProperties>
</file>