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949-8603-4287-8F60-B8142718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00E-6F70-4843-9912-9D70A007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969-98E5-4279-90E0-F9977FF5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DE7-2474-402C-B671-B166F152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C4E7-DB8B-492F-9429-3666E928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3596-C803-45BA-89FF-AC118A8E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A175-818F-4CAB-B270-2C1F0E30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B3A8-49CB-40D1-AD44-270E51DF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1395-2DA9-4429-9698-C03A9122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91EC-C759-487B-8D40-E675443D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6A0D-EBBC-4868-B325-A7A2B56D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637-46C3-42E0-8A47-E5519E6E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0F6B-D62C-431E-9332-3290C725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AC15-4FD2-49A6-9FBC-A91F559F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96C2-7769-46CA-9D08-824FC782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F8E0-56CD-4246-BDB0-A75C767E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12C7-612A-4159-B2A9-453951BC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1A3-5178-4A04-9E80-ACF3766A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0778A-810E-48D6-B4A0-12A8E233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282DB-14AD-4445-92E5-A3FA2D94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703AD-5640-4402-8452-56646E38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D06-A167-4408-A571-ABC32FAB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850C-0B17-4ABC-AE24-1D855855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00AC4-8E52-49E9-A259-C1AA3CD3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48DFE-FA34-4FD8-898B-9F115EDF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9D164-B3B8-4EF2-85D7-7AB141B6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89BB-71FC-4DB5-BD81-8659D9DD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F9E57-1E20-4741-958A-5487865E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1CEB5-3D1C-45CB-8AB6-75B8FAEB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9B7EE-94BF-4803-BC0C-DF5E1F65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F295A-A83D-420C-8EE7-8176772B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0A0-F3B7-40E6-967B-720B7D33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17F-2FEB-4425-816D-16C6595C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7DB-7DC5-42B8-9684-D2EBE996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351-9B00-4CF0-A040-77847FD3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811-2FB3-4F42-804B-619AC836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E4EC-023B-442E-A4DD-C0B62EFD4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E7FC-C343-4CD2-91BC-950255AF1B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A6E6-F6D1-46AE-9D30-4BB79034D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urer In Heart, O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GRA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4.6.4.6.6.4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A. L. Davison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more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urer In Heart O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360" y="6488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urer In Heart, O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urer In Heart O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urer In Heart O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1360" y="6488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urer In Heart, O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urer In Heart O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urer In Heart O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360" y="6488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urer In Heart, O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urer In Heart O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1:18Z</dcterms:modified>
  <cp:revision>30</cp:revision>
  <dc:subject/>
  <dc:title>Slide 1</dc:title>
</cp:coreProperties>
</file>