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047-9E6E-4927-8B1E-2C7EAFDB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8D5-AE47-4CB5-B77B-F8BD5266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474-BC7F-4940-8E7F-D83447B6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A5F-93C7-4021-A3E1-F2F531A1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3DB-84F6-44BE-8FDD-F0591DE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910-DCD3-4789-A34C-4951AEB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39D4-82EA-41C8-BB34-D6E0FD3B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2EAE-CC4C-4677-911D-7145D5B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868-BB4D-4C0D-B2A2-10E28ED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AB0-628D-4686-98A3-A0EE2125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9071-AD84-4F7D-939F-B8CC90D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489-3B31-4639-A63C-FFB50BA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E93-8B8F-4300-8292-666604D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497-1F8D-4AA4-8D7C-93C2B8B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33A8-BB8B-4474-928E-665CCE3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C8A7-1FA6-4703-9EE3-161B16E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642-983A-4D15-8025-1D3A47B8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F39-C113-4A69-AC91-F420C79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BD75-465B-4565-991C-73515E40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FDF2-B7BA-4073-BAC4-CE64F711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784E-6170-4D99-9A12-9CF5C418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838-0F53-41F2-BD99-1F5DE1F3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86C8-7C68-4B33-982E-3591D4B1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FACF-476A-4C3D-A470-1369CEE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0259-9E80-432E-8A49-050CB1A6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8FBA-723C-48CC-B084-CC4DEA15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0311-8695-42FD-9B60-C2D3CB7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CC1F-CAE2-46C7-8AFD-35C7E2F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A1A4-1083-4BA8-B24A-709A1CE1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9499-6EF6-47A0-9261-19E22D6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8730-3848-488E-9CF7-31625C5C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3BE-AAF0-4DE0-9545-F313191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6B5-F8F1-4CEF-B8E7-EDC686C8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D2F-FBBC-4941-8623-095B95F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F06-0805-4C6A-AA94-20C5CB0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D8D-3A9E-4133-BC6A-B303DC3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366F-AD5B-49AC-8C17-702BE303F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2A4-72E2-40DD-907A-6104E6220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01F0-D9FC-46ED-8AC9-E3EF31465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ecious Words (Precious Fore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oula K. Rod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M. McIntosh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ecious Words_Precious Fore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ecious Words_Precious Fore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ecious Words_Precious Forev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ecious Words_Precious Forev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cious Words_Precious Fore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ecious Words_Precious Fore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ecious Words_Precious Fore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ecious Words_Precious Fore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ecious Words_Precious Fore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8280" y="648828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ecious Words (Precious Fore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ecious Words_Precious Fore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ecious Words_Precious Fore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ecious Words_Precious Fore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7:47Z</dcterms:modified>
  <cp:revision>30</cp:revision>
  <dc:subject/>
  <dc:title>Slide 1</dc:title>
</cp:coreProperties>
</file>