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0F0-12F9-4B30-B4DC-4F657DCF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A76-6EDD-490F-A24A-01AE197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AEE-7DE6-4C60-ABED-E072B841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BFE-BE59-4073-8419-F285F104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A8CE-D01D-4B45-89D9-BB0A05BA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6363-607C-4255-95AF-54DFB0E4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F04F-6998-4AF3-8C45-CCE8913D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9A5B-1ED0-446C-BB68-8AA87E93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4076-6472-4FF4-8B47-E168FF5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4CCF-028D-4D10-85C4-DA3A3981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DAA7-95D0-4F6D-A6B3-27346A4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C47-E6B8-407A-9AD3-A7E0B673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D761-ECB5-410D-8328-F161F7D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098A-1B16-4085-995F-BDD6D8D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8B11-F504-4DE3-A677-B2F6E982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E5A2-E3C4-42BB-8580-8BD65B38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4D98-48FA-49DD-8B32-A0C9BE63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CCB-A664-4562-B827-100F510D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5979-F267-4595-8BE4-B377C868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23D5-0AA9-429A-AA62-63519FDC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0408-B512-4018-B4CF-7B4B9BE8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A49-41D6-4052-81D3-CF3CB41B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F783-084A-4A75-8CC7-76B8CBF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C6EB-9A8F-4D92-833E-11791B56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4FE0-4C74-4292-908D-703C4F29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4DAD-8BEE-42FC-99C0-F84C2D47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7FEA-801C-4C36-A82D-3030800B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8246-DD57-4396-A61A-A34AD468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ECB7B-401B-4234-8D1C-E89A44DF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CBA9-99EE-4A95-AFD8-66CA7CF5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BCFA-FC4E-4E2F-8B51-7CC7C1B8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7C0-4C92-4769-9525-A0EE64E4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9FA-C639-42BD-A306-2C14D686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F66-6784-4A84-9FA0-A76113C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53D-4AD8-4A66-A17B-ACE210F5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FAE-DA6C-46A6-BBC5-1277BFE1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DFCE-2EA2-453C-BD80-13E75308C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BDE0-96A5-4909-A984-3013289D1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4BBB-8B16-4AD1-8037-77B4D3873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aise Go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080" y="6488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rais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Go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3:08:51Z</dcterms:modified>
  <cp:revision>31</cp:revision>
  <dc:subject/>
  <dc:title>Slide 1</dc:title>
</cp:coreProperties>
</file>