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9C91-539E-4A9A-AFCF-FB7FFC2C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D767-BD0C-4F16-9D22-B44CEA5B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5BDD-A4CA-4530-A2E7-44B37B0C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1C53-3C80-4996-B006-0ABABF8B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8322-5811-4B2F-A8BE-CA632D80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2442-5C61-46BE-B0AB-A654AB57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74F6-1FD0-428C-9F1F-1B6F1839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0C42-852F-4370-BB01-0DBB1998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65D0-D978-4067-88DC-42BF2910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A5FC-E509-4583-9524-4A9CFE52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1919-2357-4C80-9391-8695F927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6C8-EBD1-4278-9BA0-CFF08C3F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A83F-7732-4834-AB1E-65BFF8C1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73C7-424E-45C8-BAAF-E80726ED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08E6-4789-4EBC-9992-DB87A393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CEE3-92F9-4F9A-A85A-DCA61630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7A25-28CE-4420-8C41-9A943E91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44E1-B585-4DA3-B528-D83299E3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A0DDE-D31D-4765-971E-05917EF0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453F3-63B8-40CE-AF01-BA1CACD4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1EFFD-1893-4AF0-B7D4-09A02816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9A1-177E-45E5-81F9-06A09503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0463C-A9CC-4407-A8C5-6EB985CB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08368-771F-476D-BAF9-D44D9A6C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4E6B0-4E85-4510-91AD-B92EAF3D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3E617-4BF1-40C2-922A-A6D9E937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85B26-C547-443C-82BC-520F3597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78AB6-9497-4F90-A0D7-CEBC56CB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51466-6575-4437-8CE8-619B4216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59842-7295-479E-831D-8B98FA0C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D3F2F-DACC-480E-A473-2BEFAF54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AEF1-CF37-4C1E-B8C9-02F3E42E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4A5A-7A14-43EF-B6E1-F169464E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2E64-459D-4190-A215-FA500D36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CB07-34FB-4F7D-8B12-509CDD7E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712B-3714-4BF4-994F-1A061EB2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C53A-F0E2-4BC9-9557-B8486ECE3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D345-AD5B-427C-B870-01EFE11C28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9ACC-9F44-4FAF-A4D4-2EB2F305C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eace, Perfect Pe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PAX TEC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0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3200" y="4902120"/>
            <a:ext cx="130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dward H. Bickersteth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T. Caldbeck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eace Perfect Peac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0200" y="6488280"/>
            <a:ext cx="31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eace, Perfect Pe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eace Perfect Peac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70200" y="6488280"/>
            <a:ext cx="31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eace, Perfect Pe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eace Perfect Peace_v3o4o7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70200" y="6488280"/>
            <a:ext cx="31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eace, Perfect Pe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70200" y="6488280"/>
            <a:ext cx="31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Peace, Perfect Pe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2:54:56Z</dcterms:modified>
  <cp:revision>37</cp:revision>
  <dc:subject/>
  <dc:title>Slide 1</dc:title>
</cp:coreProperties>
</file>