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6D5-0542-487D-8677-312FB2BC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243-E4B4-4EF4-8332-47261266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F4B-2466-4787-9161-C2762EF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621-80CE-4EEF-9C63-7449CDF3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1D4E-C2F6-4560-B775-1E6DF84D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2C1-09FE-4DC7-8091-9FAAAE85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959-D9E8-4563-951D-EF420B7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1007-B4BB-41F8-85D4-5AD26BBC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877-B95A-4A5A-A972-00FB1263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F33-480F-4E36-8B8F-6626A367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CB55-7243-43D8-92F3-052B54E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309-114A-4154-8378-3C3D2F7D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51F-22E6-4BF8-874F-F9183C8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B62-BC12-4AC2-BDD0-03E1111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818-E21E-4187-995E-E5668D8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4A2E-FB13-42D2-B59D-C5488DC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EB0-EEB1-444B-83A2-1090B30C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F42-AD67-45E7-9F1F-0862317D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A594-EE10-4522-A4F7-09E3D47C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328A-B2AA-4AF9-942C-56191BDE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6AD2-627B-4079-8A3D-2FB8454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CB2-F1F2-4F3C-86E7-5C4CCEA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FA45-FE0B-448C-A2B0-F30707A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F3BD-3305-4976-A533-C01ED14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A758-9385-4871-9F73-27CF123B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3359-ED11-432D-A35E-CF13929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4F6C-A9D8-43C9-94DC-A6B74AA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9C59-7C35-4FEE-92CD-D15B258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2F5E-0ECC-4AAB-8B43-9575EB96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47BE-AFD7-46B6-A223-44586E1D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7D75-3091-4FB1-90CD-CE8D302D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F8-98A7-48A5-B41F-E9C7471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423-9FC2-4CA5-B814-EA1832B4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93A-8929-4622-AF40-2B4F04B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877-6D6E-4809-AC43-289ABA3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B7D-709B-40C4-86DE-E0B7B2C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8FC-BCE7-4A41-9324-3B6482DF1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11DB-24D1-4E77-B26A-1260F5BE6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4A99-9D86-4063-82CF-2037DCEDE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Yet And P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YNDH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on Goethe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Vail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Yet And Pu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Yet And Pu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Yet And Pu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Yet And Pu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Yet And Pu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560" y="64882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Yet And P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Yet And Pu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2:20Z</dcterms:modified>
  <cp:revision>30</cp:revision>
  <dc:subject/>
  <dc:title>Slide 1</dc:title>
</cp:coreProperties>
</file>