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880-C4B7-4629-94E8-C5711F7E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04B-C57B-4BA3-9F3D-06CA3B08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EF2-596B-4E78-9350-21C68F01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8435-5D25-4057-BC0D-FE0ED5CC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E53A-088C-40F7-90C2-FEC2BAC7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3F6D-7954-4C8E-8D3E-20FF1400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72AE-9A09-4053-9B37-64912D72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7692-0408-4F04-B8A9-393F5513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40D5-3E25-422B-B20C-8724BE58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533D-1C7E-4B9E-970C-A33C64FA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03EF-D9D6-4F74-9EFE-4DF267E0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65E-8DE8-4942-B344-9EE0CBF3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BF68-7EF3-4E1B-8D41-F07CB564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C435-3EFA-4493-8D40-BE89BF08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C1BE-E5E0-4CAA-B443-D7CEA1A4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6716-C8A4-43F6-9690-567FB63C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188B-EA0D-431B-B254-844D0F78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C7A3-EF61-4DB6-94BC-75BC63CF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192E5-F181-4D13-BE4F-794EF64D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E55E-1A09-41EA-BF7B-2CCEE922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73AEB-DC4A-4FBF-A1BC-654C6D66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375-B0B4-40AC-9B63-3704F719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6A62C-1BD2-49E3-8E5A-7738150F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B0A7A-AABB-4D46-B797-3D6FC356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6D0CD-3D47-41E8-88A5-2FE13952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7E30B-4490-4AF8-8458-2EE882D2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1C73B-E962-498C-B26F-BB23CE69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29BB4-9AE3-4260-918D-A893496F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302B4-CF63-4D95-B528-60500499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3F526-7615-4DA5-AF11-AE51BCA5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40E46-1902-4EE4-BCB3-2DE390F3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12E9-AD16-4C37-9BFE-EBD75850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DDB-8143-4F6B-8DA6-D3693C44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34B-DBE5-4BD9-9486-1BC9E211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44CA-41CF-4647-BD57-B5E26DAF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340-565C-4BBC-8897-D2EFD19E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0E3B-8B2D-46A1-9AEF-FA9A1574F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4311-4B9F-4C94-B7DD-A406A48149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4771-36AD-4D2F-85AE-F3D59F921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aise to God, Immortal Pra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PLEYEL’S HY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na L. Barbauld (17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gnaz J. Pleyel (1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aise To God Immortal Prais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720" y="6488280"/>
            <a:ext cx="41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aise to God, Immortal Pr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aise To God Immortal Prais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aise To God Immortal Praise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9720" y="6488280"/>
            <a:ext cx="41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aise to God, Immortal Pr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aise To God Immortal Praise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aise To God Immortal Praise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9720" y="6488280"/>
            <a:ext cx="41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raise to God, Immortal Pr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aise To God Immortal Praise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3:03:21Z</dcterms:modified>
  <cp:revision>31</cp:revision>
  <dc:subject/>
  <dc:title>Slide 1</dc:title>
</cp:coreProperties>
</file>