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D47-4E20-4853-9CEA-EDDA3512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304-CD30-4235-86FC-1EC5AA9A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462-95AE-48B0-A555-52CC2794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D96-3524-4D2E-8BB0-C9B52D9A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50E4-5A43-438A-AD85-DA276C24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ED6F-AB67-42E8-9736-979D6CF4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32B7-C1FB-4745-AF5E-257F09B1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D9BE-8DDE-439B-9493-BED481C6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FBC9-EFA3-41F6-9EC9-8BBDFF50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BFF6-5C8E-4D25-A4FC-B91E252E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74D1-C05D-40AD-9E93-478F3A73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FC6-6FB2-44C9-B3D2-FED51798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4FA3-0129-4A41-92B6-92291A51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A46B-6CCF-415C-B9C7-B9DDE554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52F2-FAC5-41BB-A4EA-0AA2B39F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2181-1A4C-43A8-8B63-592967B7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45F7-7F53-4ECD-95E7-582DDC48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9C9-524D-4CDC-8C99-72319256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1A91-5CB5-4AEF-B36B-E41A088C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B77F-AD8B-4366-9C35-98C1F53B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E3A6-1399-4ABF-8005-6724E3E0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B45-3C77-461A-8A86-79CA0D22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D840-2F9B-4AF7-A43A-8D6AE6FC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0DAB-218E-4B78-9BD6-5A8DAB6D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13E3F-DEEA-4152-A15E-33C2DDFD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7BFE-5C9C-49DA-8D1C-2BCFC42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518BE-FDA7-49CD-88CC-A0B829A2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52FF-A247-43CA-9A65-6C52EDC4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271C-3554-4423-8C56-4806D427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B362-9125-4DBE-B9A2-77F5B050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A1C8-2E63-4161-A9E2-7222895B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BBC-D636-497C-8F9D-E7A6169B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7BE-B3C4-4179-B306-BD3B2047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AA4-EEE7-413C-9B13-6F81B154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675-5EF7-4485-A78C-92877250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063-0CC7-4AB9-B87B-AE65822F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E893-F8A1-465B-BA3B-03814CE16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8244-D0F6-4A9E-A84B-F0B1E46F3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B316-E90D-4685-92CF-25E6F1DD6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Pass Me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ass Me No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ss Me Not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ass Me Not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ass Me Not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ass Me No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ass Me No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ass Me No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ass Me No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ass Me No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ass Me No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ass Me No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3720" y="6488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Pass M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Pass Me No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15T20:51:01Z</dcterms:modified>
  <cp:revision>30</cp:revision>
  <dc:subject/>
  <dc:title>Slide 1</dc:title>
</cp:coreProperties>
</file>