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B8A-92C6-45B3-ACBD-2AAB99A8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90F-4404-4FBC-89D2-2F5FB5A4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081-A3AC-4780-AAE7-D9B702E8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9A2-0C21-4234-913D-C2B8C918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50D4-628B-432C-B95F-FADC22FA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0DE1-97E0-423B-97CF-D2F5D64D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914F-D853-4E54-84C3-9F85C25B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6F66-EE76-418B-8180-6D242CC5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B25D-CD69-47EB-B3F2-4A39E244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B52D-B2DD-4E29-8E25-FF90EEB8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0C88-00A1-4FA2-A24D-530181ED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DE2-911C-40C8-AE4E-6159C13F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DECF-9AAF-4A0D-852E-E8F9D450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26E2-275D-4FF4-B281-BFFBA954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D72A-5DA2-404E-A614-61E5E6B4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A10B-E12B-48F4-8F58-97A76CF9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7499-5152-42BC-AE65-95966CD8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218-96F5-464F-94E2-2E4297DC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4AE2-2E75-45DA-8BC8-EF338D4E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E4E86-E3EB-4593-B76A-D3FF9398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A0FD8-5675-46DE-8513-E9052C9E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F74-6882-4A0E-81E6-E3982DB2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76F0-E47E-413C-9F9C-32FB4218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7D49-9ED0-4D91-B03F-30D315D7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A451-5C7F-47EB-9D31-D12470F2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305C-9F6B-4149-8022-C7A8CDE6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A726-2F69-4D5A-B067-A06FC703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854E-47A2-4B74-9443-98DDDF3A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2CD2-7F91-4E21-B7B5-DFFC490E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6009-063B-40BB-A6AF-412E2980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AE8E-B72E-4AB2-A64B-0A1F9EF6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DC3-6B87-41EE-9C69-DC555B4E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507-5881-4CC3-BF43-566CDBCC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FC9-C4CE-4B0A-BE77-BE355AA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6C9-3305-405C-9E79-F71DD01A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6FB-905F-4582-8853-6EC8066C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71AD-A52C-49C8-98E7-0BB5E269A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13D3-B91E-451C-8EE7-7D1F74CEB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295B-709D-4026-BC22-A4BBA3758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epare To Meet Thy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anley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anley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epare To Meet Thy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epare To Meet Thy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epare To Meet Thy Go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epare To Meet Thy Go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Prepare To Meet Thy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9360" y="64882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epare To Meet Thy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Prepare To Meet Thy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Prepare To Meet Thy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repare To Meet Thy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Prepare To Meet Thy Go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epare To Meet Thy Go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epare To Meet Thy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epare To Meet Thy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epare To Meet Thy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epare To Meet Thy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epare To Meet Thy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epare To Meet Thy Go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epare To Meet Thy Go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epare To Meet Thy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9360" y="64882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epare To Meet Thy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epare To Meet Thy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9:42Z</dcterms:modified>
  <cp:revision>29</cp:revision>
  <dc:subject/>
  <dc:title>Slide 1</dc:title>
</cp:coreProperties>
</file>