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567-2FEB-4CB1-BC2F-AD896132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997-993C-4895-AD8E-224B801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D3F-31DC-4D3B-83D5-AADBB710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B87-EE9D-49E3-B450-E1FF9BAB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6B8-772F-448D-A840-AE753C6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6A79-A6A7-46D4-B9F3-3AC76CA2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D42-5AB8-45C5-A3EC-732D5AA6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425-1C3F-4CD4-AFB9-12495FAA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3C1-4207-4535-8DF6-B6EA09F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EBC4-66C4-4C1B-B635-6848A5BB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96E2-893A-472F-A5FB-EF65825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6BB-E3EF-43A6-8CED-FBDBEC9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10C-3340-4000-91C3-C93AA5A2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D98E-E06A-4053-847E-95AE261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3A2-8C3E-4D2E-A31F-46BEB80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872F-814D-4EDE-9B7D-BA9E8AF0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DB8E-9960-48CC-8377-83D9B249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8F9-2BD0-4818-A948-F183DAF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CD83-D31A-4086-811C-8C36E20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2929-2795-405D-83E7-1D37C08E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FE15-5DF2-4432-9E19-E8F0000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60-54F3-4663-AC2E-96AFCED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7D4D-F9CD-4E38-B202-24FC1D21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5964-E5C2-4293-8861-E01C2B3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C487-F211-4A1D-BF2B-E920F0A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4AAE-34A0-47C0-9F10-F3686DC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9D22-4AB8-450B-A9D8-6F8F400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B6EC-2665-46EC-943A-68AE702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5706-0455-4A10-805D-16B0283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DEF0-A419-4203-B04D-80C96B42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F6B7-D95E-4F1E-9D69-17E08C30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531-E484-4E02-9E06-634692D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BD9-7CFC-45FE-A541-560ACF6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1FB-A7A6-4162-8527-F5DF0FA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6B5-1984-4FC0-B594-ED7C989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795-D56C-4633-B2D0-DFE6A20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5AC-ECAC-4113-90F0-4A21546E3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0BD-4F19-49B7-B221-137C4AD3C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F4AE-0E04-44D4-9AA7-763D6981F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raise Him! Praise Hi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ester G. Alle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raise Him Praise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raise Him Praise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raise Him Praise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raise Him Praise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Praise Him Praise Him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raise Him Praise Him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raise Him Praise Him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Praise Him Praise Hi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aise Him Praise Hi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aise Him Praise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raise Him! Praise Hi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raise Him Praise Hi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raise Him Praise Hi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raise Him Praise Him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raise Him Praise Him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Praise Him Praise Him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raise Him Praise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raise Him Praise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raise Him Praise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aise Him Praise Him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raise Him Praise Him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raise Him Praise Him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9T22:54:11Z</dcterms:modified>
  <cp:revision>18</cp:revision>
  <dc:subject/>
  <dc:title>Slide 1</dc:title>
</cp:coreProperties>
</file>