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4A3-2D03-4CBF-BE21-626D8394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DD2-FCA1-40C6-92A4-193A71E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2C9-E80D-4D9F-BAA8-11442D66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81C-FC17-4DD2-A6B1-F28F50BA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A364-4941-40DF-A8AF-7991D148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41F-45B4-4D2C-B96E-192C41F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C4CD-16C2-425F-B5D3-738EEAE2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D1A-0C94-4E91-81E6-F4314C6E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DC9B-9BC7-45C2-9864-0C7E33F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45E-881B-45EE-99FC-6857F3B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BD03-5570-4E25-8A76-C6B782C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D15-C865-4A03-AB5C-900C4E9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F57-C5F3-4C1F-8106-69C07D2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BF5-A067-4484-8048-B1053D08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03B-4453-4E41-83EF-AA192F0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9558-189D-4F65-9E1C-2DE39D2C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637A-5DF6-484B-B470-57793797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364-6DB8-4337-BACB-75C42B7E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E961-CE9B-4AF6-B015-C521043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2C99-5502-4E05-8D32-9260936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4A60-311B-477E-8AA9-BF8B26CD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B03-B0B2-4D7E-B68E-7010083E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510B-F879-420E-BFFD-64AEE475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B72C-D26D-412E-AA60-F647292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803C-FFBB-4153-B8F1-292353D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BE40-31F4-4722-8881-D205B1B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1A94-B447-4918-A009-C2BF0B14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0E62-BC96-4FEA-829B-9B43A18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EAB8-26FE-434B-B9F3-F81F144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08A6-D979-429D-B5DB-D222223E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5E2A-C13D-450D-811F-FB4FBA9A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4C9-BBCE-45B5-B6F4-AC3AA76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5D3-EF69-4840-A42D-66812862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2E0-1353-4BE1-B639-EEDF3AB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13E-CD2A-4168-9C79-784F0BA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718-FC7B-41C6-A78B-3C5AAC9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EAC-1889-4826-8C51-ECD046434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ED6-601A-4D25-84AD-3989540AC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755-4A7F-4155-9AB4-C80DDA386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ince Of Peace! Control My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S. Barber (18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Port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ince Of Peace Control My Wi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ince Of Peace Control My Wi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ince Of Peace Control My Wi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ince Of Peace Control My Wi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ince Of Peace Control My Will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ince Of Peace Control My Will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ince Of Peace Control My Will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ince Of Peace! Control My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ince Of Peace Control My Will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0:21Z</dcterms:modified>
  <cp:revision>29</cp:revision>
  <dc:subject/>
  <dc:title>Slide 1</dc:title>
</cp:coreProperties>
</file>