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7CA-8FF2-4695-979A-BA1F4D09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43C7-985C-4432-BA99-4E6306E7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A36-8EFC-4CC3-9B17-5A3B5BF1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E2F-1CA8-42D2-B541-E32E2A18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45C9-6FF1-4EDD-A0FB-DB11012E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A274-248E-4D99-A7AD-1A469B09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40C2-B4C1-4863-B7FA-0886C8CA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4B78-4F42-43A0-AC78-5AF37975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C5A4-FF5A-4B51-9961-466627F9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573C-4D4A-43E7-B6B8-8C784375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7ECA-8FF6-4421-8439-AFA94BF9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E34-FD24-4700-9141-B63ACE42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867B-B554-422A-A4E2-3D932CFA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1E90-8F69-4FE1-A4F8-7CDDBC88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EEDB-FF74-4333-8081-CC9D519D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DD30-D329-49B6-B2A3-4A95EF22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1080-A74F-4E55-B503-354D5DE0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0E8-DFEC-4678-AEFB-8B7FB2B3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D102A-D7D0-4113-AE2D-75F2125D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0FF6C-39C4-4CA7-B1A5-053AE6A8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CB211-04BD-44A4-BB2C-D73B7BA6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CAB-2DA4-4039-892B-35D792ED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A1BD9-6EA9-4C68-852E-08FC9371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BD5F6-6A6F-44C8-9F7B-3C6CFD86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BBEDD-9DC7-44FF-A593-57DE6033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77D0D-15DF-4B84-9740-B6E48FB4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23E85-8687-40D8-B7CD-AEE958F7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3A010-1F0F-44EE-8576-AF5A792E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C17FD-D579-432E-B2F1-CDF6DC51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F9079-72D6-4CA0-BF38-3E142D5F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5F166-9BC3-47DF-8BAC-814AE546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B49-5B9E-4040-AF66-4C75BA22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079-1903-437F-BE8F-91AC6DAB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9ED-6378-4309-AD0B-0311282D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B0A-B04F-46CF-A490-D9B505C9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CAD-196D-43B8-A1D3-4DEAE83F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FE4A-C493-440A-874D-32BABBB1D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4F3C-A1DF-4C85-A2BB-4B2CFBDD7B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9E2A-32E9-4F58-900C-BC66EBF5A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h, That Will Be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Glory For 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h That Will Be Glor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0440" y="64882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h, That Will Be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h That Will Be Glor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h That Will Be Glor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h That Will Be Glor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h That Will Be Glo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440" y="64882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h, That Will Be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h That Will Be Glo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h That Will Be Glor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h That Will Be Glor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h That Will Be Glo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440" y="64882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h, That Will Be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h That Will Be Glo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h That Will Be Glor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h That Will Be Glor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9:32Z</dcterms:modified>
  <cp:revision>33</cp:revision>
  <dc:subject/>
  <dc:title>Slide 1</dc:title>
</cp:coreProperties>
</file>