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E5E-9189-4732-B9A9-F8928BE4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D6F-9746-4A29-8B34-0DE17080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2C3-4D66-408F-AFA5-98687D55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702-3F66-4E85-9916-9F15C6A8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D178-6A44-4F2C-9B48-C7F4951C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AB13-063B-4FC9-81C9-014B6ED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304-6826-4225-89C0-BAB1D4A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453-D514-4D7B-8FAC-1D2A0C4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286A-9854-45E5-B725-6A89E63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7A99-2F01-44F6-955D-0B657779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6780-77AE-4178-A488-4A821A9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10D-6724-4914-BBCF-DDFCE7B9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404-7C9D-4800-B2D2-35722FED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E0F4-5535-40DB-AAA8-8969113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AF9F-63DD-4158-88D0-9632207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B611-1184-470C-873F-F16C7BBB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43F-8816-410F-A577-B4854CBA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03B-0C27-4EE4-882B-4D723AAB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5520-A6F8-4447-A6BF-3ED3088B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3F31-2799-48A4-AECA-6D2DFA9E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B475-C2B1-4396-B55A-637C28FB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EC4-9D14-4A90-8B0E-6D96B886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8B76-2584-4972-A2B3-7F9E27C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1E27-3B4C-4760-9125-8787A1BD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196F-C40A-45AE-BA06-94706849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1D1F-26FE-4986-B760-93C94FD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548D-D458-4C68-8D84-D7A202F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B164-9B04-443B-8E78-AC52767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E43D-812D-4BE0-AD3A-D78FA39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5D2D-4ECC-46CD-8942-E7493C8B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C60B-9DC7-412E-9357-B125A076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A70-FDED-47CF-83DE-93B7B46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002-2750-4151-A591-A52E42C6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967-E638-4062-8538-55CC377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51D-7046-4A1A-930D-07C9AA8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0E0-3066-4D64-8F6C-382A0A19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F31F-121B-4850-BEEB-F33EA760B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996-7754-448C-B337-8E688109C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B659-CB1A-4208-AF0D-10A5F27BE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For A Faith That Will Not Sh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Z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Bathurst (18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Glaser (1828), Arr. Lowell Mason 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For A Faith That Will Not Shrin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For A Faith That Will Not Shrin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For A Faith That Will Not Shrin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For A Faith That Will Not Shrin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For A Faith That Will Not Shrin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For A Faith That Will Not Shrin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For A Faith That Will Not Shrink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For A Faith That Will Not Shrin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58:35Z</dcterms:modified>
  <cp:revision>33</cp:revision>
  <dc:subject/>
  <dc:title>Slide 1</dc:title>
</cp:coreProperties>
</file>