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643-4B37-47F8-8358-8001A1CB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531-B4A7-404C-A2E3-89CCC98F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236-62D5-4CAA-A54C-330196E2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D91-1332-40A2-89D3-F2C88F0D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05E3-62ED-4735-86A2-6158EF30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B6A3-7BA0-452E-881B-B4388E64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772A-A2F1-430D-B16C-CE7348AD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00D5-DA4E-4AF6-84AF-269A18D0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462B-0071-4C5F-A9C0-0557E346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AB10-AC9D-4036-BBBB-37834BFB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0441-2040-4696-B05F-9AAE1FF7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E88-EBF4-4101-9583-7DC902F6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9C1B-5606-468C-965F-09A45623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6279-4ECB-47ED-8040-B75A992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7F90-F51D-4D7A-B3D7-274C6076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7458-3C6A-469C-A97F-72A6278D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BC06-9825-4786-B23B-3B3ACCA6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D6A-14F0-4112-A798-880200D0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A83E-8EA8-46FC-9D2E-6C49A4F9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8B9A1-21DE-4BF5-9986-FF7E8A11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A8C0-357A-4ED2-9FA6-078338ED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BDB-5B38-4318-ABA2-F9F908A5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8A8F-E298-4E7C-B1E5-BFC05A7D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FC29-4C3F-4C0F-AD9B-A679AFB6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9104-414C-4D93-B4B5-E7B0D969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2BD3A-2B59-4E2F-B567-9AF10068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BE3B-1F7F-4BBF-A1AC-6FC6D840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0F9B0-D756-49E6-8A9C-EF6E650F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4C63-5343-40E9-A59A-559D6DEF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1D65-F20B-4702-86E2-70F488A2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E516-8081-4092-A5D5-8A0C55B6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F2D-97AB-4BA2-937C-B4D441C4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DE0-95D5-40DC-8CEA-87A01784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D8F-A12A-4766-BA8D-85464AF8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4B4-ABCC-4A6F-A376-C66A04D0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E80-5396-44E3-A8F2-BE90DEC5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B136-0943-4AFF-A41D-BD43A168C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5F8B-993D-4EF2-B3F4-561DB3940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A2FE-FBA9-4DA2-9771-E9DB37B59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h, The Things We May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izzie DeArmond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H. Hagan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h The Things We May Do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5920" y="648828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h, The Things We May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h The Things We May Do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h The Things We May Do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h The Things We May Do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h The Things We May Do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5920" y="648828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h, The Things We May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h The Things We May Do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h The Things We May Do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h The Things We May Do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h The Things We May Do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5920" y="648828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h, The Things We May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h The Things We May Do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h The Things We May Do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h The Things We May Do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0:11Z</dcterms:modified>
  <cp:revision>34</cp:revision>
  <dc:subject/>
  <dc:title>Slide 1</dc:title>
</cp:coreProperties>
</file>