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4AE-6274-4CD8-B29C-CFD328D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C7C-ADA4-4790-B7C3-84190A8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058-13FC-4A34-8C08-AD4856A4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628-C511-4427-9D23-CC4F3034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99E-5606-4739-A205-7B6CDC7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7C2-CB1D-4B8D-A9FD-12EDC80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44BF-B7C4-42FE-B132-D1C9C7F9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7D76-98EB-48B3-ABFE-B64990A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15D-1AE7-4C4F-8662-C81FBB76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162-9FE7-428E-AABE-87254EE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577-45D3-4855-8460-E5E4A39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596-BD04-4C10-A098-F78016DC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DA8E-D00C-4A3F-BDC7-75F073D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7B5A-711A-478B-8E1D-4A888B2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2B10-E05E-4062-B077-20D056F6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8CB-9418-49ED-AFF5-45E36241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156-547D-4EC4-98C1-0D927CCD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75C-7431-409D-A820-299A4E3B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F60C-BCE9-4F8D-A1C6-0884CEB9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7216-68E5-46FB-9986-AFB2A99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4440-253B-415E-8595-5824F33B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3ED-70E4-4FF3-BCBD-6A2B7B0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462A-9E0E-4545-9B1E-09533E7C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A46C-0623-4474-816C-CB9915F9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F613-9E22-47B3-AD5B-DF79C18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345D-BDCB-4410-BFFF-C7FC357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DC56-1CD6-45CC-AB70-8B7FBB3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E582-48B2-4D95-92DB-9B83A0B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9C87-624F-4268-BEFB-0815FDCE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CF08-58B9-49AC-B74B-22F4F629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ECB8-E8D0-40C8-B233-56C550E5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86C-02DE-435C-A04D-1690087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2E2-8E09-411D-B1F0-44DF0407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0C6-7A74-4851-A9B0-2E73F30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D92-31A9-49C4-BCAD-479EC2F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F40-1646-412B-9FC9-30D9125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0FB3-889F-4A45-B11D-693A74424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4FE-5117-4708-BE6A-544D47D58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CDE-7EFD-4986-A004-7241467EA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oly Nigh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ANTIQUE DE NO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lacide Cappaeu (184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John S. Dwight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dolphe Adam (18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oly 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oly Nigh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oly 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oly 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oly 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oly 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oly Nigh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oly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oly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oly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oly 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oly Nigh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oly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oly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oly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51:31Z</dcterms:modified>
  <cp:revision>33</cp:revision>
  <dc:subject/>
  <dc:title>Slide 1</dc:title>
</cp:coreProperties>
</file>