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0B7-684D-449C-ADE8-19A62CF2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C98-BE42-44F1-BB42-10E74C4B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F26-466C-431A-9158-560FD298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86D-38D0-4093-8A53-6CFEE9AB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8F89-AE1A-4D21-81F4-0412B18E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89CC-9AE7-4C1E-A6E1-BE42A5F1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7207-5237-4126-AAEB-6C6EB2E4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99E7-D350-411E-B127-97438462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8C83-086D-42A4-B3DF-4EDDD7FA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840E-1A03-4250-8536-59A9AB98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2E1B-CD80-4355-87E6-6E4F28F5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DF1E-13EE-4E98-AEBF-D037FE01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A14D-3B45-48B2-80BC-31FA0DEB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97AC-9605-45EE-981E-198D0A52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C582-D4AC-40C1-B805-D095F555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6ED9-E71E-4966-AA82-98E54725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E9A7-2534-4FFF-A317-F15C1C16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408A-5F4C-448C-8DD1-FFA483EA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C53AF-8AE0-4F29-BF44-08E2204A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DB93D-4958-4433-A8C2-CAA67AFB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10BE6-016E-4A33-A742-63C5E3CB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204-51D6-48F5-9EF1-B4E122E6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1DFE3-3C23-4DAE-9404-14D98638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EB5BE-96D8-43E7-BD9B-67EE0A2D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84FCA-C80B-4242-93B7-D79C76CE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2D284-EBE2-4F06-A93A-9DC40CB7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A735E-9D39-4AD9-8040-64E83B4F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1ECE5-206C-4194-8F3E-289D414B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7681D-F495-440F-A155-D9BB8A97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8478B-502A-43D4-9629-8D030303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7145-2D70-4D14-AA97-844F9B08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8DC-DD58-445C-A0BE-C23B4951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4FC-0BFF-4494-A741-12C0A45D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2C7-8FD7-4044-8344-939041FF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F3F-5636-4F5A-AAFF-5E694AA0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F32-68B2-49A1-8C21-45E685C7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1C39-3711-48A4-94D6-B11DC33E3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9DAD-0E31-4CEF-BE03-965C510EC0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2154-1CC7-4178-BD42-4569B2061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Sacred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PASSION CHO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6.7.6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ttr. to Bernard of Clairvaux (12th Century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. James W. Alexander (18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ans L. Hassler (1601), Arr. J. S. Bach (17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 Sacred Head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4520" y="648828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Sacred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Sacred Head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Sacred Head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Sacred Head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Sacred Head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520" y="648828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Sacred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Sacred Head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Sacred Head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Sacred Head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Sacred Head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4520" y="648828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Sacred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Sacred Head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Sacred Head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Sacred Head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3:26Z</dcterms:modified>
  <cp:revision>30</cp:revision>
  <dc:subject/>
  <dc:title>Slide 1</dc:title>
</cp:coreProperties>
</file>