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B3C-4857-4A49-B805-1F1C09FD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586-CC0A-412F-B835-CD73032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D80-EDB8-45A6-AA19-3908AA73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C2E-364A-43B8-9B44-78C83D49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2308-9DFD-49C2-922C-E0EFBE4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5AF4-CDD3-4B73-8D5C-E3CDF7C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179-DD62-4AB0-BF48-7155AA3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DAC4-B104-4C51-AC9F-1B05C47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40B4-F946-49C0-A828-B247948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262-BB4B-4A4A-8C75-5F481CD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B8EB-3004-4A30-BCB2-6178CFF0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FAC-A484-4650-906C-B53AECE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B17-FDF8-4B89-949F-59BC2E2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97E-AC3D-4C0B-AFA4-C4468AA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00F-8924-43A4-8024-384BA9EB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AE5-0958-428E-95A1-31252C6E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DD28-BCEF-41AC-AAE0-95F75561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675-BC17-43F5-8584-156E6E2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98EF-3C84-4000-94AE-C8207992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A6E1-46E9-4907-9C42-9D97289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43C5-C041-49A2-8755-56961652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6CC-8D80-4BB5-9E8B-E1FEA3F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FF90-8115-4BDB-A3A4-FA70D00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8BFC-0F46-4201-9EA6-82638E6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0780-ECCF-4331-A13D-E64DE95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FD34-8D0F-4AF4-81F9-7AA00D0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0863-E272-4A25-9958-B21A1AE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8AC1-A67C-4143-8540-89E6183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F07E-8308-4509-9D3E-F8684A3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AABD-7839-4833-ADFC-D7DA538A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99DC-BCCA-4303-BE6D-D450C272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A38-A77F-482B-AD29-C58E5CF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BB6-22A3-416A-B3E4-7B06112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0D7-0835-47D8-89C7-E277C05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465-35B1-4E21-8D0A-BF132B26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8BF-6D85-4E69-BAA9-4819BE6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9420-58D0-489C-B399-A52717D0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0E29-F5A7-4739-A067-D511C01BC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C7CE-5D7E-48DF-8CF3-6042E5D65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ce For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Free From 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ce For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480" y="6488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c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ce For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ce For Al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ce For Al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ce For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c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ce For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ce For Al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ce For Al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ce For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c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ce For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ce For Al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ce For Al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3:55Z</dcterms:modified>
  <cp:revision>35</cp:revision>
  <dc:subject/>
  <dc:title>Slide 1</dc:title>
</cp:coreProperties>
</file>