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951-38DE-45C5-A9E1-0D37406C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090-C74E-4E21-A0EF-15144944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263-DA01-4B56-B938-12E6E7A3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C45-E152-4FDA-96E4-70B90C39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E94E-76E6-47D9-964E-26EEB1A2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4C90-09F0-4F41-85DD-AFAEB888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6BD3-FC6E-4CAE-9D36-2D3E207E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A142-4850-4BE0-9899-C2367F75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1726-2865-443A-85DB-6C1C6118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7984-FBB6-4C84-86D0-6C991906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47F6-F1FE-40FA-B6B6-FCF7323D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900-ADC2-4B82-BAF5-0D588384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CB2-72F6-4CF7-98A4-62FD127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AD2-059C-422F-B981-BE2B006C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AF79-D9BA-4698-A006-F0CEB2FB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3764-B164-4292-BF37-F1D2D07D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0763-64C7-4BD6-AAF1-B3158758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2D5-61D6-41F3-94F3-E5544203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E45D-B023-42CB-B8A4-024BEC03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3D60-308A-4346-BB7B-ECB9D0D6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E437-B3BB-48FF-89BE-0FF72AEC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77F-AE7F-4364-8117-12CE2B6B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EBFA-73A9-469D-8A2F-DF2247BF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16BC-51FF-4FC1-B086-98415DA5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B5ED-9C7A-4AC3-A77D-B942E83A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CA26-BEAC-47C8-A352-9303C1E3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3083-AB6B-4E1D-9E87-D2EBD204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DEC2-F525-4891-9913-C0153C7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70D8-3325-4337-9000-386D169C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7A61-8E8B-4CCB-BB18-606E59C7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203F-7561-4A91-818B-953E2033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6AE-C66B-424F-90B0-4F57AEB9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BDF-B165-40ED-98EB-1B01C496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631-08E9-4747-8254-547F2475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35A-F498-4CD2-959B-E325EC06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F24-8353-4207-8EFF-9B3ADDB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7C9C-7E32-4FAD-B755-0DA8206CD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C8B9-1A5E-44E2-BBE9-5EB3DCBF0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BE6F-6DA0-4D43-BA54-8C125A72A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h, How I Lov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Whitfield (1855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. Bradbury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evotional Hymn &amp; Tune Book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radbury’s Devotional Hymn &amp; Tune Book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h How I Love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560" y="6488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h, How I Lo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h How I Love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h How I Love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h How I Love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How I Love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h, How I Lo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How I Love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How I Love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h How I Love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h How I Love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560" y="6488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h, How I Lo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h How I Love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h How I Love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h How I Love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8:20Z</dcterms:modified>
  <cp:revision>30</cp:revision>
  <dc:subject/>
  <dc:title>Slide 1</dc:title>
</cp:coreProperties>
</file>