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7A8-D3C9-4BB9-9DCD-05C0394C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308-5774-4BF1-9F85-61CA5650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B26-879D-4ABF-B3BE-F9C527F9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4F7-03FF-44AB-90C2-23B67CA6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F15E-29EF-4C35-A172-74764FA8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1B38-8D62-41D9-AF2D-2DC88BE8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F4BF-9D7F-42EF-A3E5-9CD07CF8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A909-120B-44A6-9159-6A73CCE5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9DA5-7D56-49EC-A1AB-EB41B903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5A3D-B8CC-4647-AAA9-535039C0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4923-C8DE-473D-A918-40DCAE00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31F-1DF6-43BB-8F47-1188B6E0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F9B9-BD57-435C-95F9-C07D2E7E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D107-3644-48CB-8ECB-1A047F6C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5E9F-B1E4-4915-80B4-50A192B6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797C-04E8-4B89-8B9F-37147655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D7AD-1D89-4174-9E8F-CD0E9911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979-B93F-4892-8C4E-B8F8F947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5B7E5-AB54-473C-8611-8DEBE76F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8842-6B50-4A83-A544-12A15F06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58E6-C261-4227-A57D-1A339632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E60-E061-4B57-9490-62EA2F3B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C63D-21B3-493E-A15F-EC0F5C4C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6F350-A5A7-4E62-8D49-9FBEBEF8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B7B84-187C-499D-B7A0-4BE09922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40761-10BA-490D-AFDD-34DD8EBA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1B1A9-45DB-45AB-A4DE-0B5D2B67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C4E39-5139-4127-B890-E4B7D035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FBD3-2E46-47C4-87E8-5EC74296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AD42-CE7B-4093-8EF6-DF786D8B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F4FA1-B9A5-475B-B038-4CD39417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DBA-2878-4F90-B9D9-24483D41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116-DE59-49C6-B823-366557EF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80A-1D4D-4CBC-9EEF-04743C40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63A-8F8A-433E-94FB-815924EF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28F-F21E-4377-A742-D79BCA5E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893D-941B-46B9-9A02-C27D3F234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2010-5E25-4111-ADED-FCD8868C6C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4C27-C7CA-442F-92F1-7EC42EF53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Jesus, I Have Promi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NGEL’S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7.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E. Bode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thur H. Mann (18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Char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0080" y="648828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Jesus, I Have Prom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Jesus I Have Promised_arr1_v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Jesus I Have Promised_arr1_v4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Jesus I Have Promised_arr1_v4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Jesus I Have Promise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080" y="648828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Jesus, I Have Prom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Jesus I Have Promise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Jesus I Have Promised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Jesus I Have Promised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Jesus I Have Promise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080" y="648828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Jesus, I Have Prom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Jesus I Have Promise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Jesus I Have Promised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Jesus I Have Promised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7:59Z</dcterms:modified>
  <cp:revision>34</cp:revision>
  <dc:subject/>
  <dc:title>Slide 1</dc:title>
</cp:coreProperties>
</file>