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31B-FCC8-46FA-A29A-CAAE505C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05E-AF5C-4022-B01F-D961BD3D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575-6BC7-4AAE-B745-1144804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38C-F70B-4412-B26F-08366EA7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04BF-7C0D-41F3-A56A-43E04EF7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CDF-6208-4640-A28E-E07B4376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898D-F470-40F7-9F65-040216D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882A-E7D3-4B6C-865D-5927CC6D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4E5-E23D-4DE9-94D2-82B7555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80D8-E6DE-4134-AA2E-AF634A9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F845-57EA-4E4E-9326-873EFAC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F0E-F8C7-4661-ABD1-B54B176E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A73B-4BC3-42E1-9FC1-6B9CFD5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F14-04A1-4FD7-B9F8-B10B330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0AD9-9B92-4B05-B3C1-6AA7AA7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EC19-C131-4C54-80E5-2A4E3480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D839-7DF0-4271-B925-EB14751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1EA-C6ED-48D6-9FE3-C645F8D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832C-D71B-4F1A-96D7-E9A0DBA4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3985-D88A-422D-B540-01B5851D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FFCD-1445-4D73-AF3B-F38240F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466-2FF2-491F-8056-E43D254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F277-F5DD-47FC-853D-02D0FEB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8784-3FE4-49A7-805C-A522569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4324-ADB2-4F91-8626-FE9C10FE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2886-888F-4FEF-879A-FBEC2BB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FDE3-628E-430A-A7F8-5348F0D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A0DB-D10C-47D9-B24A-E2C8A44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EDD0-EC78-4D0B-9254-B35BE58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5ADE-404D-4D32-8C53-6C12B791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D28C-C852-4A2A-8B91-95CC2F2B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140-446E-4560-9206-C4222B68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DE9-24CF-48D8-9783-7A27A7F5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1AB-E157-4464-8390-7453FD0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8F6-101A-4A69-A336-A52E532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30C-D4DB-4B28-B8B7-63B5FBC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A7E4-487C-426F-A45B-DA94EFF9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F9E-1CAB-43AB-B91A-03F2DD3C5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CA84-556F-443D-803B-464E2B93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Worship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5.5.5.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Grant (18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, Joseph Michael Hayd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 William Gardin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cred Melod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Wosrhip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Wosrhip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Wosrhip the King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Wosrhip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2:47Z</dcterms:modified>
  <cp:revision>25</cp:revision>
  <dc:subject/>
  <dc:title>Slide 1</dc:title>
</cp:coreProperties>
</file>