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C964-76FF-401D-8DC6-D72DE8C9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2AA2-F0D4-469B-8576-5069806F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45D8-68EA-4AB2-BDA5-FE5E66E8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82C8-E693-4A23-AB9C-632256673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136A-5BE5-4992-A76E-A4832662F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E5CD-1C0F-4641-BC01-2855C11F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B787-B877-4710-883B-1A4AAF9F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3812-AB64-49D3-8949-F1302A3A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6B83-188E-416B-9680-02DDF82F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541C-6669-4309-B6C0-F15A80C2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B86C-A7F0-479C-8105-B273CB9D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D6BB-6276-4506-B946-4D18A800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2160-67AC-43C7-8498-848194A3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D08A-5320-493B-97C5-55EC79BB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335E-5D99-4A25-9CC3-F98FC01B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83A5-3A02-4588-A49F-C09C24963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483C-EB39-4385-9EB6-F2D86BF5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654B-B20D-443D-985E-3B685AA5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F4D93-AEAB-4842-8DEF-4666D3413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849C4-D6E8-4D91-9AA3-A2BA08F4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CB6B9-BB32-4552-ACAC-4836200D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1B27-2BB5-4952-830A-D9014E96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87499-E902-4D45-8CFD-4BD7974D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AE61F-1253-4456-88F8-DD6C36A9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5195A-E653-48CF-8CEE-9B45CA99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E344D-C405-4E43-9976-F3D3DD4D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36305-CA13-4DF0-B8E2-CAB32FFB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5D192-A886-4294-9355-41FB1FEC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89353-D83D-47A5-9C53-3DFE32AF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B50F7-1474-4B59-8700-52C0617BE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EE0C5-F523-4EB1-B639-EEF32076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EFDF-FB00-4B7C-AB31-59E50A86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C01B-5212-4F12-A567-A69B5167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9355-6E3A-4FF4-AA24-1BFC16E1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8C66-BB9B-475C-9A9E-8ADE29EA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3235-5371-47A9-AFAF-04345D51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4A9E-A122-4FD8-B521-8D8E92272C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1CC7-3821-4F7B-AF3B-87344E5E36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F0FF-C386-40A6-924B-2F1AAAA508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h, To Be Like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D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. O. Chisholm (189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J. Kirkpatrick (189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8720" y="648828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h, To Be Like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h To Be Like Thee_v4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h To Be Like Thee_v4o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h To Be Like Thee_v4o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h To Be Like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8720" y="648828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h, To Be Like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h To Be Like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h To Be Like The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h To Be Like The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h To Be Like Th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8720" y="648828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h, To Be Like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h To Be Like Th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h To Be Like The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h To Be Like The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40:54Z</dcterms:modified>
  <cp:revision>22</cp:revision>
  <dc:subject/>
  <dc:title>Slide 1</dc:title>
</cp:coreProperties>
</file>