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29A-A92D-4057-B972-A9B9C283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279-5B4B-4556-835F-F0E1FEA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8A8-B140-4094-A387-52B6CC51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496-8FAD-47E5-AC92-7A6E3192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C738-ECC9-4D0D-B189-D1607E6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771-6F9A-412E-A75F-104D90AD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22E-C14B-4708-80F0-8F05106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C157-D729-4527-91EE-E2A1DAC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F065-A78A-435C-B588-38858776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F56-28F6-4208-BE8F-8A5A0AFB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3CCD-41C8-413F-90B1-974836F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317-92BC-4BE7-AC44-9D43B8A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6E29-8CB6-4CA6-9202-710A4F8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D88-2811-43AB-ABBF-03AD8AA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B104-694F-421C-8407-91CAB779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F36E-8F19-47AA-85CA-27C0D8B6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9152-C48C-463E-B312-E15EF02A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E6C-E2E8-4CE2-8379-8A57C0C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F83A-177D-40D7-9D05-961BD408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7A1E-712F-49D2-BE39-E2B5BBD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3E2D-9CA7-47C3-AC24-4B4D28A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087-F852-4911-86C5-8529F999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2523-CA8A-4163-ACBC-41BD652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A11B-467A-4DDA-94B2-25110F0D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633A-4A68-4509-B4C6-C133F8CC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A426-ECB8-4C5D-8FFF-7DA1E1B5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1FA1-E899-46B1-B8DD-592892E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DF7C-F647-475E-B8A8-D55DDE3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6CDD-D175-4CA3-994F-82FCFDE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4249-377B-4F4A-84C5-596580D3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3A60-3A34-40FA-A727-0669C2B8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812-352E-4281-B477-CCB85D2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452-73A6-47DC-9AF5-46B30E5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79F-FCF5-405C-8DB3-9105522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B6A-6970-4852-AF2A-715F7D5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AB8-4672-4BE0-BF92-C34787E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F95-A202-43AC-B6AD-BE37A94D6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B892-CB50-4F0F-9372-52275D791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B7DF-1DC7-4A6E-9A64-D59E3773F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ly A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ly A Step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360" y="64882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ly A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ly A Step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ly A Step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ly A Step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ly A Ste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ly A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ly A Step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ly A Step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ly A Step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ly A Ste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ly A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ly A Step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ly A Step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ly A Step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9:49Z</dcterms:modified>
  <cp:revision>29</cp:revision>
  <dc:subject/>
  <dc:title>Slide 1</dc:title>
</cp:coreProperties>
</file>