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43B6-BCD0-4486-BFC0-18C0DF6D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590-3852-4D4E-8FCF-442164E2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722-6FE8-4ECD-B826-9D4F63AB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784D-FDDA-4EAB-9AA5-EF38B18D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057B-4C43-41D4-BF4A-4B8F016D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CFE2-313E-4AB0-8829-E4FD7604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BACE-A2D4-4B01-992D-FCA752F0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F892-B679-4FF2-9A61-74AC437C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2065-4B70-42DE-AE61-8B548864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821A-EB85-4E38-A9DD-80B92D8F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EA33-9E8D-4528-9809-B715C1D2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C4D-A730-4F3F-B033-3DF5B23B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6B38-CCAF-42F5-B740-C2162F28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C1E9-218D-45C3-AFE1-576461D1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6BF3-B447-4888-B4B6-462E6073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7259-5424-4F62-ACF4-18D67F8D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FE04-807C-4056-9BB4-B831A505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C25-9D76-43D7-9D26-195C1049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EC8A4-3D31-4EBC-82FB-196E2456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5921C-D7E7-4254-A508-D47FB850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F8E39-ED72-4E9D-BD37-965AD606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BA5-D772-41E4-8BF3-0FABFA8A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A06A1-7510-4476-B371-E1AD89D2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3A7C3-69FB-44DA-887A-3026DF62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FAD05-A8DE-4D01-B7E9-45338B2D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43E69-C8F6-49EC-A317-26F1D828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44942-788A-47F8-BED9-93ADAAF4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CE673-4C97-4498-B7D9-FAAA2921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3BBB2-4D3A-4092-9711-BC9EBE46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1C1E1-E71A-4D1B-BED8-2B224007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C6650-DEE1-41B9-8657-305BF5F3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DFB-D899-462C-9C53-7D3FF664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CE32-0FAC-4F21-BBF7-A8C9FF8A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01EF-20DD-44A3-93E2-F00A3D21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C025-B981-474B-9CE0-8B83D12C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717-AD1F-43EB-BD8A-E1FCD18C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28CC-4031-4142-A7BD-B6D4B16AF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4583-83ED-4417-A6E7-7FB6269653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42B8-0920-4B3E-9E7C-AC2A88685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Happy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ip Doddridge (175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ard F. Rimbault (185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 Happy D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Happy Day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Happy D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77040" y="64882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Happ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Happy D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O Happy D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O Happy D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O Happy Day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Happy 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7040" y="64882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Happ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Happy 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Happy D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Happy D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Happy Da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Happy 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77040" y="64882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Happ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Happy 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Happy D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25:05Z</dcterms:modified>
  <cp:revision>36</cp:revision>
  <dc:subject/>
  <dc:title>Slide 1</dc:title>
</cp:coreProperties>
</file>