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406-BBA9-453D-9245-ED02F80C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626-B1D5-48A3-BD97-6AF0F7A6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9E4-F7A6-405E-B004-668A1607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CD5-D4A1-4E8C-BBE2-B06707B5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2793-B4DE-4B3C-80A1-39B63E25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DFF1-1151-4371-B61B-CD7B1718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5190-2F76-4B42-92E8-F175F26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286B-FE46-4A57-B303-3E75FDDF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E1E2-50F7-4A39-8999-5DC537AA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78BF-2099-4909-8372-DC0BA2D2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871-E5E3-4B5E-8C80-EECB0276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00D-7F97-4EC9-B703-CCD73BF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0FFA-43B3-41DF-96F9-2C07C50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ECBA-EEB5-4570-A47D-0B78C08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4DE0-83F1-4D00-A04D-503A665D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4DBD-AE34-41B7-91BE-9809A1DE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746C-19E1-4F44-8F4A-D859EDB9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768-8EEA-40AF-A21F-468E9DBE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B264-8665-41AC-AF7E-E1D8E001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C81C-145F-426A-931F-33E51C9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6440-87C7-47A8-B2F6-6282496D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D40-6342-42B5-9636-B4B51B06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2D79-BFC2-4C4D-92D4-1C20EB7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58BF-6DC9-470B-A564-55320D1A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DC83-CE5B-4696-9F8D-307384C1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E24F-B098-4D05-8893-A12F7F1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9CEE-F2EE-447A-86EC-6D27244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786B-B821-4B0F-8E68-D43BC158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AF12-803A-42E5-9150-81BE2646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9153-37C3-4BA9-AB80-1BC2B116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A0BE-BD8C-4EFE-84D4-88E39FE5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CAB-A306-4A87-B3F1-EE3B239F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760-F263-4B3C-A09D-35243ECB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582-7324-4D61-8EC5-7A41984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B55-5EBD-4923-9944-AC4D12F8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72F-F432-40E4-BE4C-25D6865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A9D9-31DC-4B85-8F81-6CE631CA7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CBFB-C1AE-4C34-87BA-8D201F3C1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E148-E124-4121-9B42-8A6A0DA80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e Step At A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J. Shelton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Rosecrans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e Step At A Ti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2320" y="6488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e Step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e Step At A Ti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e Step At A Ti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e Step At A Ti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e Step At A Ti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320" y="6488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e Step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e Step At A Ti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e Step At A Ti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e Step At A Ti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e Step At A Ti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320" y="6488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e Step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e Step At A Ti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e Step At A Ti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e Step At A Ti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9:15Z</dcterms:modified>
  <cp:revision>31</cp:revision>
  <dc:subject/>
  <dc:title>Slide 1</dc:title>
</cp:coreProperties>
</file>