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7BB7-6A58-4029-AA91-A1C3D3A6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79BA-A0DF-46AF-B033-BB1A2882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428A-EF6A-42BA-BD6A-7AEECBAF3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D71D-170F-4A71-B539-DB8EAA5E6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15DD-EBAF-4DF0-84CD-D426FA77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78C8-9000-4093-B47B-73EAF7B4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54F5-1032-45BD-B61C-9BB7D715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F067-81AF-4510-A6C8-E35057F0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1945-568A-45A3-8F6C-0436E919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F128-103F-40FE-82DB-357D6EEE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D291-2AAC-4509-AD7D-C42CF686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3939-ADB5-4882-975F-D5869505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724A-1663-425D-8370-37797DA2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2F42-8F65-49CC-97A0-EAA50700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9882-5C72-4F14-A6F6-D7A76186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34EA-58E9-414F-A8E3-028B17685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2771-2039-40DA-959B-58EA2F07A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19AE-CE77-456A-8470-18AED8E3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E6C5A-5628-4848-BB0E-C37AEAEF6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32878-BCE2-4053-8BC3-20BCCF41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801EF-7745-48EB-909C-C153BBD2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A358-1748-4752-90BB-945DBB4F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B7B42-3FA5-4C07-AE29-4C82CDB6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64823-C4D6-46B6-8273-CF381D86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48AD6-8E89-4FFC-AEF2-4F5A6A74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17FAA-1916-4B5D-A46B-4C7061DD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0F4DB-596F-4276-8819-902D21C8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EE616-4BFC-4D2D-BCE2-5C977AF3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F3C4F-52A8-4F23-A3C8-F54EE3D8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6F3C5-19EF-4135-A280-E8CBD77D4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E6752-E7C4-4505-9AF4-BC98123F1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EFD6-0564-4F9C-8089-FCD5C1D9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28A4-540B-492A-9C8E-4DBF47A2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FFD8-7CCC-4C0C-9D90-D9D7BEF6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D7C6-DC7A-40A9-921B-7F01CE1F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B59A-7653-4DB4-B4F8-5784290E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C84F-AA10-49A9-A790-0F07342511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FDFD-7915-44BE-B096-862E6ADCD6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9624-C12D-47ED-A4E7-DF5E7FD097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 Come, Angel 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My Latest Sun Is Sinking Fa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efferson Hascall (186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B. Bradbury (186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8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My Latest Sun Is Sinking Fast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My Latest Sun Is Sinking Fast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My Latest Sun Is Sinking Fast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94680" y="6488280"/>
            <a:ext cx="312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 Come, Angel 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My Latest Sun Is Sinking Fast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My Latest Sun Is Sinking Fast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My Latest Sun Is Sinking Fast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My Latest Sun Is Sinking Fast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My Latest Sun Is Sinking Fast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4680" y="6488280"/>
            <a:ext cx="312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 Come, Angel 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My Latest Sun Is Sinking Fast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My Latest Sun Is Sinking Fast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My Latest Sun Is Sinking Fast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My Latest Sun Is Sinking Fast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My Latest Sun Is Sinking Fast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94680" y="6488280"/>
            <a:ext cx="312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 Come, Angel 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My Latest Sun Is Sinking Fast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My Latest Sun Is Sinking Fast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23:40Z</dcterms:modified>
  <cp:revision>32</cp:revision>
  <dc:subject/>
  <dc:title>Slide 1</dc:title>
</cp:coreProperties>
</file>