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638-F0F4-48A7-8A60-E699B16A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D26-044D-4D9E-B06C-6714EE2E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761-312F-45A4-B062-EA7A5EC4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4E5-08AF-4C04-AC40-0EBE220B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A549-97DB-40FB-9CA2-45C3FAB6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82C1-2BA0-40AB-B6F8-1A1E3073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A0AD-C265-495B-ADB2-2AB0D4E2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2511-70F9-432B-A783-BDC0E2B3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A398-94F2-4F41-AFD5-BFC3EB8B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9F8D-8B83-460B-97BB-7B379F37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2EA1-D81A-45DF-B438-8B13C1D5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7FA-ED2A-4902-A488-D3666D45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6A96-7E3E-4FDE-9420-93A7BE60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FE7A-663A-4325-8FF0-4126E5D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A73D-8560-43F7-AFFA-323EAD1F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04FC-49AB-4388-81A9-946F36A2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F364-A9FA-47B7-9570-2018CE87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C4C-F2C2-4EFB-8597-8EAFD996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A919-B420-480F-9E76-74047BD8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2256-77D5-4326-B0F8-9676BE80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4FA5-0188-4B38-8726-4F73BE06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883-AC24-4058-918D-11DFC29D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3F094-7D9B-469B-B092-CAD55CB0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8B63-98E3-4F5A-8392-E9C4F89D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6DC3-BBD2-4714-96E2-5D0ECDDB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C1AFA-CCEC-41BD-B7A7-742E2684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7C4EA-B5F5-4CD8-AD29-96FF4333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C3809-0FFD-467C-BD25-B16E7D2C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3BC9-5358-4E5F-985E-FD5DF6ED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59A8-49E8-4868-B6AA-4815C6E9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34939-9F45-4546-8AD6-497F59E8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45B-91F0-48DE-A9B5-E93014B9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8EC-C0CC-4BC1-A828-482F9EE2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B45-ED68-4003-9F09-A342DCCB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95D-2F55-414C-9D0C-EBED0FF3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7DE-36BB-4493-8B78-B40CD7B5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ED70-8526-4EA4-9206-DA277823A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BE24-02E4-44C8-B15E-6896EC8BD5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D005-F544-40AC-9E60-ABE35D20B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Why Not To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zabeth Reed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Calvin Bushey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7120" y="64882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Why Not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Why Not Tonight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Why Not Tonight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Why Not Tonight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Why Not Ton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120" y="64882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Why Not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Why Not Ton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Why Not Ton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Why Not Ton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Why Not Ton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7120" y="64882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Why Not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Why Not Ton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Why Not Ton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Why Not Ton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7:34Z</dcterms:modified>
  <cp:revision>34</cp:revision>
  <dc:subject/>
  <dc:title>Slide 1</dc:title>
</cp:coreProperties>
</file>