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89CA-C466-4619-8190-EBBD05B7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14C7-F4A4-4746-B173-FD56C23E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D95E-B0EE-425A-B448-F84E0968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0526-B8F7-48CA-8CAF-5A750298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5985-6DA7-468F-B2B7-4DE89CAB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34A2-A8BF-4CA7-9A0C-640F5F04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9F00-1C42-4272-BFA4-A2EDE1B3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3FE7-B46A-4100-8492-BE32095B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8044-36B2-4D43-9269-C4712C72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8BF2-C6BE-4C8F-80DD-C560CDC7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BB2A-FCA0-4E6E-945C-F0C1D264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9DA9-050B-4C91-B367-D9EFDF1F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A10B-2D68-412A-8ADA-D293B0BD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AF2F-644A-465B-A924-3856734E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2A9E-9F34-49FA-817C-1578FBDE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8DDA-9E2F-4454-AA1A-A133C6F5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3748-FEC3-4440-98B4-341765686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F382-A77F-47E4-B215-A487C825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991D8-931C-4D92-89D7-10FCEBF9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17050-A589-49F1-8991-B5E589FD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B964E-F5A2-40DD-A3F6-7CD063C2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0841-BCC7-4DB4-A848-9CFFE111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B1E40-4ADC-4A95-BCD5-A0436188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3ED19-FC7D-4068-BEF0-378F7C7A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BA449-F484-442D-8E09-2A9C244D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4E343-8CE7-4997-814E-C4240862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C9ABB-BDAC-481A-9FB7-37A9E959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84424-0D1D-4A2E-87AE-42F3A95F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28AFC-E975-48CC-8342-FCFF19C6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0B12C-2F5C-47FF-9CAA-6B41C53B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02181-28E4-483C-995F-3620877E5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306C-80EA-46D7-B7EE-048DA039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B581-34B8-4F8A-86E4-4FDB0BD7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1243-C1D5-4AFE-B1C1-5B2BBEB1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B487-9E07-41D8-973E-CDF9DC9D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5887-A142-4822-962F-F71CEBA7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0457-CB97-473A-A436-6DC0FABD3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8997-87BE-42D4-A113-2ACF841A32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CDFF-7A14-48BA-B841-F636954010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n The Cross Of Calv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 + 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684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ill’s &amp; McLaughlin’s </a:t>
                      </a:r>
                      <a:r>
                        <a:rPr b="1" i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ood News in Song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886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ttr. Lizzie DeArm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ill’s &amp; McLaughlin’s </a:t>
                      </a:r>
                      <a:r>
                        <a:rPr b="1" i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ood News in Song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886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William J. Kirkpatrick (1906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n The Cross Of Calvar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n The Cross Of Calvar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n The Cross Of Calvary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n The Cross Of Calvary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On The Cross Of Calvar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24920" y="6488280"/>
            <a:ext cx="350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n The Cross Of Calv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On The Cross Of Calvar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On The Cross Of Calvar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On The Cross Of Calvar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On The Cross Of Calvary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On The Cross Of Calvary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n The Cross Of Calvar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4920" y="6488280"/>
            <a:ext cx="350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n The Cross Of Calv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On The Cross Of Calvary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124920" y="6488280"/>
            <a:ext cx="350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On The Cross Of Calv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On The Cross Of Calvary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On The Cross Of Calvary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On The Cross Of Calvary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On The Cross Of Calvary_v4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On The Cross Of Calvary_v4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1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n The Cross Of Calvar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n The Cross Of Calvar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n The Cross Of Calvar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n The Cross Of Calvary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n The Cross Of Calvary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n The Cross Of Calvar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24920" y="6488280"/>
            <a:ext cx="350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n The Cross Of Calv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n The Cross Of Calvar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20:14:47Z</dcterms:modified>
  <cp:revision>31</cp:revision>
  <dc:subject/>
  <dc:title>Slide 1</dc:title>
</cp:coreProperties>
</file>