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117-5B7C-4C73-BA11-CE6CB1C1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2D6-6651-4ECF-952F-A1CF82A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886-2A61-4FBB-8B09-745F57F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F03-666E-4C47-A27E-A5F401CA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A8C4-C8E8-4773-84DB-FB340D5C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94F-9D74-458A-920D-54DA784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7EE7-D1FB-4FF6-AB0B-505C5D9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684A-EE00-4175-9893-BDDD5A2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AF17-069B-4137-857D-E5792E64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73F-FD83-45E6-A6D7-A65E7DF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736-22CF-448B-9A66-83721D2C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855-F04E-4181-B034-3F71FD1A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9307-3448-492F-A4A3-0F13C9F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7DBF-611A-4925-8FDD-03B2F2F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230A-669D-407F-BE23-C858BB87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2D2F-1566-430A-A677-D1477046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CE7-C7BC-4940-B4B1-0999AC07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7E5-C60F-4591-A5B4-7FCD878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5B1D-F4AC-402A-96C9-6647E834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64D5-4011-4842-9285-2A005356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E462-AEC0-4154-8092-CDCF9B58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4FB-A84E-4B5B-A6E0-98F1DFFE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7B59-3B29-460E-8D3E-4C3D43C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F718-B286-4CAB-B0F3-183B69F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1677-4448-49F0-9242-BF190AD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3ABD-DDC6-4E6B-AB86-AD5F84C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7FD5-BFBC-475F-AFAC-D4054A6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E815-02EF-407B-9210-6B35B77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8C0A-B1D5-4FB9-AA1A-17E1A32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38C6-C58B-4E8E-8C26-2C8CD07C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6DBA-F538-4262-81FB-72534727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BA8-1532-4D62-B432-F42B4BC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DB2-53AB-47F8-A3CD-F64C080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58E-85CA-49BA-B95B-10DBE2F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C8E-E85E-4FF2-A912-96FD055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14B-2321-4F9E-ADC8-FCC4242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E24-44D3-49C5-85DA-6452E024E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85A-9FA2-4915-B184-024CF541C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68E-39B6-4DA6-90AA-E393E5AC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ow Love I Thy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s. Psalm 19:7-13, cho. Psalm 119: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James McGranahan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ow Love I Thy La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ow Love I Thy La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ow Love I Thy La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ow Love I Thy La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ow Love I Thy La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ow Love I Thy La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6:31Z</dcterms:modified>
  <cp:revision>36</cp:revision>
  <dc:subject/>
  <dc:title>Slide 1</dc:title>
</cp:coreProperties>
</file>