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515-178E-41A4-BE5C-0246CBAB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850-0CF5-4BBC-A1FB-F66BDFB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6DB-7413-476A-8207-4CCF6A45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F12-3E2D-485E-8BA0-795FECAE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C90-E07C-444B-B6D2-99A710E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B820-F00E-4714-85A0-A5B938B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5B9-53A4-4076-9546-C16D275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D439-46DF-45BE-9607-FA70F4B4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D61-B805-4BCB-992A-850E65DF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9EE4-6715-43A4-8D0F-2BEA573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D5DA-C1C9-4510-9770-B4B18DE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467-C3DB-49AD-B6F2-67EA60B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704-7CCB-416C-92AF-F538AAB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1772-C438-4728-908E-650D013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B68C-F0E1-4174-80A4-66A9D7C3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1B7-76FB-4FC0-88BD-94C51190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0AC3-87CF-404C-94A7-64A760D6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F8C-FD55-48E4-B186-3EFFD5F3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558D-7031-4CF4-A988-C2E264DB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F4B4-BA77-4D89-A76D-2899F1DE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9478-5E71-4AD8-A9EC-6119EC7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BF8-F3C4-473C-9A65-B66A2828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0E0B-2461-405F-B1C3-5C43821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EB3F-3622-40A2-A00E-60F900F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CACF-3CBC-4F38-903F-3DFAE15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77D4-689E-4F27-A870-BC07F72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3E55-5389-4D98-A51B-155BDD3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D1CD-3684-4BBB-82A0-ACCD427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FC13-F9AA-46C2-AB1E-F03014B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39FB-A89A-4727-8913-2B095FFF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3A9C-EF8F-4AF7-9EC2-2AD00491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144-C1F1-4C73-95F1-B07BC8E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405-6387-4958-B986-02912050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397-7FC4-4752-B0FC-CB3A254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4AA-E294-4300-901C-3F82AA8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216-65FD-4602-AE45-8B79104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2AD8-CA49-4A6E-9EA7-9D6C06F49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A52B-8297-4126-9097-A96B8618D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69C1-D2DE-469B-959B-564CE682B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F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8:1, Arr. 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Lord Our Lord_arr1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Lord Our Lord_arr1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Lord Our Lord_arr1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ord Our Lo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ord, Our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ord Our Lo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ord Our Lor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ord Our Lor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Lord Our Lord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ord Our Lord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Lord Our Lord_arr1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Lord Our Lord_arr1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0:08Z</dcterms:modified>
  <cp:revision>29</cp:revision>
  <dc:subject/>
  <dc:title>Slide 1</dc:title>
</cp:coreProperties>
</file>