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465-2897-4056-8034-66091780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E22-729D-45A8-85FB-16C1AB3E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F41-CFE4-4C41-80C0-3BD4CDF5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975-115D-4765-BFB4-B374DE6A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A67A-EA92-4039-8060-96A64EAC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E179-1939-4FBB-B4A1-26DF7B80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1307-7AAC-4D95-A5CC-B53C2530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8994-8B5E-42A5-ADC2-991A47DD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5730-7A0B-4EBA-A561-62BE93A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7C0D-D729-441A-9C9E-807DB2DA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4C28-2B8C-4782-8170-D656C16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D3F-383D-4B79-BB39-EC878872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94D1-FFCC-4046-B9EB-9AE570F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13C7-9507-4F6E-89C8-DBC08DC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0E58-4283-4CFF-8E99-FBB2DB8D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E040-8583-446D-8D44-EEF651AD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E804-7F80-4CAD-B22D-B57C7169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C61-5BF0-4A94-BC94-BE7118AB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BFDA-0617-47B3-962F-14AB50F9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5D94-A822-495A-84F3-785D528B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5352-31EB-43FE-9A84-BF14D887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BDA-66E7-40B8-829D-BAC40348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6CD8-2685-4CC7-BEDB-81DB65BB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137F-0993-4A9E-AA6A-C3BE593D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9BC3-6F1F-4689-82A3-EC5FD893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2AF8-6C0F-49DB-B9EC-AF0B3A0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00E9-A3F0-4E38-AB54-239EF0A1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A2CF-859F-4A12-9093-6180ECB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D65E-0EF9-4000-9B03-09575AA3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CE03-C298-406B-82C5-7FAADD77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A3752-FA46-4FEF-8778-8275B719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764-AB73-41CA-9786-4E7A22CA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BC4-0EC8-41B0-AA77-60B8AF2D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BF1-8CDB-4796-AEF0-6EE444B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E11-2193-42FC-98C2-991F4F4F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43C-709A-4EEA-B79A-4D2EE6FE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C05B-A385-413B-8567-4A57F1200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1C2E-B4C0-4333-BD02-491D58BE1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ECBB-DB76-4EBF-8928-522975E96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Heart Bowed Down With S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ome Unto 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- 4/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E. Belden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E. Belden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Heart Bowed Down With Sorrow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Heart Bowed Down With Sorrow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Heart Bowed Down With Sorrow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Heart Bowed Down With Sorrow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 Heart Bowed Down With Sorrow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6040" y="648828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Heart Bowed Down With S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 Heart Bowed Down With Sorrow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 Heart Bowed Down With Sorrow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 Heart Bowed Down With Sorrow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 Heart Bowed Down With Sorrow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 Heart Bowed Down With Sorrow_arr1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Heart Bowed Down With Sorrow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Heart Bowed Down With S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Heart Bowed Down With Sorrow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Heart Bowed Down With Sorrow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Heart Bowed Down With Sorrow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Heart Bowed Down With Sorrow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Heart Bowed Down With Sorrow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Heart Bowed Down With Sorrow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040" y="648828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Heart Bowed Down With S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Heart Bowed Down With Sorrow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5:49Z</dcterms:modified>
  <cp:revision>34</cp:revision>
  <dc:subject/>
  <dc:title>Slide 1</dc:title>
</cp:coreProperties>
</file>