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0BDF-5161-4046-888C-468645751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4A32-867E-4EF7-BEFA-71F75589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5A83-4045-4955-9329-B2C5FA511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9B57-6ECF-4FC4-8750-7F3AFD7DC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A951A-DEE9-4032-851D-6BB4CF434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DFAB9-EBF9-43CD-BE85-2A05B2F79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E62F1-89C0-41D6-B5FB-14BAAEA1B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ECDAB-2684-45F6-B7FB-E13FEB347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FBB1C-C432-4B0B-88ED-D16B1338A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2566E-DA02-48EE-91A2-D205CEAB1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74FBA-3FCA-48EE-A5B7-C0288E79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F3E3-253D-486C-88B5-8CE90A444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CE079-EA5A-4712-BCDB-200D9300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BD2B6-4E13-4B26-9173-111859A5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61F2F-36CE-4358-8814-7AF7A8665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C7E86-20B3-4647-8474-43B2911A4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D480F-4732-4349-AC8F-031F6E413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2ED6-9A10-4143-A804-AF50F0D0B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FD51E-3CE9-4C33-9586-1EFF77ED1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3B026-FBDA-42E9-B31D-C1DBFEFF3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83CDF-8FAB-4F93-B6E5-8A19C2B32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C391-E439-4AE0-BE7A-EB27D2CB8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051F4-9C7F-4126-924C-52ECADB83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BAD49-D8FE-4343-A184-22AD6EE1A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3DBC4-DECB-4914-B8E2-45BABAFCD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89DDE-9996-49CD-85B4-4F6C4FEF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E0E6D-8481-4A31-8C40-EE100F16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CB1BB-995B-4374-8105-23704335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0A12D-3114-43A5-AF80-56090B3D5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10D0C-3B46-4EAD-B026-E09F61C9B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A5DF6-7106-47A4-BC99-FE939F608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C38D-6D8E-4D3B-A9E2-7B62A795A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2306-FD30-4348-B1E2-61131C8FD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27D8-16EF-440C-A56F-A4C91251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EE08-D8F5-4677-8DF4-D36A2D95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394D-207A-4393-AA91-992D0418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F0181-A246-4278-97F2-C3384297AF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6A10A-1E54-44BE-8ABD-BB5A8914DF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8F16A-657E-439C-8FB5-30047DB96E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O Fill My C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56160" y="4902120"/>
            <a:ext cx="1344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Unknown,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vss. 2 &amp; 3 John Newton (177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Unknow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8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O Fill My Cup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4680" y="6488280"/>
            <a:ext cx="231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O Fill My C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O Fill My Cup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O Fill My Cup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94680" y="6488280"/>
            <a:ext cx="231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O Fill My C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O Fill My Cup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 Fill My Cup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4680" y="6488280"/>
            <a:ext cx="231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O Fill My C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O Fill My Cup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O Fill My Cup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94680" y="6488280"/>
            <a:ext cx="231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O Fill My C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O Fill My Cup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8T18:24:23Z</dcterms:modified>
  <cp:revision>31</cp:revision>
  <dc:subject/>
  <dc:title>Slide 1</dc:title>
</cp:coreProperties>
</file>