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6F5-FD9D-494A-A062-BC8BED8C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8EC-8B4E-41A6-9687-9502881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F04-0001-4678-A245-F9011023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0B7-8663-4EBE-AB54-E93C9B2B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5217-0565-4005-A047-1B3C2A44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3E4D-8049-490F-BBB2-F89AA73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40CA-F739-4FE7-AA76-16169CC1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F537-3810-42E6-9F46-38DD175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2A5-ABF9-4294-B2FB-66A4C58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AEF8-439F-40CD-8842-CB5A1FA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BB7C-61F2-432B-B7C0-699570D8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252-823E-45C0-9C7E-EF035A35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5E8-B42D-40B4-A115-029C2AD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68EF-6077-41B1-8886-DEF8772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C2A9-3E24-4540-B96C-A1477D4E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5C2B-C455-46D8-A25F-862D91B7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E17-C5CC-44EE-ACE6-058E937D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94C-69E5-4C8F-87E5-A47FC0D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C3E4-D35B-4810-B249-61A5A9C9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0767-4674-4ED5-AC9C-4A6FCF35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A691-F1AB-4C03-87E8-FB5984E1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185-B090-4745-8F0D-5BB9DF05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6C26-833A-485A-8113-A92010C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8344-5254-4E2A-9B40-7A5D801C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9C4C-40B7-45F5-AF01-644619C1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4487-199B-44B8-BFAF-3E71A26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B297-40EC-4151-AAB1-B83AD1A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6498-1F28-48A8-AF43-898C8AF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9061-9ECA-4E53-ABFE-D142172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2999-63C4-4D2A-987B-1CBCA761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FE79-43B5-4DF2-847A-73E3775F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F08-FC07-495A-9320-583351B4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4D2-91A4-422B-8E06-007A2F35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3C8-E211-456B-BB4E-C26D5DC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267-B882-4B03-893F-1F42118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4C1-E003-426F-BBE3-3EBFE35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F5E2-D31F-4FDD-8864-F1C57D790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5ABB-8D6A-45BC-8F43-FCDD4FFC7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B36-E613-4C9A-9BB8-B40758FE5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Love That Wilt Not Let Me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MARG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Matheson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bert L. Peace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Love That Wilt Not Let Me Go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Love That Wilt Not Let M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Love That Wilt Not Let Me Go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Love That Wilt Not Let Me Go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0960" y="64882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Love That Wilt Not Let M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Love That Wilt Not Let Me Go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Love That Wilt Not Let M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Love That Wilt Not Let Me Go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0:49Z</dcterms:modified>
  <cp:revision>33</cp:revision>
  <dc:subject/>
  <dc:title>Slide 1</dc:title>
</cp:coreProperties>
</file>