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553-0290-4EB2-ADB5-CA770BA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B07-46D0-4BBD-8B08-80458EDD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089-C041-45F0-B277-15DEBD62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DDA-6F46-40D6-B30B-31FD990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330-830E-45EB-A987-37B8F8E1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6C51-5857-488C-ACF0-6C45CAB7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073-820C-4F34-A021-CC294462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F8D4-DE89-4DE3-8A0D-080F5CFA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BF57-AE0D-4B8A-B55A-929DCA7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5001-35AE-4E7A-B6C2-80823DB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265D-5269-421D-81EA-E54B7F4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BB6-FFF9-42C1-8C50-E3649D3F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DD3-6D59-4CC9-8D01-D5FC5AE4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89ED-A3F1-4705-B54C-147EC44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9F89-E81F-4EC8-9A5B-F6ED2360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ED0F-2B86-4C42-8837-412441AC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580D-7791-41DE-B142-31F37D6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6D9-C0E6-4F29-A0AD-6B183697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582A-1613-4EB1-94E6-B040E14B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2407-3AFB-431A-A8BB-1418755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ABE5-F0C2-4918-AC08-CF310824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0AA-77FA-4BCC-9616-BCB1ABC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B9D0-188F-4093-9B08-1FB9CF7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A2C8-B039-4B08-8124-8DAE6E9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5A1C-0F57-48FA-A6EF-A9F77503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66AA-DE9A-43A3-B488-8997A68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1CBF-457A-49ED-A629-9167A6E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E97D-A8DD-44B8-A8AF-98C2173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6E0E-A0CD-4B6D-A771-F6A046D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233D-1987-41EF-8313-5FA9A45E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E2C2-7A05-4682-BE2C-605ED0E2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4C7-B83D-4E4F-834E-075B2D67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56B-AB16-4A86-8F9C-812434D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F7F-8F0C-4137-8082-DCB3AA0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514-14CA-4C3F-B2A7-669394D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7C1-0FD5-4A41-932D-396CE63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374-865B-42D4-8B38-50F126D3B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3BD-3777-4F97-A1A2-5B5DBA214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BAE-EE33-4B41-937F-DF75A84B4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, Thou Fount Of Every Bl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ETT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Robins (17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yet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pository of Sacred Music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Thou Fount Of Every Bles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Thou Fount Of Every Bles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Thou Fount Of Every Bles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Thou Fount Of Every Bless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Thou Fount Of Every Bles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Thou Fount Of Every Bles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Thou Fount Of Every Bles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Thou Fount Of Every Bless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Thou Fount Of Every Bles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Thou Fount Of Every Bles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Thou Fount Of Every Bles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Thou Fount Of Every Bless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7:00Z</dcterms:modified>
  <cp:revision>15</cp:revision>
  <dc:subject/>
  <dc:title>Slide 1</dc:title>
</cp:coreProperties>
</file>