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A0A-D681-48BC-A81B-148EB5C3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2D8-4517-4DF8-A32C-FB1866A7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BA2-7F1E-4A44-B746-CCABC21F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EAF-6A61-4532-9DD9-B2728724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579D-0625-4D9E-8661-D36DB6CD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E3B6-1472-4311-8B9B-EC199D22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E837-2DC7-4F6F-894F-2C97C630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D5ED-6B44-4965-8038-C89878CB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F8DA-578C-420A-A7A5-17AAA75C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059B-8B8C-4F88-A0F7-10E5A4A7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7B93-5319-4507-ACD3-C41487E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AB2-E5A4-4280-8328-3B920ACD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B0C0-13A0-454A-9C41-3A0D980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386D-B8E9-4EEA-9B6C-CF3D24A6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18E4-B866-498A-A359-52B94ACC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B9C6-E597-4CD1-8FE3-49148FE2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D217-B210-4869-ACB1-9BBABACA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568-8E7D-4D6F-8270-3BFFA71F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37F4-9C6B-4A13-A586-E366F9CA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AEC1-D421-4F68-BA4E-348BC9D0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4E52-0AD2-4956-A2C1-2D865E50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AC5-25FD-43E4-8C26-7826CDE5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8D4A-3121-4D18-A1E6-B2B3B32B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B6902-44A5-4CDF-82B5-035C000C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D233F-2434-4F5D-AD8C-68682B65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ADD3-F130-47B7-9CB4-F7725BAC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4969-6C2C-48B7-997E-953D0048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280C-F832-42BD-BA98-E94B195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7450-CEEB-40DF-97B2-508937E2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B3C1-F994-4399-B97E-B59ED947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04324-4D8F-4B7D-B307-85FECE98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CCA-0820-4E84-8B22-6F5B2DDE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548-8195-4371-A7E9-B0A4D202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557-D1A6-4E5B-B37C-038B02D0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1A0-48C3-4F2C-8E95-B052D13C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DB7-5B5F-41DC-87F9-C1BABCC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FFA4-7700-48D1-9FC3-D18C5D995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501F-0998-4937-AA33-BCB97D6E3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FBD1-8F79-40B2-B673-B4059CFEA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Think Of The Home Over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W. C. Huntington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C. O’Kan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040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Think Of The Home Over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Think Of The Home Over Ther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Think Of The Home Over Ther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Think Of The Home Over Ther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Think Of The Home Over T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040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Think Of The Home Over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Think Of The Home Over T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Think Of The Home Over T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Think Of The Home Over T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Think Of The Home Over T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040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Think Of The Home Over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Think Of The Home Over T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Think Of The Home Over T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Think Of The Home Over T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4:52Z</dcterms:modified>
  <cp:revision>37</cp:revision>
  <dc:subject/>
  <dc:title>Slide 1</dc:title>
</cp:coreProperties>
</file>