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EAE-5D68-4B6C-9AC1-8008AE7D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178-ADE6-483E-A18A-FEC93F04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E81-AFD5-48DE-8CAA-BDAA0A50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70A-3E28-4816-8CD7-FE39871A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C9D-FDAC-4B45-B02F-12F83AEC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F3E-1E2A-49BE-918D-D5C65C44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A471-A1C1-4804-B3A6-A1D5D302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5772-57D5-46BC-9E91-5407C4C7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4ADB-BE40-4FFA-A13A-7FC84A6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1987-65FC-4AC4-99AC-7116B7B7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A3B6-B273-4589-9E27-5391B9D4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DCE-776A-4511-A32E-BC828F50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BFDC-DBD1-4375-9345-EBADF639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61C1-3A35-4746-9475-30E59769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5E5-0CA9-4A57-B609-9A8FA30A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F697-7796-44B5-B07F-FB5DA125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198D-8A1D-4C81-83B1-5D2E4977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97D-3630-4204-ABFD-949B9270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15C6-940B-422E-BBFA-4A9526F9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32F9-E4B4-4013-B7E2-F1347E0C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E40A-2B9D-4506-AE36-3BA180DA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4C5-581A-404D-B003-D4823150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4D56-2051-478F-892E-3D6B42F3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B2C7-3B94-46F9-8DAA-59F14744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A5BE-C14C-45AA-9FE5-96472E39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E309-88F3-4CB9-A69C-EDAD6F2C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23D3-71FE-41A5-BB49-3582253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699C-886C-4CEF-8378-BC843FD7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4D4F-E072-4BEA-A7B2-19C43A75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BE47-EC9C-4C52-92AD-D2709CDA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3431-0C88-419E-AA6D-E5A70D35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195-26AB-4E77-BCBA-BE4554F4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B5C-32BC-4DC1-A406-437E9F66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633-48AA-4CFA-A89C-F56ECA6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6D8-6815-4270-9A94-8275E720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FF0-6614-4D45-95A8-C6C7D65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C42-A968-4E4C-AA1C-8978D9181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895F-B96F-4312-8F18-B2AC72568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6D0C-F22C-4D7B-9E95-DE48CD5DA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Come, O Come Em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m(G)/E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edieval Latin Hymn (c. 11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nch Processional (c. 14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Helmore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ymnal Noted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Come O Come E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Come O Come Emmanue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9800" y="648828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O Come, O Come E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Come O Come Emmanue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Come O Come E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Come O Come Emmanue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O Come, O Come E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Come O Come Emmanue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Come O Come E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Come O Come Emmanue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9800" y="648828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O Come, O Come E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Come O Come Emmanue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Come O Come E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Come O Come Emmanue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800" y="648828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O Come, O Come E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Come O Come Emmanue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9:24:22Z</dcterms:modified>
  <cp:revision>31</cp:revision>
  <dc:subject/>
  <dc:title>Slide 1</dc:title>
</cp:coreProperties>
</file>