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EA5-CBEF-4E99-B302-8D4474C0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199-4C94-4C0D-A9B8-5F998A7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D69-FD58-4A72-8B6A-B6CEB616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F1A-9A6B-46FF-9F0B-888084CE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C9A4-1D27-4665-9E70-A190C7FC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A5BF-6838-4F1D-99BB-8EBF54E5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AFFA-6A58-4CB0-B4F1-232AE75D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031B-1D56-40DF-8C7E-6190887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A153-664C-4180-BF40-956CB627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983-FD6D-41C3-8632-C657F26E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D7EC-B9B7-4C81-A57F-1E14800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947-9054-4C41-9ACB-21B1E5DC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B29-2CAA-465F-9D83-1A40685A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505F-73AB-41DC-A982-9AAA515C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1A15-5C5C-4A10-B189-DC48193D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E80A-0CFA-40C8-A145-F5F030AA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3919-BA35-44BC-8C70-17C9DE3D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CC4-A1F5-469D-9555-7A8653A8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0D96-DE0D-4855-B5ED-CCA30ED9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42DD-8A32-4103-817C-6E35545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F3DD8-89DB-462C-A4E9-27B97D1B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8B8-4D0A-42DB-9EE6-2A052F9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90EA-2882-4261-9FB8-92E2B8D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2BFA-FA62-4CFD-8C26-78D370E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58A5-B4A8-4688-91A4-C16E0486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A124-DB48-4AF6-BDC8-12DCECF5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1102-F89B-4C57-8B8A-47CB731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FB0B-5E89-4A49-B099-DCAA636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00DE-FDFD-467F-950F-D9F6191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AC59-4DB5-42C8-9E39-D4A666E1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A4EE-AEF5-4BD5-9F17-1C873833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C3C-D76F-4735-998A-6BEECC16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CDE-A79A-4E8C-8B7E-DBA3E742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C6A-1D3E-4700-BCBE-A3A1729A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371-FB77-4A1B-A285-ABAD4F9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CB5-127D-4F36-B740-9ED4ACE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76D6-C389-4AB4-A3D1-CCEAC740A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129B-34EE-44B0-8EA7-CC129BDC1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997-6F49-445F-8774-9F5F2A904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Come, All Ye Faith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tin Hymn ascribed to John Francis Wade (1751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Fredrick Oakeley (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Francis Wade (17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Come All Ye Faithf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Come All Ye Faithf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760" y="6488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Come, All Ye Faith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Come All Ye Faithf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Come All Ye Faithf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Come All Ye Faithf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31760" y="6488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Come, All Ye Faith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Come All Ye Faithf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Come All Ye Faithf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Come All Ye Faithf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1760" y="6488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Come, All Ye Faith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Come All Ye Faithf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12:08Z</dcterms:modified>
  <cp:revision>30</cp:revision>
  <dc:subject/>
  <dc:title>Slide 1</dc:title>
</cp:coreProperties>
</file>