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1FDC-C40C-4E7F-A3CC-E2BBB9F61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109D-EC4D-4C90-A1AB-48BFD1A6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7475-C1EC-4F4C-AB93-EB3B1E5FC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DCF4-83EF-4D6C-BAE2-F66BD70A0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2E9F-16CA-4530-B212-A37319CD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83AC-D6BA-4DA3-A198-B747F746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42A9-561F-4B06-AFB7-6C5646D6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CE91-091A-4FEE-AB2A-B59864EA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2E11-04A5-42CC-9346-7739D1DD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B1CF-6F7B-411C-BBEB-FE5832D7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B39D-D9E2-4223-82EC-285CA42F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EDF7-6D15-4301-8F88-1B1678D3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05E8-1821-44C5-8F59-C98103FF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5190-7EDB-4AAB-87CB-4DD66B8A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D70A-49EF-4703-BB66-A147F0BD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F479-577C-4FC7-8566-014586A67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CE99-74A1-4AE0-BFE5-962BDF853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22F6-2717-4C51-981C-4985006F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94D14-07D9-42D4-83F2-7D3D1581B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8954F-FF1C-4668-B764-5E8B27C2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9F410-26EF-4DD5-AC72-1E5ED90F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A43A-D330-4B7E-9B92-C1766B71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DC250-65E9-408D-A672-4CEE5223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E7EB1-9D5B-4A5D-90EB-129B9912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29E50-630C-4546-877A-66D3F2E1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58AD9-2D0B-4887-9366-8D344DFE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1840B-92EE-455B-957F-FB192688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82C77-7845-4F22-BD3D-15A08AA9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6E321-51EA-4817-A7AC-E0070714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5B1B8-59CF-47A6-8849-9AFE66715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02403-F9E4-4E5B-8FDB-B7C01184B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FA70-4ABD-49AD-A311-56B84FC5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26D1-4DBB-4BC3-8BB6-1EB372F4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CCA6-F349-49C9-ADA0-540596D2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FDEB-9290-4F77-9AB1-059C32B3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1A01-1E89-4EA2-8786-4036BC41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C294-45BF-41ED-8281-F5605B4790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DB6B-5E07-405A-8130-5E9AC72389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7441-4B78-4E13-A632-941E88151B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nward, Christian Soldi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/B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abine Baring-Gould (186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thur Sullivan (18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Onward Christian Soldiers_v3o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1960" y="6488280"/>
            <a:ext cx="376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nward, Christian Sold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nward Christian Soldiers_v3o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nward Christian Soldiers_v3o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nward Christian Soldiers_v3o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nward Christian Soldier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1960" y="6488280"/>
            <a:ext cx="376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nward, Christian Sold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nward Christian Soldier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nward Christian Soldier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nward Christian Soldier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nward Christian Soldier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1960" y="6488280"/>
            <a:ext cx="376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nward, Christian Sold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nward Christian Soldier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nward Christian Soldier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nward Christian Soldier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20:22:22Z</dcterms:modified>
  <cp:revision>34</cp:revision>
  <dc:subject/>
  <dc:title>Slide 1</dc:title>
</cp:coreProperties>
</file>