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31F-B85D-4E3C-A7BF-6EBD64FC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B68-D994-489F-8501-C07604C8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AC8-65C7-46DC-BAF6-908751EC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6C6-AF03-4398-9300-ACAC19A7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B3E9-668C-4CFB-A840-1163A0AC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5A0D-3429-467E-BECA-9698C807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5B10-A52B-4B6B-B807-24A6C58A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A6F4-A282-4CAB-A47F-D22B62E1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E742-9034-495E-B118-5AA0B2AB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0C21-ABA2-4115-B827-F9513ED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F736-2AE5-4C5E-918B-924DF9DF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8AF-E965-468F-B7D1-DE444ECD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82B5-1BC9-49BA-8094-2F2C84AA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441F-A871-41DF-98D0-DAA73B95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DA1F-E5BB-4BAE-AE75-C4C61CBB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0809-098A-4FAE-822D-F0833625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DA71-85B4-49FF-B6B0-6B680619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A8E-F6DB-42DC-A472-33C8493D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EF36-C220-4A36-939F-5BC4D9C4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34F9-CF9D-45D3-8045-DF783631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322D5-9AC5-4A9D-81DD-EA302A26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B6C-03F5-47A8-9BC8-644A4BAC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E9233-E9AD-4EEB-98E5-19D1EEF5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952B-930B-40DA-8E3A-AC32CE6F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A816-E0C9-4794-9E5B-65E0D9EC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FEC6D-1DD1-4723-B6F5-7D8A7403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4364-8AB2-45D8-93B3-C4DC5AAA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3554-7E0D-42C2-9034-0A814B7F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0CA9-5183-4AFA-87A3-4C0C4539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3984-14E2-46D3-9D3A-AFB632BD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6201-9C3E-4806-9273-D80FF58D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700-144E-422D-8247-39996A75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FD7-AF2B-49F2-B91D-2D1B4303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10B-C44D-430A-9683-A5D2817E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791-1819-42AD-A240-AD2BD70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AEF-6527-47B8-AC5C-EFA993D0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2D2E-3A6C-4655-9D57-992F0E785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F7F8-73E5-42FF-803C-8A2568997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8E23-7374-4123-8069-914AB4B74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Prais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Hill (c. 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h Praise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9280" y="648828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h Praise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h Praise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8:50Z</dcterms:modified>
  <cp:revision>32</cp:revision>
  <dc:subject/>
  <dc:title>Slide 1</dc:title>
</cp:coreProperties>
</file>