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9FA-F3B3-4255-AFF8-01BDAB36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0EF-0EE9-46B3-BE1A-A88D17D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1F8-4168-494F-96DB-26F080BC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1A0-4973-491F-9669-303FB69B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80B7-B356-49F6-88D1-112AC4D4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E591-BCC9-4752-906D-B45B15A6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7E6D-77A4-4330-B144-F3A8D74A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2A0-4731-4845-B717-FC0921C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C617-B040-434D-8748-2CE42CE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9884-2158-4731-89ED-E5699DB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A196-BE90-432E-8024-7F923CA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0F0-041D-4ED0-8AF7-5DE1BF9A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65D3-F10E-4BCD-84D5-5129168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3AF-63ED-40BE-8439-035B0D4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A2EA-ADB9-4EC6-8A31-F31C37F1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606C-C658-4323-A69F-1214D39E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1F5-3EBF-4805-AF55-ABE3916A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3A0-68DA-402C-A75C-64D6878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AA17-5D46-4BD8-BAFF-AFBF1F1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4D97-D02F-440A-BD5C-D04847A0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25E2-71B8-46DD-A2C3-ABCB78B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7EC-A68D-4647-A57C-743D9A4F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B617-0083-4F66-9DD4-2EE4430A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5570-A208-41FF-84B8-2DAB5D7A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675B-F12E-440A-BC42-6540BF5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0825-E64F-477D-84DC-A1C6D58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19C2-41E9-4059-8C45-1E3BD70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8995-DB90-4534-993F-A622733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6BA4-5543-4407-81FD-FD55A79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1BC6-5F4D-4E05-A9EC-2ADA8715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1B16-F170-4B57-8219-7F912E3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BDE-BB40-4C1D-9E3A-73882501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4A5-326E-454F-9531-B958AA1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C38-A2FE-4D2F-9133-2FF7215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315-63C4-4C9A-AC5F-798051D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D74-A596-49A2-A8CB-CB819E1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8405-99FC-4DFE-91FC-27376E1A0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D4E8-F834-48A9-9379-212624FC7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CBF-DBC5-4E10-859D-DC423F5C3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In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.9.9.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O. Chisholm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In The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In The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In The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In The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ly In The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ly In The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ly In The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ly In The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In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In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In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In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In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In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ly In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ly In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18:04Z</dcterms:modified>
  <cp:revision>31</cp:revision>
  <dc:subject/>
  <dc:title>Slide 1</dc:title>
</cp:coreProperties>
</file>