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C0F-5CCC-4D85-9D53-1E54F560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C03-11D8-4B72-AF7B-B118552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9C0-0349-43EE-BC0B-EBAB8D2C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142-B798-44EE-957B-3FD7CDB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D1DF-CC1A-4172-AFBE-0B9050DA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216-3277-417C-980F-73B51F7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319A-F74F-45AA-8971-B74B2DA6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B8A2-9D59-4276-B7F9-221EEBE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E78-81B5-4828-BDB3-114C5B5B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A0A8-10FF-4BB3-869E-B4F6777C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4F6-EA7D-4473-951A-419A9CAD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D11-2E25-4612-BC71-6497235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C2C4-D9E0-4A7B-847C-C5224DD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04B-F43C-4778-BC60-1E5E235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8E72-6701-4608-8E6D-9F49212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54FB-5D30-4391-BFA3-2B38B974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D6FB-AFC5-49AD-BA20-780E43CE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83C-E76A-4946-801A-63937501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4606-AC12-4891-9DAF-732A989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FA20-0A7F-4069-9C41-5BFF587F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6442-3142-470E-9606-343B2CF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817-90F6-4870-904C-408C983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0372-7358-4D44-B1D6-E0040AA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B43F-39A3-4143-AE7D-F908B3E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F4F4-3A96-4E78-8B43-E8FCB6D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3D5E-DCF6-4D42-B75C-3EA878C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3EC3-22BD-4366-8A07-330ABC34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14CF-8820-417A-8714-714188B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F43D-827C-4DE8-B7A6-AAA44FC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6F53-CDB6-458F-AC82-4DB75508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5E95-FBB6-4596-872D-968C2756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2AF-1CFD-4CBD-88BA-25E22FD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DAF-2ECD-471D-B602-CFE96F0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4A2-3510-4AC4-B9CB-6D6E0E8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FC2-397A-4DEC-B812-88314AF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6F9-8196-4B21-A862-43201C1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811A-343E-49B4-886A-822AB953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D4B-03C4-4EC0-9184-78AAE943A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3A70-AAD2-4707-BC78-D04475AE6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pen My Eyes, That I May 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9.8.8.8.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Scott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Scott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pen My Eyes That I May S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pen My Eyes That I May S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pen My Eyes That I May S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pen My Eyes That I May S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pen My Eyes That I May S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pen My Eyes That I May S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pen My Eyes That I May S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pen My Eyes That I May S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pen My Eyes That I May S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pen My Eyes That I May S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pen My Eyes That I May S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pen My Eyes That I May S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2:59Z</dcterms:modified>
  <cp:revision>35</cp:revision>
  <dc:subject/>
  <dc:title>Slide 1</dc:title>
</cp:coreProperties>
</file>