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4CD-6288-4B7B-9B47-508E7D98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280-3E9A-44F7-B792-E460C1E2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795-EE91-4889-A092-D41F275E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33A-2E5D-4F79-B788-57DFB833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509E-48DA-41E5-AC89-5C0F0D42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A859-DA5D-4D4A-9B4A-0D4C823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B07-82AF-4720-9BF5-5D2EACEF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ADEB-D005-41A9-A97D-4537CAA7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2CB-E3D0-4F52-B24C-C22F448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645-1D6E-4AFE-89A6-BE8AB38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8FD-C1C3-4758-8DC8-90FC8E0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C48-5584-44A3-9DCC-1A1D9401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5C3-4A44-44C0-AF10-9710BC9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CE01-C7AF-4D99-B5CF-640D60C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50B-ACA7-4AA1-BBD9-2B57BB43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06B9-84D9-4E49-97A4-AD8FD4BE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6C64-B56A-406F-BDF7-F41986EE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EE5-658B-4C2A-829B-13C53EB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3E33-F89A-4E5F-9965-505B740C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BBC4-4BE3-4FC6-942C-01F0EAA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5617-13F7-4E3E-B1B8-528BB30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216-2076-427F-B58C-E1B5ABF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5438-9D18-4C6A-A0E7-99F3AB9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121E-E068-4B1E-8E4A-9C49C7E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EE0C-8A41-4E89-BDDD-CB0D78A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D3B4-61C0-4698-AC82-42ED331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EEA1-4105-4BF8-A89F-A152F0CC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C913-AA00-4FC5-B44D-6EFEEA4D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0C32-514C-4FAC-BAFB-6E4CC204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BD01-A9EF-4C82-AEC0-3B81B8C2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D401-1AF0-4562-BD40-EFE4B6A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F08-FE97-4B73-903B-13DBC52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97F-DF0E-45EE-BC56-310D7F1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3C9-08FC-4011-9467-328260F9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D01-24F0-40A4-ABAD-BF6A3C1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0C8-FBAB-4E49-AF50-E5AF8FE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C3C-DD96-401A-B628-E9580BFA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286D-F65C-408E-8B66-47D0AE252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391-C14A-4F4A-92A3-C69FCF88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Jordan's Stormy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T. C. O’Kan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C. O’Kan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Jordans Stormy Banks_arr2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Jordans Stormy Banks_arr2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Jordans Stormy Banks_arr2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icture containing text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line, fo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Jordans Stormy Banks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Jordans Stormy Banks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Jordans Stormy Banks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Jordans Stormy Banks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05:04Z</dcterms:modified>
  <cp:revision>34</cp:revision>
  <dc:subject/>
  <dc:title>Slide 1</dc:title>
</cp:coreProperties>
</file>