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EE3-6C25-425F-8FC7-7C3A820A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120-1A72-4AA8-8A88-C037786C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3C5-B1F5-4C5E-B807-4F38B7FF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F5E-C724-4FA2-8683-1C132F2A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BC6D-8921-4EDC-A951-E0310097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AAF5-C3A7-46E8-87EC-E16006DC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FA58-ECEA-4B0B-B082-79B7F81B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20A6-3F31-41A5-AAF7-EE81EA78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49AE-985D-4106-8CFF-F90A7F18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002B-9FEA-48B3-B434-76A21DF6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9BC8-7104-4D74-941A-53FBD1B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526-DFC3-41C1-A8B1-C0A6B19B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9B4B-61C0-49EC-8CD2-A1EAAF35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664C-D377-4C0C-985E-02EAE2B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1A33-FAFD-443E-853D-37483C01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AF1F-D8D0-48F9-B3E4-54021761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20D-4521-49E6-B819-475CDE56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2F5-B5ED-4439-8206-C350034D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F39C7-A93C-47AC-BC2E-5054970F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65C3-7943-4B28-A8E7-8F4E3EA7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3FBB7-A1F4-4092-BE49-B685FCE5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791-D3BD-4987-AC74-F9D4D8BA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43D93-AD64-481A-B1F6-7F2060B8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2C616-AC7D-476B-AB33-3350C90C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EDBA-E5BB-4F97-B7CF-B91861A1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898F-7FBE-48E7-A145-03947B6E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90BCD-CFD5-4A2C-B65B-754F8F27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62F9-B9F7-40BD-A70D-8146C92D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56F7-55EF-46B0-B070-9DF33544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880EA-F7A2-4340-B620-E62DA435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58D5-157A-4CCE-8D0E-9B4BD476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CF8-865A-41F1-A5F8-88BE7EE1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6CB-63CE-4522-9408-DDEF7AAF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A8E-7EAA-40DF-82AE-8602655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297-CC4C-4991-86B5-D1A10023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B81-AA66-4F92-9833-E3DF5C5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54A0-2F86-4E88-93CD-EBCF10575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53B-0742-476D-9A44-8BE29D586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FDFE-BC4F-4EF1-81E4-E7CC21757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ly Trust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rust The Sav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ockton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ockton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ly Trust Him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ly Trust Him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252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nly Tru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ly Trust Him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ly Trust Him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ly Trust Him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52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ly Tru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ly Trust Him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ly Trust Him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ly Trust Him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252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ly Tru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ly Trust Him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ly Trust Him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252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ly Tru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51:21Z</dcterms:modified>
  <cp:revision>33</cp:revision>
  <dc:subject/>
  <dc:title>Slide 1</dc:title>
</cp:coreProperties>
</file>