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D4E0-8961-42FD-B7C1-F43D9649C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2CED-0851-419E-8ED6-B759354EB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E110-ED68-44A5-9A51-5A0BA4824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BD65-09C3-4DF9-9857-B9B354E2E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46403-B233-400A-8EA0-49D575600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67A84-0164-41D4-B7AF-673A2C658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E606E-614E-477D-86CA-3326A98BA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BF534-B0B8-4484-90CD-8E97531FD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861D7-AB30-434C-92E4-71081BF54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C8DC6-0C64-4CB9-9F87-A4C35E754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B1B78-1F26-4259-A34E-C254E10D9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561F-6866-463D-82B3-B741AB834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CC99A-51D3-44BB-8EBA-6C781837D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6D5F1-44C9-4DCE-8CE7-91ED0A525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43E25-9388-4AB8-BD26-3E544F21D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79AB9-C50D-4B71-BC5F-9DF3823E2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92767-B034-46AB-823D-F93BD3738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0ECB-E953-439D-A703-B70D4D0EC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3762DD-DAF2-4012-B273-A44822556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13BA31-0436-4030-A659-8F52AE992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B6AAA7-3510-42BE-8BCC-F27DAEAA0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0B58-FE6B-46B6-90D5-EDEA7D57E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F02591-2675-4F74-A1E1-832642075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1B24A8-18B5-4B93-9A99-A3D47A86E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3B12C6-236F-418F-984B-DA8AA3213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43AEDC-C7D9-4B0A-B3F5-6D0D0AE7F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5BB77D-A59A-40CB-BB80-0700917D5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407CB6-F944-4A42-84C2-141B8D5A8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48CECE-A836-43F2-A28E-87902A276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4CD6EC-0557-4D5B-B038-58DC3C193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AA7981-D4B0-449F-86BB-E13524760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BE28-0C13-4B27-A554-39485AFE7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2EFC-7828-45D2-9A6F-7F8A5558E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3AA2-ED42-4FAA-BADA-2DA540CC7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A19C-057B-4B9C-BD63-342FE5692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D068-451D-455D-B027-C1C000734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2543B-69AC-4BBF-8A0C-0F84E1DEEB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9989F-C0E0-44F2-9F58-74643C6E044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3F00A-CF2D-45C5-AE6B-BEB5ABF190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600" spc="-1" strike="noStrike">
                <a:solidFill>
                  <a:srgbClr val="ffffff"/>
                </a:solidFill>
                <a:latin typeface="Lucida Sans"/>
                <a:ea typeface="Arial"/>
              </a:rPr>
              <a:t>Oft In Sorrow, Oft In Wo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HATF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7.7.7.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40320" y="4902120"/>
            <a:ext cx="124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3/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G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hite-Maitland (180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. T. Porter (187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3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Oft In Sorrow Oft In Woe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86400" y="6488280"/>
            <a:ext cx="36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</a:t>
            </a:r>
            <a:r>
              <a:rPr b="0" lang="de-DE" sz="1800" spc="-1" strike="noStrike">
                <a:solidFill>
                  <a:srgbClr val="000000"/>
                </a:solidFill>
                <a:latin typeface="Lucida Sans"/>
                <a:ea typeface="Arial"/>
              </a:rPr>
              <a:t>Oft In Sorrow, Oft In Wo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Oft In Sorrow Oft In Woe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Oft In Sorrow Oft In Woe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86400" y="6488280"/>
            <a:ext cx="36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</a:t>
            </a:r>
            <a:r>
              <a:rPr b="0" lang="de-DE" sz="1800" spc="-1" strike="noStrike">
                <a:solidFill>
                  <a:srgbClr val="000000"/>
                </a:solidFill>
                <a:latin typeface="Lucida Sans"/>
                <a:ea typeface="Arial"/>
              </a:rPr>
              <a:t>Oft In Sorrow, Oft In Wo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Oft In Sorrow Oft In Woe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Oft In Sorrow Oft In Woe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86400" y="6488280"/>
            <a:ext cx="36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</a:t>
            </a:r>
            <a:r>
              <a:rPr b="0" lang="de-DE" sz="1800" spc="-1" strike="noStrike">
                <a:solidFill>
                  <a:srgbClr val="000000"/>
                </a:solidFill>
                <a:latin typeface="Lucida Sans"/>
                <a:ea typeface="Arial"/>
              </a:rPr>
              <a:t>Oft In Sorrow, Oft In Wo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Oft In Sorrow Oft In Woe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Oft In Sorrow Oft In Woe_v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86400" y="6488280"/>
            <a:ext cx="36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</a:t>
            </a:r>
            <a:r>
              <a:rPr b="0" lang="de-DE" sz="1800" spc="-1" strike="noStrike">
                <a:solidFill>
                  <a:srgbClr val="000000"/>
                </a:solidFill>
                <a:latin typeface="Lucida Sans"/>
                <a:ea typeface="Arial"/>
              </a:rPr>
              <a:t>Oft In Sorrow, Oft In Wo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Oft In Sorrow Oft In Woe_v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84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8T18:46:55Z</dcterms:modified>
  <cp:revision>32</cp:revision>
  <dc:subject/>
  <dc:title>Slide 1</dc:title>
</cp:coreProperties>
</file>