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3BD-E9B9-4EB1-93DE-9E7F9BBA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12D-2C4A-4C64-BEF9-D233198A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E58-ECC7-4097-80FA-35757679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754-BADE-4180-9FA1-522F8F97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E23F-4130-4978-BACB-E26AEFF0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4F8A-667C-4192-BD65-9C288569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7E73-00FB-468D-9923-5C36ED93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501C-AA7B-4293-AE00-823E8348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19E5-7254-4B61-8306-BD785BC5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A924-AE78-4ABB-B474-ADCDC11C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BDED-DCB2-4460-B009-3DEFB226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885-7AE4-4859-8A68-8C3EC6E5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34AF-3D96-44B6-A44E-0A143620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CA1A-EC88-4EDF-9E48-62592219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57DE-759E-48C3-8914-40086C7D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3BB1-C1F6-4D49-BFA6-778B71B8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9E36-897E-40F2-80DE-B4BE8A53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C66-9CD5-472F-94D3-D398899D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A790-B04A-429F-B334-2537064D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7B2FE-52D8-4D36-8108-92763EAC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BA013-D633-48D2-AEEA-A77C528B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8DE-2176-4142-B495-ABAD1598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3A5B7-71EF-43FF-8436-EAE34FA1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068B-075E-4295-AD72-2B175588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D5CA6-D953-465E-9A6A-613DFB3A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FA6B4-B263-4FDE-A4D8-8E7F8D4B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0DF0B-5B01-4997-A039-3E6A26E4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404A1-3070-4EDB-BF65-28E14A7F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F1582-D3FB-4F21-9A99-D2DEBC73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8FE69-6744-4028-B967-D3E9415D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137D4-347D-4C8A-82E2-78FD8996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73D-517A-4454-838C-58D83B90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E783-E95F-48A9-B2A0-9F5E3B57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8BF-BD1E-4CCB-9746-1031292F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CF8-EFC1-46BA-BFAB-858FCA06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C2A-B75B-4780-9D6A-C3ECC56C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0A3D-80F6-4BB3-8C85-7752E80E2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7272-A6FD-4599-BAC3-568B530AF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CF0C-7AFC-448C-8167-2F011C747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 Zion's Glorious Sum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K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8400" y="4902120"/>
            <a:ext cx="227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Sanc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Kent (18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Skene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 Zions Glorious Summi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Char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94320" y="648828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Sanctus ~ On Zion's Glorious Su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 Zions Glorious Summit_vS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3680" y="64882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San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 Zions Glorious Summit_vS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13680" y="64882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San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n Zions Glorious Summit_vS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680" y="64882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San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 Zions Glorious Summi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160" y="6488280"/>
            <a:ext cx="37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 Zion's Glorious Su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 Zions Glorious Summi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 Zions Glorious Summi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 Zions Glorious Summi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10160" y="6488280"/>
            <a:ext cx="37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 Zion's Glorious Su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 Zions Glorious Summi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 Zions Glorious Summi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 Zions Glorious Summi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0160" y="6488280"/>
            <a:ext cx="37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 Zion's Glorious Su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 Zions Glorious Summi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7:41Z</dcterms:modified>
  <cp:revision>16</cp:revision>
  <dc:subject/>
  <dc:title>Slide 1</dc:title>
</cp:coreProperties>
</file>