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2A35-D935-45D0-B781-AE7534A65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663E-0651-4EAE-8B35-11449C4A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DAF6-FF60-4319-8807-F7BBD36CD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1DC1-DAB4-436D-A27D-C880B58B9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D598-165C-4892-806E-73530ED91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2FA5-DA30-4617-A806-C540855C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9D20-EB0C-4419-8632-8F094B5B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993D-4423-43C3-A0A3-39560266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B539-3DDA-45BF-B643-1694AE7F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1B78-DB2B-40DD-937B-74EC64E6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D66A-5B40-40CD-AE67-52C06CB6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B5E4-90E7-4AC5-BEA8-950D9EF7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09C4-F54A-4B45-BEE4-A6B16CDF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688B-A883-456E-A21A-5D65DD3E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43FB-7FA7-44DB-8233-0BEFA390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939E-DD83-4490-9F42-E1D7EECCA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313B-A02D-4FBF-91F0-40EA1811D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8E1E-8819-45D5-A674-AE511886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58E5E-8007-441C-804E-B6AE19DEA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7F3E0-9393-4027-BE11-0E6B5606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62689-7671-4E38-A5F0-A3CA26AA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EE24-08CA-4181-8660-355A2052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9A487-EB6C-418C-B794-B9765B1B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89A8D-C686-4366-9779-F5E90EBA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102C7-0A16-4260-8B8F-E1A4CE26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D2A09-DB8B-4891-8A38-7E89EE03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C8ACF-283F-4E8E-9663-7C0CCC97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0E3B6-2E01-48F0-9AE7-75AAA4A8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55FC1-D0EC-4AA9-B655-EEFC4EB6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E23C9-1EF1-45B2-A303-D5E828B53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F9193-4836-4381-82ED-D2F666F1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602A-658F-4E30-8C7E-87DEE6A3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77BE-23A4-4791-A984-86723452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23E2-4D8F-4896-9D71-5341582F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7A17-EB61-42FF-8D04-7A11A4F0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5626-194D-4A0E-9E7A-ED5DF511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F7EF-F43F-4D6E-AB8B-C26BEEE1BA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AA21-89F9-4422-B6E7-D2F5FA60B9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A460-68CC-44F5-B040-8671763A3E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ur King Immanu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C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Rowe (191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amuel W. Beasley (191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Our King Immanuel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ur King Immanuel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ur King Immanuel_vC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ur King Immanuel_vC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Our King Immanuel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76680" y="648828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ur King Immanu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Our King Immanuel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Our King Immanuel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Our King Immanuel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Our King Immanuel_vC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Our King Immanuel_vC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ur King Immanuel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6680" y="648828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ur King Immanu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ur King Immanuel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ur King Immanuel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ur King Immanuel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ur King Immanuel_vC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ur King Immanuel_vC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ur King Immanuel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76680" y="648828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ur King Immanu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ur King Immanuel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53:36Z</dcterms:modified>
  <cp:revision>33</cp:revision>
  <dc:subject/>
  <dc:title>Slide 1</dc:title>
</cp:coreProperties>
</file>