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7E9-1388-48A0-B37F-21DD0E47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BF8-B573-4C4D-88BE-7C30DB52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A20-CF5D-4D32-AD39-0868D2DD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F25-DD22-4A38-9A62-9E84F1AA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C81F-667C-45E5-A3E1-6BBE5C67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177E-42B6-4870-9C42-228697E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9C2D-4B9A-4B2E-8FFE-52564249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3FC4-D207-4E0F-B288-7914857A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AE13-93FA-4E27-A238-A90964A7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1B21-5687-4221-8A3D-BA851CA0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3CAA-3EFE-4254-8BC8-5EE183D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7AD-AD0E-41FA-8E3D-1DC86F2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BF9E-5001-4A06-AE63-DD5AACF5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C93C-98EC-4E2E-9EF8-E22434A6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5B5D-AD2D-42CB-A832-954711B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EE34-7BB1-4492-A5F0-445FD291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D196-4F8A-45A0-AF1F-4C7A4DE6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24A-A282-49FF-8B23-507B4189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33166-7AAF-4282-BD46-C2BCA85E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3558-6E0A-402B-A231-5EF9F194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BF6E9-698C-49D1-BF2A-DE1B87DB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885-A3EE-426A-B44B-DF626716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BEF9-96EA-47C4-B671-5A56A2BC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ED2B-76D3-4D37-A414-57D509B5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29C4-3747-442C-8DDE-4AA4C530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683A-9F9D-425B-A2C3-E41823B1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DAEF-E4D9-4E3B-8C00-E48FFFC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B2FA-8789-4DA5-97DF-0630EEC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5ECA-D0C6-4674-AD6A-B3E4FD34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594C1-D8CA-4553-B4D1-3FC3FC14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B979-E1B5-4950-B864-494A3DE2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B76-DADC-4A86-83D3-8A27A72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C7D-B7D4-4373-9BD9-FDF14761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D8B-834C-46BE-89F5-922F2169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285-B5FB-4AA9-A813-3BCD9A6B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D8C-A756-4B56-BC64-9530863A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8624-03C5-49AF-9810-000C3F776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8D9E-A5FA-4566-B1A5-5AEE18E94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C7BE-646A-4E9D-AE8D-075B9244D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e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ilbur Chapman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March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e 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9120" y="6488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e 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e 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e 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ne Da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9120" y="6488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n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ne Da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ne Da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ne Day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One Day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69120" y="6488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On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One Day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e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9120" y="6488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One Day_v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One Day_v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e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e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e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e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9120" y="6488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e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e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e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8:20Z</dcterms:modified>
  <cp:revision>33</cp:revision>
  <dc:subject/>
  <dc:title>Slide 1</dc:title>
</cp:coreProperties>
</file>