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EEB-6E60-4AC1-A074-E2956713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DFB8-9446-45BD-8973-405D7A24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371-F665-447B-A14B-2999E04B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26C-CDA8-4383-9669-6C8380AD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B912-6F3F-4849-9C0B-A4C04149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4A93-1B4A-44F6-A4F7-832971B4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D98B-6CF7-4AEC-B660-BC96BCFF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67BB-6447-4E12-9B92-5F6E00AB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25AF-C111-40AC-904F-6DD531D0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F9A2-FBF8-48CB-A31C-7AADDA08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9D89-3400-45AD-A643-2B8CCBCF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2A6-E1C5-49C2-B29D-0AD5ACE8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50AE-8FAB-4F06-8BD8-8C7EA91F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F418-EEAA-4B24-A554-1CDC54DD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48A7-1949-43B4-913A-776B82BA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9738-9DA8-4B35-BF5D-CBD79B85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6305-4EB2-400F-B9CD-FB5BF763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C59-9C3F-4407-995A-D2F8C935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05D7F-E702-4584-AE7F-AD194B24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07692-5FF4-4CB1-824A-4F76FD1F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E7064-C2C0-451E-A869-78708056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379-C26E-4779-B205-9D41A9AA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7481-3AF8-48BB-937C-5751CF4A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CFB55-23AA-48E2-BD6C-29D6DBEF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B71BF-6B66-4FB0-867B-919CB133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DF52A-E3EF-424F-B24D-3003BAA7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C0141-C367-41EE-BD87-EA691EFF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A679D-FDD5-4566-A130-13423CD5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C33AE-AC3E-4FAC-A695-888394C1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63401-874C-4890-8821-040B6BE1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7A362-7C82-414F-9841-DD0B1DE2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178-846C-4403-83E4-7B733C9F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34C-4B55-4485-9990-EFB0B0E9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D83D-9D02-47CB-9F9B-008D313C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6B8-7232-48A4-BE2C-3F220A26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556-419C-4702-8F61-AFC9C028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1DDC-E291-45B4-A408-85143DCBE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F1FD-65DD-4E31-8DA3-9B45610902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79F6-B6DA-48FD-88DA-6B73F4C1E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Perfect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ANDRING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1.10.11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516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rothy B. Gurney (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Barnby (1889), Arr. John Stainer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Perfect Lo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2360" y="64882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Perfect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Perfect Lo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Perfect Lov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2360" y="64882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Perfect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Perfect Lov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Perfect Lov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2360" y="64882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Perfect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Perfect Lov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1:31Z</dcterms:modified>
  <cp:revision>16</cp:revision>
  <dc:subject/>
  <dc:title>Slide 1</dc:title>
</cp:coreProperties>
</file>