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1BC7-BB06-46E7-8F90-EF443D2D2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FEE9-6B32-4DB7-99C0-4CC0E617B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557E-920B-4BBE-887B-6F0C70619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6A8D-9209-4A2D-95FE-2A8AB078C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3D09D-B6A8-4C4C-9C9C-6F293D791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CC192-5509-4CEB-ADA5-14DEE3867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52A57-5583-4CEB-92F7-AECA542D7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DD7DF-EA59-44B4-8F3C-9E7DB6282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C74E3-54F3-4F95-8111-529805D78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F57DB-E1C6-4391-A452-F9799BD7D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7610F-278E-444D-9B33-E1121762D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931A-B004-44D2-A2F8-4040D3664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2CD05-F251-43B9-8B9A-9CC44555F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22C7A-CBB5-4EAC-89DD-5A61BC5CC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7E5BE-C821-4867-A335-12EA2F43F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9F691-DE57-4041-92D9-F5CB12B97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3093D-DA10-4395-996B-AED540917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4BBF-1AD4-42D9-8E4F-8FDB66223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F85FA-016C-4658-8150-2B3F9E07C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01EC1-D6F6-4EF0-9974-D1BD06CCA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289C7-AE88-4824-942A-318D1D6D0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D904-DAE8-45B6-B167-340856572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C809C-C7CE-4AF4-9773-733E91B66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EDDA1-16D4-4650-B57A-03514F3A7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8732C-FEAE-48A1-812D-6B2A3A1B0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84B9B-9B38-45E9-9D86-45021CAB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C5102-8426-4218-B982-3B26BF6D1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486D1-BE50-4380-9665-8F386D610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FBD7C-79E1-4FA4-99CE-D24157C44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F5B50-3D05-47C0-8CB3-7C60F73CC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73881-B6DE-4BA9-878A-2D9186BDC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515F-94B0-4855-9825-A8939A976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72CC-7B04-4579-A687-36B491DCC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4BEE-CD23-4318-B6C1-10C2F9A5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C0A9-F971-4E24-AFC6-49B3D555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8281-017E-433B-A1EA-42FDB654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17FC0-3584-4E19-AB21-521CF242C7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3E446-607F-4B81-8D57-1726F01C47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374FA-45E4-4C83-86DB-5F37BB1E8A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O Spread The Tidings 'R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The Comforter Has Co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/G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rancis Bottoms (189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J. Kirkpatrick (189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O Spread The Tidings Round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O Spread The Tidings Round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O Spread The Tidings Round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O Spread The Tidings Round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O Spread The Tidings Round_v2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O Spread The Tidings Round_v2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O Spread The Tidings Round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128160" y="6488280"/>
            <a:ext cx="40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O Spread The Tidings '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O Spread The Tidings Round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O Spread The Tidings Round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O Spread The Tidings Round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O Spread The Tidings Round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28160" y="6488280"/>
            <a:ext cx="40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O Spread The Tidings '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O Spread The Tidings Round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O Spread The Tidings Round_v3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O Spread The Tidings Round_v3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1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O Spread The Tidings Round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O Spread The Tidings Round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O Spread The Tidings Round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 Spread The Tidings Round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O Spread The Tidings Round_v1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O Spread The Tidings Round_v1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O Spread The Tidings Round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128160" y="6488280"/>
            <a:ext cx="40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O Spread The Tidings '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8T18:34:16Z</dcterms:modified>
  <cp:revision>30</cp:revision>
  <dc:subject/>
  <dc:title>Slide 1</dc:title>
</cp:coreProperties>
</file>