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13F-84DD-4DED-950A-67B00658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C294-E3AD-470C-B47F-4C50A68C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B34-0B94-426E-97A5-F327C588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B29-5DD9-4DAA-9880-FCDD7E47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7D89-1B44-4C52-9B79-FE1B5AB7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3BD0-42B4-42D0-A74F-5DFE6799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04CD-AA4C-40F0-B3A7-84CD363E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2D8E-5D09-4B45-8CB1-D60EBC2D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985A-3320-49DB-B415-C8538779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43A9-AE24-4CCC-A08D-5D70A224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556B-7F28-40BF-9392-F21F0FC9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C3C-7667-460D-9E05-1FC8F624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7541-E010-4461-ABA2-63B5CBA5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5BEE-E35E-46BD-87B0-38B852DA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4F57-692F-4368-8D3B-75C8D7C7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D2B0-2A5B-4483-AA90-5DBDD53C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E982-5580-4107-A535-C7254F76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FF0-CF4F-4D2E-9A9E-C393CB8A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014BA-BE26-4141-A603-CA589787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76C9-07D4-4A7F-9975-AE624385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8A466-EFFC-4F3C-BA57-F31E573B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0636-6747-4CA7-AA4C-5EEA9DD5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3384F-E4DB-4036-81E2-F56C739B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C87C3-289D-4BF8-B016-FA0C588C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FE3ED-5C0F-4749-9DA1-44372060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72EB3-6560-4367-89A8-2F7A3A13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10A0C-6E59-4EE9-825F-9640C14E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1E92-E073-4A64-ADBF-85A9BB20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56556-ED4A-48EB-949C-0046630E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CA101-761F-458F-BC87-A3E85CD0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0DCA6-771C-453B-9609-85EDAEFB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46E-9CD4-48A1-B25A-2C535983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0F7-553E-4C0C-A704-E33CEE14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F9C-4D45-4737-B5E2-32F7E314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AC8-A563-4592-BD8D-B13C856A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D75-AF9F-42EF-90AF-C5D6E1AF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256D-CC92-425C-82FD-BBEF208C2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60EA-BC5F-44C7-AF27-AE0B25CA70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CD6D-9075-4C1F-BB09-D7593E4D1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Master, Let Me Walk With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ARY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G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ashington Gladden (18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Percy Smith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Master Let Me Walk With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080" y="6488280"/>
            <a:ext cx="44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Master, Let Me Walk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Master Let Me Walk With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Master Let Me Walk With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9080" y="6488280"/>
            <a:ext cx="44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Master, Let Me Walk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Master Let Me Walk With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Timelin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9080" y="6488280"/>
            <a:ext cx="44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Master, Let Me Walk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Master Let Me Walk With The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2:36Z</dcterms:modified>
  <cp:revision>33</cp:revision>
  <dc:subject/>
  <dc:title>Slide 1</dc:title>
</cp:coreProperties>
</file>