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E87-DEAD-4830-92E4-4A3269F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2B3-F836-429A-BE5C-E91D5F1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5C3-8BAC-4965-A19C-23E068D9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6CB-8A01-42E5-BEF4-5C7AF4F2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9447-332D-4DB8-B2A3-23C2102C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6D4C-B532-454C-B1C3-096B6CD3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71A2-9C1C-4DAC-B590-0DB80D3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4F09-B0F2-4624-BC0A-F2AECF2E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3D33-869D-426B-9773-C3858F95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2C9-A4ED-44E8-978E-7DB5335C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A3B1-DF66-4343-8EB5-0DCBF436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187-C8C2-4858-A0EF-9F6CB7A9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BFC-0A08-44AF-BBC6-9071712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0CD7-E97E-4882-9A66-E9A467D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92E4-63E3-4B3D-8766-5E755FC0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389-2DE9-4134-8005-5CAF90E0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88F8-5BEA-4293-B080-BD6D9020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5B1-0ADC-4FC2-AD2B-A67F642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673F-52CE-46CA-8F24-10727161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18B8-CB90-48FC-A638-D5C51B9E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AA75-3718-4E0A-A4C1-40EEAAF6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76A-5B3B-4846-BC46-D6932E3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45D0-A43D-46BD-99E5-65529ABA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7313-4BF1-4A91-9F61-8528C39E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B180-1C15-40B8-9006-AF0B340E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30FB-EDFE-43D1-ACD1-478B58E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0905-B81B-46A3-930D-FFF610E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DA9C-46AA-4620-BE5E-82348AF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E5DA-005F-48A3-B34E-2653B5F1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CBC0-F953-4C5B-8044-08B94CB1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29CB-BF8F-44B7-A8B3-9B089F34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8CC-A5B6-408B-B61A-E8A3F5A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60D-5A99-40AE-93AB-1AD7EDA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D5A-1E44-4590-AF58-2824C59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0C8-8971-4F7C-BA4E-404F580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D6A-F247-4F2A-B7BD-CF256ED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12A-4ABC-4BB8-8167-21AC15C65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607-2D58-4555-B03C-CEDDD842F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DBE-D5A7-4956-976E-8A6E9CA5D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Listen To The Wondrou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at Did He D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. Gray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Owen (18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560" y="648828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Listen To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Listen to the Wondrous Stor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Listen to the Wondrous Stor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Listen to the Wondrous Stor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Listen to the Wondrous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Listen To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Listen to the Wondrous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Listen to the Wondrous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Listen to the Wondrous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Listen to the Wondrous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560" y="648828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Listen To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Listen to the Wondrous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Listen to the Wondrous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Listen to the Wondrous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9:24Z</dcterms:modified>
  <cp:revision>31</cp:revision>
  <dc:subject/>
  <dc:title>Slide 1</dc:title>
</cp:coreProperties>
</file>