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4B8-9225-43A2-8B93-DB654679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190-3449-4F13-8C7F-67957A21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FCD-0B58-4F86-B654-7B95D230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61D-13F5-4FDD-8905-343749F6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18B9-74FF-4D2D-8346-1DFD2766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81C4-6447-4289-8961-A580186C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B2FA-7906-4A37-B407-278A277B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A2AA-5B82-4980-878C-65BCCDC4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FBB9-9F45-4E7F-B430-C4421C63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38D5-4B5D-425B-A062-0B862AF4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270C-BE30-443A-BB0B-9B9A67ED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38C-20C1-45F6-9E6B-A695F35C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838F-653B-4773-AEB6-903E869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9A9A-C4FE-4E6C-ADD4-ACFCA8F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7FCF-427E-4D0F-A094-36EC251E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3D3A-5259-4D4B-BD0B-2B5B2719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E99B-2D28-446B-9E5D-45B41410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099-0B68-42BD-926A-6CCC2E87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1132-1A1A-495F-9919-3F8D2DD2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C7886-5660-4F56-BDBF-A7CF4888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03625-5B35-4EFD-90C1-628EAEB1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1B1-E862-467B-B0DA-0842A216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4B6B-F63D-4C26-B25E-9E8CD9F3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09553-75DB-4B20-B330-860F6D59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BC3C-D924-49C6-BA88-2B104B2C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F9F32-5258-4D68-98A8-DA83D26E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D8AD-795B-4A95-9BF2-493A5497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832E-8F01-4B36-B853-045A543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837B-85EA-414B-AA22-48E03D13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B3B7-64D2-4C0A-AAE5-F6493171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6B284-A53A-4118-A7A0-2AF31BCC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748-2BAB-4EA2-BBC3-FB1EF3C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DD6-4A3B-47BA-BB7C-8D3A8FAD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3FC-955F-4973-A059-1C0EE4A9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BFA-3C3C-4973-A6A4-5E1E8493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B3B-E229-4B57-A70E-2B263A43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A601-C43C-42A4-8A14-507633135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F513-91EF-4EEC-8334-26EE3732A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A157-7083-4FB0-9986-1AA0A8D38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Jesus, My S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I LOVE TH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1.11.1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onym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remiah Ingall’s Christian Harmony (18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Jesus My Savio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760" y="64882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Jesus,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Jesus My Savio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Jesus My Savio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5760" y="64882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Jesus,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Jesus My Savio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Jesus My Savio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5760" y="64882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Jesus,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Jesus My Savio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8:42Z</dcterms:modified>
  <cp:revision>32</cp:revision>
  <dc:subject/>
  <dc:title>Slide 1</dc:title>
</cp:coreProperties>
</file>