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FE0-8770-428C-9D24-EA33F607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748-A2A0-4CBB-B4B8-5665AB1C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727-B585-4E92-9B9A-EA19593A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96F-B0EC-4C56-ADEB-0AD920C9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ED0F-7523-46FD-840E-299C4BC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6CC-A7BD-4BC2-A0AC-8E8275D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209-C05A-4FB8-BE8E-AB195B1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F704-9014-4194-B461-07CDA7F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5572-2553-42C8-B4C2-86F91F2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88DA-B08F-49CB-83F2-69D14A5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F42C-F2D1-4C7C-9C19-7D5E15A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419-A5D9-48F0-B800-F924363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BFE2-D237-44FA-8414-84095B2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AB13-100E-4CCF-AF1B-263AFEE4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09ED-81EA-4A7A-8609-265EC67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5B9B-F544-4AA8-BD77-83362D38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E48-05FC-4D1B-9E9E-DAD877DA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53B-8B45-4268-A996-DE1DF61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3CBB-EFC0-4426-BE02-91C0F687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1E5E-A1E4-495D-9188-70A806D7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FF70-E589-4010-BE85-68B4AD3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F68-16E4-4807-8E6C-C71D723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0C14-D61E-4221-BD99-45B6756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4B35-6FCD-4907-8652-0E19846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160D-7F79-45EF-AC36-EB28A9C9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C52D-9DDD-4F2F-9708-3DE96560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B2EF-8070-48F4-BD9C-8FB3F25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0785-A89B-4EE3-BA08-AF4D4BF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4847-8CCC-42BC-B45B-9F6B1E47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F6FD-D120-479F-A313-28D1CEE7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F9A5-A8AF-457B-8C92-8B11444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CEA-A01E-43A7-A328-D165292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B75-93E5-4C66-A5D9-A39CA18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829-7A05-4483-86E0-3C1D234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DA9-E227-4E91-9801-7F4A7F8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922-A310-4FF9-846D-1AC0790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8FCE-CE21-4F6A-9A2A-396836D1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A467-9E87-4264-AA1D-A3C882A55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B8F-B7BE-4BA8-96E0-D9427B31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Jordan’s Stormy Banks I 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Am Bound For The Promis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097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Rigdon M. McIntos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k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uthern Harmony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igdon M. McIntos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Jordans Stormy Bank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Jordans Stormy Bank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Jordans Stormy Bank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Jordans Stormy Bank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Jordans Stormy Bank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Jordans Stormy Bank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Jordans Stormy Bank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Jordans Stormy Bank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Jordans Stormy Bank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Jordans Stormy Bank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1:54Z</dcterms:modified>
  <cp:revision>27</cp:revision>
  <dc:subject/>
  <dc:title>Slide 1</dc:title>
</cp:coreProperties>
</file>