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B13-7D3A-4D8D-A69C-567D03F9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D43-08AA-4C4F-8737-FFD6869E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0FD-1903-4DCC-8DB1-225C2856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210-D659-4FD7-800C-9657FBE5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738A-A888-4946-A002-541DA777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5D1-F11F-42D5-8555-1259FD08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955-69C5-42D7-BDC5-33ADCE2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0EC-054D-4789-AC37-6220521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BBAB-0B6D-47C0-8B4A-B155EE2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E942-A8F0-42EE-85A1-63342CB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1A99-6443-4917-BC2A-B89E497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34A-9BA6-43B0-AD15-59D162FC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62AE-3F6C-4C18-A53F-0DBC36F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9EB6-84EC-4B9E-A460-0F7EEFD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477D-347F-4D3D-BF27-9ADDE719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5E1F-937C-40B9-AF90-016571A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FE2-5AC3-4EEC-9321-7BC1D55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BAC-1301-43A3-9C3C-B4E02397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EF3D-7FD2-42DC-94F2-67318805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E03C-63D5-4150-BF73-CA561FE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FAEB-14C5-41E9-925A-4C9BDFB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6DC-4C6E-4CB7-BA50-55B5966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A33F-9F25-4426-8A2C-F0A80D8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09B3-8C04-49C6-B2D6-8B05A57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8D8F-E6AF-4F41-A005-0112160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B83B-DF5B-452B-8A53-15D7CC4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1CF-C448-4E89-88C6-87449F8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CFB0-C648-4FAC-837B-E491FDA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D67C-D25C-46F6-8BDA-6DA1AE9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8CEF-EC82-44F4-892D-E80781F4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B715-6AB1-4B45-8B36-8713504E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274-FE7E-43F7-9D5C-53427E3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D6C-805D-45CF-BDAF-747B8C9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B47-7395-4298-94EF-3F71EC9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71D-F154-4B32-9AAE-AD9312A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AA8-D30F-4F22-9900-3D3A2AA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E9F-0391-44EB-B0CA-3798406DE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D08-0AAD-4FE9-9001-4BF44E42F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1506-F643-4368-AA4D-89ECD84D7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 No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Not A Fri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ton Oatman, Jr.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Hugg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 Not 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 Not 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 Not 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 Not 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 Not One_v5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 Not One_v5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 Not One_v5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 Not 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 Not 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 Not 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 Not 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 Not 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 Not 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 Not 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 Not 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1:28Z</dcterms:modified>
  <cp:revision>33</cp:revision>
  <dc:subject/>
  <dc:title>Slide 1</dc:title>
</cp:coreProperties>
</file>