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10B-D042-40C5-8989-AA01C024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E4A-0D48-4400-A4AD-6565F64A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1A8-5908-4720-8A68-1088EB9B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666-8931-4FF6-B96E-CFCCDD89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C2AA-7827-44B7-8753-364EAA34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B4E1-5171-4C4E-BB5F-F9CFEC00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8CF2-AD6A-4A58-B133-FCD7D4CF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C956-ACD2-4DA2-A3E8-54BB1AE9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8A3C-33D5-4867-8BB9-A63146DD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FC04-7613-4050-808B-ACFC45BB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DA9D-3F09-4025-9910-0F54FFE1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6F7-B43B-4032-AA99-345ABD5B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52BB-D4F3-48DE-AECC-803C37D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CB3F-AEE3-44D1-AA2E-2A8555A8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F42C-4B36-4656-B119-8A898941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8A07-B104-4636-B824-A4D7A845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5908-1976-4AC2-BDC2-C7A8EEC9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720-50FD-4DAD-9FC9-41DD6B25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6AB0-6278-4CE8-AFE6-B0CD874B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B9B0-FAC2-4476-B791-A737B90F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9A38-A9D6-4CDF-903C-CB03E1F2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9FB-3EF0-4D72-99A5-14A08BC7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C9D6-85BD-4A16-A565-66B18AE2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40A1-713C-4691-8ECB-784E5EF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402B-DCE2-4A3A-B06A-B908B8C9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8ABB-E66E-4D17-B54A-B544D188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22C3-DC69-43D3-BE1F-75BDE5B4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B3E6-8CE1-46A0-A113-3190EBC5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0928-323C-4CB7-AC79-A3EC9353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EE39-9433-43C7-92D2-B69D31DD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2F5B-8BB2-452E-B6F0-31A50C2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C3B-6197-46E6-86EC-946143EC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882-A898-4548-A06F-6F5DE2A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7FC-34C6-4802-A76B-37B57C5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AFE-8AC7-46CD-A35D-7332689D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47E-DFEA-489E-A7A1-B9AA3EE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5DAA-F2D9-41DA-BCCA-AA8853FC7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347A-07B7-4810-875C-537079FA6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0BC2-FE90-4AAD-99A5-3ECD194FF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ailed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Frank A Breck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ant Colfax Tullar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ailed To The Cros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6640" y="64882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ailed To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ailed To The Cros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ailed To The Cros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ailed To The Cros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ailed To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6640" y="64882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ailed To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ailed To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ailed To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ailed To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ailed To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6640" y="64882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ailed To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ailed To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ailed To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ailed To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3:38Z</dcterms:modified>
  <cp:revision>17</cp:revision>
  <dc:subject/>
  <dc:title>Slide 1</dc:title>
</cp:coreProperties>
</file>