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62A-17F3-4117-9A61-7E93EF48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577-A71B-4820-B835-7E25616E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63A-E14F-4BD3-9FFC-7CDD87CB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BB4A-B031-44E8-8B22-697EF1E8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5377-C3D8-4223-8D89-19D6ED21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DE9C-9B92-4050-9FB5-617E1A38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4AA5-0F03-4084-A630-1449C73D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0324-141A-4B29-B46A-CBB3877C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A1BE-3D80-4AF3-9769-4FD66BC4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8549-BC7A-4522-ACE8-82F46ED3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7A2A-BD4A-4B8C-BD9E-0EC7BB02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266-7828-4599-B3A2-0B8BD7D0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DAC2-0BDB-4C0B-AB02-2B76DECB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F3A6-79FC-47DA-856B-A43F412F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3E99-1773-4F6E-910D-2A625BCB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AC0D-36E8-4AD7-92DD-D20D8975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16E4-8C53-40F1-A2B7-98C591FF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DFD-6791-437B-BEFB-8584A6AA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EF4F5-AF08-456A-8143-CD8EC0FB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E7750-2594-48DE-813B-7B9EF800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F3706-5114-464D-84F8-CF80A1BE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0470-9966-47D5-87AD-F403E4C6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73AE2-9FEF-4CD1-8386-64B7BE7D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59A6F-1CA1-44BA-B948-5F45765E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BE643-5F9C-4E24-88A5-3A5DF59E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C1441-0A07-4BEF-BA47-F89A86EC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E56A8-A44B-4104-88DA-C7716126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9E192-6BDE-4165-8757-598BF977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0307C-5635-4E61-9746-3EE03916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64C3A-D9F8-43E2-94A7-45C8BA48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9A85A-C1A5-4DCD-8971-E1C5987E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853-43F8-4C70-B708-07064E25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116-333C-4CC6-B79B-38EBA373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F9B-4295-4A41-8BAC-4582E4BC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929-C6C1-45C2-8F38-4B8B4EC0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893-619B-435B-8918-506647AB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458B-706C-4096-9EEB-521FD1E4C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7AEA-18DD-4A69-8837-0B99BAF439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8154-D350-48B1-91C2-B7F50D5E3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ear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Jesus, Keep Me Near The Cro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H. Doane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ear The Cross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8200" y="6488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ear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ear The Cross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ear The Cross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ear The Cross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Near The Cross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8200" y="6488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Near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Near The Cross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Near The Cross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Near The Cross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ear The Cros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8200" y="6488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ear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ear The Cros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ear The Cros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ear The Cros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ear The Cros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8200" y="6488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ear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ear The Cros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ear The Cros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ear The Cros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04:29Z</dcterms:modified>
  <cp:revision>27</cp:revision>
  <dc:subject/>
  <dc:title>Slide 1</dc:title>
</cp:coreProperties>
</file>