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F440-A4DD-420A-A416-320CFB12C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63DF-E58C-424D-BF68-92D376B6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EF2D-8D10-47C7-9059-E47F0A464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DE32-A101-46C1-86C5-5AA126002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DD4D-6446-4618-97FB-622F99162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7C9F-3115-4B80-8051-FC9B3E4D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EF0E-B926-42EA-B1F2-3CB003AA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B267-2AE1-4FC7-97D5-C74D195C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6BDA-78A0-4D9B-A09D-9D0DB97A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93C1-0BA9-43E4-9619-E9315AE5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1AC5-9832-48C5-B55C-77491476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E064-D65C-412D-B017-60058923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E8883-9876-4BEC-9FE4-F6CD5425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D3DD-C61F-412E-A9A0-BBECADC5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5E04-322D-4552-B6E2-8BC41194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FB51-6ACC-4611-9CEE-AD58A432E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6CD23-A884-45ED-84AA-AFCC94BF9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A26D-531E-40EC-916C-68E7C35A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6C4CD-351E-494D-A4A0-AC94473B8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058B0-4A50-4B7E-9F49-8282FD5F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45074-677F-4476-AE3F-A2075ADF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C50E-5003-40C4-9451-299DD6BB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BA364-6091-4A11-B54C-1FED7681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BFE21-0155-45CA-88C2-A6353075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3132E-0206-4586-A404-CE9A8F9A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A69D0-4065-4250-95F6-7D79DE54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87C9E-07AC-416B-8506-6BF6A437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5AB14-9C1C-4F07-B221-771FF2C1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89613-A62B-4F4E-B489-0B09DAE5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41AA9-F8B8-49BA-918A-1C611887E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1235B-4ABE-4583-97B4-3F9388B9D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01CE-BA29-474C-8CB7-2B405B9B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CEDC-3AA6-41FD-B5D8-A97E8E9D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9769-FABC-411A-BE50-D8EA4841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E212-4F12-4304-99FE-3E9EA330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17DA-3268-417A-9C5C-BBD66B15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466D-B3E6-46A9-BFCF-56850D3BBE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A39E-FD59-4A39-96CF-B941AAA87B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7863-E178-40EB-B74D-FB1992CF3B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Near To The Heart Of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F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#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. B. McAfee (19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. B. McAfee (19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7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Near To The Heart Of Go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3760" y="6488280"/>
            <a:ext cx="369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Near To The Heart Of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Near To The Heart Of Go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Near To The Heart Of Go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Near To The Heart Of God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Near To The Heart Of Go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3760" y="6488280"/>
            <a:ext cx="369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Near To The Heart Of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Near To The Heart Of Go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Near To The Heart Of Go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Near To The Heart Of Go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Near To The Heart Of Go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3760" y="6488280"/>
            <a:ext cx="369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Near To The Heart Of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Near To The Heart Of Go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Near To The Heart Of Go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Near To The Heart Of Go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7T23:05:53Z</dcterms:modified>
  <cp:revision>27</cp:revision>
  <dc:subject/>
  <dc:title>Slide 1</dc:title>
</cp:coreProperties>
</file>