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246-342F-4AAE-8275-73DAB205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370-FE27-4653-B700-8BA55FF4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3A-CCDB-4D81-9286-17EE7A4A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CE6-74E1-4F18-A854-6E74F305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ADAF-CD3C-4E26-B449-98DFB343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C387-E27A-4DDB-9701-798FC29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FBA1-BA09-46CC-B1CC-B573385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DC31-C79F-48D5-A599-832B2841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786F-A802-4711-9096-8A503CB4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DAF-5DDC-4802-A6A3-FC94763D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6DEA-AA49-4E9F-85AA-68EA6E1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C54-45B1-4338-BC63-3D38C57A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F1A5-D992-4605-8620-7895F31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679B-9738-4E1F-8191-3DD78914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269C-D984-477E-A37A-8E1623A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EF56-FAD2-4EFB-B23C-F1AF184A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259C-623B-474A-82D3-907C89E6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CE3-6AB4-45BB-86F6-AE4F1E6E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EBFA-2239-48B2-9364-E20273D3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ADE0-B095-4F58-BC11-434F64D9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21D6-8897-4361-9A84-465CCBD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F6F-F92F-4A12-98D2-E968EAF5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5F94-8B20-4515-B5D5-B2D962C5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29E8-3FFD-4FB2-9FDB-D556DF9F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5339-B4FE-4F91-8B0D-C82E53B9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9983-63BD-4272-BD2B-D1BC0AE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5F0B-45FB-449A-B2B4-F37C207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3B2F-42EA-4F3C-81F1-97F9D6FD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557B-1F5D-4D83-B22C-A645A294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AA76-592F-4B05-8E58-98334E66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4EBD-2686-461D-A1FD-7F0F8414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728-817D-44CF-946F-69D659DD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3E1-DCCE-4DB6-A676-6ADE8C49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25E-1677-467F-8FED-8750006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DDC-2B79-49C5-88E0-5513A9CD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DAD-B3D4-4AEC-B8EF-754DB0C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623A-9418-45E7-81DF-37D71BE9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2FB6-2305-4A8D-9D18-A289DF324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70F7-7F95-421B-ABA7-46ABBDB05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w The Day Is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ER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bine Baring-Gould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Barnb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w The Day Is Ov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w The Day Is Ov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w The Day Is Ov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w The Day Is Ov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w The Day Is Over_arr1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2:59Z</dcterms:modified>
  <cp:revision>37</cp:revision>
  <dc:subject/>
  <dc:title>Slide 1</dc:title>
</cp:coreProperties>
</file>