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BB1-9DC9-47CC-B33E-E048BAAB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0BA-BFB7-49E3-BFEA-44179D44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7BE-2217-4547-A797-7E8BB671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013-1E7F-40E1-8F32-3235F9A6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274F-C1EE-4827-8CCD-D1647713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5AB4-42CA-4D71-8F9C-DB71CB5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61C1-94BB-424B-A1A5-42A0BD6D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935E-6249-4F69-80D3-D2618FB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6AC7-5D42-4FB2-B577-FF075EA9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D856-24E5-4E09-9BB8-EA2E28B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757-9B0F-4FB3-B648-03115A8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5DF-5B68-4E25-9A32-219D33D6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E8C4-DD5A-448D-96EF-6DD6C1BE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6A7A-49BA-4C76-B56D-6A7E46B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AED7-8E2A-44C8-AB35-371D2C8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6849-94BC-404E-A638-123CCCD2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262D-3D93-42B1-9C68-0181D38A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A2A-69FC-410E-99EE-CDF30583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504B-425F-4D98-905E-5397CDCE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C619-D2EA-447A-85DF-3BC38AA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7DE1-8F1D-49B1-ABA3-E2A4047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E27-C331-4AB0-BC6F-F8BAAE2B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D2AA-63E2-4D22-80D0-F1DD9D1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2A96-09B9-4549-8C4B-A386D74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B61B-AC9C-45C1-A1D1-24C4AB4E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2E0D-4F2D-4DC2-8B2D-B2725818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8FBA-5359-4153-A43E-74BA8482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D7EE-0181-4C3F-9E6E-9832A49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D33E-C7E2-4071-B1FC-1E481879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2A8E-1E59-43F6-845C-B4B43056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81E7-8384-4521-8A6E-B62B574C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1C5-2355-4CB4-B453-BC2BEEFF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521-33D4-4EA3-9813-26122E1A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585-C0D0-4C3C-8E2E-BD7BBA9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D34-56D9-4CDD-97AD-DDEDFDD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5E7-1FD6-4CBD-A583-6C886D39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07F-E064-4155-9A7C-2B2EDD3E6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B6A-CE53-494F-931F-5ABB6B235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EB2-4D30-41AA-AC3F-EBC18A6A0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er, My God,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T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rah F. Adams (18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er My God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er My God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er My God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er My God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er My God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er My God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er My God To The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6:38Z</dcterms:modified>
  <cp:revision>33</cp:revision>
  <dc:subject/>
  <dc:title>Slide 1</dc:title>
</cp:coreProperties>
</file>