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9C9-A50E-4C1D-9E8B-8D5C9D71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9AA-59F6-4412-A2A1-CAD9B419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B31-CC27-4F09-AD01-68963410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D63-0936-4444-95B2-3A9662D4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8864-94FE-4A64-A7E7-6FC6D9CF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DA9-5DA7-4CCD-A91B-4A56B30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DCD7-8F12-438E-890F-D3312B77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3EE2-5CB2-449A-8C11-CA73C308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9A08-190C-45A7-90E1-3BAB215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4D89-4AD9-4167-ADD5-7AE58D3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2896-5E02-4551-8635-4F31362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8A5-5B75-49F2-8DFF-1EB2DFED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CD8-F97F-4243-A1B4-E9E60134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6C76-36D8-463F-B9DC-A5CBBED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852-9D34-4C99-B47D-BD396A49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47E2-0E2D-49E0-AA0A-C745C24D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2DF8-2F23-4FEB-9542-FFB0BF2B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FA4-754C-4B46-8393-0403185D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D889-AF88-4018-8E0A-069C18A1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65C8-9D53-43A7-946D-9FF55E9A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48D7-4BE7-49D3-A9FA-D3D41440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5A6-9460-4207-AF75-38497178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F98B-93D6-4B7F-B88B-EE8ED77B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E7AD-9858-4C41-A03F-ABBBC72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A984-B323-465D-A9D9-68FEBFE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706F-DC38-4F3B-B451-01C7D18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F1D4-8055-44EA-8175-8EDF867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AB00-C290-416D-AE6D-2245055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229F-B657-40A5-BFD4-A2B6583A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35F8-829A-4F15-B1F0-4224D427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6E0D-0401-4EAC-A458-B75FC5B8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21A-DD9D-40C3-88AE-1BA7211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F83-4DF9-4D59-8819-C3C65C35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549-527F-4BD9-A1A5-66B5C94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AD8-1E5F-4A43-80BA-641D037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B80-4CCD-464B-A62A-331D454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12F1-0BD8-4CC2-A2DF-2A406DF82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254-E0D5-4921-A2ED-FF8E9F0EE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9866-A912-4587-AB3A-09B3CA359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ne Of Self And All Of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Monod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ne Of Self And All Of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ne Of Self And All Of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ne Of Self And All Of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ne Of Self And All Of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one Of Self And All Of The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one Of Self And All Of The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one Of Self And All Of The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ne Of Self And All Of The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ne Of Self And All Of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ne Of Self And All Of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ne Of Self And All Of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ne Of Self And All Of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ne Of Self And All Of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ne Of Self And All Of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ne Of Self And All Of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ne Of Self And All Of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2:17Z</dcterms:modified>
  <cp:revision>34</cp:revision>
  <dc:subject/>
  <dc:title>Slide 1</dc:title>
</cp:coreProperties>
</file>