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11D-19D6-40F9-B292-D197A396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EE8-B333-40AD-A202-5081CA02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F21-765A-4472-928F-023C2AFE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095-DC1E-4229-95A5-53A8F17F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B299-48C6-4816-808E-F40C47D7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B05-EA45-4F9B-9A38-616102B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95B8-A3CE-43CE-B96B-D5318C4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5EC8-0A71-4253-8CAB-0DB54B4D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8870-BE82-40D5-8370-EAAA2FD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6030-8E09-4DE0-A68E-DA8ADF5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5F0-119F-412D-BA59-F90D624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43F-338E-4C74-BA5C-DEFCC20C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D3F-85E3-4A91-B677-6ADB7F1E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A9B6-914E-42CF-AA87-0BAD23E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D1CE-B0FE-4EF8-A920-B9383193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A322-4D1B-40A1-9C5A-63D44B42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3C15-56C4-427B-AC24-34D2728C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EAE-20E9-4BCB-9FEB-F563C7F1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12ED-DF04-492E-8B48-95E23ADB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AE5D-113B-4945-94EC-CAB0ABA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2E77-2FD7-4C16-8AB5-7A5828A9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6A3-BAAC-4633-9BBD-9EFCB760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A1B7-05B9-485D-868B-4B16105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72EB-2849-486C-A7AF-4A44F912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66B4-D42E-4256-B89A-8B40939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2A8E-23F8-42B8-B458-7EA23A8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F642-7A49-49F0-B82A-2F1592C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C805-0B1C-4A69-9C43-1B4176D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0299-2587-4BCC-9C2C-F826735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2C98-C0BE-4593-8583-787DFB73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2AFC-A6F3-4B12-8AEB-74562C75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2E8-9057-4235-B775-C094C65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0B5-EF7F-4E2B-BF35-C5089E5D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BDB-89CD-4E8C-A3F6-29A09B6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2A7-83DF-4D4B-BA97-3783790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788-EE0F-4076-985F-6ECA948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8612-36B9-4B63-89DB-9437A9251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9A81-B5F2-433F-86B6-C56434AD5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2A5-6D49-4E35-9CAE-D428A59B8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thing But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thing But the Bl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thing But the Bl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thing But the Blo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thing But the Blo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thing But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thing But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thing But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thing But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thing But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thing But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thing But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thing But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7:27Z</dcterms:modified>
  <cp:revision>32</cp:revision>
  <dc:subject/>
  <dc:title>Slide 1</dc:title>
</cp:coreProperties>
</file>