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0F1-11EF-4890-8FA0-48D2A540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3B6-4F99-4937-A0D9-CCFB1A7B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C8B-4390-4008-A157-3525FA00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431-CA52-41C3-A9E3-CCB4B20F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0CF-5F0C-4A3C-A1F0-F78B0DA3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02A4-FAAB-47D4-AD75-FEAE8C95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426E-5E13-4D2E-8B90-AAB0FE6F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223-CE52-417A-8460-28BDFFA1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AB6A-3656-4011-AB29-D0A3210B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F1EB-3C5E-4E01-B71E-F6ED89FC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59C5-8359-4D30-BA98-860B57F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599-7C32-4F5E-86CF-5DE65140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2930-91B6-43B3-B517-5B4E2B4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2A9-62E4-43C5-81E1-809F9CC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0B66-83E5-4100-ACF5-3C9F110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82E5-ABF5-478D-B5F7-9A3E945D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D45-EF6C-4915-AFA1-2C3477A9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C11-1DA8-4D12-A83D-B758819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87172-928E-4BC2-99CE-DEA930F7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B351-9994-490F-BF8D-65496A5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F7CF-10FD-40DA-B431-9EC63819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6CD-A844-447E-AD28-C1F00411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F12E-02D9-42A6-A1AC-CA50CD12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ACDD-7A7A-400D-8457-B2B2A1E4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5BB1-2B6E-4E9F-AD9A-964E9471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215B-A206-4EDC-A9AB-6D5BF9C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C69E-9E7B-45C9-8B99-703EDB0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4509-CD04-4E4E-8628-FC5342D3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644C-5D79-4FE3-AD4E-B851213B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AFFE-4BDE-4A1D-8E62-72430336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1406-DDA3-4968-A5BB-8149FD42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A36-F4E1-4096-A32F-2A0CD559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291-2D60-4A08-9385-A632E94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5F2-6A3D-40B5-8CED-88EEFE9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1B8-ACFE-4493-873C-CFAF462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968-1557-4507-B9F9-90BBAC2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490-5B8B-4E5D-8997-161C64DCB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98BD-92FA-46FB-8D0F-D58D10FFF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CD34-9C3E-40B0-AC14-4FDE51BB9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er, Still Nea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O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.10.9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er Still Near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er Still Near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er Still Near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er Still Nearer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er Still Near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er Still Near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er Still Near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er Still Near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er Still Near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er Still Near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er Still Near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er Still Near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0:06Z</dcterms:modified>
  <cp:revision>27</cp:revision>
  <dc:subject/>
  <dc:title>Slide 1</dc:title>
</cp:coreProperties>
</file>