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4E5-2CEE-4A05-A6E0-1AA1785C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05E-D754-4F51-BD4F-48336E4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CE4-6FB8-4D4B-99B6-24B4FEE8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7FE-5F08-4689-B2F3-82A713F6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D8F2-F326-41F5-8A30-E23FE94D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FE0F-7B83-4DA7-BDEA-C36029E0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A034-F863-4E6F-93ED-9D38334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0C5E-C159-4D24-BC61-4852B36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10D-E349-4FF5-BE7E-3EBC59F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F792-C030-4A4A-A507-7214BAAB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C786-C8AA-4582-874E-AF014F2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9AB-C394-4D63-A9C2-71FDD1C3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46FC-48CF-486C-8188-B1836FC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6A9-F616-450C-BC77-6CCFBBA6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9BB-D688-4D3B-A294-4C75A78D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D71E-F9A2-498A-8145-177B80E3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E3E-4511-44E7-8815-3FAFB97F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424-4455-4F89-8022-CE01816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F0A3-A004-4F40-8968-EC933226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39B7-31C1-45C7-912A-E54686E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E131-4B21-418A-A257-D75F5F8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426-29D6-4BDB-9B21-33BE9588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D8B2-AE09-4B8F-9D09-98419D26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3816-516B-41F4-92C0-236E9776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15D8-3883-4272-BFC1-F3EF175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D319-BBF7-4DE0-9C9B-E1963B4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1486-9593-4258-9E11-A8B8A9D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2BC2-D849-47B9-BD56-E3BF1FE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E4DB-1BC1-4AEE-9577-A72323A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209C-63BE-4239-BBF4-04CC9307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092B-C804-4570-BBA9-C2E420AB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DD9-806B-4E78-A0AC-45384F7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8AD-752E-45A9-A96F-927270B3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20C-9911-4401-86D9-9E3774C0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E1E-A445-46DE-B78D-300ABB1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893-5A85-4F3A-8DFC-EC52572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F034-92EA-4258-8157-44C355020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C98F-37C6-4B4B-AAB1-FDB4F5562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E5F-8F8C-4D5B-B920-16201A247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body Knows the Trouble I S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H, YES L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Irregular w/ 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uthern U.S. Spiritu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body Knows The Trouble I S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body Knows The Trouble I See_vEnd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body Knows The Trouble I See_vEnd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486200" y="6519960"/>
            <a:ext cx="1660680" cy="338040"/>
            <a:chOff x="7486200" y="6519960"/>
            <a:chExt cx="1660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39560" y="6519960"/>
              <a:ext cx="6073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486200" y="6611760"/>
              <a:ext cx="103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body Knows The Trouble I S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body Knows The Trouble I S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body Knows The Trouble I S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body Knows The Trouble I S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body Knows The Trouble I S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body Knows The Trouble I S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body Knows The Trouble I S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body Knows The Trouble I S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9:20Z</dcterms:modified>
  <cp:revision>34</cp:revision>
  <dc:subject/>
  <dc:title>Slide 1</dc:title>
</cp:coreProperties>
</file>