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FD5B-8A12-4FAF-B3E4-A039BEB93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58C0-7811-463C-A087-B50CA84EA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6E5D-982C-4576-B04B-7281E8FCA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D6B1-EB59-45A3-BFEC-BA461B642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884FC-EBD7-4E64-A59C-44DF174A8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AFB78-A45F-4F57-8941-83C006A4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38363-D68E-4F35-9084-C8A9E8B71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41A29-1BD0-4684-8901-5EDEA2C71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77BA3-95CD-4DB8-98B3-45368F8C2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E3E25-6952-4BE1-A0EA-53894E823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5D1C4-3938-4417-AFAC-B4D3B9AA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1BE9-7AF6-4EE8-81BB-2390FC887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E9FD7-A8BC-4FFC-A5E2-9D38151E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CB694-89D1-4F41-8CF5-B83F69DD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D04DD-573D-480E-B542-D293CE89B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52C56-8671-4EB4-BE24-25411BB8E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AC5AE-4832-46B7-987A-1E0A626FE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2DB4-BCF2-4933-9078-3041302CF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B1A82-8DA8-4A82-A45A-10BA560CB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7AA30-0B09-4D38-B668-101CB0879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0303B-33BB-4495-BE78-F6A98A1EE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3ED4-C83F-42CA-A37B-9D30D87E6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60841-A728-48D3-BC7A-6EAABA3D2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7038C-CEB0-4A68-BA52-C50FF6F71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388A2-0C37-4D52-8E10-C986BF548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2AF9C-E6A1-49AE-A238-A6A4C290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BA32C-D185-4990-9892-87490B92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3002A-04DD-4482-9FC0-7181A061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45A92-0DA9-4D51-A33C-74011FF4D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8EFCB-F0D7-40D3-B654-150BA6A5A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A2FF1-4F44-4284-9748-5054C54A5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F4F2-6DFF-4513-8D7B-F48CD6937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4272-BBDB-4CA3-BED5-BC773047C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2F0A-ED63-48C0-9B20-31EB9E81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7D79-DAAE-4FC8-B06E-8D1B5D13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2032-40A4-4F1F-AD33-EB2EE0A8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947E8-2DEE-4806-ABBA-17A9E9C5CD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0FAC0-64D8-4B26-BE1A-940AEBDDBF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7A0A1-8686-4183-AE34-03C9A10DD6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Night, With Ebon Pin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SORR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.5.6.5.7.6.6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G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. H. Jameson (185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P. Powell (187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8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Night with Ebon Pinion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1440" y="6488280"/>
            <a:ext cx="346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Night, With Ebon Pi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Night with Ebon Pinion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Night with Ebon Pinion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Night with Ebon Pinion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Night with Ebon Pinion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1440" y="6488280"/>
            <a:ext cx="346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Night, With Ebon Pi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Night with Ebon Pinion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Night with Ebon Pinion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Night with Ebon Pinion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Night with Ebon Pinion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1440" y="6488280"/>
            <a:ext cx="346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Night, With Ebon Pi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Night with Ebon Pinion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Night with Ebon Pinion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Night with Ebon Pinion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7T23:10:44Z</dcterms:modified>
  <cp:revision>29</cp:revision>
  <dc:subject/>
  <dc:title>Slide 1</dc:title>
</cp:coreProperties>
</file>