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5D35-5F3E-4286-AC92-829768FD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ECAC-776D-45AB-AD9D-CBE3A0D7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F529-5DD3-476C-8864-45E5DC30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9675-4C43-453E-B901-D6FBFDEB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1AB3-4BFA-42FE-889D-6AE75BCE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638A-21E0-413F-87A0-C95F6F98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77D2-496E-4540-ADB9-C0706BE2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54A6-7341-423E-AFC9-AD076F21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BDC0-6354-4B19-AD6E-50E958C7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ADBE-1EBC-4FC2-B82A-81062E83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35D1-3BE3-4469-8218-CC9BAAD4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3286-CDAE-49D2-9075-D6CDB86F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C7F8-8D03-401B-A0E5-AA36A776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A3E5-374E-4997-BA7B-FA90CEDE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D59F-D871-42F8-9EE9-86DCCD87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3FFA-8E5F-4EC5-A135-2DCF4160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1B88-61F8-4E64-830B-8B32534F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076E-70B8-4011-997E-8F0A0C61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C6675-52AE-4716-B4FB-91548BB4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6AC39-9389-4778-B4D8-D56916F5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8CF82-8AF2-4A82-9B56-E22B95C5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F1F8-1095-4A75-8294-3F3B3FDA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F2C3A-21B1-43B1-A446-B79E5DBB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DA7C2-5C82-4418-8D5F-474D6B5B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E0A31-BF6D-42EB-9790-1DE4A435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D6186-8E0D-4BA9-B7FB-8543D516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B53A9-7889-4D06-A246-2C04E700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FF1FF-CEDC-4C6C-96DF-F49E63D4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57D18-9556-45E9-B7F1-F9283589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27F9A-1A77-4D41-AAC1-14315491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0C42D-8098-4B2E-9876-40D56538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AF59-0E84-42FB-A1AB-D9B2D4A7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5234-021E-4DB6-BDDD-B3F4C0E6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4BB5-5596-48A9-9AB3-D4EC9DCE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4C5F-4F08-4408-B4FD-E2456594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2294-DCD3-49E2-9516-AD7DCF53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AFE5-CE90-4CA6-B219-8B8A470AF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7816-18F9-40D6-ACCB-7BF926DC6F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9517-2CFF-4079-A721-5109324E4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More Holiness Give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MY PR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5.6.5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2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More Holiness Give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5680" y="648828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More Holiness Give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More Holiness Give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ore Holiness Give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5680" y="648828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More Holiness Give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More Holiness Give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More Holiness Give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5680" y="648828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More Holiness Give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ore Holiness Give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16:40:04Z</dcterms:modified>
  <cp:revision>29</cp:revision>
  <dc:subject/>
  <dc:title>Slide 1</dc:title>
</cp:coreProperties>
</file>