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EF836-488F-444D-B359-19076916D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73CAD-6F44-449A-9B03-B1F20ED13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84BB5-CF0F-4C99-BDED-4521270C2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CC599-F06B-4AAA-9C7F-35166AE1E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70BAA-0D8D-48AB-ACDC-20BF03C92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5AA45-2829-4005-B4AF-C704208DC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8368B-0A6C-4C51-9816-B5EFF3F2E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EF3A0-1EA3-44B2-9E08-1EB5081DC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1CB10-FB1B-4692-9AD7-BAF811811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474E9-2813-476B-B359-F773FFA2E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825B6-4B29-4D14-BA3D-18494DD04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43B67-4789-4B76-AE91-A6ECCCEDE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637E5-EC63-4086-B7CC-00A9CEDCC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91DCE-FB65-4ECA-9A05-F9F8D748F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717E0-BF89-4D27-9E9C-AF012B19D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3582C-4EE7-4AD6-B673-DE82FF4DA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48915-636E-4540-B5DC-989FBD10A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9770D-A67B-4B6D-9CB8-787021FE9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9C81F5-4BD1-4AEF-8940-E6A54FDF2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43AE93-E656-47D3-94F4-92CA07DEA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BF2323-E62D-49B4-AA23-0A86EA3D6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CB9F7-B034-46FA-99C4-14016A016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67713C-C78A-4B37-ACEA-ECA2B075C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140789-829C-4586-96A7-AD0C8A0BD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59C0D2-6CCE-42EA-91D9-F4EB6ED9F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EF91FD-9555-4C8E-8852-5206364AF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658CC4-7147-412C-A5F8-2B14E056D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AAD4DB-F47C-4943-9564-4394E2D31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DC1480-341D-42CB-8422-54E155232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914CED-F6A6-42DA-BD2E-D7C8E7DA6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CC58A3-E635-46AE-8835-3DB28A017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73DD0-8448-47E6-8694-EA54AA1FD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1E0AC-7BAC-402A-A593-A2EC366C6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20A98-4D6E-424E-A927-6AC354BEF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A25DB-CF63-4BE6-B8B7-F283EB891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7367C-CD4C-45D1-9EB3-56503B5BF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8A257-3C35-4A81-A0D9-0E387B06F6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9461A-81E7-46C8-8E73-121CF8A0C98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202AB-FFDC-43C0-9313-436552CD7F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Matchless Lo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E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E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 -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amuel W. Beazley (191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amuel W. Beazley (191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26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Matchless Love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75600" y="6488280"/>
            <a:ext cx="254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Matchless Lo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Matchless Love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Matchless Love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Matchless Love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Matchless Love_v2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Matchless Love_v20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Matchless Love_v200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Matchless Love_v200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2" descr="Matchless Love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0" name="Text Box 5"/>
          <p:cNvSpPr/>
          <p:nvPr/>
        </p:nvSpPr>
        <p:spPr>
          <a:xfrm>
            <a:off x="75600" y="6488280"/>
            <a:ext cx="254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Matchless Lo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2" descr="Matchless Love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Matchless Love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75600" y="6488280"/>
            <a:ext cx="254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Matchless Lo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2" descr="Matchless Love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2" descr="Matchless Love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2" descr="Matchless Love_v3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2" descr="Matchless Love_v30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2" descr="Matchless Love_v300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2" descr="Matchless Love_v300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216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Matchless Love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Matchless Love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Matchless Love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Matchless Love_v1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Matchless Love_v10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Matchless Love_v100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Matchless Love_v100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7T16:37:28Z</dcterms:modified>
  <cp:revision>31</cp:revision>
  <dc:subject/>
  <dc:title>Slide 1</dc:title>
</cp:coreProperties>
</file>