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73C-1537-4B4D-BCBD-96311B65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159-C3A1-4B1B-B22F-90C5D74A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3CB-073A-45E9-9BF2-78C00CF2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602-139A-4D4C-A5CF-CF8BC7ED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F07-B81D-4F84-B89C-59BFC8C8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557E-84BA-4A72-BC02-1F2CC45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6D3-24FB-4EF0-8E75-CC2AE8B5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3B5-237E-4FEC-9C14-04827D7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6132-8160-48CE-9E62-3DF3C4B2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563-7EED-4B49-99F5-87871E7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21DB-5C5A-479F-948B-3BC7E23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1EB-9270-4080-A1ED-FB0982F0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866B-4591-44D4-BA39-AD6E4FE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3FA1-4CF9-4D39-833A-0AB2561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D1A-71C0-4EF8-88B2-BC3A9D9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8BD7-671D-4E01-B6B8-6F279B20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06D-1B4E-4F0C-935B-7F6B5905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600-415A-4416-A9DD-CAC6EF76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B032-3BCB-4FD6-A79C-EA234FFF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4D73-9411-4709-86A5-16F1A4D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D256-FBF8-4FD3-8ABD-E9466BB4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68E-2F83-497B-A2FC-F15A3555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900B-2B7C-4169-BCB5-9E38800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E8F3-62A1-4D2A-BA1F-ABC2D88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7DCB-164B-4ADD-B34D-9FF43EAC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4C3C-89A6-41AF-9BE6-4397596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6A6D-FD2C-4128-A7F0-C68F0B4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7066-6CA6-471F-9AB7-946507B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294A-71AB-4ACD-B77E-A8F7A8C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CAC9-0115-48EA-913A-92A4AA2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72AF-9876-426C-9851-476E9CF2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A7D-98C5-417F-A5FF-9D2E8886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D22-5AA8-458B-A7AE-C3784B7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F78-92C5-4687-B68E-E187FB6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593-3DD3-48E1-8475-2D93261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9AE-2902-46E2-A673-8C48512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A5F6-312A-4E53-A4FE-6E8B2598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E11-2E37-42AD-AB52-807A850FE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9AE-B765-42BB-85ED-BE3F1A125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ster, The Tempest Is R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eace Be St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Bak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ster The Tempest Is Raging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ster The Tempest Is Ra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aster The Tempest Is Ra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aster The Tempest Is Rag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aster The Tempest Is Rag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aster The Tempest Is Raging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aster The Tempest Is Raging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aster The Tempest Is Raging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aster The Tempest Is Raging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ster The Tempest Is Raging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ster The Tempest Is Ra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aster The Tempest Is Ra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Master The Tempest Is Ra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aster The Tempest Is Rag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aster The Tempest Is Rag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aster The Tempest Is Raging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Master The Tempest Is Raging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Master The Tempest Is Raging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Master The Tempest Is Raging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Master The Tempest Is Raging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ster The Tempest Is Ra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ster The Tempest Is Rag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ster The Tempest Is Rag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ster The Tempest Is Raging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ster The Tempest Is Raging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ster The Tempest Is Raging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ster The Tempest Is Raging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6:36Z</dcterms:modified>
  <cp:revision>29</cp:revision>
  <dc:subject/>
  <dc:title>Slide 1</dc:title>
</cp:coreProperties>
</file>