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2F9-747B-466A-BF38-9D6E0D27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89E-C4B3-401B-9577-0B83C3F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84B-135C-4F32-BB43-A6F4F8F9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E0A-9CE0-4A53-B0AC-079BCBDB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C1C-CE55-41C1-ADB5-92B1CF7C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B370-4020-4848-A954-C629A6C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AF8D-6BC8-46D6-BB2F-AAC92BF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5AC-F861-4DF9-B842-C6550EE8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5ECC-1962-437C-89A1-D5408E7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5E9-4C08-41BB-BF26-37B0F060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DB0-3640-433E-B822-B336EBA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5DB-C2AC-4C56-AF48-6B4BC6A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33A-4B73-46E1-8081-2125E41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2C7-5156-4C50-A641-FEC0F806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DBA-E7BC-48D1-B40C-970886DF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5B7-98C5-401C-8C38-29A01C65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00A-FD83-4D66-A686-B8D91879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D4A-BE44-44A0-AB01-A39D126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EF5F-C79C-4A1F-A677-19D0FF28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10ED-C422-4D24-B248-5D5AC73A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C362-6D60-47C6-92FD-0E2A9FDC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75B-2D0E-47C5-B43C-AD69552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1173-A479-44D5-91E7-EC09B6A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0FF2-E021-42B5-A3D3-2330A1A5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1617-FD1C-433D-8F19-A7C0087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B411-1ECF-47C2-A856-EBB7BC8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4D68-FE54-455F-BB08-3200A41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13D5-408F-4381-AC85-397C0D7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0DEE-0961-401C-A48C-E3494801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6AA9-9897-400E-AD7E-EDD4336C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1CA2-4EDC-4130-B4EE-37D4AB2A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FA4-8B7F-4FBF-9DE1-88EAF38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B60-D58A-4619-A845-0524C34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BCE-45A7-4FFB-908B-8482F59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6EF-9F37-45E9-9763-E613395A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6E3-D165-4D9C-899D-E48BB84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09C-5AF8-4036-8941-4A4A8A848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4C8-B976-48A9-AFCE-A85FDC046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DA34-4A09-47F6-A439-C797029C5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Lov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Prentiss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Love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Love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Love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Love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Love To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2:32Z</dcterms:modified>
  <cp:revision>34</cp:revision>
  <dc:subject/>
  <dc:title>Slide 1</dc:title>
</cp:coreProperties>
</file>