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642C-BAB0-4194-888A-DE88870B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3C9C-1AB6-43C3-A362-97697776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74E3-0C74-4FAE-BC4D-EC59DCBA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D5F-3299-4DA1-98BE-0698354D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698B-97D4-424C-91F0-747BBAF8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4A7F-8FD0-45A2-8316-C455E2B5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B03C-E41D-4A5F-82AE-7E721057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72FC-D64B-4216-ACA7-D9B09A94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A01D-C527-4B70-8155-576FE7F9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F495-0B9F-49F6-AE79-FE97599A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5C90-12F5-46A4-B9A3-771CA823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E49-51EC-4290-BDB8-D39069CE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CC67-4FB6-4227-A071-1B8E2861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6E18-B978-46AB-BF76-5C92C8D6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FE2A-FB7A-4DE4-AC06-56BB9619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CABB-7BC6-48AC-80C0-9898A25B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D454-490A-4B73-9089-BE5C8EDB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5BE8-6B2F-4B45-A103-84EDB35B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4FF08-BE4C-4666-A735-BDBA5AEC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37406-CC4C-4593-A5D9-430AEC3C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7C986-FCD2-466A-B87E-6906EEA8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370E-C774-4155-8F04-BA6847BE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740D4-8226-4390-9E80-0573C324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ED29F-ACB5-426D-BA06-C82F568E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BADEC-8C71-440B-AD16-440CC070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AE0F4-AED2-4064-B80A-86298B95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5FAC3-CA2B-4BEA-A31E-6A13943A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6CB43-EA38-49CB-8882-8EF34C79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E6084-5B30-48BE-9AEB-0740A8EE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75444-B8E9-4154-ACF2-8DB75FB2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A427D-E620-4D0D-ADCB-16C40550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AAC-B7C9-404B-ABAC-B451A19E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1818-7D3E-4D0E-8F28-2580B520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DD7-959F-49D1-B2AE-54F6B22F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7686-1C70-401E-B313-D0572ACA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8E31-40C2-4898-882E-F12EC4EF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629E-45E1-4C63-A3A9-87ECF3FCB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6AD2-5786-4D6D-9C63-A8E11FBFC3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20F7-5D0C-46B2-B757-BF56F6B10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y Jesus, I Love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rimitive Methodist Magazine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62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W. R. Featherston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J. Gordon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y Jesus I Love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880" y="648828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y Jesus, I Lov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 picture containing text,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y Jesus I Love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1880" y="648828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y Jesus, I Lov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1880" y="648828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y Jesus, I Lov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 sheet music with black and white tex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50:52Z</dcterms:modified>
  <cp:revision>23</cp:revision>
  <dc:subject/>
  <dc:title>Slide 1</dc:title>
</cp:coreProperties>
</file>