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386-150C-4729-8D2A-56141507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B28-85B2-4916-92EA-E6884B29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B6F-A3BE-4759-BE03-6CB3204E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800-8340-4701-95FF-360D8BF2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E38E-584F-42EA-B6B0-79729974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E4B1-1D3C-4BC5-BE8F-97713864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E340-81DA-4FEC-891E-E10BB203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0D8B-7654-4E8E-ACCF-ABFA85BA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A18B-F3CA-4118-835B-1C0D9629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C8D5-F6F2-4099-891C-A9D52DB5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2BF5-02B7-41F5-813B-5FEA040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C75-6ABA-4999-ACE7-08EA15FC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FFDC-6791-4CE1-BFE5-61F65358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171-8CF7-4E30-A789-0BE3B80B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69B4-2332-45ED-B113-FB65654E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42C6-8CAE-4D4C-82B2-0AC6FB62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F795-083A-4C4D-BC83-1DDC8913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8D4-F495-4E74-BCDA-E9F85F2A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EB1A8-1EF2-4D61-92C0-2B44B3BC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56AD-F3BD-4E87-B446-1CC5E8E6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BAEE-58FA-4CAC-91BC-F1A07D2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33B-3DE2-4EEA-8620-1DBFDC99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5C69B-969F-4D22-B49A-1A154F15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E95B-CA96-49FE-B71A-135DC609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6052-EAB5-4FE3-B7B5-43A060D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049D-4EDC-49F2-8536-0459A3C5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1F3C-A7E5-41EE-B814-5843AFB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2827-B236-4F00-BE81-7B8DE9CF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0A27-AAB8-4C08-8B03-0F95E71C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0ED4-0614-46D1-8FB3-33678C1E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B2E6-F926-4013-8D56-44BC94AB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5BF-62D4-4008-A7EE-7DE695CB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EE5-0781-490B-97B6-04DEFB37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C5D-3829-4BD9-BFC5-8EE1303C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F1A-4031-4DC5-9815-5D39093A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650-63E3-48A1-A019-D9E27CE2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F716-01F2-4283-8C09-90CB64CBC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1602-BC2A-400F-927F-37D98E46D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2202-BE13-42B4-BECB-3D0F03939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ajestic Swee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NO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6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0200" y="4902120"/>
            <a:ext cx="13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Stennett (17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eatorex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llectio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8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ajestic Sweetness_arr1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ajestic Sweetness_arr1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ajestic Sweetnes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ajestic Sweetnes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ajestic Sweetnes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ajestic Sweetnes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ajestic Sweetnes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ajestic Sweetnes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ajestic Sweetness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ajestic Sweetness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1:06Z</dcterms:modified>
  <cp:revision>31</cp:revision>
  <dc:subject/>
  <dc:title>Slide 1</dc:title>
</cp:coreProperties>
</file>