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16A-D56A-4569-BB45-F432F4D6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D01-A12B-4184-AC17-599A6AA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9E1-6415-4F83-97A6-8ABFF80E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A0D-B926-42DF-A4CD-F4513517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8315-0D67-4559-803C-51F0256C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EFFD-D4F9-4F84-AEDD-C225BB0E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9BD-BB1F-4685-9107-79CAC6F4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CF3-8B73-478C-AC03-EACAC54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D0E-006C-4659-93DB-A369C470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0930-DF6D-4AE7-BE9A-776DD1B3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B1C0-1561-4769-BD74-69212776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F66-263B-4508-91D2-334821D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5D12-EE46-4D22-B979-A6AB9CC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21F-E750-45B1-AF38-FB1ABDF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AB1C-63C5-450B-8C63-9CE242A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23B3-5CEE-4E0E-B299-9418CD99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2E4-02B2-4CF8-9516-980D9480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28E-7F66-42EE-90C2-B3C92836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EEE3-109B-4C9A-8F09-764EFF5A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0DE65-FDCB-419D-9742-C1B99CF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C3E6-C203-4BCF-839B-7BD16D12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1EA-CE41-4AC9-AD6F-B1B32AD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AF8A-06A3-469C-B29F-D19B0203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8E10-C2EA-4F7B-8CF9-8C56BC1B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408F-50D1-4CD3-B864-217510C1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03CC-0F0D-48F8-8BCB-76881354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D8D6-7A8F-433E-8624-505A9E5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CBE9-2A63-47D3-B2B1-ED700A1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72C8-BDAF-4B79-BA54-9BFA232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54C7-BA00-4338-8BA4-97737B35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08BD-6297-4CF3-96E5-4D5A4BAD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C2C-F5FF-42D4-8721-9071D68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E31-2958-4374-A8C8-F8501F3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0BC-EC0E-4EA4-85A8-BC42AC5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05B-9367-47E1-8EFB-D66FA8E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CF1-27D3-4FE6-8AFC-6F4112D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73EC-E628-454E-9919-36AD4F51E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4FDE-FC03-46D9-B78D-6E3184065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76AB-ACCE-498D-B200-23E7F51F2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eet Me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 Fanny J, Crosb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eet Me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eet Me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eet Me Ther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eet Me Ther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eet Me T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eet M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eet Me T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eet Me T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eet Me T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Meet Me Ther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eet Me Ther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eet Me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eet M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eet Me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eet Me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eet Me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eet Me Ther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eet Me Ther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eet Me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eet M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eet Me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8:15Z</dcterms:modified>
  <cp:revision>31</cp:revision>
  <dc:subject/>
  <dc:title>Slide 1</dc:title>
</cp:coreProperties>
</file>