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3ED4-6ADF-4442-99F2-997B163C2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6F26-E564-43F6-B27D-21FB9CB2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5FD0-C0B8-4822-AB1A-BCAB9309A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8159-FC1E-4666-95B4-903F7F494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AF24-BC01-4EF7-8862-6BC2A936F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2EC8-18CD-4CF7-9B24-C5162C94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2368-DAE8-4C25-AE91-3FB9ABF7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7D3D-E437-4CF5-AFD6-BB03041D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2188-D8C0-4367-A59F-D63F883C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C785-4645-4CED-A6FF-2E9A1758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E220-AB60-4D72-915F-D1043BD2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5A5F-EBEA-4D24-8945-1EDBC67A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FAEA-5226-4CA5-9854-70720B68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FE42-3DC6-4BFA-9696-14184B28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83E9E-9BF1-4267-A6F9-6C4D726D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5AB9-EA9C-45D6-88CB-77494451A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0B2E-C51A-43ED-A740-B7B843198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93AE-ABDF-4704-BC6C-ED9DBD52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B6152-5FEE-4D96-832B-72A0F2FFB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8252C-BE45-441C-9F96-D94F8FCF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607E1-E8DF-421D-BAB9-16C256FA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364E-E1A3-4EDC-9EA5-5E909650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018FF-8EF6-40C9-A99E-E76F707E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BBFB5-3969-4C33-8E58-8E45B3D4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6BFBB-CC0F-4DF4-8A9A-90BCEE9C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2E7A3-E8E7-452F-B4BD-C0E85018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4989E-62FC-4DFD-B6EF-41D63DE2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46919-2EE5-47AE-89E2-59C845FA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E2896-4B0D-4C65-8547-5A8A7AA3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152AB-F3C5-4686-9C73-5C790E91D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104B7-1120-4DE2-B703-435B778B2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9D50-F3FF-492B-93B6-D117C692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53EB-22D1-499B-AA26-C155BB11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8D85-0084-4730-AB61-52990E25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602B-5DF2-44CC-9270-0D5670F9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F46A-F68F-440E-AAE4-2F3FDE9D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C60C-B42C-4F4A-94EE-676B97A52C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E56D-AF51-42BA-AE02-090B0AB5CF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B5F8-BFF6-4575-BE03-0E3E99B397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More About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E. Hewitt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R. Sweney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6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More About Jesu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5680" y="6488280"/>
            <a:ext cx="27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More About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More About Jesu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More About Jesu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More About Jesu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More About Jesus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85680" y="6488280"/>
            <a:ext cx="27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More About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More About Jesus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More About Jesus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More About Jesus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More About Jesu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5680" y="6488280"/>
            <a:ext cx="27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More About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More About Jesu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More About Jesu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More About Jesu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More About Jesu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5680" y="6488280"/>
            <a:ext cx="27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More About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More About Jesu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More About Jesu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More About Jesu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7T16:35:51Z</dcterms:modified>
  <cp:revision>28</cp:revision>
  <dc:subject/>
  <dc:title>Slide 1</dc:title>
</cp:coreProperties>
</file>