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BA9E-C1C1-43DA-BF6F-87202D5A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293F-4D67-4D86-A0C6-39566DFE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9C53-319E-4936-8D0F-00E2C449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D857-0BA2-4D24-AC88-2F172746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EBE3-3DB2-494E-A3AA-D62C32DE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B998-A5F4-4E0E-B2AB-4F20E022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F728-E604-4417-B982-E7C87360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297E-7A59-4318-A35C-5A141217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E2C0-3C6B-4B23-B37F-9B04BDE6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7C66-F2BD-4633-BC16-14CF75C1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E35E-4C07-4A2A-9F40-E9A7F3B2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EB5-1564-4D81-ABF5-E632E2D2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1B5D-8A0F-41DB-AE5D-D0AEB60E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6303-F83C-4625-83B0-6322AC39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292D-BFEA-4B75-A7AF-DCCBA90A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7C63-89CD-42F2-90DB-8BE20D7D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3C6B-9C05-4242-92A3-BC003A74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AB62-0066-4EBB-9B21-4702C9F1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55E00-F9BF-40CF-B506-CB5A62A7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1715B-8103-4F23-98D7-5AC0A375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AD80D-C7F0-48C8-85EE-D9F5CBEA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D66-8BFD-4687-B85C-09EE4B9A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D87B7-9BF3-487D-9CA8-A40BF8EE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CFDFD-090C-4606-9ACB-57EEA3FE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1C82E-1230-448E-AA50-BC352F11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BC695-2F1E-4B91-BAA9-E0FFE484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1995A-A11C-4D66-B4B9-A6618BAE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2BF5A-4084-4F08-95E7-D7E266DC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D7AED-8441-4F74-A05B-2D4AF5D0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F64D3-A556-42E3-B4EB-3886155C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CAAA7-6484-4606-8456-B6EB58F9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63FE-E88C-4502-BA09-739E3D4D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F7A9-FD15-44C5-9368-3F60C331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11BA-EF59-4E86-BB37-C78FAA7E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A934-BA4F-4E85-BAF7-12CDE3CB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99AC-517E-4C81-BD41-FFF9EF7F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8701-003F-483E-80A6-FFAAB261E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2252-C9A7-449F-9C8D-78BD52B8E6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64EB-57B0-40B6-BB83-984E37145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y Faith Looks Up To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OLI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6.4.6.6.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5160" y="4902120"/>
            <a:ext cx="13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ay Palmer (18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well Mason (18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6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y Faith Looks Up To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5280" y="648828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My Faith Looks Up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y Faith Looks Up To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y Faith Looks Up To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25280" y="648828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My Faith Looks Up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y Faith Looks Up To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My Faith Looks Up To Th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5280" y="648828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My Faith Looks Up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y Faith Looks Up To Th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39:05Z</dcterms:modified>
  <cp:revision>33</cp:revision>
  <dc:subject/>
  <dc:title>Slide 1</dc:title>
</cp:coreProperties>
</file>