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860-112F-46DC-8231-D326BD82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1E7-23FA-4DF4-A360-249027AB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C2F-77BF-4BFE-B755-4A9E2D03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E2B-A49E-4F08-AB1F-53D0AD4F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5E25-2F95-4769-8540-532C1062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7DE1-5032-424C-B213-47B928AA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4D60-47F4-47AB-89A6-5415E54D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355D-CA14-429F-B0CA-48A1520D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3158-8EB3-43B4-B01F-6F2B04D1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7EEB-9BA5-4A14-93AB-190BF0EE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AF8A-9230-47B2-BBFA-805BCDA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30A-0FAA-4FD0-9618-1219B404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0D75-ABE1-4673-9467-BD7CBBDF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BA4E-3485-430F-BC90-D68CADCE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B621-D849-4137-B41C-22FDD252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105F-9B78-4D7A-AFB1-31A8FB5A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F1A0-B1DD-40A5-A51E-A5EE8819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53F-F601-4D91-BA97-4C890CE7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21E1-D3CD-4E2F-82AE-3A072003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FD78-549F-4DBF-8966-D2C9D02F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A8D1-43A3-4F22-897B-A22AEEC5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A42-4D7C-40B4-8F54-5BFCA24C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AF4FC-6DA2-4D12-83C4-8552E169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7980-68D2-488A-95AF-1EE52680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B173-BDCA-4F6C-B8EA-C34011E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C1A40-507E-4191-97FD-442DF304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6FCC-6062-4A19-BAB6-8787276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E03A-3935-4062-8B7A-E8879E1F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AF11-F36C-43EC-8A1D-00C662B0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4D84-0726-4C20-8A00-AAC1B42F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B0E9-B91B-4E26-A513-9962FC4D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782-D0A5-4F88-8D68-FD0914CB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F0E-6996-4870-B461-DA001940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43F-CCA5-4F5F-840E-BF85C29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B07-1BC8-4EB0-A93E-CBDCF8F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5C9-95DA-459C-A7F2-97CC357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D44B-7BD2-4A1C-9950-634733AA9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57C8-B9A4-488A-8300-FA9437F78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B0C3-2753-4BA5-BBFD-350EBBA4C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y Hope Is Built On Nothing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Solid R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Mote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y Hope Is Built On Nothing Les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960" y="64882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y Hope Is Built On Nothing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y Hope Is Built On Nothing Les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y Hope Is Built On Nothing Les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y Hope Is Built On Nothing Les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y Hope Is Built On Nothing Les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1960" y="64882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My Hope Is Built On Nothing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y Hope Is Built On Nothing Les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y Hope Is Built On Nothing Les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y Hope Is Built On Nothing Les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Hope Is Built On Nothing Le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960" y="64882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y Hope Is Built On Nothing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y Hope Is Built On Nothing Le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Hope Is Built On Nothing Le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y Hope Is Built On Nothing Le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y Hope Is Built On Nothing Le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960" y="64882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y Hope Is Built On Nothing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y Hope Is Built On Nothing Le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y Hope Is Built On Nothing Le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y Hope Is Built On Nothing Le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41:25Z</dcterms:modified>
  <cp:revision>30</cp:revision>
  <dc:subject/>
  <dc:title>Slide 1</dc:title>
</cp:coreProperties>
</file>