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D19C-A9A2-42C4-B66E-A21A4691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D852-53A7-441A-B5C5-D30057D9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B85-0D82-485D-A812-F91D0AA1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BB21-0676-4155-A3AF-8FB3605F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132A-6FC0-42AD-8C77-2F4AD81E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8F2D-7115-4299-8E61-2D4DD945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2A68-70E3-43F4-8BBF-C20E5B74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021A-D643-4C82-BCC9-2C8504C4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562E-2BAD-4DA2-95E8-E7FAE139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B1D1-543C-41D1-9190-91DE4351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6005-7CF3-4C6B-AD62-34425663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1F3-C22C-44E7-ADFC-563EA948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E7E8-D2FB-4433-92DF-4A88E275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0304-B642-419F-BA4C-FFF3A6D9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3693-8B43-4702-87FA-6429CFEE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C613-017D-447E-9685-50331262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6A51-7471-4896-BDB1-16A30BD0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FEB3-B5DA-4B3B-A309-8D0DCB56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DBF23-8330-41A7-B49D-303E255A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A74E9-AB54-4EE3-8BC0-A8D9683E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39BAC-3168-40A3-9CE0-BD39327C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629-A400-4A39-8B2B-B66469B2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44160-FA13-413C-BA60-A22D8F52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2C7DC-06CD-405E-A01B-524FD659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1E9C6-FBED-424F-9B02-7B76FE3A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06A6B-0F84-442D-90ED-98FBFD19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6398E-7FE4-478A-9B9F-A730AA4A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AC4EA-BA73-4401-9FC8-53E5306C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8826B-8D43-4EC2-8CAD-A0F9054F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CD6FA-3BEC-485C-ADBE-80A59A6D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EC9B5-75B8-4AC2-BBEE-B7171A88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7E88-D530-404A-ABED-657E2195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A3C-78C7-4C59-95C5-61412F71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FD6-4C78-463B-858D-D246BEF6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352-0FA4-4FD3-A959-5C58F5D0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6A2-5630-46FB-BACA-56D881B9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22DD-0F7D-4398-90AB-B40141285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01D2-8606-434A-8DBE-0D1B9E4C06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0F6D-02A8-4705-A44B-09929740D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ust Jesus Bear The Cross Al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AIT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C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Shepherd (16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N. Allen (18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ust Jesus Bear The Cross Alon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7440" y="6488280"/>
            <a:ext cx="45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ust Jesus Bear The Cross Al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ust Jesus Bear The Cross Alon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ust Jesus Bear The Cross Alon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27440" y="6488280"/>
            <a:ext cx="45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ust Jesus Bear The Cross Al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ust Jesus Bear The Cross Alon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Diagram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7440" y="6488280"/>
            <a:ext cx="45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ust Jesus Bear The Cross Al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ust Jesus Bear The Cross Alon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33:54Z</dcterms:modified>
  <cp:revision>32</cp:revision>
  <dc:subject/>
  <dc:title>Slide 1</dc:title>
</cp:coreProperties>
</file>