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C30-19B6-48B2-9E4E-484B7C2D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715-7301-45D8-BCEC-7CE8291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ED8-960A-4890-8204-C78FEF32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7EF-1AF6-4AFD-A027-D8AB2494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22E7-A9CD-4715-AAC4-FFD755AA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2965-2A4C-4AAD-9F07-EF41D5BA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9C26-DAB6-4208-B60B-7593CB11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C101-8AED-45B3-8911-932D559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6D3-8149-469F-BD58-0B3D2AFD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C76E-CE16-4D1D-BC09-F2164C26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D1CE-5490-44FA-A4B1-2024B84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2C3-C08F-4BDC-897F-DC750EE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DA78-0F57-4C59-88B0-3239301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C606-972D-4BE3-80C5-BA9F81F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A481-B8F4-45BC-B6CC-1DF9B14A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126-B88E-4040-B155-24148F94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8ED6-F0E4-46B1-9740-6E05BE8E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86D-5AA2-43E6-8917-407478A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35C3-CE8B-4E98-8688-53FFD149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B080-83DE-4E83-ACB5-F359B87F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E4F0-5472-4FD3-960C-0495AD5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E03-0478-4C64-AF9A-108B926D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E1C0-6CFB-4BBC-9513-A57C7F9F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134E-CF1F-45CA-A38E-D3627D83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1420-557D-42DF-83EB-9468EF6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2E42-8CC2-4E7E-B465-7513DDF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A6A1-EDA9-4A76-88BE-AE43219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A9FF-5428-4A3B-82E5-C31EEB1C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3413-312C-43D4-9F86-000FFB9D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D51D-933D-4AB6-B962-E2165646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B4B7-2325-40B3-A9E6-162741F2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61E-3653-4642-A4CC-A653068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B38-4EA2-41D5-9AB9-A0E93A73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B7B-42EC-4B0E-87CB-B68891B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DA2-4666-49FF-9EA0-FF496D6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754-F9EA-4BA0-B029-602DE20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2031-7A78-4634-AE56-8A6173565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B5B2-7792-4A02-810F-C83D2E594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2B1-6FBA-4DCF-A696-02DA3C5C0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ust I Go, And Empty-Han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Luth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ust I Go And Empty-Hand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4760" y="64882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ust I Go, And Empty-Han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ust I Go And Empty-Hand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ust I Go And Empty-Hand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ust I Go And Empty-Hand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ust I Go And Empty-Hand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4760" y="64882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ust I Go, And Empty-Han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ust I Go And Empty-Hand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ust I Go And Empty-Hand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ust I Go And Empty-Hand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ust I Go And Empty-Hand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4760" y="64882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ust I Go, And Empty-Han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ust I Go And Empty-Hand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ust I Go And Empty-Hand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ust I Go And Empty-Hand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0:50Z</dcterms:modified>
  <cp:revision>30</cp:revision>
  <dc:subject/>
  <dc:title>Slide 1</dc:title>
</cp:coreProperties>
</file>