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E8D-B6B0-422F-B6DF-22D1B89C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B07-7501-41B0-AE29-40CA649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9FA-BC66-43FD-90C4-04E3E3E9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0E1-8E88-4D62-84B4-13DA71A3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03A7-8A5C-4754-9622-8FC1EF73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458-F2EB-46A3-84E5-92177DCB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8A1-87C6-45F6-94A4-CCE20B3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DEF3-503E-4C54-9310-A1E53023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6BF-FFB2-43A2-9A67-072E7F9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561-C0A8-48B3-9EBD-19FE1DB4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E51A-B759-49AB-8656-2C90927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908-8EA1-48C1-8B4B-25762600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FA1-3A15-4640-97C9-B4B2C63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247-CCB8-43A1-95F8-CBCA590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7ED-6696-42DB-9212-9D2D0F4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8EC0-F53B-46EC-AFF9-55B343B3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963B-EEB3-4248-9D7F-B0F212D3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7BE-D0A3-427C-B04F-4753FD5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EF7B-4502-4AE6-BB61-B567316C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CD2B-D0AD-4FD8-BDE7-51D17DB8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93E9-F9D1-4240-8845-21FD6F4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0B3-DC7A-499E-BD9C-2E39705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0417-0014-4970-B78F-E27C4E6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76BC-A386-4A6F-9C89-E72226D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5558-4D8A-4EF6-96AA-6490E7F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7FED-EBC6-4AB9-AB87-D3E3361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A345-91F3-4D40-AA5E-73FF4B4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A65A-8D19-4472-9CCC-BF5BC79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0E57-42AA-4979-98F5-FA7D752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8B5B-F187-4C7F-AD2D-AD77278C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2BF3-8E5B-4F2B-987C-C6F51F2E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7B9-4808-4C50-9BCE-5E898F10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882-3566-4831-8B7F-B8042B8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478-8F2E-4E70-A5C2-E131340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C59-CFB3-4CFC-BD89-3C7774B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3FA-11AA-48BF-9C5E-8F6A845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46F-E05B-40F2-99D5-C006AF4D3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F55F-A27D-4E5C-8FA4-8ACBFB0D5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1160-4F82-4942-A8A8-B8363ACF5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Jesus As Thou W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JEW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jamin Schmolke (1704), Tr. Jane Borthwick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von Weber (1820), Arr. Joseph P. Holbrook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Jesus As Thou Wil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Jesus As Thou Wil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Jesus As Thou Wil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Jesus As Thou Wilt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Jesus As Thou Wil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Jesus As Thou Wil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Jesus As Thou Wil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y Jesus As Thou Wilt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Jesus As Thou Wil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Jesus As Thou Wil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Jesus As Thou Wil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Jesus As Thou Wil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Jesus As Thou Wil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Jesus As Thou Wil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Jesus As Thou Wil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Jesus As Thou Wil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2:49Z</dcterms:modified>
  <cp:revision>28</cp:revision>
  <dc:subject/>
  <dc:title>Slide 1</dc:title>
</cp:coreProperties>
</file>