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403-E116-46BA-BF9A-97B0F8E5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66C-6DA7-4754-930F-F08A7CB9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6FC-929E-431D-B7FE-92E564A1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835-DFA4-44CA-B7E3-79C1AEA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5C1-D64A-4BBC-8596-FF8DCCD6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9CF-D8CD-43A3-AAE4-2572752D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046-C23E-48EE-A95A-0A29D3A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284A-17D8-4555-BC97-3EF79FF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BE6B-28E9-4341-9896-745895F6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0706-07CB-4093-81B4-3BDE73D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3C3F-E9CA-4822-8401-2750CAA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49B-DB83-4AB1-B56C-FDA7AE31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A6F-D3EC-459C-A29F-D058FE3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131-CF5D-4184-BFE8-E6EB7BA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ACAA-28AC-42AA-9611-54B0072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C2F4-7676-42AC-9B28-02FEFB07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6E1D-81C0-41A0-9113-C04D516B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278-2F6D-4072-92A7-6CE223E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C77F-D0A7-4645-8B40-8183BF6B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D2F3-833D-4F0F-81A5-107A0294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58F9-C109-43E0-B678-8CA8B733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191-9D03-448A-B6CA-EE577214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7BA4-4874-47B2-B284-77C3877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2B58-B4B3-41BF-8C2F-504B489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7EAF-FB50-4699-A474-55E50D8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964D-DC4A-4BF9-9D2D-7C445C9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07E3-43C4-473A-9817-0A05242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B427-4419-489D-9974-3E7D0B4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4518-CEF2-4A07-9A2B-53BE322B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CB3C-4075-4C06-9B61-E6B715E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A8B9-1FC0-4C0F-B910-50B6264A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755-D8D5-4541-94B9-7AA27347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EF5-1D89-4152-9ED2-A82EA7A4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B93-64CA-4E39-A957-140116AD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4C6-639A-491E-8D5F-F068C778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806-E402-4CDA-A33D-29C3879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07F4-2F81-4BE5-8BC2-B1C0FEE81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CE6-4A24-4D20-8390-5A8511730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EA5-E731-4CAA-8F89-C99A048F7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rvelous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rvelous Th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6160" y="6488280"/>
            <a:ext cx="42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rvelous Th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5640" y="6488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rvelous Th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8520" y="648828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  +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rvelous Th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6720" y="648828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rvelous Th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0600" y="6488280"/>
            <a:ext cx="56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, Alto  +T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rvelous Th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33840" y="64882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rvelous Th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21760" y="648828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, Alto, Tenor  +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rvelous Things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4920" y="6488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5:06Z</dcterms:modified>
  <cp:revision>32</cp:revision>
  <dc:subject/>
  <dc:title>Slide 1</dc:title>
</cp:coreProperties>
</file>