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B45-540C-4B13-B0AF-1F277507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2FF-F57E-4F8D-A9E3-3AE920D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491-9CA1-447B-B5CE-3BAA2C4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E68-E319-49FC-B73E-A94B44A2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82C0-361B-4A69-9F9D-218CD131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3DA-7C9B-4CA5-A880-63565EA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F86C-C75C-4D7A-B274-B635D20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744E-CF9A-4480-A7A2-A5D1187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032D-F7CA-4CA0-B9D5-681A6D7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768A-2C7A-424C-A931-F80DED7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379A-FA41-45AC-A121-DF833D8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8C3-68FE-4C62-A472-E49761E6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A4BD-EE02-47AB-BD34-17F9A57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205B-1379-434A-929D-3EDC803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8CC-A75A-47FE-A6A6-D158131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393C-1B1A-4A35-8688-4EDE9E88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D2D1-4A72-4E39-99BE-3E9363E1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239-4A76-4732-AE09-44221C69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92C1-CD23-40C9-A2C4-1E48C1B7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8F1E-F772-4CC1-8C56-C3A155D4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935A-4758-4BEA-A49C-82FB63E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A8E-5F5F-4E10-98AE-B12FB50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4532-4E2D-4257-BD34-DA8EB58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C18A-1CAE-47CC-AAFD-E2E03B5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58B8-D25E-4ED3-AD60-5988847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33ED-6AAE-40FA-AFFE-F554F63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C5BA-5C16-44AF-B97A-555E3661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D369-C810-46A4-BB38-741C475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4B7B-C2EF-4472-973D-C0BD3E8A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E796-F514-4257-9AA5-AA1945D4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4F02-2FFF-475D-8882-12F1373E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E46-CD5A-4B9D-A37A-0D3D41F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FC6-F28C-4A67-90E2-0240F28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CD9-0DC5-466C-8150-0007897A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D08-7D91-4BD3-8200-EE32DCB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046-4B62-46D3-9472-6CBF3287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730-1841-4C0B-A813-74E54706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D60-9D94-41DB-AF4F-7F030CD19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E93-EC0D-4B97-9C60-2E2C2E96A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d Me To Calv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nnie Evelyn Hussey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d Me To Calva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d Me To Calva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d Me To Calva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d Me To Calva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ad Me To Calva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ad Me To Calva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ad Me To Calvar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ead Me To Calvar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d Me To Calva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d Me To Calva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d Me To Calva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d Me To Calva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d Me To Calva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d Me To Calva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d Me To Calva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d Me To Calva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2:25Z</dcterms:modified>
  <cp:revision>30</cp:revision>
  <dc:subject/>
  <dc:title>Slide 1</dc:title>
</cp:coreProperties>
</file>