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3A4-8EF3-4C3F-A728-95197410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BB7-FD53-40AD-A0EB-2153C50C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992-685D-4D90-8073-1FB60A18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FDC-EEAA-4F6A-9297-98E469EA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43EE-69DD-4036-AAF5-482A6CC2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FA70-D77E-4264-9BC6-0F7209C1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78B4-0F47-41DE-B6DD-94F8ECC5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0F0A-AB3D-4B6C-9683-1BC6E3FA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4DCF-043D-4F11-A886-23C7AC89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8E52-BB15-4C3F-AE2D-3B405745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FF44-461D-4AD7-B304-403F57F0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9B4-49BB-4F5D-AD7F-D27C3464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09D9-91C4-4F8E-BCD7-3E06BD79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8565-105A-419D-9852-D2758ADF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F2CF-B893-4F40-9FBB-34EC8E30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B0A1-FEEB-4209-A841-37C46A78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36F5-3BF9-4D63-951B-CB6E6129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B7C-3F57-4DDE-A572-B1DBC9FC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5F00-60D5-49F1-8DF2-54120AA3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6101-EFF6-4D0B-B07C-06176A09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B9596-C3BB-4AAD-B0C9-47C77FE5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1EB-4A29-4C4B-8157-A1275BCD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91A58-AF13-4CDF-BB4E-F91829DA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78CEB-0FD9-4835-B295-941743CC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F767A-BC96-46E0-8C2D-FBFD5319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6CBD0-65FC-4037-B5A1-917A6986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E5B31-A372-43CA-A363-B0D09F57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E1E1C-B1DF-42AC-BE01-1E823D66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2492F-901A-4AAC-9FEE-48A31F3F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423CF-5D5D-437C-BD14-70173983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E6CA2-2414-43FD-9437-0F444F87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82D-D818-4388-9F36-0A955A3E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C0F-8CC0-4BE4-85F9-35929EF3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026-8270-4578-8295-988FB900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1DE-1F65-4099-B902-A833C547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E4E-1650-4721-9921-D73D960E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2948-1CAD-47B6-B321-1687320A0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AB4E-8AFB-4F6B-9D00-5745718C1C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A6EA-C036-4BE8-AEF4-B22951502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w In The Grave He 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Christ Ar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w In The Grave He L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6840" y="6488280"/>
            <a:ext cx="35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w In The Grave He 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w In The Grave He L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ow In The Grave He L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ow In The Grave He L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w In The Grave He L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6840" y="6488280"/>
            <a:ext cx="35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w In The Grave He 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w In The Grave He L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w In The Grave He L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w In The Grave He L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w In The Grave He L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6840" y="6488280"/>
            <a:ext cx="35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w In The Grave He 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w In The Grave He L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w In The Grave He L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w In The Grave He L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40:34Z</dcterms:modified>
  <cp:revision>19</cp:revision>
  <dc:subject/>
  <dc:title>Slide 1</dc:title>
</cp:coreProperties>
</file>