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09A-0766-4D90-818C-6DB0E55B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A3F-F903-40AD-BC43-45769BA6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9BC-554E-414D-A30E-2EBA5402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D9B-D3C5-4737-8716-E77DE2E2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590-B827-4491-AD08-EE517F40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6EFC-29A2-4B17-A44A-7817BB1D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D527-8FC3-48F0-9C4F-5D40823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657B-2478-4758-B8A7-3771809E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72CE-B1CF-46F9-9EB1-A9BA8B76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A731-A39D-4A42-9E28-B1CF23E0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B567-FC22-4D72-A651-75C22E9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CD2-7B19-46B7-AD7F-493BCD32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501C-1449-473E-A8DA-EB6FD780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0DB8-35D8-4972-9A8A-BFDE253A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B13A-500B-4513-BC81-D851080B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19F3-16C0-4221-8F49-82597DEF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9D4B-F466-4A79-A155-FEA61DEC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8A5-4502-466C-A0AD-77CD3FCD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B776-B4ED-4361-A4A8-D1FAABED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833C-4EEE-437C-A67C-2411BEA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CAD9-BFB4-482A-B4D4-1D5E95C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29A-A949-44C3-83DC-FDFA7BE5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3388-8354-4180-8A30-85E4CFFF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E2B6-70CD-404B-AD9C-5DA68046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CB7C-2736-4304-973F-F82F10F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3B2B-4A5D-41C9-BC20-C97CBAF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F3D84-EA6F-4A75-AEC1-F798523F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004E-1261-498B-AF5D-B547157B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9BED-1EC9-417B-8777-2FC6AC79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C1F01-B40C-40F7-90B9-27A82A03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3338-0854-448E-9331-5B63045E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31C-FECC-4D6B-B886-1367F1B0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6F4-090E-425A-A4A0-E27480D0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7BE-B12D-4D67-8AC0-95F416C0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0B6-650F-4E34-B04A-2059164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13E-A61F-415A-92BA-D22A6970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10C2-FB47-447E-92A3-348388B27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1847-7B10-4D85-B9C7-DEA7AE259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6532-2B03-4F84-99D8-D512F0766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ve Lift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ward E. Smith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ve Lifted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ve Lifted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ve Lifted 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ve Lifted M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ve Lifted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6320" y="64882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v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ve Lifted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ve Lifted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ve Lifted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ove Lifted M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ove Lifted M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ve Lifted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320" y="64882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v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ve Lifted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ve Lifted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ve Lifted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ve Lifted 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ve Lifted M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ve Lifted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6320" y="64882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v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ve Lifted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9:34Z</dcterms:modified>
  <cp:revision>28</cp:revision>
  <dc:subject/>
  <dc:title>Slide 1</dc:title>
</cp:coreProperties>
</file>