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1A57-3256-4323-980E-42779372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5244-5EBD-4E72-9797-7849F500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D469-31D4-4241-8017-05FAB26D9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6A11-2C72-4330-8742-D8B21A62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B392-6E70-4796-8111-C5983473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57FB-8B83-401E-A8B9-AABA9075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734A-AC5A-466D-BAE3-8B28AAF6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95F2-4B8E-416F-8AA3-B32B1684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4C04-14D7-4A69-9608-4FAA1C12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B583-7801-472B-BE51-192EADE7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8FF8-BC68-4563-BE59-3030C8BB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2A4F-0FC0-4EA7-A38B-63A4B5A1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4EEE-186F-4DE5-8DDF-C78783CE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C502-B11D-409F-BBB2-491D9CF3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784A-243F-4940-9B29-A2C94988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FFCA-25CD-460B-92C1-B72EAD54C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EE07-93FB-4C75-8E98-C27E5E09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7551-1901-4C93-AC0B-1D0915BE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4C30C-0E45-4072-BE30-EC0EEEFB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2E3EC-2FF0-4B0B-9818-D5B66843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B55C8-9F11-429D-AA0C-85C4F8A2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231D-B83F-4CD2-8F89-C2466B47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47248-E728-4664-BB1B-5F3CDB39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07CB0-9581-4E70-9564-848F0157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8562A-1945-44F7-A68E-D5161301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8E87F-6F82-4C13-AA3F-D8BEE95E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8AE15-844F-46FE-934C-61E17A4A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5B544-DE00-4993-9616-63FA9F94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5CB76-85EC-408B-8749-C1927D4F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E4ADD-BAAA-434A-80DA-4D7C4D3C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9E422-52D3-4523-8ECA-29FA2F98D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2CDD-E5C0-44A1-AC06-1A86F7E4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5E91-E842-4BE9-A0E7-29D40EB8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576D-F2AA-445E-B487-AC46193D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E668-E890-4B6E-95ED-637B8F70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6F4D-51CC-43D4-AD3C-4EC982F2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CBDC-1B06-4B4F-846B-88E70510A0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75FD-93D7-44D5-B21A-6BBC2C693D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C932-6F47-4AE5-B913-D044A98C3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et The Whole Creation C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LLANF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topford A. Brooke (188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obert Williams (1817), Arr. John Roberts (183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et The Whole Creation Cr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2680" y="6488280"/>
            <a:ext cx="38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et The Whole Creation C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et The Whole Creation Cr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et The Whole Creation Cr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12680" y="6488280"/>
            <a:ext cx="38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et The Whole Creation C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t The Whole Creation Cr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et The Whole Creation Cr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2680" y="6488280"/>
            <a:ext cx="38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Let The Whole Creation C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et The Whole Creation Cr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Let The Whole Creation Cry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12680" y="6488280"/>
            <a:ext cx="38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Let The Whole Creation C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Let The Whole Creation Cry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17:16Z</dcterms:modified>
  <cp:revision>32</cp:revision>
  <dc:subject/>
  <dc:title>Slide 1</dc:title>
</cp:coreProperties>
</file>