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C9A-98B4-49E0-90C3-A1DA952E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7C6-177A-45E8-B0B9-89293081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714-E274-4CDF-8F6B-09BC9A2C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FAD-DDA0-4901-8AC4-F9D8CBEE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69B1-5C44-4BFC-B646-AA9F8D7A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BA6E-63F3-45B3-888C-A5D004A8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0464-19B8-412D-B859-A136C52A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5801-9279-42F8-970C-6C78DE31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35AD-21FE-4AD5-BE6E-FC7657B5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CA10-01B5-4456-8432-172E5947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BEAF-81BC-42C3-BEDD-22940C5D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9C0-2D2C-4853-8FF4-95FFB80D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1AD0-62F8-4D0C-ADBC-674C10C5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1261-3C24-4BBA-8991-803D0AE1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2FFF-AB5A-46A9-8D7A-C19DD9C7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2951-0D42-42E2-9146-F9B2F1A7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DF60-1ED0-47F1-ADA0-B275C266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F76-4758-4574-B250-F1DD9C28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F7133-FF98-472B-A1AE-CDD7929C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68EE0-5933-4401-A863-A1F72C4C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C2EF-9EC6-4AAD-9F0A-29AB3B78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324-0775-4E37-9EBF-2B36EE0F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7F7EA-432D-4081-87C8-79A6A84A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11B33-AE5A-4BEE-9F3C-6680A4B9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627F-4413-48CB-AFBB-6CF78078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F23F2-0271-4674-84FF-75A15B47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0103-8136-435E-AE3D-9117EACE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B60A-BACE-4459-B443-B620154C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A5EE-8D9C-4F13-8697-0FADD842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4D61-58FC-4FFB-A7E9-7B756FCA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F9524-7CB4-4CB1-848E-9A79358B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445-BE8D-4D98-837F-006C90CC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ABA-803B-4F2E-A15B-4F341DB9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DCF-0C00-402F-B280-7A6E92A3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C0C-0F6E-4042-A509-FBEA9B3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9B2-F30E-4757-AAE7-17B80B6B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B27F-317A-416E-9355-CE1B98DEF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485E-807F-4C40-B366-9E3EC9063C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CD0A-C5A1-415D-A7E7-FE5F0EF99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rd I’m Coming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Coming H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6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rd Im Coming Home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rd Im Coming Home_arr1_v4o6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06920" y="64882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ord I’m Coming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rd Im Coming Home_arr1_v4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rd Im Coming Home_arr1_v4o6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ord Im Coming Home_arr1_v5o6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6920" y="64882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Lord I’m Coming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ord Im Coming Home_arr1_v5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rd Im Coming Home_arr1_v5o6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rd Im Coming Home_arr1_v6o6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106920" y="64882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6 ~ Lord I’m Coming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ord Im Coming Home_arr1_v6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ord Im Coming Home_arr1_v6o6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rd Im Coming Ho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920" y="64882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rd I’m Coming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rd Im Coming Hom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rd Im Coming Ho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rd Im Coming Hom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6920" y="64882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rd I’m Coming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rd Im Coming Hom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rd Im Coming Home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rd Im Coming Hom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6920" y="64882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rd I’m Coming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rd Im Coming Hom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5:55Z</dcterms:modified>
  <cp:revision>31</cp:revision>
  <dc:subject/>
  <dc:title>Slide 1</dc:title>
</cp:coreProperties>
</file>