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2E5-26AF-4FD8-9053-C50C9E19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980-7AE8-4713-90A0-AAA75385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350-9BEC-4AA5-A6A1-981D27AC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053-7C37-4755-95AF-1263CF74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FAF4-650F-4584-9115-9045BAB4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9A54-093B-4501-9E52-79CD5F31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4B48-6E84-41E8-87EA-C906BBE3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5AA7-FCA0-4DF1-BE53-AB33913C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C4E4-6307-455F-82BC-6A6E2992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52D7-CC7E-46EC-A1C0-5542DF87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E933-2DBC-45F2-8799-E16AADD5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E46-01ED-4DFB-BC1A-C4767328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E728-270F-4139-ACFD-7F5DCB5F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D4DE-59EA-48D6-8ED5-BACDA846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BCCC-B106-4487-879C-9C526891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BD10-8CB6-47B1-A810-4C8A8DD6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3EC1-6EC4-4BBF-A921-108BB02B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1E3-2658-418D-8ABC-CAF830B9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66AD-8E05-4DB4-A669-2735313F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1186-1B3C-4B9D-9729-ACF7B1D7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DD32-E9C4-447C-BF83-56133184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B48-9B8F-4671-A93F-71D8D68E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B8C4-1B0C-445C-8ACC-5170B019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55D00-9518-4D5A-BA85-DC350D8D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8829-2EFF-4C12-B299-FE1A0830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E0068-DD0E-4870-8044-B0F72E63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EC5C-9020-4483-AE9F-862E7D6C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82FC-42EF-4EA6-92C3-263C3217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27C0-C89D-4345-B6A2-5E5C718F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B9F88-E375-436D-93A7-B1487388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15907-57C0-4BF6-9477-5959E543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AFB-26B2-4C23-ADF0-162BCDB6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4FB-5483-4758-AF81-01CC84FA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78C-9759-4345-BA66-E222248F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9A9-CF1C-4FC9-8E4E-EF78D069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292-E780-4E82-B0F5-CA0918E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2CE6-19A2-4122-AD4F-FDAFB0F03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2C6C-A6CC-4C5F-96EC-2EBEBC6EC6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6416-042B-4081-8FD9-9FB96174C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ve For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O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Longfellow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Xavier Schnyder von Wartensee (18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ve For All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400" y="64882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Lov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ve For All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ve For Al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400" y="64882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v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ve For Al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ve For Al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6400" y="64882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v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ve For Al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ve For Al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400" y="64882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v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ve For Al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ve For All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400" y="64882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ov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ve For All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8:10Z</dcterms:modified>
  <cp:revision>32</cp:revision>
  <dc:subject/>
  <dc:title>Slide 1</dc:title>
</cp:coreProperties>
</file>