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F1E-7E24-410A-8FD7-4D003CE7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B6B-BF43-4211-865E-9354BF01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243-83F9-4837-86B9-DDFCB882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1BA-C601-4AF8-BC8E-B59D3D59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51BF-E964-4753-B5CA-10549984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8705-877A-44E5-AD00-D76A647B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B0E8-2C9E-417D-B784-318EE049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2038-5D16-4355-85DD-57E182DC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6980-F2A3-40AF-8CA5-22244B41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95B9-D1AA-48CD-A9F5-27740433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326C-6CEA-4345-ACBA-14D4F7A8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A7B-F323-48D8-A75F-CF28BF44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A07F-83A4-476B-A600-123AE9C2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6180-B9C7-4EC9-ABBA-00E11E77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65F7-5BC0-40F4-AA79-20333634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5EE4-AC94-4050-BB85-A52CCF81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33BE-D33D-43AC-ABFD-C70A59D7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F42-31B5-47D2-AE6C-3AFB1C7A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B9609-7541-49F2-89BA-2824D5CE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F8B78-F2F5-424B-8E16-8CD0444B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23F21-D4A3-4285-8A1A-544A79B9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0ED-79C0-4064-837E-E0A1BAD4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F4AE0-479C-482B-98E5-A497412B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5FFE6-3233-49D4-9967-30738817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BB7C2-A1DA-49C6-B1D2-C41DC402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E6E7C-9045-47FC-B2B3-0EFE748A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0655C-6F6B-4047-8CC2-CFA542AF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FDD8B-19C8-4594-9456-A3B87796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E9646-CCC8-4BD3-9300-ED0ED8BB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43F6A-5393-40BB-814C-E5CBA3B2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51AB-017B-4880-B54D-B001D79E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5A0-FA6F-4D69-90FB-6F2E7C25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89C1-1B2D-438E-9BC2-FB886E8A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4FB-E828-4FB9-8899-30F3BCA3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6DC-AEAE-4F69-9E73-C2237564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014-60C9-492A-9CB8-2576662C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D367-A26D-4DD0-950C-9AC5C9040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BA98-55ED-4259-98AA-A73426A04D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D45D-E3B1-4431-BFC6-49F39AE92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eaning On The Everlasting A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C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J. Showalter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eaning On The Everlasting Arm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5280" y="6488280"/>
            <a:ext cx="44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eaning On The Everlasting 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eaning On The Everlasting Arm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eaning On The Everlasting Arm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eaning On The Everlasting Arm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eaning On The Everlasting Arm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5280" y="6488280"/>
            <a:ext cx="44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eaning On The Everlasting 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eaning On The Everlasting Arm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eaning On The Everlasting Arm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aning On The Everlasting Arm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eaning On The Everlasting Arm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5280" y="6488280"/>
            <a:ext cx="44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eaning On The Everlasting 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eaning On The Everlasting Arm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eaning On The Everlasting Arm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eaning On The Everlasting Arm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3:00Z</dcterms:modified>
  <cp:revision>28</cp:revision>
  <dc:subject/>
  <dc:title>Slide 1</dc:title>
</cp:coreProperties>
</file>