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F29-705F-4CF9-BC58-21F5B97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735-1B53-45BD-A462-2ABE361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6A7-833C-447D-B243-5AFB73C2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415-9DE5-4EEF-9421-B5A6CF2E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422C-C09D-4499-9610-A27CD695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7993-4F37-4C48-A459-373FC70E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161-39AB-428A-93A2-2D1F54F4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5A20-A5F1-48C0-B8AC-034D26F3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A4F8-FCD4-4F14-BA65-E5C902D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764B-CE21-464F-A998-E9C4384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C5B-3E12-420B-877A-6310C30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E6E-194F-4CCB-9590-F7903612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ECAD-0CFE-4EEC-8C24-131538C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2D80-CE3B-49EC-ACCF-0A0B2CD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0A1-6B3C-4D99-9E9A-68CEEBB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50F-EDA7-4C91-A3F5-93194440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A62-1AA1-4502-BC31-4E8B18F7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D8B-BC3E-438B-BCB5-B9D0C671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ADC6-6C01-47C2-BDD4-E16AD763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06F7-8EEA-48EC-8638-F42DEC77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27A6-9A9A-4115-B2EE-356BDA7F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BAD-50B6-4770-88E5-BB088E3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D77C-CBBB-4878-8E21-993A106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4F48-A910-46CA-8169-485BD1C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8123-9A0A-4276-A097-0F965F9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FDA5-B6F9-49B5-B6D8-6DCBF69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303C-5E17-4BE3-8E90-61D6E90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5B91-7DD5-40A1-A7E4-6D19C44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1157-5B31-448E-AE71-A1B18EDE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5CFB-AFF3-475E-B71B-FC454484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C8B7-CA8C-434A-804D-AC0A84DF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0FA-6BA0-4189-BEE3-834DE95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1B4-38AB-45B1-8D31-1F6C047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213-7454-412C-884B-4B8CF11D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66B-3F0A-4EAE-81E8-390477D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241-302A-4EF5-AA95-AEB13EC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845D-2695-49AB-ADE5-79C9CE7F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AD16-7AF3-4968-A649-855D600FC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EB5F-0004-483F-9879-7F7FBE905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ke A River Gl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YE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 w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n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untai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ke A River Glorio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ke A River Glorio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ke A River Glorio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ke A River Glorio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ke A River Glorio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ke A River Glorio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ke A River Glorio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ke A River Glorio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ke A River Glorio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7:59Z</dcterms:modified>
  <cp:revision>31</cp:revision>
  <dc:subject/>
  <dc:title>Slide 1</dc:title>
</cp:coreProperties>
</file>