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E5D-C1DD-495B-A9B3-FFB2D72B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93C-0449-4950-8969-AF33ADFE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C6D-FEEB-43DE-99E6-5C4CFF3B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9E83-7CB8-49CB-8F62-CB53CC5D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1386-0E0B-48E6-99ED-CD599C9D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4B8B-CA6F-4E0E-B9C8-5AC4C349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A187-569C-46C7-89AD-2C8F3447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3ECB-C939-46C1-9F27-AEE0523E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667C-5B98-412C-BBD1-C560ACA0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537A-D3A4-4CCA-9CB1-3DC95196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0A1D-0AC6-4ECB-AF88-9433ACDA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CCB-B980-4930-9706-E9A57275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180A-108D-4820-A243-8639BDAA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CA9E-D4DE-4980-A657-005C8EC5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D371-BE66-4F70-8D3A-A30803D7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4702-5286-41F8-AA41-B2402562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94B4-6CA9-4499-B70C-FD8C6E46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C47-A715-4F9C-94C4-2AEA9984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9ACFE-8829-4BCB-83E6-1A1A42FF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F342D-CBE4-4830-9E8C-0E8F1F9E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08658-A22B-4345-BA8B-118D2F04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62E-A2CE-4745-949E-18A1F0F8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8F562-12D3-47B6-83F7-7A8D9A1B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AA3D-9CEC-4B95-A374-B7F90EF2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FA5B-E71E-42DF-B98F-8670F082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84A64-7445-4F2F-BEEF-C2215237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C276B-102A-46CE-A9B8-75D42BB7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F2EBA-BAED-4E60-BBCA-4068A0A1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F22D7-F841-4AF4-84ED-5A3E3353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6529-E163-4D0E-B4D7-416DDC3F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63634-7F1E-47D3-B53B-7AD160D4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3C7-009E-4F80-8E3B-26678F99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5B3-C4D2-498E-B7E3-C8C2C6FB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72C-8E6D-47A5-A08A-36742130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50E-76E1-4762-87CF-E9847E10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211-CE0B-411A-88E2-50FF98CA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C35F-6569-4DA5-83DB-E6FC6982B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A689-D184-4C4F-8568-C97FB4539F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F725-18B7-44FB-942C-346F969C6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ead Me Gently Home, F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 L. Thompson (18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 L. Thompson (18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ead Me Gently Home Father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ead Me Gently Home Father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ead Me Gently Home Father_arr1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ead Me Gently Home Father_arr1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ead Me Gently Home Father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7560" y="6488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ead Me Gently Home,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ead Me Gently Home Father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ead Me Gently Home Father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ead Me Gently Home Father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ead Me Gently Home Father_arr1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Lead Me Gently Home Father_arr1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ead Me Gently Home Father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560" y="6488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ead Me Gently Home,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ad Me Gently Home Father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ead Me Gently Home Father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ad Me Gently Home Father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ead Me Gently Home Father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ead Me Gently Home Father_arr1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ead Me Gently Home Father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7560" y="6488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ead Me Gently Home,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ead Me Gently Home Father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1:34Z</dcterms:modified>
  <cp:revision>31</cp:revision>
  <dc:subject/>
  <dc:title>Slide 1</dc:title>
</cp:coreProperties>
</file>