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CFA-40A2-45C7-9EBC-5707363A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995-9308-4B74-BF3B-E9574447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835-305A-4A7E-9A21-8FAE5709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E6A-9C6B-4253-8398-A3634B0F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E987-AB4A-4250-8E44-DA073BD5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2157-2B21-488D-A6B2-814A728A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D03E-1538-4A5C-9D64-A7F5EE98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E02A-E4CC-4CE3-833E-07EAC406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4AB7-12D8-4C9C-BE0B-81EA9C08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8E30-10A0-4E8D-B451-D7424FA0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B0C1-EBA1-4458-93BE-E2EA9DA5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C09-E84C-44A2-B2C7-E75D2803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5BAA-0820-4BAB-BF60-DA2AEA00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F9FD-166A-4A3E-A563-C3AE9249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B219-6C7A-4776-AB00-459415CA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4FA9-6145-47C7-B96A-A429E4F2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2AFC-21AB-42DB-9CBE-DDBFCC93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590-9DC6-4A1C-809B-EDF9C89E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B8C0F-7B29-40D0-9C5A-7C7917E8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D0EF-8871-4EF5-8D79-D214B9F5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6ACC4-71DC-4B3E-AC6D-275965E8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9C8-E57E-4B37-BEBB-1704A923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01A51-098F-48C8-BFC4-CE3A3D2C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D1386-CB50-42FA-8EDA-9F352404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E7DC3-4D2E-4762-9192-65A7E926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8908B-3410-4B25-9312-D1763568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A2505-919A-4297-BCCD-2C216DF8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33F61-2994-4FBA-83B8-B13D54B8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77D8D-FBAC-438C-A03F-4E58D6CC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F3D1-D908-4F51-9EF6-54269848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A064-31CA-4338-9BB7-82449B28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56A-1C98-4A9D-870E-94DD4E31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E1F-5718-45D3-992D-E804E273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95E-6F25-43C5-BB9D-4AF9D60E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533-94F3-404D-BE69-05D33D65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F1F-B455-4E4A-B9A1-CED74A72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36B6-CF18-4876-AD89-317C4A800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936C-0308-4BE6-AF79-53041EC90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B207-5FAB-4DA1-8FC0-72F2E0376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iving By Fa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+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Wells (19118), vs.4 by R. E. 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L. Heath (19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iving By Faith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iving By Faith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iving By Faith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iving By Faith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iving By Faith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100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iving By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iving By Faith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iving By Faith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iving By Faith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iving By Faith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Living By Faith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iving By Faith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00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iving By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Living By Faith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8100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iving By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Living By Faith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Living By Faith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Living By Faith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Living By Faith_v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Living By Faith_v4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iving By Faith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iving By Faith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iving By Faith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iving By Faith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iving By Faith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iving By Faith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100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iving By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iving By Faith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20:01Z</dcterms:modified>
  <cp:revision>30</cp:revision>
  <dc:subject/>
  <dc:title>Slide 1</dc:title>
</cp:coreProperties>
</file>