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5CF-2CBA-4D70-9E86-7436D487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9D4-34B8-40BF-90E5-CA69504A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649-976C-4DC9-9BC4-349D62B4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5C9-E7A5-4D81-A36A-6B911F08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F59-D98F-4BC1-9111-C217B841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8835-7ED3-4152-A3A4-E036A49B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6358-DD62-4EB6-872B-E65EAE1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7C4B-E296-45FA-9AB9-F9EBCF1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7850-57D7-4F70-B9E5-E9D2379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57E8-357B-4F99-8B87-A34BAE0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5634-BC9B-4307-9789-0C56DDA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48F-F860-482B-BE80-188492D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938D-2EDB-474B-A4FA-F2DF703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83AD-0D17-4496-9595-A808D9F3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4F7-47D3-4682-8322-36ED35B7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7514-BA76-42F5-A88E-B0B15DF6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1BE5-40B2-4A95-B656-6887F433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BE4-C96D-436F-9411-D81F5197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9937-D1BD-4317-B565-1A72B65D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B5CF-8477-4125-A9F4-B78EF838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B9FA-0BDC-4F10-B346-A7BB31D4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338-95EC-44D5-B7A4-D40B9B65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30A1-141D-4CCD-ACD1-33662D1A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843E-30CA-4472-8779-79D3D878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0F04-1B11-47EA-BC41-9B827F6C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C268-843C-4DB3-B091-072563F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2BFD-F722-4D55-B6F1-CBAFD86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8EE1-5148-4CF9-96EC-EBC8023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E3BA-4D8F-4D7A-9BB3-8BF35C69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2A37-B8A2-433F-A21B-1DD0B767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1676-1393-4503-9A45-7C70A126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8C9-ACB9-42C9-832E-84CD195A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1EC-92F3-4F74-85C9-4A9170B4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345-2308-4641-877D-8EFD904F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911-BB98-4EA0-BEEF-A90614DC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758-185D-4382-9687-393A5D1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BE1-2319-4718-A4F3-303A3F004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1F91-5786-42B1-A175-F5E26BD21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88D-9627-4ACA-8A7F-390E99305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ving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O. Chisholm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Harold Lowden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ving For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iving For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iving For Jesu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iving For Jesu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iving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ving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iving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iving For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iving For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ving For Jesu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iving For Jesu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ving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ving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ving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ving For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ving For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ving For Jesu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ving For Jesu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ving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ving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ving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21:23Z</dcterms:modified>
  <cp:revision>28</cp:revision>
  <dc:subject/>
  <dc:title>Slide 1</dc:title>
</cp:coreProperties>
</file>