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E00-80DA-416A-8699-EB4929A6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CD8-6FCC-4792-BF32-5C251FFC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2B6-5E3D-49D6-ABF2-0B729509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F5C-E0CC-41A2-8638-187E1C06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1B30-2339-4F22-A774-9A25AD9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B85-EA1A-4500-AB9C-83DF1891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69E3-5B00-4066-A5E8-41EFE45A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289E-B6BB-4ACB-A484-B03868FF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566-FB5F-43EB-B5A1-69A480B4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CE5B-3E46-46F0-A751-BC38F73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070-FB18-4495-AF2D-CDD1456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D82-7011-4442-B0CD-36DA1470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3F1-FDAF-4CE2-9E84-3F3300A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CF4-1174-4BA0-B335-3E39435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368B-7B80-4A36-B01E-A26AF1F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617-E160-45F8-AC49-0D99A0E2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26F-DAD0-49A5-B686-E657E6D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814-221C-4A00-99B5-2A76EA27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D17C-1DF6-4B6B-AB09-1E2D6682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2AA9-1587-423D-B742-5891E5A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A78B-88F0-4D96-B58C-3896AF0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59A-F6FA-4167-8A35-FB89969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8143-825F-47CC-9D1C-0D1360C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06E8-217F-4C9B-A423-F7D5009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9DCD-994B-4352-8290-FC79E2A8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2062-C1F1-41B9-AD50-1C700BE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7C0C-7C8A-4DE7-B1F5-9E9745B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0933-1290-45B1-AAED-2435D2C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342C-FE9D-43AA-BC4C-601CAB41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E8F9-1AED-4C03-8639-2C340A6F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8F11-06F4-4E80-B09D-57D634A0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BF2-45A2-495A-B2E1-2A57B17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BBB-BA68-4071-A8CE-B721505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CF0-5B8D-4995-94CB-4542D52A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1C7-BA28-4563-B4F2-792D5AF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66A-F7E8-4D76-8E74-318E7C6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976-AD01-4026-9D1D-2CA96F730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DF38-1A4E-4434-8D3E-71E663059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592-8D94-4EA6-8F8A-83493DDD3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Kneel At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Moody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Moody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Kneel At The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Kneel At The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Kneel At The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Kneel At The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Kneel At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Kneel At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Kneel At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Kneel At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Kneel At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Kneel At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Kneel At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Kneel At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40:44Z</dcterms:modified>
  <cp:revision>27</cp:revision>
  <dc:subject/>
  <dc:title>Slide 1</dc:title>
</cp:coreProperties>
</file>