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5536-4D59-46A2-B8E1-51970498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1B30-53EC-4844-859F-3E95695E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D0A3-2912-4A62-99AD-F619F1C5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1AE-14DC-425B-8508-60C924A8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DCFC-8C65-4E79-87AB-485E2098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AD13-4CA2-4778-A254-0B3875B0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11FB-AD5B-4305-BCB2-240E89F8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15D5-2489-4ACD-AAA3-2AE22CA9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EC6C-6EFE-4F77-A972-DFD4E9E5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ACA3-6006-4111-9EB4-76C220F8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EB9E-6A50-4E8D-8215-73DDF92D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67D-F18E-4640-8CC5-F77A74E8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453F-CBC1-4BE1-A0E7-95242C74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5257-3301-4FD0-BB34-8AAB330F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7E69-7892-4CB8-AAAB-F44353C8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3AD1-80CC-4D61-B5CD-226B6494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47A5-FE97-43E7-B678-F41BB754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0E8-C8B4-4B23-9662-B8FA86BC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8973B-AEB0-44AC-8D2C-3DAB8C3C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4E90D-5AC1-4D13-89C8-61C1878F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DF444-FA28-4AC5-B7FE-63FE5ABE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D354-006C-4400-95E1-3EB468FA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8E2C1-4356-4A35-89AA-FEDD0F4E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6271B-EC34-4F22-9C11-440C5C2E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57AE2-3953-457E-9976-69D17625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7A37E-F66F-4B96-91EF-3C7EF380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A8773-90E2-45F2-81B1-C70C9E33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6B31C-E76C-450B-B45F-24BABB69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71A3D-DB36-40D6-AD1C-7A09C7EE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6C645-47E8-488C-A2C4-5895C959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369D8-0D20-4384-B35E-0533F47F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2EB-081E-4A77-BB11-FAB51525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BFE-30C9-4C5B-AE66-82B6B030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1A6-B7B0-4CB7-B701-66CA5820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321-5D2D-435A-A2F4-26528A85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D5AA-9739-4000-AB32-B62F2E0A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DFAD-8040-478E-983D-95983C475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8086-7736-4D7D-8539-09B4C8EA7D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4395-B3B5-47EC-9D8A-D3889BFEE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et Every Heart Rejoice And 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S. Washburne (18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J. Webb (184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et Every Heart Rejoice And S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et Every Heart Rejoice And S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et Every Heart Rejoice And S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et Every Heart Rejoice And Sing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et Every Heart Rejoice And Sing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et Every Heart Rejoice And Sing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et Every Heart Rejoice And S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920" y="648828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et Every Heart Rejoice And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et Every Heart Rejoice And S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et Every Heart Rejoice And S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t Every Heart Rejoice And S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et Every Heart Rejoice And Sing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et Every Heart Rejoice And Sing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et Every Heart Rejoice And Sing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et Every Heart Rejoice And S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24920" y="648828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et Every Heart Rejoice And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3:46Z</dcterms:modified>
  <cp:revision>32</cp:revision>
  <dc:subject/>
  <dc:title>Slide 1</dc:title>
</cp:coreProperties>
</file>