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2FDD-01C9-4C41-818B-E1C936F6E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0516-2540-4264-9A6C-E3F13C13A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17FB-224B-4BA6-A730-53FA077FE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9844-EF61-48C3-A051-8C7786645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5913B-A06B-41CC-8D09-0DB0FD28F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1D5E7-9EE7-4E74-862B-2A13CFCD4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F116A-EEF3-4B55-A08B-205A69809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CB822-2D1B-46F3-9C46-CA5E968D3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862B6-71F6-4141-81AA-E8BAB10FB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DC710-6787-4BAA-8C3D-4F32C39F2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5AE24-E792-42FD-9F76-5D6CE4A1C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CE9C-6BEC-4A53-8370-D00F10C54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250BE-8688-4250-87DE-46150EB63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8B1E2-6042-43B4-A257-F32F74E01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6609B-46BD-458E-9C9D-CD8595F68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A9DA5-E012-40C6-9823-2D17FC7D4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577E4-0E61-4BBA-B8F7-D7C67AFCC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7D96-32CA-4E9E-A885-F759D926A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015FB-1D99-40B5-9D3C-33B38E82E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80FEB-39C4-4BB4-B732-B772A751F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7AD47-B472-43C3-BA7B-E230CC19E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C1B0-5307-42EA-A15E-AA27EB9A2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45195-1053-49A4-9407-B78852096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399DD-8D11-4B6D-9D4D-0613C5663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B5AF2-D830-4711-9DB4-AB1E01788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E6195-2528-4FEE-A623-63DDA91DB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AF4E3-DAA8-406E-9BA0-633EB1136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79E8C-81EA-4363-80AB-5F3C821AE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A9564-CFBE-48A4-9F6E-3CB0FCA5C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5D0FD-7238-429E-9AE2-F770D6A92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38FFE-3923-4717-BE09-4050C9430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0B3A-78A8-4292-A959-2F3AA5DC9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1061-FF64-4782-8DE3-95AD291DF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64EA-C96E-4314-866A-4C42A29FF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5D04-B857-4480-BE23-F953A1449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A8B9-854E-4168-AAF5-A46D896B7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FD28E-CF2C-4D90-A627-B2E640F0C5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DFC2B-4BA1-4AC3-B77D-D682954307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DC1BC-C295-443A-A935-796023945F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Lord, Take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5360" y="4902120"/>
            <a:ext cx="1255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C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Unknow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Unknow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4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Lord Take Control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8720" y="6488280"/>
            <a:ext cx="288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Lord, Take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Lord Take Control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7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6T17:14:31Z</dcterms:modified>
  <cp:revision>29</cp:revision>
  <dc:subject/>
  <dc:title>Slide 1</dc:title>
</cp:coreProperties>
</file>