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86C-9FB1-4374-83B5-22C293A2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5FB-D893-46AF-AF6C-5FBBE23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BD0-A987-4701-B3F8-1E31E64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2DC-B709-4050-B382-B4DEE984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8EC-4CB2-49FE-939D-C9F2CC6D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280F-1E93-4655-B53A-89E9841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F735-07D1-4379-97FC-5566579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E402-DB44-41B6-8A2E-FA05D051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E857-2DAD-4801-874B-D80A8A0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A796-7BC9-419A-9A35-71DC0CB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A166-B3F3-406A-BCE7-B3C5FEE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324-3303-48BF-8007-8F22F1B5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370-FC08-4121-B634-275F940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887-8321-4FC6-AE9C-3D8C009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AAA5-09B7-46E1-8E3C-523034A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1E5-6103-4839-AC94-2219E50B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3BD0-FF43-4EA3-B26F-6CD5536B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E75-590B-4A30-9CCD-5DBF24A5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46D5-3B6F-41E8-B3AD-8BDFB9F3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C229-9DA1-44BF-9B7A-B754AE6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B100-3042-43DC-9A91-9B7D104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926-2AEA-4761-8BB4-25D54AC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A5A3-4A11-4D9A-8862-E16D189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B668-8F74-49E8-93D9-42CA325D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79D3-975C-4495-A919-493058F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29BE-FAAB-4587-9C9D-98DA96A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7DF1-976D-4977-B0DD-F7640DD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9CF1-0447-4AF0-A378-605C59E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BD66-3F62-4D50-8E45-9EA29C7B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81F0-513F-4743-BD01-9A680AA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ECA7-A9F3-4007-9EDD-26BD3A47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217-94AD-467A-8D6A-C11D74C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E04-4128-4F48-9A2C-ECA5ED2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820-19EF-4026-8E01-2F87CAF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D69-1FB8-4C02-B0BC-5D197D8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33E-3BF5-4E02-BD66-50F0CCE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23F-59D0-450B-825A-593AEDD43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7DE-0DFC-477D-B80E-98CA94BD4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608-0B54-4396-8674-1362AABCC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,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-ROUND IN 3 PART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3720" y="4902120"/>
            <a:ext cx="225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m(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)/G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 (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nglish Folk Melody (c. 16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Love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Love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Love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Love_v1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Love_v1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Love_v1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Love_v1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Love_v1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ve Love_v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ve Love_v1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Lo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Lo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5:07Z</dcterms:modified>
  <cp:revision>34</cp:revision>
  <dc:subject/>
  <dc:title>Slide 1</dc:title>
</cp:coreProperties>
</file>