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7ACD-F8AA-4334-8625-6B250DE6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76C1-387A-4CC4-A8C6-2457E7FC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6DF6-7396-411D-84EC-731B0C0F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024B-FB74-4BD9-8EE3-075BA275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9247-6FA8-4B37-8304-BFA16BD6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ABC8-49D0-4C70-9A4D-8FD8926D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8247-3D3B-4E1B-AC30-B75D0BFB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8BD2-28FF-41AC-9EC3-4A2F72C8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8082-9B0C-4E38-B561-8E78F2AA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FCC2-659F-4A51-A199-9BFE52E3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00ED-1D5E-48B2-91E8-4FD218D7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4FE3-5CFA-4219-B956-216CA9B2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970C-B8D2-4A90-8D05-EB4F6295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2FD5-EF23-4D1A-AC2B-49B1A436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FC75-456D-449C-9357-AF5D04BB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4AC0-5E50-4313-80B3-5543CE30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B939-8E54-4B62-AF88-0BDC75F1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634B-2422-4B2F-AD1B-923ADED9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8A4C1-160C-48EA-9FC8-8D13B490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0D851-7D59-4B03-91BD-62D5E9F2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938E3-C9BB-4020-8CC7-05130D11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5A40-8778-4EAA-B611-31CFCE5E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9ECB6-62D5-4BA1-9E15-8754A71D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BB255-EEDC-4DDD-A6B4-931F5E05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C58C8-CCC6-42BE-8472-561CFA34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3B67D-6EB0-4749-9759-C7D05311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D4CC7-F85F-455A-9EBB-8274DF76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0294E-2E8A-4656-9159-35E4ABA3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6024B-FD18-4AAC-888F-FAEC3090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88F93-82EE-4895-AC64-D7926F68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79715-0ECE-4ABD-B40A-BCA1110B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88D1-32B3-4ADC-807E-09968066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1D9E-4DF0-4B30-AE0A-4FD84899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FAD3-C00F-4975-8360-B9560EE6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687F-412C-432C-8F5B-7EF26514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6FB2-0BFF-4CB5-911B-4F1CA52B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365D-5C22-4050-A300-7C5F819C8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EB3C-7755-41FD-B97A-FA7AE4726B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9644-26A7-4299-8FAF-243E01126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ord, Dismiss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DIJ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Faecett (17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G. Bitthauer (184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5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ord Dismiss Us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000" y="6488280"/>
            <a:ext cx="26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ord, Dismiss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ord Dismiss Us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9000" y="6488280"/>
            <a:ext cx="26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ord, Dismiss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38:52Z</dcterms:modified>
  <cp:revision>31</cp:revision>
  <dc:subject/>
  <dc:title>Slide 1</dc:title>
</cp:coreProperties>
</file>