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BF6-DF37-4A2E-B444-C2CF9551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8C3-ADC0-4E0C-926D-3A65E224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B0A-4088-46BD-93DF-9F5B33DA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66E-CCE8-43DA-8CF0-D0FE766E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06F7-5193-4637-A054-B5EACC8D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CAAC-40B4-43FC-BFCD-AAC188C9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317D-BF57-40DA-9488-D40D2B6A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39D0-F0B4-4C7D-A68B-42611D38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F2D2-D384-4519-BD93-33492CCE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5655-ECFC-4931-BCEB-6AF253EA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490B-3BE6-4B29-87CA-DD9FFF66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6F4-08D9-4489-96D9-8C5BCC80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BE5A-FC29-4F0C-9A36-EF6112F4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CAAC-3005-47A3-B5F5-D952DF64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A1D2-7C76-4578-9CB3-19D49070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6380-DE04-46F8-8A5B-943F210E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847B-FA8A-4709-BF12-D94C56EB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1D2-2D74-45C9-9B66-6F1B5B86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B639-5BAC-4A5E-B5DE-5AC9E45B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5E2F-923F-4483-B604-2B71185A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1B9C-67ED-4F45-9D6B-2E5A91D6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F50-1909-4AD4-A0A9-EA77AF77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77733-CCC5-43D2-A1E6-096B6A5D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F8B23-F8EA-408A-9D5A-6ECA96FB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AF4FA-AA61-4053-A1F3-D43E2F03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F769-A3CC-4A7A-9CCD-E665FFE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3F533-9EEF-4741-9D00-583BBE8E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7665-8B82-442E-954B-EB8DC3E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2FB69-4DD1-4E5C-8527-DC20D50B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39F9-69AA-4041-8562-3696575C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60EE0-8224-48DD-A4C2-518BF2F5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890-1415-49D0-8F45-B7DF41A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0F9-F328-417A-A862-52C0CB7B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461-B52D-40DE-BCB1-68BB1B36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64D-BFF0-492E-9379-BB00DB6F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CF9-1478-4FEF-AA9F-1A8D5A89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568D-1475-4A67-88C3-C708AC5E8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ED02-BD30-4B2F-A740-98CA4CDC55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3B84-97F4-4A81-8E2B-C83758C3D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t Him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A Stranger At The 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B. Atchinson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O. Excell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t Him 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6960" y="6488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t Hi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t Him 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t Him I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t Him I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t Him 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960" y="6488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t Hi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t Him 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t Him I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t Him I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t Him 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6960" y="6488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t Hi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t Him 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t Him I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t Him I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5:47Z</dcterms:modified>
  <cp:revision>30</cp:revision>
  <dc:subject/>
  <dc:title>Slide 1</dc:title>
</cp:coreProperties>
</file>