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80B-F609-482C-8E10-79E0B4CF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F1A-2AD5-4699-8A84-545D49B6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804-64BC-41CC-B449-DD576B39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011-8B37-4C54-85F4-AA7F58E3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2C3F-4093-49D7-BF8B-52E1BC3B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5C35-F92A-417B-8DB5-D367DE91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B781-C357-47C3-9A36-3A9109F1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D20D-403A-4611-90F6-CA454442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E165-65E3-44E5-B2A5-29DD19F3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B854-BCED-41BF-8328-5B1EC901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0BAA-CBC3-4D9D-A88F-AF8B7A71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A62-7AE9-4C7D-867D-5B295508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5605-05EA-4E4D-8C8E-BF15AA1D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7813-D70A-458D-913D-08AD200E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4D37-F8E4-4A3F-9A53-E20F1A2E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8733-1214-4144-A533-24CCD64E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D259-DC85-400D-BCBB-94EB55C5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ADF-03A9-4D66-BBE1-D845807E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35452-43F7-460A-AE5A-D12DE14F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26D14-2127-4832-8D77-81983993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1BA9D-0392-4086-97CD-CFFDEA8B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85B-1B34-4089-82DD-598735D1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27FE-6790-45A6-9457-5D9A0616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64D27-C44F-43E7-9461-36350411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F8B74-F446-4371-8B05-767BD520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2012-9A8F-4FCF-9D76-8E335B6C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590D-AF80-422A-BB5E-6CDB3AC1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C665-1FE8-4812-BC33-A7E65944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64C5C-52E8-4094-A440-0EA018BC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7CDA7-A72C-4927-B33F-7343CAD0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09784-8304-479A-BFC6-6701BF65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969-20C2-411A-B151-BE337D0C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06F-24C1-4E58-A6C6-2C2B761E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4EE-FA6E-422E-A82B-1E27A78D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3ED-B763-4931-9872-BE7E7323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C61-84D3-4365-9E4A-39159ECC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D44D-ED1B-4E0A-AF3A-30450A159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9736-3AB5-435C-B87C-D765EF2464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7BD1-AF41-42D5-8ACF-19011B5FF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rd, Se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 Is Much To 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. W. Spencer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. W. Spencer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rd Send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4520" y="648828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rd, Sen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rd Send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ord Send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ord Send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ord Send 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4520" y="648828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ord, Sen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ord Send 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rd Send 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ord Send M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rd Send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520" y="648828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rd, Sen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rd Send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rd Send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rd Send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rd Send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520" y="648828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rd, Sen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rd Send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rd Send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rd Send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6:50Z</dcterms:modified>
  <cp:revision>32</cp:revision>
  <dc:subject/>
  <dc:title>Slide 1</dc:title>
</cp:coreProperties>
</file>