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BD51-BB61-4521-9388-A92EA733B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CDAA-0C39-4BAC-94E8-04D0EC84E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954B-B0B3-4538-91D4-43587D95A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5F40-1900-41CE-AC1D-9A2BC12D6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DE70A-B332-43FE-AF6C-9ED3CBEE3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1BA74-46DF-4F74-9DFC-73F283326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673C7-5E1B-44DE-AA66-D6CA8BAD2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874AC-E5A3-4750-A4C5-162C65AD9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CFB58-72E4-45A8-8CEE-6FFEF9593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37BC9-DC59-4188-8FD2-E89AB94B9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937C3-8C9F-436F-BA96-133CFC3DD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6FBA-0562-4463-9256-A3BA408A9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D0EDC-5794-42E0-8049-CC304730E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2939C-5EDE-4B99-80F7-ECFF8C0C8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E99ED-6280-4F04-B24E-C482E4BBF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A325D-E291-4851-9A42-C498B2B36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24626-9C3A-4CD2-B2E9-00815D3D7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933A-6069-4EEA-9EC1-E1239AFAC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3EEBF-DCA6-4E6F-BA59-EBBFB9C60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3A6F5-CF92-4314-A20F-94F3FD544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CD0EA-1959-4B01-940B-1ED4E6C53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D0BF-06AD-4B9B-8615-393FB251F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7433E-5F8B-4D69-AE2F-779A90FD2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EA4A7-23F6-402C-83D5-CEAFA531B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6696E-A8DD-422E-B40F-FBF156B57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4295F-528F-43BA-B7EA-284FCD35C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A78BA-DAF3-48BB-A479-A13CEA324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BFC45-341E-4770-BAC7-52E1CDC10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68A0A-EEA4-48BE-B159-E1E4B2B4C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B991C-040D-42D4-816D-4745B8B9B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5B557-23B5-46CF-9CD0-AC2F17897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C7C9-B2ED-429C-A96B-679567F96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6A91-BA3A-48B4-BEA9-245F25B28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2D90-066E-46C8-8FEB-7128EA4F3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21A1-2667-41DD-A3D3-874A8F1EE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7A0F-716B-4682-8BDD-991915949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A3C77-F6F5-48AE-A447-EB9EE6D522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6D736-CC8C-44F7-8993-DDD932910E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351F2-04C4-4C38-B2C2-EB3F61971F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Love Div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BEEC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8.7.8.7.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56160" y="4902120"/>
            <a:ext cx="1344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F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harles Wesley (174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ohn Zundel (187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5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Love Divine_v3o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74160" y="6488280"/>
            <a:ext cx="21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Love Div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Love Divine_v3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Love Divine_v3o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Love Divine_v3o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Love Divine_v4o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74160" y="6488280"/>
            <a:ext cx="21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Love Div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Love Divine_v4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Love Divine_v4o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Love Divine_v4o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Love Divin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74160" y="6488280"/>
            <a:ext cx="21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Love Div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Love Divin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Love Divin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Love Divin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Love Divin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74160" y="6488280"/>
            <a:ext cx="21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Love Div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Love Divin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Love Divin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Love Divin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6T17:37:29Z</dcterms:modified>
  <cp:revision>19</cp:revision>
  <dc:subject/>
  <dc:title>Slide 1</dc:title>
</cp:coreProperties>
</file>