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E2B3-82EA-463B-B3F1-F40AF627E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0573-1DCF-42F3-A013-5C310455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E3CE-9730-4627-8F3E-3A357997A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9A7F-4409-473F-80BB-3291ED30F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F947-B227-4AAF-93E3-C6352BAD1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67A5-58F1-47E7-87AE-390DB887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A0C42-E511-4182-84E9-7EB93735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8198-FFD0-413D-A343-68E84393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2816-CF34-4832-947E-01682C95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074E-942B-4E96-98A8-2BCF6445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7187-7D4B-4547-865B-D1F10EB8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EDDE-7378-4114-89DE-10D77F1C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7382-1905-4944-A6C6-7B1683F2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2271-D525-4866-A1C2-75B2DB96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2C5C-D6E1-4263-B48F-9B7C0163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5A57-A162-43EC-8D8D-7410ACEBE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A489-7C92-4031-8848-753CD98B0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5CDA-D7C5-4C65-AD27-869E24C9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7E2AF-BFB6-4586-ADD1-B435251C6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9BACF-7D49-4606-B4B7-81B5FBF0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3AC37-BBDF-4B93-8D58-A1D11107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E614-B7C1-4A29-8C2C-3EDC319B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ADBD7-5028-4477-A847-40DC3AA7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EB3EC-ABA7-4BFF-9187-F98275C8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D4B65-59BA-412B-8A73-356F74AD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690F7-EA21-4581-960D-B32229AD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4E0F4-50C7-4FBE-AB58-79842ABB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ABB6B-1CF6-4047-A85F-74ADFEDE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98773-B24C-45FF-BFCA-0C9AE9AA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91F93-F0F9-4143-8923-487A0E085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5D23A-45BE-4F8D-969B-D8822DE49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F50A-01C7-4AEC-B8A3-A351996E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0820-04DC-4CF3-8DE2-66B6ECE2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9BF2-0C8B-4832-BEC6-A3EB37EF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9630-319C-418C-A1C6-29739C2D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C24B-F8CC-48A4-9316-617F5E98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1D9C-C343-42A5-B3AB-ABB597F5D5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D8A9-ADD8-4A42-8D59-002680819B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2054-A83B-4DFC-A9A4-11215B0F3F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Looking To Thee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12/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E - SO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Rowe (1911)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. M. Eagle (1911)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51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Looking To The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Looking To The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Looking To The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Looking To Thee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Looking To Thee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Looking To Thee_v2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Looking To The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101160" y="6488280"/>
            <a:ext cx="26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Looking To The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Looking To The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Looking To The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Looking To The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Looking To The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1160" y="6488280"/>
            <a:ext cx="26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Looking To The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Looking To Thee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Looking To Thee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Looking To Thee_v3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"/>
          <p:cNvGrpSpPr/>
          <p:nvPr/>
        </p:nvGrpSpPr>
        <p:grpSpPr>
          <a:xfrm>
            <a:off x="7507080" y="6519960"/>
            <a:ext cx="1617840" cy="338040"/>
            <a:chOff x="7507080" y="6519960"/>
            <a:chExt cx="1617840" cy="338040"/>
          </a:xfrm>
        </p:grpSpPr>
        <p:sp>
          <p:nvSpPr>
            <p:cNvPr id="210" name="TextBox 2"/>
            <p:cNvSpPr/>
            <p:nvPr/>
          </p:nvSpPr>
          <p:spPr>
            <a:xfrm>
              <a:off x="8561520" y="6519960"/>
              <a:ext cx="56340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Looking To The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Looking To The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ooking To The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Looking To Thee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Looking To Thee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Looking To Thee_v1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Looking To The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101160" y="6488280"/>
            <a:ext cx="26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Looking To The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6T17:34:17Z</dcterms:modified>
  <cp:revision>30</cp:revision>
  <dc:subject/>
  <dc:title>Slide 1</dc:title>
</cp:coreProperties>
</file>