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0F4-EB98-4E2C-8B4D-B0CEB34F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43D-FEAA-4B7A-80B6-E9674D61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FCB-63CC-44CE-95A2-E9D22885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2CA-7865-4F95-908D-3965573C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7F98-EC49-4610-A98B-1CB63306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ACE9-1CF8-4E2E-9BEF-EE60F294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C047-C954-4F77-A423-0512ED94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0C0A-F26E-45C5-9DD0-9F843005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5FBC-35FE-4C68-AC34-2A9BDC80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2C53-994D-49AE-B0E3-C0C146ED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D2A0-DFC7-4CA9-8167-C01DEC9F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16F-F8DD-40D4-9964-2ED59F3E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ABF9-E600-4A54-9D41-3C3FE26A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AE67-AFC8-495D-9F9B-CFB25017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375F-2DCC-40C3-B2B7-8EE9668C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632B-C07B-4B4E-869A-833139DB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1D41-95D8-4AED-8F64-DA9BDE08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DD8-E796-4ED2-B6BC-B4D65D30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12AB0-64E5-4B40-86F1-A3F251D7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B3EB5-E55A-4998-B799-C1421C2C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66DE9-FC46-4543-A908-063E5084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059-544E-48B0-91CE-210A6743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E9CBE-C63F-43BC-9513-9380A363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CC054-753D-4336-9826-A3DA2180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581BF-4943-4546-9B26-6E242F09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6FA5C-6DF9-4264-AA79-1E94AB31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FD45A-1521-488C-B593-C5D43DD2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AB458-5584-4336-A234-6AD2D744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BD04E-C3C3-4F76-AC8B-899C6BA8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8613D-AE38-45CA-82CF-171CCDCA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C5310-F03C-4A41-A3A9-A4B870A4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453-D320-4B8E-A6E4-27C52B73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D0E-FED4-453B-ADD9-6A039934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B0A-ADF6-4760-BDF7-5231B65E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FF4-6E29-47A8-A4CD-FEAF9EE2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F40-F10D-4B8A-905F-F42B0942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AC27-5B32-4748-B49F-5A0F3380A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606A-3E22-4B61-9C75-35A4531E2B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086D-C0CE-489D-BE6D-701E7709C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et The Lower Lights Be Bu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Lower Ligh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et The Lower Lights Be Burn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3680" y="6488280"/>
            <a:ext cx="43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et The Lower Lights Be Bu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et The Lower Lights Be Burn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et The Lower Lights Be Burn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et The Lower Lights Be Burn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et The Lower Lights Be Burn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3680" y="6488280"/>
            <a:ext cx="43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et The Lower Lights Be Bu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et The Lower Lights Be Burn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et The Lower Lights Be Burn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t The Lower Lights Be Burn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et The Lower Lights Be Burn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3680" y="6488280"/>
            <a:ext cx="43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et The Lower Lights Be Bu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et The Lower Lights Be Burn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et The Lower Lights Be Burn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et The Lower Lights Be Burn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6:26Z</dcterms:modified>
  <cp:revision>30</cp:revision>
  <dc:subject/>
  <dc:title>Slide 1</dc:title>
</cp:coreProperties>
</file>