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89FA-8F83-420E-99B2-9DA7342B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25CC-1789-4E5B-9E41-A0B26D47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C972-A8B1-4ACC-B05D-17CE36A8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62AD-7E4A-46A7-ACD3-8AC9113B9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37EB-92BC-43DB-81A0-0DADCF31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6C97-6B81-43BF-ACAA-EFCBD157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4BDE-5CB4-4595-BF56-5E8ECE20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8DCF-E369-4115-BD1F-B681BE9A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5EC6-DDAA-479E-B36B-1239969E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49B3-05A3-479E-A056-AA867640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3171-A80F-4746-956D-D5832CB1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9B4C-2349-4012-B423-0BECE841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48D2-DA14-42D7-8FBD-0CB7C621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0D81-EC57-4671-A673-411804F4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B59A-4B6E-4EAA-99BF-DCA33CB3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4371-50B3-4F8D-8983-849281510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E4C1-889C-43A8-9BF8-4AED6CB44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AD7F-B738-492B-9901-35DCAC50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AED9D-FB95-4884-89BA-23EEA730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0A00B-3FCD-4B21-98F2-6C31769A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E7313-3004-4249-85E7-A19B6E9F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5B4D-586F-4C4F-AE27-02726DFA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0446E-B0B8-479A-81EB-AB83E7EA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715D0-39AD-4D81-BB98-B5FF8B0C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AD259-34C9-4162-A994-41F1FFEB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D3F62-F8FD-4620-A954-152736C2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6EB4A-918D-4AD8-A2BD-B76A6387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0399D-39EB-4F17-BBCB-16AA9883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48493-3EEE-496F-8255-636EFC55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F89C8-83AA-401F-96D2-6525900BB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3B7F8-5FE1-4274-817A-4BF61336F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E77F-68FE-4D6E-8124-79D52AEE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841D-7D57-4D6A-93D4-EC236CBD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8076-1A6B-4F00-B8E5-98DAB431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8E80-576F-4F01-8070-C698BEF2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4F54-F4D6-4F89-8378-226F2FD0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60E2-D688-4D2D-B3BE-C5B1544247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6364-86B0-490D-ADCC-084BED4EDD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5820-7F6F-4A4A-8AE0-742E25517A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ive For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/G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R. Latta (189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k M. Davis (189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ive For Jesu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7480" y="6488280"/>
            <a:ext cx="23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Live For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Live For Jesu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Live For Jesu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Live For Jesu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ive For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7480" y="6488280"/>
            <a:ext cx="23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ive For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ive For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ive For Jes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ive For Jesu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Live For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7480" y="6488280"/>
            <a:ext cx="23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Live For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ive For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Live For Jesu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Live For Jesu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18:47Z</dcterms:modified>
  <cp:revision>28</cp:revision>
  <dc:subject/>
  <dc:title>Slide 1</dc:title>
</cp:coreProperties>
</file>