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080-CD2E-4B1F-A39E-67A336C6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FA3-7126-4726-886F-34270B30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5A6-1630-4E25-AB22-2C7E9BF8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80-B156-4B89-B4D0-A2EB4E42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B467-1A52-4484-9DB1-BBF10B3F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166-DCD1-440C-A56E-B7A52EE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C34E-F968-4835-B6AA-225D8B76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E74E-B47C-4181-B5C9-98809107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95CA-5066-42BB-89D2-4B7E82C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55A-C2BE-48A0-A49C-0ECC57C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1F7E-CE6D-4B19-BE5B-A4D41EF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4D9-2433-4285-BF23-ACB2EE8C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D825-9FC3-444D-9E4B-7876082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976-F5C9-4C45-BEFB-5894D37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E239-902D-4C3C-B96F-B35C23D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42FB-C36F-42E9-B31E-2583AF72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462E-389D-438D-8263-BE1B8CE4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F7D-C275-45D5-8D6C-D689F4F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D9F5-9D3D-4E22-9E4C-E70C3F49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C043-CB42-4CCA-B8DF-14299BC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27D9-B461-4437-9B1E-697A5D3A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ED7-55BD-4894-B0F0-D3E4AC0D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36DD-5FA7-43B2-B92C-A500D65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AB37-579A-48F3-9A3C-D39C703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6D3F-422D-47F4-A0EA-120BDCD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2E41-0521-4C4E-8BA8-40526AB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5522-863F-4C55-B63F-6551886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B35A-C711-4470-B144-C0CBF4C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AEE4-51E4-438A-A2B4-2FE2255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8795-5FE3-4B28-8096-FB885027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48DB-DA2D-40F1-B09D-091C17AC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0FA-81EF-4BEC-8572-C3588AE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E53-B00B-467A-BB08-E4C578F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56A-DD46-4FB8-BAD6-9ED9D71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D4B-D613-44D8-9750-4478A09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B0E-583A-475F-8611-5DB0694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37F2-F0C2-4F9C-86C6-8AF8BA525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FBA0-5B22-4AAE-8104-368419D2C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A0B-9EB4-4D45-9C44-E87621CE7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We Come Before The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ammond (17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H. A. Malan (18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We Come Before Thee N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We Come Before Thee Now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We Come Before Thee Now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We Come Before Thee Now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We Come Before Thee 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We Come Before Thee 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We Come Before Thee N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We Come Before Thee 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We Come Before Thee 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We Come Before Thee N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We Come Before Thee 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We Come Before Thee 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1:42Z</dcterms:modified>
  <cp:revision>29</cp:revision>
  <dc:subject/>
  <dc:title>Slide 1</dc:title>
</cp:coreProperties>
</file>