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A74-2536-40CA-80F8-D42A9F67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834-4E64-44DC-A195-8EF9A8FF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79D-B972-4EC7-B5D9-2EE4F06F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E80-E234-46A0-9A23-DEBFD064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34B0-9DF8-4AF3-9900-1B930DC7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C5E7-A35B-4047-916B-74C30026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6B3-5BAF-405A-9801-FDF59E19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9E1E-A93B-4EC7-870A-98A1EA20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E679-C1FD-4F24-B656-F68A4A1F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4AB-A409-46DA-93BE-BFE204E5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780-50F8-44A6-8ADF-CC2BAA0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FBD-D48B-4309-B94D-4968E09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88B1-CFD1-4883-9C91-613ED210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5E6C-C4E8-41C2-9C13-2BD50F2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1CB-30E2-429D-82CF-BCE178DB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8AE3-4F16-4E28-A7DA-4555FD88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B403-2C41-4931-B09F-0454D26B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BFD-F46B-4FB1-B5EC-42AA52A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4E64-F0CB-4E29-A452-08D609E1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0254-6238-4A98-B962-1578D76D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C983-524B-43FA-9D8B-C1A8914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643-6C47-4B2A-A167-B926323E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19BA-F505-47F9-9D48-A2A2BC09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558F-A692-48AE-A404-126F263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68AF-8911-48CA-A36F-883B1F2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AD08-EF63-45A0-A845-FD89492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0728-73C5-4D70-8B64-E3D7EBA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13DA-9754-439D-A2C6-72EEE43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5EEE-B641-4EA7-BDF0-6B890226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5111-27A6-4138-BA05-C11802C6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7188-E9FF-4DD3-955B-E79B7B9A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835-5249-4862-9CF8-310251F6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29D-F883-4999-99AE-C7E26A34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7C9-7BDF-459E-92E9-DFFD8DA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EAE-86CE-46A1-9DB8-4FAA0B3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148-7898-4941-8B11-4BD4481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CF97-A7B5-44F8-B7F5-6EBF8D2C4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D48E-7E6F-46E2-A95F-69471ABE7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FA2-A04C-4DAA-B9EB-5C1A01C6D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Him Have His Way With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is Way With Th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yrus S. Nusbaum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yrus S. Nusbaum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Him Have His Way with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960" y="64882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Him Have His Way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Him Have His Way with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Him Have His Way with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Him Have His Way with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Him Have His Way with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Him Have His Way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Him Have His Way with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Him Have His Way with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Him Have His Way with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Him Have His Way with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960" y="64882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Him Have His Way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Him Have His Way with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Him Have His Way with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Him Have His Way with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5:10Z</dcterms:modified>
  <cp:revision>26</cp:revision>
  <dc:subject/>
  <dc:title>Slide 1</dc:title>
</cp:coreProperties>
</file>