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340-9A8E-48C6-BE88-B0729266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84A-8414-4C61-82B5-822270AC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D60-23C2-4EDF-A0A0-DD35D9A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645-362A-4F37-A987-9E16631C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339-A2F5-46D1-9914-626572EC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EFD2-151F-4F19-8F9F-62779D4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ADDE-31C3-411C-8BB4-9964E72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4CF-3742-41A0-8969-2FB94700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363B-D132-4F1B-9B65-F6499A4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5A31-31D2-4197-870C-3BFFD84C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FC7-BDBF-40DB-9F2A-E8F5804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B58-3D2E-424D-AE80-82F83E14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166-6B36-46EC-88B6-6A069AF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DC7-6B7C-44F1-AE4B-83AAA7A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131F-24E5-4DA6-BB0E-5335ADD8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01A2-9214-4B41-B5EF-66B406EF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15DB-404F-4484-8B80-5523856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DD2-ED86-4A19-BC32-B1587BD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CB8F-AE26-4763-BDE4-AA147604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6529-DAD4-467D-A704-635B64A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6E6F-BE47-495E-8DB8-5EC47E3E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A09-D4F2-4A96-8175-8326045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D03B-53F2-4C9D-B541-520E73D8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8FBE-8F1A-42AD-87D8-66FA551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E41F-781F-44AE-ACD4-AC9DFFB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B573-3C37-4FA4-86F9-0EDBE348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6039-F442-45E3-BEEC-C2D7D7B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038D-477D-4895-B54A-F036B0A5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FC95-4EB6-4CE2-8292-BCF9700A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DDDB-E343-4CA3-89C7-A9E8B730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4A30-0310-4DEC-AD26-7D34C1C6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641-8A78-4292-8527-9ABF3032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97B-B995-4010-BF45-89A0C28E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B9C-8BE2-49F7-AF2C-B5617FA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509-488B-4B2D-8C7D-D19CED1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7B8-B42B-47D6-B990-F9001F0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D63-F9A9-4975-B194-C15273C1C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BAE0-CAB6-4D4B-B205-FA1B56604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EC1E-D381-4E7A-8495-848C4B18A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Will Give You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ill You Com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Will Give You Rest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Will Give You Rest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Will Give You Rest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Will Give You Rest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Will Give You Rest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Will Give You Rest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Will Give You Rest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Will Give You Rest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Will Give You R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Will Give You R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Will Give You R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Will Give You R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Will Give You R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Will Give You R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Will Give You R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Will Give You R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8:40Z</dcterms:modified>
  <cp:revision>31</cp:revision>
  <dc:subject/>
  <dc:title>Slide 1</dc:title>
</cp:coreProperties>
</file>