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A4F-F965-48C8-A4DE-3D28F4E7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7A7-F80C-4A21-AF85-C36A8E7E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5D1-80C9-4BD6-A162-478BAB40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363-EAB0-4B73-8914-FF40707E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DD7A-16E8-41B3-958F-70E55858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DAA1-EDC3-467B-8B84-4ED5A555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122C-6563-4D2C-BA50-F33AD838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7779-A782-4421-B23C-70507F5F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BCFA-01C0-47D0-B7AF-083882E1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1669-2375-4169-8A98-8BD48345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6BF4-AB3B-4AA1-85C6-778F8A1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0CC-6404-4FEC-B421-860AADA5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C541-C3E6-4616-8FB2-A846562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8128-17E1-4229-94D4-A689BE71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DDFC-9A95-4E7D-901A-FF7ABD4A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BAA4-02D7-4108-9555-D6E56F88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19F5-529B-43ED-974A-DFD39B1D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1FC-1DD6-438B-A24C-28853E0E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BC9E-CBD2-4836-9140-EDB4EB8E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6BE3-D643-4BBA-AE8E-3CA5F2AA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1099-79CF-4A54-8A11-E9407DE2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03B-CA32-4BD2-A94A-DDCD28A0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E979-EA8D-4240-8C3F-3A5B525A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9B72-8984-4A9B-986E-E55FA786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35A5-B6C8-42A8-99B0-E4C2ECC4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EF02-05C6-4D76-926B-851324A0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7A59-238E-4F3E-9AEA-4CD0220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5F08-AF3D-415B-9721-7003359C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822A-D38F-4FB3-AA10-AAAFDC95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B9A9-37D2-4F83-9C52-88385F97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4E2EF-F2B9-402F-B8FE-78C1ED78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90C-31FC-4322-883E-0124E2CA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CF3-64F5-440C-8C69-D9EF266C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2DB-57CE-49EB-807F-009B0126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D5F-F0F4-445D-88FC-809C7527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05B-7C33-411E-A53C-7065D9F1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95CA-78A2-4388-A7A2-616E53022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B7F-4B51-4A23-873B-46E98214E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B874-985B-4D79-84C8-595E670AE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REF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P. Holbrook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Lover Of My Soul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Lover Of My Soul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Lover Of My Soul_arr1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Lover Of My Soul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Lover Of My Soul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Lover Of My Soul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Lover Of My Soul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Lover Of My Soul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Lover Of My Soul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Lover Of My Soul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Lover Of My Soul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9:18Z</dcterms:modified>
  <cp:revision>34</cp:revision>
  <dc:subject/>
  <dc:title>Slide 1</dc:title>
</cp:coreProperties>
</file>