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89C-91DA-419C-A993-5FC9B569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EEC-AB6A-4F9E-8B85-430C2D5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5E3-B029-4175-9DF1-92DF0B9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21C-8A4A-4499-9A6B-587F6DD1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9FB-F521-4D2F-92E0-8255DF0F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D2BB-8C7B-45A0-B7B6-F9DE07F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6D9-2048-4A74-AEFD-47ADCEBA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1ED-97D8-4ED4-ADF3-7B934A4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F384-2A1C-450E-8DAF-D0582FC8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E394-B933-44F2-93BF-428DE07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C887-CED1-4ABD-A7A4-51CD23B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02A-4CF7-4363-9CF5-D0D25222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A69-CC66-4E22-9353-5878BAF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F08-7EDD-4DDF-931B-BB80AD6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9BF0-94DF-41A5-9B27-DC80BA5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8F86-739A-47E7-89E7-04DB8F99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A3C4-D274-4F1B-9F5C-CB71891E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568-4200-4908-8D0A-CF9CF1EF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18F6-F2C7-4D11-B15D-1B702847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E748-421F-43A0-B17F-9F4DC6F1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18C4-EB55-4A50-9553-D74D839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8E0-2988-45AE-8419-04696EE5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FDF4-6AB9-4C14-ABEA-16DFFB41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425E-BD76-416A-8FDD-0F21C3B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4B69-8D53-4703-9B39-695CA241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45F7-7AA5-4220-BF23-35A322F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DB64-AE62-4B11-84C4-420DFA1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329A-0DE5-4080-A4D7-C610C9A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85A7-6F71-46AE-B803-CAF44327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2AA1-02C4-4C20-A8E4-E32D0111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BC8A-2C92-4BA5-9414-20B95B3F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061-A924-490C-B157-68B7B5A1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4B8-6C5D-4CE2-8D2E-B2BF0105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346-8A34-45BF-BCAC-CD7CB04D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2D1-F34D-4E05-B3B6-AF8937B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414-AD87-4C07-A0C6-880B053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89A9-3BCB-45B3-AECD-F5F16A088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2AA-679A-43DA-8051-65746C71A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B36-6151-4795-A094-5E2435A82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I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ut Of My Bond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Sleep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 Co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 Co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 Co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3:33Z</dcterms:modified>
  <cp:revision>39</cp:revision>
  <dc:subject/>
  <dc:title>Slide 1</dc:title>
</cp:coreProperties>
</file>