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177-D8EE-4FE8-BD36-943D924C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DF1-DF63-42F1-B7C8-9C2140B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BFD-0346-4B75-99C9-AA53780F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3D9-112F-4EC5-9FCB-E2FCD5A2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7E0-7922-4459-A147-4F557B15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A56-5097-4338-88E0-6BAB981E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6F2-348F-4CC2-A74D-2ACAEB2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E636-12CD-450A-AD20-89C5E4D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9B8-5284-43F4-856E-150D2FE5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67AE-1652-484F-BE68-560207A2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E1FE-DCF4-4B3A-AFD6-1E06A91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544-53A3-4317-B356-B67C94F0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1D23-B4A3-472E-973D-22058CD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01F-9EBF-432B-98D7-9CB9EA72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0F12-9B86-4708-839B-A863F761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7C6E-D4E0-436C-838B-2DD7CD25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6D79-F788-4FCA-8D33-9818D39F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9EF-E89F-4CB6-9333-51F2B92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61CB-BBBF-4007-A1E6-1D960322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0899-E642-4A74-B392-1407A114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7E51-117C-4087-BAC1-68BF5770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FE3-33B3-47B9-94A7-9690D63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C5AB-EBBB-49C2-AA50-305BC3C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E427-DDA1-4728-AA74-A97AB056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2439-0649-4740-B698-20B5446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4981-A1AD-47F7-82C7-FCD54FD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251C-6F7A-4B83-A345-F86913B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C191-1859-433E-89B1-149BD46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B2D9-ADAF-440D-A4E3-6441104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9FC2-8850-4E0E-AE26-49B862C4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24F2-546A-4AAB-A731-C8A7F2B7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C8D-C5EB-492D-8634-700536E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3AA-1238-493E-ACE9-F22FE1E1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F6B-E4AB-4F10-94E6-F984B09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100-C578-4418-9A22-A063969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D3F-DAF4-43DE-B06D-60C9F47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BF4-AE99-4CCA-AB0B-FF17F53DB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6F23-D6A7-4A4A-8828-6DF0D84C4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FD8-A053-4197-A3ED-BAA17DC6E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oy to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NTI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nson (1848) based on Handel (17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oy to the Worl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oy to the Wor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4240" y="6488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oy to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oy to the Wor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oy to the Worl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oy to the Wor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4240" y="6488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oy to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oy to the Wor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oy to the Worl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oy to the Wor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4240" y="6488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oy to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oy to the Wor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20:34Z</dcterms:modified>
  <cp:revision>34</cp:revision>
  <dc:subject/>
  <dc:title>Slide 1</dc:title>
</cp:coreProperties>
</file>