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A79-F479-45C2-84CA-9C8A3DF5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AE6-2572-4485-972B-F437D7B8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C77-92F2-4675-BE8B-9CAD9564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448-0A8A-4725-ADD6-24E441E2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D289-A1F6-4613-B9A8-748C7285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8DE0-107F-41B6-A042-978EAB71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2B67-AEB8-4E67-8A8C-68845474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42A1-8682-4E49-972D-D15775FD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3313-32CD-49F9-BF37-B584C38C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641A-5D1B-47E1-984F-1970283B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D6D9-0717-42DE-8DA9-64AD2729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1D4-79EC-4814-B77B-E2CBDC8E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5655-9042-4841-BA05-E3F7A141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59DA-824D-4FDD-8200-288823A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3CFD-13FA-4C53-80E8-7C5F8304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DB5E-0828-4F62-8DDF-B5F8F50B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2152-5DE9-4125-A0B6-2E32D43C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F41-0746-4FE6-9D45-5E8E3082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3F9C7-9987-4A16-AE71-A32E6412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A4863-511C-4F18-B94A-70E6A9A4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111E-F345-45E7-8A29-CE2CFEC0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950-FDDC-49A0-9052-5EAD88A0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C24E-55B1-4712-9FE3-E819D76A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0102-F3DA-4749-BDC4-C8D5F496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39AF-8F43-4F41-8FAC-E9CD9F68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EB1B7-3CEB-4A4C-BDD8-30583046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DBC37-0945-45DA-835D-EA11E2BE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14D4-B081-4041-A6D0-DBEED70A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7C7A-E11D-48D7-B83D-EC6E11C0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B5871-D78F-441A-B2AF-DC3678B3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31A0-284D-492D-B558-9819AAE8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4CA-C97E-434A-8DB3-57FF564E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A04-C054-4BB9-B03D-11C9918D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F8A-5141-4255-9ACB-7C9861EB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874-9EE1-4A64-865E-FDA84AEA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872-0F58-4440-96F8-D6237D7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4A6A-C6BE-43D4-A7AE-564B8EB1A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8A30-B0EA-4757-A544-4424D55C9F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D4CE-8DC5-4E5E-B0B3-7C2AF5A49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Loves The Little 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larence H. Woolston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F. Root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Loves The Little Childre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0040" y="6488280"/>
            <a:ext cx="41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Loves The Little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Loves The Little Childre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Loves The Little Childre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0:47Z</dcterms:modified>
  <cp:revision>30</cp:revision>
  <dc:subject/>
  <dc:title>Slide 1</dc:title>
</cp:coreProperties>
</file>