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FB6-B2C4-473D-B32D-F0C4E581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46B-FF43-4D62-B2FD-D9030157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A451-7559-47F8-A0CF-5BD4945A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1E1E-2955-470B-BA2E-F72FDFC7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A1F8-850E-43D6-B73D-296222F8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4871-52C3-4705-82E3-9D04A375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2BE4-C087-4E01-883F-366AF57D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3523-316F-4C83-8869-0871AA8C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1074-B9D2-457F-A44A-E04D5122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63FC-FB8C-418A-B9CB-0A03A40D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603B-9299-4F6E-96B9-CAB5C930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DAD-6026-4A1C-BE99-9644B804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30D7-1761-4B4F-B30D-0BA9AE69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84C1-9993-45D8-9443-90EEE472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41BA-ED4F-4A86-90BA-D6DC428D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8381-AD6C-412E-B9E7-3590FFF6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3723-04A1-476E-92F5-89BB6C52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AD5F-BBF4-41FE-A33D-EBB0575D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38F38-CCD5-4DB4-B84C-79EA274F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671FD-2EEB-4BE1-832F-1DD6AAFF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EC37F-4B08-413A-B6FB-999D1A68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9A5-D732-4F2F-9C19-62861993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10CB2-0CA1-46A9-8A91-2E81FF48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B16D0-9A6A-46B8-A7AF-5DFAB52F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424C4-0AD1-4A68-BB7E-973B81F6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DC89C-45E7-4512-9FC2-D2FED310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CA11C-83A7-4A32-A01A-BAD78673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1D25B-EE4D-4CCF-A61F-E99F3B44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A62F6-C944-4E92-BDE9-3E2CF13F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3EDD9-B1EE-4B0F-8DC0-89E154F4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B3767-E466-4568-B0C8-D16B652E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431C-F889-4BD8-AF2F-928FA353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BE14-16BE-42F6-9B9A-D1AC38DB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2E2B-76DB-4F53-9561-CE8B2CF8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F7C8-5CAE-4952-89BB-43ABC1A9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6C9D-4D7E-48F9-95EC-0EF5D939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151D-7AC4-48B5-82A7-9E6890862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3752-FC2A-46A4-BC68-78BC01BBE5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E8C9-5B8D-413A-968D-7069CD254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ust A Closer Walk With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11312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Hy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Melody, Arr. by Mosie L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ust A Closer Walk With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9240" y="648828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ust A Closer Walk With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ust A Closer Walk With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ust A Closer Walk With The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ust A Closer Walk With The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ust A Closer Walk With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9240" y="648828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ust A Closer Walk With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ust A Closer Walk With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ust A Closer Walk With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ust A Closer Walk With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ust A Closer Walk With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9240" y="648828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ust A Closer Walk With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ust A Closer Walk With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ust A Closer Walk With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ust A Closer Walk With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51:02Z</dcterms:modified>
  <cp:revision>30</cp:revision>
  <dc:subject/>
  <dc:title>Slide 1</dc:title>
</cp:coreProperties>
</file>