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CAB-47CC-4457-8ACF-AFF21983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572-50B5-4094-93CD-1F8E3BA8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67A-4139-4B09-AB74-792C65A3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A97-9E68-4B0C-8646-C009CE70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EC13-3878-47DA-905F-F7178873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9F03-4E2E-4883-8AC3-1397A42E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D386-9AF3-4D2C-92EF-E94795FD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E737-CDCD-4626-96EA-B131553B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D37C-D471-420C-831B-B026CDC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9C70-ED4F-4F17-9796-B5DC9357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319A-B593-4F24-81C7-84F52582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2BF-567A-41DE-B2A8-A6BC6482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C128-F2EC-400C-9026-FC0BCEEC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AA6D-0D81-45A1-BE75-B7F6A1C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9AF4-EFB7-4707-AABE-E995F975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BE30-03F8-48EB-AAC8-E2EAE5A5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A7BF-59C9-4324-91FE-BFDE5086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3CF-95AA-41C9-AA60-8FC6DC62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9E7D-C841-4A87-9322-7A9F39FE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96D4-1190-46D4-9D14-33245D6A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C6FA-9F32-4D92-B3FF-0FA76C76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FAB-6A63-4BCE-AA01-418A007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D93B-AC54-46BF-AAA9-1CF34E2C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E299-6DFB-4DA7-B4BA-5EFAD1BE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ECF0-1068-41BA-8D70-073006F0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6DD4-7F9A-4CA1-BEB4-63408041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ED10-2717-4A4A-AF13-A8F9E74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343E-DCF0-4B58-B760-D313EE8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5663-2231-4894-AE76-7C8E637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A9D3-88C9-42FF-917D-523CEB2E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1F7E-8DAD-43CA-8627-4B075A45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2AA-E4BC-4F34-B83D-4C6A5B7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EA9-0D52-4D66-974C-59FE6C7A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EBF-07BF-45F0-9E39-71043ED8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3A4-E38A-48F9-AF03-8233685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13E-44DC-48BD-ABA0-1467E6E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7BBA-3577-4A54-872C-CBEF398E0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86A8-BA08-4035-B998-0D1DDCE60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2CEB-5127-4DC9-B968-6320730D5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oyful, Joyful We Ador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YMN TO 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van Dyke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udwig van Beethoven (1824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Edward Hodges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oyful Joyful We Adore Thee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4920" y="64882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oyful, Joyful We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oyful Joyful We Adore The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oyful Joyful We Adore The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oyful Joyful We Adore Thee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oyful Joyful We Adore Thee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4920" y="64882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oyful, Joyful We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oyful Joyful We Adore Th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oyful Joyful We Adore The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oyful Joyful We Adore The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oyful Joyful We Ador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oyful, Joyful We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oyful Joyful We Ador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oyful Joyful We Ador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oyful Joyful We Adore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oyful Joyful We Adore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4920" y="64882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oyful, Joyful We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oyful Joyful We Adore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oyful Joyful We Adore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oyful Joyful We Adore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0:28Z</dcterms:modified>
  <cp:revision>19</cp:revision>
  <dc:subject/>
  <dc:title>Slide 1</dc:title>
</cp:coreProperties>
</file>