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4D5-28A2-441C-A500-21AB7827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C66-CC61-49CD-AEF2-FAEC020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1B2-CFAA-438B-B9C6-6C2BD302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56D-D158-426C-A51C-B1B3303D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9B0-C382-4407-8F41-715619B7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3AB-7E42-435B-8829-15B43F2B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A997-B18E-4848-898E-EAA53795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40AE-B434-437F-9D46-E5FDDD2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633-E671-4B14-B3D9-2591ACF5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0655-B26F-4B67-A9B7-35C6508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FE1-316D-4E37-A4B3-5B4D943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614-25FD-4AC2-AA20-58C9C855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1994-DB33-4DD8-BF5D-9AE2205D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3B01-4E3A-438F-A4BD-7B2A63E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FE8F-2E22-4D55-B848-836AE9F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2543-2BD4-48FF-80FD-2949A7D1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FCF4-D642-4546-86C0-8DD6476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933-66CC-4489-ADEF-12626BD6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5F2B-60B1-4C29-B99E-C39CF941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2912-37F8-4443-92F5-B5A1D23B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0D93-6EDF-4F14-9C02-A9E84AD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CBB-91F1-4516-A0FE-45B56E91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6CE3-8A12-49C2-A130-04630DE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64C7-314E-49DC-829F-A540A67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EE4A-705B-4C03-B274-C89A80F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7239-17D8-4AD0-A188-D635D8E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544B-A640-4DF6-BE6A-2FDBA5C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DFFC-35F9-475A-AB9E-04974D7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957E-3F15-4D40-9FBA-D2B465C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657C-CADC-4F86-AB20-9D1CB1FD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3DF8-6193-4A09-A103-E20ACF75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2DE-2910-40D4-83C4-6E5FD072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10F-DD80-474B-B091-9D4A4F50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902-8125-444F-A33D-FE5BD88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D7B-6DB6-466D-82B0-73835C76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42F-028C-4C32-B598-06E5FF7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9D8-F6CA-4EEC-841F-AFCBE80F8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149-BB5E-4432-A51F-837BBDE3E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CEC-6E35-4C0E-B4D8-9478A285B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Tenderly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Is Tenderly Calling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Tenderly Calling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Tenderly Calling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Tenderly Calling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Is Tenderly Calling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Is Tenderly Calling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Is Tenderly Calling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Is Tenderly Calling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Tenderly Call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Tenderly Call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Tenderly Call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Tenderly Call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Tenderly Call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Tenderly Call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Tenderly Call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Tenderly Call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8:30Z</dcterms:modified>
  <cp:revision>29</cp:revision>
  <dc:subject/>
  <dc:title>Slide 1</dc:title>
</cp:coreProperties>
</file>