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C9C-0F71-4E4C-B5F3-4F952882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589-96F8-4BEA-BD93-885A98F5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BC5-5D71-42F1-9484-86FE2B76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409-014C-47B2-A251-E9BE62F8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7C09-6D7C-4FF2-888D-00C8B418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1BBE-AEFA-452A-BE65-411434D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A4B1-5726-44B2-9A4E-A27A203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FC45-56C8-469E-BCB9-E8BDCCEF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2C5-60F2-46FD-B360-2B307395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CA99-6FAD-4F41-9C38-6FB92D2F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2F0E-8220-4037-BB25-41424D7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E9D-9D77-4202-9D17-0794934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AA2A-564A-4AEA-A8B4-300482F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6723-AC11-40D5-883D-025D9902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62E9-98F3-4BB3-AF8A-5A4CBCFC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EB0F-3B12-4A2B-AE7C-694F30EF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AD7B-0A4A-4B7F-9811-4659CA0B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CAD-12AF-4DA5-AF91-1262EC88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5024C-28FE-497D-AD5C-777C2726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2A0A-B1F9-4C11-BA44-8614A742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E67D-108E-4CDF-BA2F-286129F6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ECA-24CA-4B14-8496-87169874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0FD4-8418-417F-AD90-6E9A4D8F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C163-26F9-4013-AE1F-B265E704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12DA-F2A6-4C33-87E5-2D0EC2D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D593-9C49-4676-A12E-B0B0A61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364C-2281-4E19-9D16-0509F29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F8AE-4630-41E7-A75E-DBDCE385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F62C-26DC-48D8-8B1B-7C5688F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828A-C5A4-4FD4-8174-016BA4A7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0A3A-2731-4D94-BB35-EFA3EC21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39A-1C6A-41B9-A853-4B457DA4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DCC-E27A-4480-A52E-2D06D67F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433-24B7-44C7-9101-07B8653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76D-4549-42E4-8297-DA8D3DBC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778-3EB7-44CE-B101-41B05C8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0FF3-742E-41D1-93F8-137014126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E7B4-28B8-4F49-8146-1D55D5B49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41C-934B-4391-B9C2-58D419A0D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C. Bonar (18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E. Perkins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3800" y="648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Mi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Min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Min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M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800" y="648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M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M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M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Mi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3800" y="648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M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M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M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5:34Z</dcterms:modified>
  <cp:revision>31</cp:revision>
  <dc:subject/>
  <dc:title>Slide 1</dc:title>
</cp:coreProperties>
</file>