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215-2A85-4E50-A286-C04BCF17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FB5-6F55-4FA6-A7C7-CB4FFD23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306-2932-4749-9FA0-D39B7C13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66F-CB6C-4D4B-ADA4-C23E90E4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6D7E-F48C-4C50-A6B6-0DFE672C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171-56A3-423A-ADE6-A5D2091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82B-DB19-4784-A44D-94754386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3FB3-5E53-4D6E-A253-F70D98C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23B-156F-4286-9898-3537566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84F5-00BF-4F42-83D9-2EDFA21B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44B0-4098-44CD-BD3C-4B9A9B7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4E4-DABD-4720-960F-AC3A876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D65-BD30-448F-B403-A0E0C02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C81-C9F5-40AB-83AF-D2E30D8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509-B236-4890-8130-577EFEF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465-45ED-402B-B655-2016299E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7611-F1C3-4B60-8210-0FA6DF6F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C75-4400-41FA-8F28-5723642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49C1-8408-499B-99E3-3D5571BF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8BCA-9549-4621-BFD5-54486B98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9DFE-7B2A-4523-84CD-344F5D65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E51-BFE8-45CC-9FA5-A9A3C76A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A34D-16F1-4548-82F2-DD8164F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B0A1-50A9-4F49-86A8-70F37CB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9486-D590-482D-AD76-6EFEF042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D1E0-C720-405E-869C-56D27FC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7A74-26B8-4A45-9E25-2DF1D79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8A82-93CD-48DA-BD70-EE106C5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2F74-C228-43B2-AB73-273FC2DA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4D33-DCF3-46DC-8935-C2161CBD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29D2-4302-4653-B15F-0FC47217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AA4-4559-4CB1-9289-072FA28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CC7-B5FB-4419-8009-C35E8C5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EF1-B77D-4CF9-8182-D010925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BE6-7035-42BC-B801-BD619A2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416-A085-4E80-9F0C-89F197D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9B67-E1DA-4367-BE8F-7FE6F0995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1549-FFDD-41CB-9ED4-99C8B716F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03B-7ACB-47EE-AD8D-DB8DF5173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e Very Thought of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AG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rnard of Clairvaux (1150); Tr. Edward Caswell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Dykes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7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The Very Thought Of Thee_arr3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The Very Thought Of Thee_arr3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The Very Thought Of Thee_arr3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The Very Thought Of Thee_arr3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The Very Thought Of Thee_arr3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The Very Thought Of Thee_arr3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The Very Thought Of Thee_arr3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The Very Thought Of Thee_arr3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2:37Z</dcterms:modified>
  <cp:revision>35</cp:revision>
  <dc:subject/>
  <dc:title>Slide 1</dc:title>
</cp:coreProperties>
</file>