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DBDC-EA92-4B1B-A718-6F615A742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4EF1-9402-44EB-AEC2-497E83943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3E55-87B2-4C4B-A6FC-77FF23894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46F6-3E55-43EC-BC86-3E8A47BE2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E0B1D-FA68-4AA5-9380-6E2B973B9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D6F07-333A-4FDE-AFE3-3841FA60B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1D0FF-F11B-473D-A26C-3278E06E7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02E7A-5A27-42B4-B43E-A4F969D83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E5569-00CB-4A42-8E89-1496432D5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39C64-6987-4863-B295-5400C5608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CA95D-2991-4D9B-92A7-A4EAF3AB0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677F-EE67-40B0-AD72-CE113B7F3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B6286-041C-4BD3-A135-E13693C7A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82BA2-C150-4C5A-8AF7-3F9D179B6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11F83-401A-4569-99FD-29E4555FF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FE07A-0B59-4D11-BEB7-2AE2BC2C1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8AA61-27FB-461D-875C-704E904F7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BCC2-07BC-41D7-BB20-DBEFFFBD3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471EF0-9501-4AAD-98CD-D1988B2D9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3CE01E-6B51-4C42-B562-6B8029BD3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551F34-6CA5-4BEF-8783-C41D37430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D446-061E-4644-B4EF-221BD355D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85AFDE-34E9-4C1A-B03A-F1B1D3E13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A668B6-1A40-4727-8EFD-D368B8C46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B942DE-0DC9-42DD-8D49-718490412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70D957-C3DF-4FD3-A426-5CBF9634D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5691A2-7AA6-486B-994F-870846FA1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C76C59-ABE6-40D5-A7B5-49AA761F2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124434-2FA5-42F2-B87F-9A5BCCC1D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59A3BA-F618-45CD-947D-4F1904AFA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92E6E3-8008-467C-AA74-819C43909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961F-E0A1-4B4E-8474-5B1000776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872A-0906-46AB-8642-BA86D7FDD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261A-F292-4BBE-9432-FD7D82BA0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FBE7-8E07-4459-B11D-1EFEAC3FC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3149-489F-4A27-9CD6-0A580955C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867B2-9488-41E3-B6FC-1D92CBF0D0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F4861-EE4C-4F89-901B-304C278E653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0E5FC-3A38-4930-89E5-94E70CBFC7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Jesus Paid It 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(All To Christ I Ow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Elvina M. Hall (186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ohn T. Grape (186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22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4" descr="A picture containing timeline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95760" y="6488280"/>
            <a:ext cx="253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Jesus Paid It 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Jesus Paid It All_arr1_v5o5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Jesus Paid It All_arr1_v5o5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Jesus Paid It All_arr1_v5o5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Jesus Paid It All_arr1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95760" y="6488280"/>
            <a:ext cx="253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Jesus Paid It 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Jesus Paid It All_arr1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Jesus Paid It All_arr1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Jesus Paid It All_arr1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Jesus Paid It All_arr1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95760" y="6488280"/>
            <a:ext cx="253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Jesus Paid It 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Jesus Paid It All_arr1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Jesus Paid It All_arr1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Jesus Paid It All_arr1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3T17:44:03Z</dcterms:modified>
  <cp:revision>33</cp:revision>
  <dc:subject/>
  <dc:title>Slide 1</dc:title>
</cp:coreProperties>
</file>