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805-493F-4377-BC96-8FAD0896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421-3D3C-4A59-B6A6-BD186BC0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6C0-C45C-4307-BBB5-207E8FD1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C54-4FD1-4321-A8D2-6AEAB3D1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11C7-3258-4B91-B340-9B018D2B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B076-0DAA-4194-ABE0-707F1210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329A-515B-47DD-B467-59D9BC97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B831-B74F-4EBE-B7D4-E2145F3F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6E41-F4C5-4BA0-9B8A-527FCC4E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CB69-2145-4DFD-8EF4-2582F799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0CB9-86A3-4614-9942-613A390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496-7ACA-4378-8951-C6A8B6D9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EE10-2BCA-4CC1-B631-C106CC1E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0C5E-EDA3-4061-BAED-A44A07B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CA28-FFC8-42C0-B014-7F3730E9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401D-FCBA-4C54-8A84-251204A2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282C-E6C8-464B-BA53-886F4A47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B2E-34A9-45D0-A3B9-A74F322A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3AB8-D5AE-4EFB-84C4-D1213D39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52194-F984-46A1-8D9A-87955385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1382F-894B-4DCB-894F-D2CF3545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505-0ABA-471B-B3E9-A3C878B2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A8E78-9555-4110-984E-CAF628AF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1BA5-E502-4AD7-AE6C-4EFCE5F8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A8413-AB1A-4DA7-939B-DE222C55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526F-4610-4661-8E60-82FFEB27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2D66-52D3-498C-9237-824AA244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9953B-52DB-42E3-8EA7-7C8E41BF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B23B-9B9E-4405-B077-1C0C0A2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047D-3D49-4AA5-B991-EE7C366B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FD37-34EF-4D5F-88E8-4428F3A7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DA4-F080-4CBF-B036-080F10E2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077-EF9C-47EB-8BBA-7387BBAB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960-7C35-4BBF-9BFB-63BAD054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B79-4186-4FB7-862B-5FC50D37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BE5-4711-40A9-8948-8C5DD748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9E1-1BA2-4CE0-92D2-0E4BC35B9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5723-02AE-494A-9BA0-F9D45EB96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2A60-184D-4A99-A5FA-F6361D964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Paid It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S. Shaffer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Paid It All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Paid It All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Paid It All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Paid It All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esus Paid It All_arr2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esus Paid It All_arr2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esus Paid It All_arr2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esus Paid It All_arr2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Jesus Paid It All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Jesus Paid It All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Paid It All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Jesus Paid It All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Jesus Paid It All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Jesus Paid It All_arr2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Jesus Paid It All_arr2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Jesus Paid It All_arr2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Jesus Paid It All_arr2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Paid It All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Paid It All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Paid It All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Paid It All_arr2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Paid It All_arr2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Paid It All_arr2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Paid It All_arr2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5:36Z</dcterms:modified>
  <cp:revision>26</cp:revision>
  <dc:subject/>
  <dc:title>Slide 1</dc:title>
</cp:coreProperties>
</file>