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CEC8-1B95-45BD-B831-57617A135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F542-6516-4108-92D8-DA770371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0F2C-B3EE-443C-971C-F3DEEB6F0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9198-D27C-434E-A28A-AE6E58023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DB67-D759-483C-9D96-B844D7B4D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C25F-C0A6-43A4-8E86-06478D02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7325-8873-4C9C-B0E4-FBD09365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403C-54D0-41C9-A24E-119C5E63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DC63-F8ED-4105-AA94-5F3C4209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3D93-3B97-443A-BA1E-81C359A1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2A64-7D0D-494B-A184-65AF9281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ED2E-A625-4614-AF51-A62A251F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430B-E37F-46E2-ADF8-69212FE7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FE89-9B41-463E-826C-9B5269B4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BDD8-58C0-4E40-A6E9-47BDEE3C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D8F0-B72E-472B-9E65-4D70503C4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DCC0-B5DA-471D-A5DC-1903C2455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EA17-D1B0-4B2F-B284-0D55D6CA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A892C-DC9D-4CD5-A007-31E1326E3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01B97-C573-419D-9770-CCE2F30B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A07A9-3894-4EC7-B7A3-B08C3F65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32F9-6203-4B3C-A1AC-00FCA904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5C084-37E3-48A5-B090-562807B8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47C76-6940-485E-82F6-C986A80B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6C446-D197-43AC-A550-3FC613A7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74E8F-6D20-4985-8C41-8E531CDA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2A377-0BE6-4845-81E3-B13A1F92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4BD16-6C4E-49AE-AE07-D89C0643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2F3B5-E8F2-43E7-B79F-64AE2C17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B8146-120D-4246-81D2-DB3C372AA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CBF85-66B0-45C2-8017-921ADB9C2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21C2-3A26-4027-9FED-9BAAF7FD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B2F8-F04C-43B1-A959-FADD8717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2423-4059-4317-9EB8-B75F99B5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951C-D12B-40A1-8C3B-A88E1E72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BC73-7DC8-4276-8903-77E0A4CE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4BB7-2449-4C59-AE55-0D6790A390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E283-4F1E-4F2D-8DD4-D68311555F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FBE5-FEE6-475A-AE2C-DA4F56DA57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Jesus, The Loving Shephe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A. Ogden (188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A. Ogden (188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Jesus The Loving Shepher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Jesus The Loving Shepher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Jesus The Loving Shepherd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Jesus The Loving Shepherd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Jesus The Loving Shepher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16280" y="6488280"/>
            <a:ext cx="38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Jesus, The Loving Sheph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Jesus The Loving Shepher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Jesus The Loving Shepher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Jesus The Loving Shepher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Jesus The Loving Shepherd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Jesus The Loving Shepherd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Jesus The Loving Shepher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6280" y="6488280"/>
            <a:ext cx="38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Jesus, The Loving Sheph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Jesus The Loving Shepher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Jesus The Loving Shepher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Jesus The Loving Shepher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Jesus The Loving Shepherd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Jesus The Loving Shepherd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Jesus The Loving Shepher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16280" y="6488280"/>
            <a:ext cx="38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Jesus, The Loving Sheph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Jesus The Loving Shepher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7:47:52Z</dcterms:modified>
  <cp:revision>28</cp:revision>
  <dc:subject/>
  <dc:title>Slide 1</dc:title>
</cp:coreProperties>
</file>