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FE4C-35CC-47A9-A70B-E52C8FF21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1B12-1F88-43E0-B037-1C13A436B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6BD1-6929-4209-AA75-6C306A602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3D3E-6963-4260-B35B-654A83C38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EFD39-5EF4-4F4B-9204-2C3F2E823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374F3-5EE4-4F96-9D08-F8F9209EF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ACF00-B5B1-4427-8E6E-0722DA581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858E6-2D82-4280-9464-56FF28071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AE1D1-EE94-4470-BC9A-788B707B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9F5BE-75A0-438E-93EC-F6B0EDC33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CDF94-E10D-4292-8B33-1E1418FF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9B31-0C24-447A-B161-318AFB5FC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79999-A002-41CF-9331-A297B8B6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B9938-C41D-4493-A047-01179546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4F740-C6E3-403E-91C2-219C305DC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59C30-BD0C-497D-B7A5-174073698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8FD2D-CC5A-43D4-B466-6A0602DF7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9C28-5188-461D-860D-17AA65326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158BF-6080-4975-9648-E0CDF6015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9370D-096B-43C4-88CC-319D6FE36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0CE3E-B1BC-4BC0-884C-7388FFA0B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21F3-EFEB-4F7B-9D97-E19A24907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D93C9-0E18-4D03-AB70-B5D29F7B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7B0B9-5E0B-437E-B74A-6B5363DD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4E613-CC08-459E-84FD-587A33DF4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061B0-1837-40A5-AD7E-72261490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C5231-B6B6-4EFA-9912-50EF9B36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71688-4552-4FA5-8325-F78773E3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EAF9D-73D3-4C6F-96B0-FC90C9F63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C5451-4FA2-42A6-BE4D-BE2FD2AD9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8E55C-7CAA-4569-916D-BEFFD2F53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4506-A743-4786-9827-7302C2C0F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4D3D-DAFC-412F-9057-BF10FB561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A728-5830-4CBD-91F8-CD692A31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A7E8-AAED-4860-8E6C-639D93B3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9BBA-1D7F-4922-A409-F98DB236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DC7C9-76CF-4199-A3CF-2C15B64403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14455-316F-4808-ACC1-F60E1368A5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C0F3A-2514-4330-81D8-CDFF8213D7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Jesus Calls 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GALI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8.7.8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D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ecil F. Alexander (185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H. Jude (188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Jesus Calls U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6120" y="6488280"/>
            <a:ext cx="235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Jesus Calls 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Jesus Calls U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Timeline&#10;&#10;Description automatically generated with low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96120" y="6488280"/>
            <a:ext cx="235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Jesus Calls 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Jesus Calls Us_v3o5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Time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6120" y="6488280"/>
            <a:ext cx="235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Jesus Calls 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Jesus Calls Us_v4o5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3T17:54:55Z</dcterms:modified>
  <cp:revision>38</cp:revision>
  <dc:subject/>
  <dc:title>Slide 1</dc:title>
</cp:coreProperties>
</file>