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73E-2434-438E-BD61-5BFF51AA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D20-1F16-45C0-B6C8-0642F2F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3C1-CCA7-4B81-91F4-83DB4971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ECF-1233-45B1-8DE9-3489E528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3482-0B16-46B4-81EF-9F464E2E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6760-CE88-4075-BD0D-DCB73F9B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5530-4BD7-4107-B33C-278A5491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F9EA-0138-4EA6-9175-D5BCE877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BD6B-2AD7-4753-9251-73221269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FC0A-4428-4F15-9D4A-E681B47B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3C55-5745-47E6-A911-9A86870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EBA-C616-458B-AD28-F0D53D4C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5DB1-0C33-42B7-8A01-E5D2D4E2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8F1D-908A-45C4-826C-0949FB91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5515-12D5-48BF-8085-98FE24B0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8740-305C-4A46-ABDE-0B6AC837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59C5-80F8-406F-A956-0071DB35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7AD-4251-4B7E-9E29-12685D89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4EFF-4785-4F20-A8C7-581C4BEF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48ED-2EFF-46E7-BA7D-1EF3DE50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5D43-578D-4B79-A18D-6125EEDB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2E3-78F1-4C3C-9E16-BD787F9F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E3E3-93A1-4B2C-8AB7-D493ACE6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716F-C24C-491E-BC5F-97221A55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EFAF-D3A3-48D4-809F-F4BC0769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B290B-1675-4AED-9E2F-BAF7F1CE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FCCF-897D-4DA6-ADBF-C17FBEB2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283F-3E76-40C3-A6D0-427A1BE0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119E-0120-437D-BD9C-EE3FAFC5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D4D6-71E1-44E5-9BA3-D4389192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7BD9-60B8-4143-9C6E-591F80F9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826-3BE7-4C45-BAC6-9075311F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2BB-B4D0-4170-8611-414007D9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075-C774-4C8F-A317-6E65FEEE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E84-CDAC-4F63-867C-323E481A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279-C0EC-4C3B-8FA5-BF375D9D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1BC5-235F-4B95-89B6-D94CA5765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9A20-DDC0-4DEE-95E5-432F4F375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A325-9628-4CF7-A74C-4FD1F89DB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Savior Pilot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Hopper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E. Gould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Savior Pilot 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Savior Pilot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000" y="648828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Savior Pilo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Savior Pilot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Savior Pilot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9000" y="648828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Savior Pilo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Savior Pilot Me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Savior Pilot Me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Char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9000" y="648828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Savior Pilo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Savior Pilot 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7:08Z</dcterms:modified>
  <cp:revision>35</cp:revision>
  <dc:subject/>
  <dc:title>Slide 1</dc:title>
</cp:coreProperties>
</file>