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016-1450-41F1-A587-FFC2D1AF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46B-5C03-4983-BD73-8AA1E5F4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532-AB88-43F7-A498-1E6089D7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AD0-CB39-4E4D-A59C-92675A3A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42DF-208C-470A-9EB2-4EEB3C13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91A4-B4C6-4777-95C8-FF014CBB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ADE5-5831-4F9A-9A77-2A252E90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67E0-43CB-446A-B804-DEAA1453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52EB-3F13-456C-9616-2B2F004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5E83-8611-4363-89E0-6024DD32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3792-40E9-42B3-9E50-4FD8802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DA3-F487-44F6-A72F-9BE9401D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2A9E-94F0-4DF4-A74D-30047A8A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6209-16F1-49DB-9D76-92587B75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5A2A-0D41-4E5D-86B1-323592EF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0790-1AD6-4C77-82E5-514ED46A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CF33-09A3-4340-BA46-970A4751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C81-B249-42D3-97C3-60545F5B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E359-7B83-41E1-87E4-E50E6B88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18E1-E8FD-4796-8FDD-17BD4407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EC131-40FA-4E07-94BB-64AD69F0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90C-272A-43C6-BD60-CC01E72A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F236-B9D8-4E38-9BF1-AC45DEE4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F505-CFF8-4A28-9C38-B4E3A2A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A9A3-0D71-4B01-88CE-3D778FFE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D14B-45BD-44E5-B894-1EEE04A6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1596-18F8-4BAC-95D4-580E35F5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3C86-AA67-4747-9A8C-420B040D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8582-10BD-4A29-B064-40D3D8D1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C828-90C1-49C3-8D64-FE743C88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9043-AE41-4D69-B267-416F5C5B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F51-228E-4D71-905E-CF3FD8D6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0E0-6348-4D60-8A39-A0807719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408-4165-440B-AA4E-D00679D3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561-1222-44CC-8310-E8FBC2E9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F7A-6476-4E99-8A7B-42A0C993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A2F9-9E29-41CA-A5BA-F4DDC6C47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94B5-85B3-4391-9986-EA09296287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50AF-7AB3-43D5-B427-FC007F263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Christ Is Risen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LAN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ALLELU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tin Hymn, 14th centur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by Lyra Davidica (1708), alt. st. 4 by Charles Wesley (17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Williams (18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Christ Is Risen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400" y="64882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Christ I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Christ Is Risen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Christ Is Risen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1400" y="64882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Christ I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Christ Is Risen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Christ Is Risen To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1400" y="64882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Christ I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Christ Is Risen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Christ Is Risen Toda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1400" y="64882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 Christ I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Christ Is Risen Toda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3:03Z</dcterms:modified>
  <cp:revision>32</cp:revision>
  <dc:subject/>
  <dc:title>Slide 1</dc:title>
</cp:coreProperties>
</file>