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476-798B-4CDA-83C1-3FB9ED25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9C1-299A-4F24-A3D8-F0496284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6BF-0293-4F49-9A6E-87609AF9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C30-F09B-4059-BE32-A36F6CD6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8FA9-3212-4B9E-8868-4834C375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07D2-23A9-465D-BF9F-B91E8505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4D5E-4A8E-40D6-8ACA-C3D99C67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2003-E0DE-4B59-8252-8364CCF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CA67-5E82-40DD-A95D-B8C8EA2F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1823-EAF2-4CF6-A344-8C525C99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BDF5-E737-47CC-8635-74CB577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7BC-BD88-4A5D-96F3-12B892D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D06-6724-4949-817F-C8E42E2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4B3F-9ABF-4164-A719-6E1BAD0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D88-7EE7-4185-A9F6-A7B38BE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DD94-80F4-4AD9-9970-A2529285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F2BC-8BEE-423A-B554-94838F10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14D-D6FE-4390-92F6-D2BF03F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29ED-B707-4C04-9CBF-FBA2DFFE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EBBB-A1D3-46A8-B570-F10C3A6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17E0-1A71-4EE2-A741-6BBAC1F9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0AC-ED5E-4886-B8BB-211C0F0F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8939-87AF-49D5-9900-06453B5C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1B68-E94C-48C8-8B33-12D30015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80C5-5E2B-40AE-817C-AFF27933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2F71-BFE1-4FE3-AAE7-4B260AE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9AD0-BB38-4742-B4E6-AFB80B5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62CF-F406-415F-A236-EFD4927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1AF4-D2A0-4E43-8451-729C2B5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8B89-1338-4464-8BCF-97B95D7E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A9D4-ED44-4238-B158-8B84ACC8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CCE-38F0-456E-8DD0-6382C4A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897-A5CD-493A-B64D-66DBADB8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686-5CE0-45AA-B5A6-76170B4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ACA-FD04-416B-92A3-3636EB9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01F-69C9-4636-877F-206B3B2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8B20-0EE5-4DE8-B257-E7F89731B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C1C-F118-41BE-A739-27651DC3D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CF60-585E-42B4-B0AA-E69639F31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Calling, Calling, C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more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Is Calling Calling Call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68120" y="6488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Calling, Calling,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Calling Calling Call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Calling Calling Call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Calling Calling Call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Calling Calling Call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68120" y="6488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Calling, Calling,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Calling Calling Call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Calling Calling Call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Calling Calling Call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Calling Calling Call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68120" y="6488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Calling, Calling,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Calling Calling Call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Calling Calling Call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Calling Calling Call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5:03Z</dcterms:modified>
  <cp:revision>32</cp:revision>
  <dc:subject/>
  <dc:title>Slide 1</dc:title>
</cp:coreProperties>
</file>