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CDD-A217-4E6C-AFE2-9E9DBC8C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B0AD-57C9-4CA2-82E5-6B66AEDC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046-C12D-4AD2-BF65-9606238F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82E6-0CBD-495D-B0AA-63130944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2C9B-C644-402B-AE60-74E30963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F7D0-A497-44D7-A92E-E0CFB3AC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A905-412D-462B-B328-FB9796F4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B3FC-2814-4266-B3C8-D950C9B0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3EA5-1F4F-4ED8-814C-181F6008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9A76-7490-4B2A-8530-334E393C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A530-225A-4B41-9133-F314F1CF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B9A5-46DE-46E7-B936-0A44728E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7037-EBA5-4BE1-B38E-B8A1D6C2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A99E-3172-44ED-9755-39BA7E8F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A52F-9352-4C83-AA66-AD8738D9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3631-61E0-4732-BFCF-1E95BE9C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8A5B-8371-4038-A985-ABFD55E2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D41E-9807-454D-BC06-EC4F5A14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1E89E-8BA6-4E54-83E4-731AF50F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C0D5F-4A1B-4822-886B-D32152A8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CF866-0B6A-4C60-B453-641305CF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4A3-8F0E-4CEF-8201-F0DF0113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18BCF-078C-4F13-B6A0-73C0762B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A9E7A-C792-46DE-A764-632FE8DE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A2263-B120-4B5D-B764-36213D83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C201F-3878-4D62-A3BC-C261763C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78BA8-4FCC-401E-B608-1F9F2F9E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26DE0-5978-4CBA-9F10-54220AAA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71C20-C690-4B37-B8F5-FF721C69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AEAEF-A615-4163-9717-19E16E38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854C5-859A-4919-ACD6-0AD36445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EEEB-F5C2-4D22-A2F3-09D88E17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6E67-2A73-43BE-83BA-14413D9D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FCB-6723-4BD0-9CA2-33476436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4290-9BCF-490D-A796-B0E48B8F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DF31-434D-45DA-A1E0-5B63D7CF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2573-53C1-4B50-BF5F-B79AAE128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B6CC-1ABB-4B7B-93CA-441E078082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AED1-F1C3-46BF-A58F-76B974CB3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, Meek And Gen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DOWSTON CAS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5.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R. Prynne (18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larence Hudson (18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Meek And Gentl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5840" y="648828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, Meek And Gen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Meek And Gentl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Meek And Gentl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5840" y="648828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, Meek And Gen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Meek And Gentl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Meek And Gentl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5840" y="648828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, Meek And Gen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Meek And Gentl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32:15Z</dcterms:modified>
  <cp:revision>31</cp:revision>
  <dc:subject/>
  <dc:title>Slide 1</dc:title>
</cp:coreProperties>
</file>