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9CF-32C2-45BC-B2A5-F66E721D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37F-E592-4C7F-B153-E6A230C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B52-4ADF-4CD1-AC3C-8FE9A4FD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962-6D58-40DD-A6E9-866A3CD3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53BE-5F91-4F25-86D7-D7C3A56E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3A5F-D7DD-432A-A7D8-BECFC3B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E66E-07CF-4001-9F53-9ECA95A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7F25-229E-4B96-8A0A-D25DAD0A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4DEA-7902-432D-9E0B-4F98BCD3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91DE-13B0-4F18-9E38-CB2E2CBD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CDB3-EFC5-4070-805E-13110BB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7C8-90F7-42B6-8F5A-1FCA0FC3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B13-0141-4027-AB3E-8EF4874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8ECD-6D44-49DB-ADBF-3D4B3E1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30A0-929A-4AD5-B011-5054F704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893C-1178-400A-BCEF-A790A915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8BD0-D1ED-422C-8C20-3457AD2D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800-72AB-4CDB-B9AE-C21EF6E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EF1C-9E6D-4581-9B45-20D247AA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9FB3-BE4F-4457-8B38-61885434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CC19-ABFE-486F-BBC3-38DE1AD9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D9A-9A99-4C59-9ABC-682AA91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A176-A742-4BC9-B202-C5B061C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82EC-4E0E-44DF-A507-4CE7917E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0A8B-596A-418E-BEC9-CDD829B4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8962-3E64-4A9A-AAC1-CA7B8345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0C48-0EB8-4DE6-855D-E689BE69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D095-4118-4F02-9322-06734924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EB36-DECD-41AC-8498-6A5CF987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5F8A-1294-4C70-8E1C-6DE64AC8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0923-4623-4D25-BDF7-0017E277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98D-AA64-436D-A286-4374BA2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A79-7469-473C-8BF7-077E82B2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C9E-71F3-4A27-911A-3F2C8CA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141-3133-409E-9CAB-FCE2E0F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16E-70B6-48D0-8042-DA97579D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9A02-6B25-456A-993E-F14DE85C6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6C3-E54F-4A7D-A63A-0A487C3E7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35F3-725F-4906-8876-80EB4A18D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Sav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e Have Heard The Joyful S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scilla J. Owens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Save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Save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Save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Save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Save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Save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Save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Save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Sa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Sa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Sa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Sa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Sa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Sa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Sa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Sa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6:20Z</dcterms:modified>
  <cp:revision>28</cp:revision>
  <dc:subject/>
  <dc:title>Slide 1</dc:title>
</cp:coreProperties>
</file>