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A5A-C28E-4118-BAB0-8D79B950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C57-686B-4747-B0FC-31EF553D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503-9B9C-4C13-BC78-3733FEC8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F7E-0341-4913-9471-B09B8798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A887-2A0E-4C94-8506-83FE28BD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2720-7839-4B98-8EB1-9BA221AA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39C5-07CD-46DD-BA28-205E3459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4131-78B7-453A-91AC-CF14DE7F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FB9D-9CBC-44FE-B05F-949B517B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59B2-789D-400F-8F3E-E626E3C8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EDC5-2DF1-4C10-87EE-417B89E7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D60-C569-4F42-A28C-79390F18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5479-11C6-4860-9AFA-564A7FBC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899E-D684-4EA1-8499-9948DD9E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636D-9B8D-4627-9C7D-6A8A5E72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1F9-AF82-4ABA-B4D4-1F5EAD93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4EAE-9DA2-42B3-872A-C53AF0D1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739-E4F5-4B9F-91DC-9E69A83C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3D3-61F1-4EA9-869A-B94A2D5B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C8E-F554-45E1-AA8B-6CD68495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FA7-B027-4E75-A2E3-86AEA728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AF4-58FA-4DFF-A111-76F99BFD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8AC-9757-4CA5-A697-22FCFB4A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795-117E-402F-ABEB-A9DBE42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62B5-52D3-4D55-B0CE-75D1A899B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879-E1C9-4E69-A65D-27A41DE9FF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Thou Joy Of Loving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RY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rnard of Clairvaux (c. 11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P. Smith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Jesus Thou Joy Of Loving Hearts_arr1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44360" y="648828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Jesus, Thou Joy Of Loving He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Jesus Thou Joy Of Loving Hearts_arr1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Jesus Thou Joy Of Loving Heart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4360" y="648828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Thou Joy Of Loving He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Jesus Thou Joy Of Loving Heart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Jesus Thou Joy Of Loving Heart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44360" y="648828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Thou Joy Of Loving He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Jesus Thou Joy Of Loving Heart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Jesus Thou Joy Of Loving Heart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4360" y="648828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Thou Joy Of Loving He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Jesus Thou Joy Of Loving Heart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Jesus Thou Joy Of Loving Hearts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44360" y="648828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, Thou Joy Of Loving He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Jesus Thou Joy Of Loving Hearts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7:41Z</dcterms:modified>
  <cp:revision>32</cp:revision>
  <dc:subject/>
  <dc:title>Slide 1</dc:title>
</cp:coreProperties>
</file>