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FFD-6F04-4D93-89DA-D81DE19E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DEA-D969-46CF-8C76-6DA07741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CD6-995D-44C4-823C-94D7B481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994-D2FE-4DBC-AB6A-C231B513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418E-BF4E-4546-9F9A-DC3F1ED3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55B5-AFD4-4AF1-834C-55ADC512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BF5B-D6DA-414A-B3EE-45295792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1FD9-460E-4CE7-A39B-1C508D0E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72EE-D0CB-42BB-BF4F-01A5FC8A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5221-3E30-46F5-ACA8-43E7392E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59D3-FE53-4CAB-9C96-422ABC6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6D4-C76B-4D2D-AB72-FC13D4B6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6299-6596-49B3-B30F-31CB04E3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4E08-0DC0-467B-9934-8A6A014F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AC30-AE2A-487F-B0EC-567FEEE7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2060-0539-4DFD-ADE3-C50E3442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8C71-CAEE-4D90-8EDE-2D1CFE3E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B0E-50D4-4326-A689-56FB6345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F274-9C0D-4E48-9DBC-DF226EA7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5BA6-FD2D-4D3F-9284-715AAE5D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6ED8-DC1E-42AF-8D4F-6AFFF2BD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A83-680B-4D46-AE68-93090DEE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1D66-D39F-4547-B2CA-73D6DF12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DF707-A72C-4CDE-9CD5-C88CEA94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2E7F-27DF-4833-AF36-EFA30108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78D2-7696-4FE9-9E96-2F085297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2025-BC15-4AC5-8C5A-3775912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24DA-7821-4874-9642-5D50754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3DA7-B7FD-48D0-8D57-FB83790F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DCEE-99D4-4003-ABFC-545DB209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8209-74A7-44EF-8297-90FF1F85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58F-7744-4058-95E7-278F4D58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AF3-7C1C-4211-967B-9DE40BFF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C63-DF97-46F1-AE3A-530BF756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C5A-3D6A-4D6B-8832-6181595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394-E5E8-44F2-953E-755238D3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2D7-AFA1-409B-8C03-315893038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150E-3E81-4867-928F-950CC03208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D9A9-3BA6-457D-AA82-5626E9740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Is All The Worl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6.8.6.8.8.4.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L. Thompson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L. Thompson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2480" y="648828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Is All The World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Is All The World To 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Is All The World To 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Is All The World To M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Is All The World To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2480" y="648828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Is All The World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Is All The World To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Is All The World To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Is All The World To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Is All The World To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2480" y="648828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Is All The World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Is All The World To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Is All The World To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Is All The World To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4:25Z</dcterms:modified>
  <cp:revision>32</cp:revision>
  <dc:subject/>
  <dc:title>Slide 1</dc:title>
</cp:coreProperties>
</file>