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D0A-7872-4AC3-8C88-9A1C3FBB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B10-BC90-43E6-A93A-D21961B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B82-F733-44F0-8583-5C5FFCA3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AC1-3A26-4952-8369-3EAB3456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5F6-0D93-4753-99C2-CE8A9B23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EE7-7403-4F0B-8DB7-1E0549A4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392-E692-49EB-B4FF-D6E23CE3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779F-B068-4FCA-996F-FAE66627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D8A-0A49-4752-B2C0-E0961727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EF03-D741-47BC-AEE9-72816B1B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0A8D-2DB3-4E01-B60A-D6C3077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186-113C-4AD8-ACE8-173DE92E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7AD2-80A5-4DD0-83AB-0B1E438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77D6-EEB9-4E63-BF78-BFF396A6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AD8-3045-4CDA-855B-1A52589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55DC-88E7-442F-8902-0FF8B200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ACDD-6D8F-4F21-B5E7-753935D6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389-D1C1-40CE-9366-BF8F4BB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0E61-1555-4036-9860-6BD2D902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163C-1FEC-4D49-940A-8C6A1FE0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582F-A178-4FE0-BEF1-E51DFA3E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9E5-9CFE-4283-AEA9-DE9FBFCD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4F65-7324-40D7-A4F3-301312AD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8774-60F4-4A06-B6B1-73B6A0A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D2AE-5F0D-4A14-834B-8B696611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9057-D4F8-40B4-9269-7A507BB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01B2-DA2D-499F-A610-48AA682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11D0-6C6C-4F25-A3FF-45BE03AE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82A7-09C5-4D97-8988-E09AE94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8A02-E5E9-4EDD-8220-22F362CA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679B-B77A-4ABC-9D29-D474BCD1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097-4CFF-45DD-A4AA-B8B8FD87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4A4-A7E4-44B4-AAEA-F0B54DC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6EA-B404-4701-A83B-F2F1F4D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8C9-14CB-458F-81E4-5404024D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190-D145-49E0-B29A-6C7F46A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076B-6484-4E62-A764-257F4739F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094-A93B-4FF2-8FD2-3B11271AF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6AE-C583-4C75-862E-5CA6103C9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RT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Charles Wesley (17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B. Marsh (17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Lover Of My Soul_arr2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Lover Of My Soul_arr2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Lover Of My Soul_arr2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r Of My Soul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r Of My Soul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r Of My Soul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Lover Of My Soul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Lover Of My Soul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Lover Of My Soul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Lover Of My Soul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Lover Of My Soul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3:16Z</dcterms:modified>
  <cp:revision>33</cp:revision>
  <dc:subject/>
  <dc:title>Slide 1</dc:title>
</cp:coreProperties>
</file>