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631-C33F-4137-9E5F-79934CF1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C56-F92B-418A-983C-C42D8E02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69F-D2AA-4DF0-A54C-0BAE610F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918-442A-4B9E-95CD-0F416597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24D2-1525-4C96-9176-353A5D58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FEEF-3358-4BA1-9ECF-20D97705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5942-143C-445D-AA43-638C1320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E646-0114-4D30-ACA9-764C4406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F22B-8218-41E0-B44F-88BF170C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B013-CE32-4294-8262-C61BAD08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1EC2-C77C-4CC5-ABDF-6BAB8D56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17E-BE73-4AE8-BBEC-5D980E7E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71B6-7ED2-47DF-8925-46F7BBDA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3A5C-1C62-4A8D-8108-F87F4303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57AD-F231-41D3-8EE9-8048FA77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E79F-A26B-4FC3-8447-60B34754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954E-2906-44D8-B804-3CBBB42E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43B-F00E-4AC1-A399-D0693A65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39BE4-DD94-465C-847A-4258188B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E689-7B5F-4183-A887-4C3AC9B6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CC344-1B86-4180-8C19-72CEEB2C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DC5-7087-4255-A7F8-4C7D7690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DE5AC-ADBC-4451-B01B-F6780272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E11FC-2166-4E42-B324-D3D8965B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F269-0ECE-4427-B906-3322867F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39236-CF9B-48F5-8727-BEBB5BF4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46300-C51B-4539-8F3E-9EB67B6B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4F3BC-E1D7-45AE-AAA6-299D43A9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5D132-0746-44AB-A2AB-391209D0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467B4-C3DD-4C6A-9A2E-E68F222F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CBBA6-66DC-4B20-AEEF-2B03B32F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165-7979-4843-B588-90C475A2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C6C-6F1F-48C4-AA22-49D5B213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DF3-2588-4DAF-A6C2-73AD3826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5E3-07F4-468F-9996-748BF744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7035-2CF2-4E5B-8F68-EBD35F45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7327-94DD-4AE0-B09B-2729DF1C4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A3D0-D287-436C-BC74-3BF63A750B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C0C7-023D-4F02-A498-5D922D653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ust Over In The Glory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W. Acuff (19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mmett S. Dean (19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ust Over In the Glory Lan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ust Over In the Glory Lan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ust Over In the Glory Land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1520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ust Over In The Glory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ust Over In the Glory Land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Just Over In the Glory Land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Just Over In the Glory Land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ust Over In the Glory Land_v3of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Just Over In the Glory Land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11520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Just Over In The Glory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Just Over In the Glory Land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Just Over In the Glory Land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ust Over In the Glory Lan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520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ust Over In The Glory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Just Over In the Glory Land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Just Over In the Glory Land_v4of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ust Over In the Glory Lan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ust Over In the Glory Lan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ust Over In the Glory Lan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ust Over In the Glory Lan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ust Over In the Glory Lan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1520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ust Over In The Glory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ust Over In the Glory Lan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ust Over In the Glory Lan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51:36Z</dcterms:modified>
  <cp:revision>29</cp:revision>
  <dc:subject/>
  <dc:title>Slide 1</dc:title>
</cp:coreProperties>
</file>