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CEA-C273-4D77-9360-93039397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A6F-F3A9-49B6-ABB0-1888524F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95B-527B-42B5-AC87-F29C958F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865-EFEF-4E09-B3C2-08329E57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A53E-40F2-43E2-8023-DD5EF42B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EE8B-53AB-43AE-8178-020424A1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7841-E4C6-4ABD-965B-3714F81E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BDD2-EE0C-458F-AD3C-E36AC088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EBE8-2F0F-4646-8556-28EDDF8B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76E0-C5D0-4225-9C57-2519D5C0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13FA-D594-4AAC-B83F-DCB25892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1D7-BA40-4A0B-B4A2-65D95C20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EBB5-3DAE-436B-A591-055D027A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AAF5-4B61-402D-B3B6-201A7881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0155-47F6-480B-9C8E-1A0BB00F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1322-4FBF-4386-A530-051EAF92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44A3-A5FC-4DA7-BAF5-7507D426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E14-5241-41C4-B285-EF35F5D2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8C5D-083D-4EFD-8EEF-1FE28B1D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F1F9-4D13-4421-8D92-30C48B07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C0800-4E0F-4402-AAC8-CF148F05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3C3-31F8-4A2A-BCAB-50A48DED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D98BC-CE2F-43B8-A2E1-0C19B11C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E258-896A-4A87-9B47-62E298AC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C1074-A745-448E-A38D-765D0903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B31FD-ACB1-49BC-8D13-4D3D5872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21A7-DF4D-4F88-BD16-A43EC135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E2D5-FA37-4CCC-86E4-60EE7B30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D40F-1678-4116-B8E4-06659BAF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34195-73D3-4B3A-BF16-2EC5DCE3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006C-6FDB-47BF-A5E3-B0EF69C9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4E4-E2B9-4EA7-B31C-B8EB6C3F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F0D-DC88-4B17-990D-62A50E10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37E-414B-4661-8D31-A16448FF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DC3-260F-4D65-99AD-ADB63CE0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A3E-315C-48F7-A645-F5035C05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A06B-E9EF-4B54-BBBA-6D4B0BF09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F25B-69CA-44DA-92DB-BA5AB6849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5543-B851-4DEC-B6DB-B27038AEF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Loves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a B. Warner (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Loves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Loves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92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Love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Loves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Loves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Loves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992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Love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Loves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Loves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Loves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992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Love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Loves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57:16Z</dcterms:modified>
  <cp:revision>29</cp:revision>
  <dc:subject/>
  <dc:title>Slide 1</dc:title>
</cp:coreProperties>
</file>