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A7B-F21F-4001-948C-8EDA7A07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6B2-5038-423B-A3E2-ADE23D6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A39-1DD0-48DE-827B-D00CE688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F55-C3B1-429B-BA17-435F1B11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7C2F-F93D-48D4-8C72-478ABA5E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DEC7-89CB-4CBF-B342-0D5C23B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19FD-E0D9-4A94-A296-BED1273F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35D-B57D-4869-943B-F0122DEB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F53-371A-42BA-ADFF-46F77D51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EE03-6913-417E-B511-EBD4285B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0C5-89ED-4345-8D41-EBA2D06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80D-864F-44FA-9F63-D8BBF98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3A50-9208-423E-BEF2-BF7FBFA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BF2-23B8-491B-9D26-9B4B85B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B4F1-B7F7-4728-9DB7-E5F75D3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A524-46DA-4BBA-B0C9-C9C54904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2CBF-116F-417E-897A-A5FB72E1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E9C-2EB3-4CE6-A647-3C00BFD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ACDC-36F5-4377-99DD-07EABEB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C18A-358C-4779-8509-F4B9DEF4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4FF8-6F09-4479-BFD3-14C7961B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C48-828C-4CFE-B61F-9994544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B87A-966A-4D75-805B-4228241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F744-E2AF-445D-9EAF-95C8BC1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F743-9BAB-4D4B-8A03-F1BF322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29BC-BC7E-49FC-AB50-1E538FA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3E2C-F4BC-42D7-88D2-14172A7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3EB8-34B9-4AE2-9019-02162F5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B492-F79A-4A3D-A71F-419CB1A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8805-68F3-4DEA-81D2-A3472EE5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8AA3-4861-435A-B755-C16BD099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E73-F2B8-4B49-96A9-152CD81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631-3B08-4385-B0D5-1D70393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505-C1D5-4DEC-BBD7-F4E379A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C6B-A889-493A-9681-1C713E8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14A-458F-4814-B922-63432E0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B2A-5B33-4EDF-9003-9870D89A1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255-CE11-40E5-A088-8804D131F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7C6-9583-4F26-BF88-B4611A0D1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As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OD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otte Elliott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As I Am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As I Am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As I Am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As I Am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As I Am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As I Am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As I Am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6:52Z</dcterms:modified>
  <cp:revision>33</cp:revision>
  <dc:subject/>
  <dc:title>Slide 1</dc:title>
</cp:coreProperties>
</file>