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421-BBBE-4D5B-924A-CE3EB5A6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29C-1821-4793-952C-005DE379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9FA-49E5-4CF2-BDC8-46A61579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0EA-93DB-414F-AF69-13328DEA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4B78-B073-4080-8FB7-4BAF4155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FA3C-64FB-41DB-A28B-35B5D1D2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246D-926D-4373-99F5-F31E06D9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548E-E1E0-47A9-86D2-CF9919DB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C451-1EDB-4774-B2D2-453C0FDA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9F50-846D-4BA6-B843-06DB4E4B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6BC0-ED8F-4F72-87AB-3E3AEC4E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B3A-2258-49D3-9291-3CE8B9F4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907B-FC3A-4258-9F9C-B29E5BDB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B3EE-E1D0-485B-9FFB-8E618E7F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E454-F387-4A21-B256-3E0415B5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E591-5A31-48C5-B540-43D4E2DB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3488-B7AD-45BB-A0C4-FE7AB0E8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365-C5C4-4DB3-87FC-33195733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62E9-C617-4B4D-8BE5-FAB1AAB3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229E-A9A3-4822-B674-DF8ADE2F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A561-E291-4628-BA1B-49A47F65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C12-ED47-4E49-91C5-E1E4C32C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5E27-5A54-4C1F-857C-6D2FC8C1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E12F-CC70-4083-A5D0-11D0B89F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C4A3-B0AB-4BF8-9329-1027C09F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2A42-692D-4CE6-840F-BADB7F99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B83EB-02AC-4BF8-943F-C28244B6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55E4-C379-4B6E-868E-7EAE66E5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276D-C9AA-4EE2-8520-CD30F8DE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A9575-7EA3-409E-91ED-32C7C0F0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E60E-D67F-4D47-BFFB-AE33A8A4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94D-617A-497A-B1DD-E8EBF176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62D-61E1-4E42-BEEE-27A1A84E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2CF-30E6-463A-8B36-435F422B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320-A704-424C-9E31-E1A4EBE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410-1F8A-4D49-A0F8-0DB49A46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DC34-00BB-41F1-877F-39E9D9AA3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85C8-798B-44D9-9FDD-9FF049FCD1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F113-E9F5-41B2-A1DD-4FA89EA86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ll Live For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alph E. Hudson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R. Dunbar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Live For Him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0000" y="648828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ll Live For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Live For Him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Live For Him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Live For Him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Live For Him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0000" y="648828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ll Live For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Live For Him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Live For Him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Live For Him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5:08Z</dcterms:modified>
  <cp:revision>24</cp:revision>
  <dc:subject/>
  <dc:title>Slide 1</dc:title>
</cp:coreProperties>
</file>