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B8F-3D9A-4D2A-8C2A-AF54455F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5C4-D198-4FC0-93EA-7022045E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DC7-AA65-4972-AA34-93A34A39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FD6-3A98-41B5-B8CF-C6CE6481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492E-9E2B-4E5E-8624-3AF34582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2848-5CB5-4C05-9CD4-70724C49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0149-E756-4385-BCD3-1DE83783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0065-323E-4529-9F13-A6B1E6C4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5E3B-18C8-44F2-BFED-957F6EA9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2016-E639-4A4B-96F1-CD554283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C48F-9AFC-4536-80C6-DA1FA329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203-40FA-4CC0-9F9B-CAFCF092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EDD1-DCF5-4C95-8C17-A51C54E9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A094-8134-4B9C-AC53-8004DC1E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8966-00CA-47B1-BFB4-A79DC77B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E232-82E7-413F-AC20-CD1B006A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3893-951F-4288-A50B-ECE3791C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F09-01BF-4D15-ABEB-D1C6E005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280F-7DEE-4196-918B-5EEEBCD6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43EB-EEE2-4EDA-9944-842DAE70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5B3A8-892C-4DCC-807F-64D48E9A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D45-D249-4252-AA2E-4CAE9BFC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411F-C303-4749-B7BD-499BDF88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C6DB1-7A7D-464E-B8C1-CAD21299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FD47E-780B-4BE3-B33E-9A7534A2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757BF-E477-4FCF-9A04-C2D2BAA0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57F30-9AA9-4941-8A8F-A584F2FB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E057-F25C-47AC-A8EC-30F9D548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0D80C-4CC6-4087-AC4D-2894DD28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85B54-D1B5-4D8E-B006-64FA16BB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FB2C-A40C-4BC4-AFDA-F9D492BF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9ED-6E5D-4589-8706-0BCAD35D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FF7-4EA0-4933-9A2E-6E3B0C5A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49F-6662-40C5-BC63-5707279E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678-B2BC-482E-BEBC-E5A88AD1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023-B30F-40E0-8E6C-EA462562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17FE-D5C9-4FC8-BC98-A23057DC8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C530-9ED7-4F8F-9A24-AFF1FB6360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5BF1-7A8B-42F3-B52B-465ED9225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'm Happy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, Arr. Ellis J. C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m Happy Today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3160" y="64882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I'm Happy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m Happy Today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m Happy To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3160" y="64882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'm Happy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m Happy To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m Happy To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3160" y="64882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'm Happy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m Happy To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 picture containing text, sheet music, 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3160" y="64882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'm Happy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m Happy To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m Happy Toda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3160" y="64882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'm Happy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m Happy Toda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47:40Z</dcterms:modified>
  <cp:revision>27</cp:revision>
  <dc:subject/>
  <dc:title>Slide 1</dc:title>
</cp:coreProperties>
</file>