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2C2B-2566-4249-BD53-AE0296418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E097-6293-4A57-9A78-04B74F06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638A-DB62-4CF6-98F0-A12D50FEF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7EDB-0FA2-4C93-8454-B57A2D289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3C5B-D863-48E9-B76C-9F525AE9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F4BF-04FF-461C-81A0-0C1112D6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0F19-68A2-4049-9BA5-7E241ACF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6CF5-184A-4923-9CDD-B792E754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8474-67E1-417F-B8D4-0ABD817B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5066-EF49-48B4-8829-AEB2FA13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8F6C-5D74-48A8-93A8-BCE8D65F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C444-E0A5-4635-BD07-A1622FC4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9E2C-BFEE-4211-92B0-B8DB8561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CE5C-26D2-47EA-969B-7AAAC704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066F-FF52-4083-8E03-D67442D2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7F92-55AC-4331-9C34-78C52C97A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14F7-5797-4727-B499-5B95C3885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F4EB-CFA0-46E7-B9E7-77CC190D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FC8A1-6DD9-4AC9-A27A-C461943BB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16818-12AC-487D-A6B7-3E3221F7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5077D-A3A2-47DC-86BD-C19A7F57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073A-12CD-4376-9176-CBC04FF7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2C469-91C3-4DEC-B819-9EB35707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2D553-423F-4CEE-85D1-D98F283D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F0AB2-99AD-4AC0-AD4E-95719FA1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1E654-459E-444B-B9F9-AA6B13C3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E37F7-1114-41A1-9405-20C82D29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BA99C-6E4D-462C-B872-33C64254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CDEA7-DC0C-4007-8C37-EFC3E3B4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B31C7-E1A9-46D8-A91C-3903B4A0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A5CC0-2469-462E-954E-EB340ACF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2F38-C1EA-42AA-8095-8EC01B38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DD73-134A-40CD-B471-1660A1D2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D26F-464C-400E-B0CD-6ECB0748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230F-E134-4AC4-A629-5B7750A2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A7F3-F3A3-4011-9393-E47F3027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112D-05D6-433A-82A0-0437B2362C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FC11-7389-40D3-8671-FAB50DE38C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0164-8828-4829-897D-FF47263A1D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Heard The Voice Of Jesus S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PO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A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11312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oratius Bonar (184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udwig Spohr (18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5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Heard The Voice Of Jesus Say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32120" y="6488280"/>
            <a:ext cx="41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Heard The Voice Of Jesus 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Heard The Voice Of Jesus Say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Heard The Voice Of Jesus Say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Heard The Voice Of Jesus Say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Heard The Voice Of Jesus Say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2120" y="6488280"/>
            <a:ext cx="41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Heard The Voice Of Jesus 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Heard The Voice Of Jesus Say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Heard The Voice Of Jesus Say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Heard The Voice Of Jesus Say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Heard The Voice Of Jesus Say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32120" y="6488280"/>
            <a:ext cx="41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Heard The Voice Of Jesus 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Heard The Voice Of Jesus Say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Heard The Voice Of Jesus Say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Heard The Voice Of Jesus Say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5:15Z</dcterms:modified>
  <cp:revision>32</cp:revision>
  <dc:subject/>
  <dc:title>Slide 1</dc:title>
</cp:coreProperties>
</file>