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D264-57A3-4FE1-824C-4591AE115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B59E-2106-44EF-B173-F50E50E01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781D-8D86-42C9-A587-7B345499A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14EB-F32A-4E97-B018-480C83B90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02995-BB66-4AA2-9823-1386D6A1A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93134-EFAB-4AFB-B8EE-B02818400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CABB4-D3D3-4762-A8DF-38DAAA8B4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2A212-3919-4DE8-B404-4CDBB9ACF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F6627-83FD-468D-A599-4D7F07B10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718AE-3D94-4AF9-A576-57CEBAC31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83C00-0572-4174-827F-A46C1291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7335-C888-492D-9264-99B1DBF79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D95FB-82CB-442B-A1FB-5222020A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2494F-2AFD-4B74-B775-9636C3F3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4AA46-AE66-40DF-BE5B-F70CA7007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E46CC-F342-4908-BAD5-7472BE091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2ABCD-FFBF-4B78-B0E8-A415F8925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DED3-FDAF-48F3-8E69-FB883B5A5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38E26-DCCB-4569-9B27-597AD521C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4FCF6-B8B8-4732-9009-66AE1BE42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78CC2-1E49-4E9F-9C0F-0C63CC4BA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3B07-C5E7-4B02-9B52-7046F8AFD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2F782-E518-4CB4-BB41-D505DD035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6C9D1-028F-4FAE-BE69-19E0D66B5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EA52F-7402-40CD-B8FD-08F81D471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C949C-2B76-490D-B14F-B27BA228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8DDC9-1DF7-48BB-A453-2F5F0A54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564E0-F94A-4CA9-966A-1262ECD8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4036E-2A1C-45A0-9565-67D054190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356A7-E23F-471C-BA64-9AF68EE2F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E9FF7-9FC5-453E-AF14-C138E38F2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8B1B-65DE-4760-BC29-CA1EB0060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C761-BAAB-4B94-AA15-42C9334A9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4B79-EC9D-4152-B23F-CA4DE0BD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BED8-D101-4717-A2E0-765772A6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839D-6FA3-4051-9996-F933A720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7B875-B030-4DAD-A9A7-624E8E85D6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6EF73-F537-4CA0-842D-C421A38E7E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BDF8B-5793-471C-A725-E5117F9D6D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 Shall Not Be Mov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/C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dward H. Boat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merican Folk Melo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8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 Shall Not Be Moved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75240" y="6488280"/>
            <a:ext cx="31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 Shall Not Be M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 Shall Not Be Moved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 Shall Not Be Moved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 Shall Not Be Moved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I Shall Not Be Moved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75240" y="6488280"/>
            <a:ext cx="31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I Shall Not Be M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I Shall Not Be Moved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I Shall Not Be Moved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I Shall Not Be Moved_v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3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4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 Shall Not Be Move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5240" y="6488280"/>
            <a:ext cx="31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 Shall Not Be M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 Shall Not Be Move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 Shall Not Be Moved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 Shall Not Be Moved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 Shall Not Be Move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75240" y="6488280"/>
            <a:ext cx="31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 Shall Not Be M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 Shall Not Be Move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 Shall Not Be Moved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 Shall Not Be Moved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24:38Z</dcterms:modified>
  <cp:revision>32</cp:revision>
  <dc:subject/>
  <dc:title>Slide 1</dc:title>
</cp:coreProperties>
</file>