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0DB-3D12-414F-80A2-625AF08E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DA1-851D-450F-91B0-126D94C7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8E4-4342-4E9A-A6E5-A4FBCBE4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4E1-8DEA-49D0-93DE-D5CDE7DE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9ADF-8F21-426E-8499-2A539357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65D1-410C-4573-A059-744FBAB1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E2E0-10A4-48BE-A4A7-E7BFBFD4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DD47-68A4-4D2C-8636-BC8B6263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80B9-2CF0-40DD-B74E-D5AD6956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E891-50FF-4ECB-AA06-CD96982D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FC14-9969-4BEE-B245-FCBD1561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D80-A473-45E1-9320-AA3732D7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4CA4-77AA-4E71-B939-EA3E9B74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F28D-251C-43BF-8DD6-AC21D909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1D7D-6AAC-4C31-91C1-E5020073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BB86-1A51-47F8-820B-2382EB24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3DB7-583F-4A9F-8984-B97956A1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F61-F569-4CEF-AF65-1FA2B530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7D0E0-C0AE-4161-89CF-6B70A945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E06F-1619-4CA5-8686-CB1D4028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76AB1-94EE-45FD-AC9B-9EF452CC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1B1-7218-42AE-B90D-21BB98BC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133DD-8D87-48A8-BF82-55F399DB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0EF1E-3393-415F-9CD6-9A9DCDD3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B5CB3-78A1-4598-BDFD-F3339B45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D564B-C056-4B75-9A66-5043F570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1010C-27EE-455C-A5C8-522DF7CB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AC337-A9C7-4D24-B75E-FE449269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6A93D-8C7F-4429-89EC-AB54A179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9AB75-AF2E-41A8-AC1B-1B96F3C6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4D4DE-3E81-4627-AF49-30AEEA3A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E9C3-D763-4EC3-9BCD-C7386318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68B-5723-463D-8CD1-205DACCF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631-79D6-466A-A640-7BDABB35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02D-FA8A-4040-95DC-C275430A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097-6FA9-45A0-80A1-6F1655C4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39C7-902E-4A33-ACDA-2463C9A85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A0E1-A9E6-4F20-B5D7-64B21EB0D4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987C-3C59-4EB9-A988-6A668766D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s It For 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es R. Havergal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ullius C. O'Kane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s It For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4080" y="648828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s It For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s It For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s It For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s It For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s It For M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64080" y="648828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s It For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s It For M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s It For M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s It For M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s It For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4080" y="648828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s It For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s It For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s It For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s It For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s It For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4080" y="648828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s It For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s It For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s It For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s It For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4:42Z</dcterms:modified>
  <cp:revision>26</cp:revision>
  <dc:subject/>
  <dc:title>Slide 1</dc:title>
</cp:coreProperties>
</file>