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79B-D98C-4BCE-A2DA-65E373DF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AE5-E96A-466C-BE4A-36B60A9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7AD-2AD7-4D35-B88E-8193CED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C08-62FC-44F5-9796-36F441FD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F1F-10AD-486B-B536-3EBB4A38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8E94-D787-4033-9CBF-D8223AC0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1D0C-6737-49C8-BCF7-27CC2DC7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1BDA-ADDA-42E6-937D-4DCEDA7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CBA-A3C1-4772-922D-02551CD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B7C-1CB9-4755-BC52-5E8CA59B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BC37-92C1-4CC7-9DBA-AC23E98B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60A-F49C-48CD-90C1-9AD5E5FC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E29-C404-44A0-A478-7A253F0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48B-A2B5-464C-A9B9-A805A90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DCE-4447-4F46-AB7B-53B7018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A831-4C60-452E-A005-A7227B10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E44-572A-48D5-952E-4D5FC0A5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43F-DF02-4A9C-88FA-B0D9D28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C111-D517-4B02-9A7D-CC285C65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513F-3F21-47F5-985A-E80BB250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95C4-E7A6-499A-B9A5-DAD2F3D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F29-83BC-4014-89FA-6696A45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17FC-3275-4258-87C5-DBDA909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7886-6913-4B20-96E0-0A100BA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CE45-E997-40A6-AB98-BEA701E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FD59-FBA9-4DA2-BF6D-CE58766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ED7B-75D4-4357-AA22-BE3A183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08FE-6418-43A2-B1E7-F99911E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7764-CA32-43FB-8E3E-EFFF7B75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75E4-D80E-41A0-8285-C3904195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4B9C-8270-4598-B5D7-5DEBE46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0AE-7A1D-43F4-B258-08746AD8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A97-3181-45D6-9186-7671895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570-599D-4D62-A4B5-DEB9000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00F-F21E-4279-8C56-57C47AD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9AB-2B5F-4873-BD79-7D221B3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02A7-88A2-403A-9172-144044424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93E-458F-4CBA-8242-D3B64165E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FE3-0812-40C5-80B8-74B25D443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t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t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t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t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t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t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25Z</dcterms:modified>
  <cp:revision>32</cp:revision>
  <dc:subject/>
  <dc:title>Slide 1</dc:title>
</cp:coreProperties>
</file>