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7B5-E08C-4AED-AE70-A5879F90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B61-C22E-48D1-B792-BA7C4DA4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5FA0-9876-4B0E-B2FF-18E7D704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04BE-C91A-4C21-A03B-6D6D20E2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4F13-45AB-4DE4-AD08-C7B1F81F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5136-33AC-4C0A-BEBB-92683440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33D6-2271-4C6B-BF16-4CB134D5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608F-E111-4DAC-AC3C-8E2D690A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C14D-6FE5-4F5E-8D71-2CEAF9F8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397F-A3D6-47B7-9433-EB7B8013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54E2-513F-48D5-BB6E-746552E1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E28D-3F59-43C6-9BE9-07B22653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2710-372A-4957-899B-4ADD3422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B463-966B-4BBB-9DE2-A0E8504C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8753-C0A1-4628-8BA5-51536CC4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C031-7D3D-4EB6-B789-165E18B0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18D0-749A-4B89-B954-56117794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A372-1933-4AF7-884B-6C8C36B8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7D3AE-3EB7-49E3-AF6C-1C5EBFFF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61A9E-7B19-4AE1-9742-D44EB803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2EE5A-E6BD-4D14-AA8A-9098B2DA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360A-589D-4CBC-89A6-432B508B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49EF9-0B5C-4D0C-97A8-35C334C6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4B78F-3B77-4D26-AF52-82573F36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DCC0C-67CA-467A-8444-70BAB587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60EF1-B250-45B2-9E5A-A9693452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684C4-F82A-446C-899F-3EAC7F3A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1536D-AD6D-41C6-8E54-DE92EE48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BBC6E-F09E-4BB7-B736-BE399CD2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D01E0-39A4-4712-872C-4702CC50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0DEAA-814E-41E6-ABD3-43878B9C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57E-09B4-434C-BC35-3B028EDD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982-9F98-428E-8032-42E873DB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E93-BA9F-4F38-A6A3-6550E700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7CFC-D697-4DEF-8C45-37B4D1C0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F1C-F13D-4ED1-844B-D5D911EF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E2E7-56CC-4804-8D4E-DA41FEA27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3DA0-F83F-4652-8FF4-6540476CBA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6EA9-7FA6-4137-AD99-D9B00DAFE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Sorrow I Wand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 Walk With The 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entley D. Ackley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Walk With The K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3960" y="648828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Walk With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Walk With The K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Walk With The K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Walk With The K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Walk With The K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3960" y="648828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Walk With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Walk With The K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Walk With The K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 sheet of music with notes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Walk With The K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3960" y="648828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Walk With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Walk With The K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Walk With The K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 sheet of music with notes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22T01:58:59Z</dcterms:modified>
  <cp:revision>28</cp:revision>
  <dc:subject/>
  <dc:title>Slide 1</dc:title>
</cp:coreProperties>
</file>