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D08-0F0F-4C77-8E04-FD013BC4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830-F2CA-4EEE-B7B6-BA5E806F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241-C8F4-4821-ADD2-6EE842C5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CBA-69CC-4364-98FD-F2830C40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2B73-B52D-4C1A-B586-0B5826F0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AD97-E89D-4414-BD75-2327E803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9A4-3DF1-427D-844E-DF5B111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90E-BEA9-48F1-A471-AE78CCB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082F-A473-489F-AA17-CA10CDE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C591-4C82-4D9D-B3AF-7E46C06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F3A8-1D6D-471F-852B-2195A02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5B9-31A7-42A0-BFD6-30B6920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1429-884B-4AB2-9249-E09116AB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19A-E1F2-4E63-9697-2823E96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F40-8BF9-49A8-84A8-CF486730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090A-34AF-4430-B29B-3DB1F400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D194-1E21-4584-A4AE-ED00C196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063-D879-43E9-82C4-6325D62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C255-8C3A-4FC1-AA65-EFD0934E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BB08-8379-48BF-919A-D2F4B728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0F0E-8002-4F61-A917-D393FAA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ED0-8224-4FAA-8D1A-F804645C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9293-472E-4761-8BE3-8F1FAC4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A393-F937-447E-8191-F9D5244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582A-9CB1-4B25-9057-C37DBB1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A5C7-01C4-43AA-A57F-9CD8A49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C429-FAA2-4FDA-B626-6C98C16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43D7-6725-405E-9D01-6949DD1A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2A6F-FD4A-4A81-A91C-0F89E890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DA77-BDA6-4F21-BDCB-DAE1BE5B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6B17-3ABC-401A-BAC2-8E377361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298-96BD-41C2-8E24-2F49351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714-7324-4498-B46E-E767E78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31D-D378-45D5-BEA0-FCFD494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2FA-4C95-4B07-B66F-2EB9FD5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FC0-B4E6-4860-96F6-72E1783E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093-405A-4D00-B7A9-A38FBE474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74AD-3696-4325-BFB2-6C7EE2B46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300-392A-439D-AECA-ED7D7DA53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Memory Of The Savior'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INCHESTER,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Cotterill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ste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5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Memory Of The Savior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Memory Of The Savior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Memory Of The Savior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Memory Of The Savior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Memory Of The Savior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Memory Of The Savior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9:27Z</dcterms:modified>
  <cp:revision>26</cp:revision>
  <dc:subject/>
  <dc:title>Slide 1</dc:title>
</cp:coreProperties>
</file>