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7D0-877D-4734-8F60-0D6B159E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406-37AF-4AB3-BF91-5410236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74D-79E5-4EE9-BE85-B3714346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E9B-B1FC-4EF7-9436-C36880B7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DB13-1DA0-4BE4-852B-AC54EA4C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6126-0128-4EDA-BF32-528FBF86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DC0-4A86-4960-98DC-B62A02E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C3D2-9C98-41AB-9791-1526C8F5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0014-94F2-4D6B-BF86-8CDCD57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F1BF-C91D-4347-9C71-47B46A7B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05AA-10F2-47D2-90DB-1E3618F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CF0-D6A8-4712-97CE-EDC7279C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0D07-539D-43CD-9154-E6BB408B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09E2-4F8C-4979-B69F-C53EA42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40CB-ABA1-4C32-9B8B-110F292E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7A58-7422-41B6-96AE-9EE7A905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465C-76C9-4B0C-B6F8-2CB5A036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A6F-AEBD-4788-AA9F-D6FD0DE0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1A5B-3AA3-4FC8-A9D8-8205BDB1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66FD-C573-4D3C-AD94-A11BB326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DE197-96D7-4B16-B59B-2E13E0F7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2E9-1603-41CB-B777-3F152BF8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EC3A-342B-4D46-BF9A-85661EA5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9352-8964-438E-8D28-F7D7EB54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B13EA-79C5-4638-9976-42F89D28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3B8F-9FEA-4CAE-BF60-60C4D284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E8CF-52BF-411F-846F-6C2C8690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663E-C9A3-456E-8262-1C740122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960F-7516-4949-B3F3-FD120D4D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7E7D-9DD7-4EDD-B93F-582E6AD9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3535-92F0-4E64-828E-00A58BC2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EE0-1E38-49C4-AD76-EF516956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6DA-47C3-4907-8D80-34C46311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431-7FE2-42B4-B6D6-61CBD21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A18-992A-421B-A062-1C951AF9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1EA-1733-4BFF-8DAB-4A14F73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4E1C-248D-4D89-A58E-2A1BB96C9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2C47-9C27-4276-8376-D0E65E49B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91B8-6BA5-49FA-BCD7-655A69DFA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ll Be List'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 - 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 - Traditional, Arr. V. O. Sta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Be Listn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704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ll Be List'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Be Listn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Be Listn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Be Listn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Be Listn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704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ll Be List'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Be Listn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Be Listn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Be Listn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Be Listn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704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ll Be List'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Be Listn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Be Listn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Be Listn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0:44Z</dcterms:modified>
  <cp:revision>29</cp:revision>
  <dc:subject/>
  <dc:title>Slide 1</dc:title>
</cp:coreProperties>
</file>