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555-2DA4-4FEF-BFB0-DF437515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710-2EDE-4C96-A5D8-10C88660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894-F173-478C-B1BC-A7FBBE58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9FD-F052-4812-8FE7-BF6055D8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9B46-210C-40F9-8210-B8641EDB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5997-FB8F-4927-8C8B-CE68460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DC7-080A-4382-B698-BF809E6A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807-5064-49BA-9BF8-1DDC6A1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5E36-840D-40FA-A25C-B1CF65B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A31-7A8A-4E3C-8C48-B17A3744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C645-2260-4711-A9E4-48808BA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B3C-FF1B-4618-A406-7911ACD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9849-434E-46D8-B83C-2E2730C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321-A4BB-45EA-ADDF-3064BC7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87B6-FD8D-42C0-8DFC-A1E131A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6FA7-ED7B-4C0E-B4F4-77E6467E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0F8-5DB5-4D43-914D-278E84FF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18B-3AA2-44EC-9D64-065BB48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95A9-F459-4DA6-A3EC-623DC226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A48D-E2A5-4B57-94C8-E318100F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DAC1-6521-42C9-9A2C-AAC47DE3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8AA-4569-4E55-B666-5960B7E4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0961-CF19-45AC-87BB-FB369FB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BC25-51D7-4E04-B574-92DFFAE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EE9C-7E4C-41CC-A3AD-38F6A142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0EE2-440E-42E1-BE96-F64244F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927C-51C7-4AE8-AC3B-B82820E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C117-8676-4F80-ACD6-1DF4A57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D6D7-8540-4F0A-9CF2-DD617CD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DD59-0251-4721-B50E-05D2E94D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6ADE-56E0-4100-9AA4-2D2A4AD2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CB4-86FD-4B52-BBE4-192015A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0E1-5F6C-47CC-8A33-9BF52A7A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4D-37F0-4924-950A-B03EDCB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AA0-AD43-45C5-B3A1-015623A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5EF-86C5-462D-92F5-E2C4476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0531-8CBA-48C6-8D9E-D6E3218C8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138-ED77-44D5-BF91-836C08C8E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8DC-5780-4B8D-A87B-C3AFAFA49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Be Satis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My Soul Is Sin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N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Satisfi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Satisfi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Satisfi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Satisfi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Satisfi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Satisfi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Satisfi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Satisfi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Satisfi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Satisfi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Satisfi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Satisfi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11Z</dcterms:modified>
  <cp:revision>32</cp:revision>
  <dc:subject/>
  <dc:title>Slide 1</dc:title>
</cp:coreProperties>
</file>