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CE8-BF1D-4261-816F-749CFDB8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1B6-9FA4-4C9E-9781-5795B99B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8BF-0D98-4E4D-8E3E-C5D2A8EF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283-2ECC-49C6-B6AC-E28D840E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CA20-C97D-4F7F-B451-24ED6EFA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5C8-37D0-4300-B873-8C1A34C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FC3A-430D-408A-87BD-E601CE5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6C4-0A8F-4670-A7D2-AE31A8A9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E32-4F25-44E9-85F4-97CD416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2F5-F013-48D5-B9F0-DD6BE766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69B6-25F9-42FD-9907-8B48939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99C-1F1F-4B98-B310-7F22608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D079-8C2F-4981-8BA6-5A15BC7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8B19-6527-444B-BA8F-D66FAC3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E01-A0A5-4EB5-B31F-2FA2F95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B18-FB82-40E1-98B1-F953C3A3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A5D-3694-40E6-B646-1AF092B6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5A6-57D9-4417-A37C-C2E5A31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00D8-94BA-4EEB-944E-0761DC98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801F-7CBA-47E0-9C8A-68E02C9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C2C9-9651-4828-83A7-3FCA152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BBC-D647-4480-8F85-9E3A222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861E-086A-4966-87CE-C4DAA92B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C36C-899E-48F8-A242-1F3F629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DC62-F6E2-46D7-9131-779E8EFA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0B9E-2123-4BFA-BB1F-F5A7A33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C7EB-B420-421D-B698-6F8F50B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7AB7-7921-4A68-9BA0-F51BBA2F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E801-B37E-4AE4-818E-C5315F69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23FF-65CA-4BC8-8969-7225CF0F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2131-A5AF-4B51-9F29-A1493CC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BE1-B310-4A63-833B-D9FA533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7D6-A5A8-415F-9DED-81EAF2B7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DEA-1E25-4529-96B4-AB1C1B6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363-F190-4501-B6E5-1BD5F391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F6D-E8B4-444C-997D-A287325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73E4-803C-4CCC-BD78-C75EA3694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A68E-7399-481C-8D55-3FC6DBB95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9CF-B2FB-40D7-A611-71DF94642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Strang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King’s 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Stranger 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Stranger 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Stranger 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Stranger 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Stranger 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Stranger 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Stranger 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Stranger 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Stranger 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Stranger 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Stranger 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Stranger 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13Z</dcterms:modified>
  <cp:revision>36</cp:revision>
  <dc:subject/>
  <dc:title>Slide 1</dc:title>
</cp:coreProperties>
</file>