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F74-A7FF-4BDD-B189-CBC01692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8D2-7785-4068-918F-178AB439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0EA-020A-4AEF-B153-2D85A3A1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A7E-7BA8-45D5-823E-8CF7D928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5361-9AE6-4899-9DC8-5AB211BC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B33-2DAE-4408-B573-3BCCE454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D5F9-1B9A-4E1F-881B-1474606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FE30-A212-406C-956C-8F09F2E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2B7D-E6FC-4006-9C84-9A0480FA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758-DB0F-4FEC-AAA6-0E3CE80D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D47-5657-49A1-840B-1655A23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C4D-FC4C-4920-B52B-72CB6D7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6261-71AB-495A-940D-331D8A4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3075-05AE-4839-8C6B-4361AC0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8627-BE7A-45F2-B2BE-F79A625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D0B2-0CDE-4C80-98C7-F962D4C2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130F-4BDC-4F9B-907C-84577A25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F5F-57D0-4561-908C-63B48733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430A-E696-4285-A849-7AF95833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06C2-F64B-402E-B97B-66D9867B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E12C-8F9A-414A-9C42-51793408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31F-E906-49A6-9B6C-E29F8B71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683F-B6F5-4314-9A16-698EC32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FFB1-08AE-4A19-8554-AB05D69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7E57-0F5C-4419-BF21-50614C1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7953-226E-4DC7-927B-0FF1600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A08B-F1F3-4263-B424-25509EE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2C90-22CF-415F-9A94-CFADA7C8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FF03-4B72-4B93-BEDB-6D7F229C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1D36-8632-4880-91C7-12C20A93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8B30-95E5-4A5C-8800-7659E856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216-A712-4A44-B429-7CD01965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CDA-9640-43FD-9699-F596C9E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ACF-3F75-4982-9969-8D6EFC2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BDE-20DB-4C68-B1FA-0E9702B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417-39FE-478E-B5F7-A168CE1A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FEE0-985C-428C-9EFE-84E943D8D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103C-C056-4758-8357-3DE6D483B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E16D-E58E-46A1-B3DD-CC4239E93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You, My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American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gall’s Christian Harmony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You My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52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Love You, My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You My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You My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152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Love You, My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You My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9:34Z</dcterms:modified>
  <cp:revision>33</cp:revision>
  <dc:subject/>
  <dc:title>Slide 1</dc:title>
</cp:coreProperties>
</file>