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AC1-B1E5-487F-882C-BC34955D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098-204E-402C-80AF-9514C41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A9D-F2FB-43D8-B992-86385108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42F-1F2D-4355-822F-6ADA3026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5CD7-85C1-40CE-BE8C-3BE8C455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1BC8-7996-4153-923B-FCE4070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03E1-1684-42C9-8E07-D69E905B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DDF2-D188-4854-A5F4-A1D4A84D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F202-4E1F-4642-A6E5-DB3E6A3E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ACE-0425-4CEB-A374-6CF1320E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BEB-FE96-44DD-BC13-7E57EBB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C08-2B0A-498C-83D4-BA33D7D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C9FC-0A24-41CB-8E62-16653C5B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4C4-4D77-41E0-BA24-D0194EA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2EE5-84F6-4AD7-B980-7BF13B6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816B-21C7-419D-B9CC-B901C68C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3802-92B4-4434-A30C-5F21EE07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5AF-C061-4EED-91EC-E8D0E747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C14E-4D55-4BB2-9A70-ED62883A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1D45-B157-4FA4-A1D1-1161C860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86FA-B99C-4FE4-9711-08D189D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74A-446E-466C-8093-B732720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F555-336F-4890-B8C7-63ECFDB6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815F-11F8-48CC-A79B-3720C68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D556-78D0-4371-9DB9-DFDDBDEC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E525-02AD-47DD-84A4-13E7ECB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9E21-101C-4530-8BA5-9885AA63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D6C7-4B64-4FF5-9B52-4C47108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4294-6A79-47CC-BD43-3EEFA11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10CC-9AA5-4D3F-983E-35B9BDDD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97C8-B3E6-4820-8EF1-EFD03423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4E2-1112-47FD-B81A-93EE4A5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79A-E031-4A1D-BD1B-17A3A154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9DF-B984-41AE-A767-B19F53B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370-F822-46CA-9980-6684DAE4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403-03F0-4C7C-978B-887256B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6C47-1D6B-43E7-A2C1-772A3A911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7B6F-FBFA-4B04-81C5-E9E11FB54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1562-D313-4A21-AA81-2BD0037D6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The Wondrou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H. Rowley (1886), Arr. Ira D. Snak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P. Bilhorn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4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Sing the Wondrous Story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Sing the Wondrous Story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Sing the Wondrous Story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the Wondrous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the Wondrous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the Wondrous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the Wondrous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the Wondrous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the Wondrous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Sing the Wondrous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Sing the Wondrous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7:34Z</dcterms:modified>
  <cp:revision>32</cp:revision>
  <dc:subject/>
  <dc:title>Slide 1</dc:title>
</cp:coreProperties>
</file>