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E11B-41B8-42E4-88C4-D2870F323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D80C-57F0-4EF3-8969-37A6E4A94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4633-6740-4D3E-83C4-90DEDD524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2448-3A66-4D22-9030-886E83962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D1660-C05E-4260-8F89-41F19A731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E44C6-8DA6-4B36-AD0C-86AD054E6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725B2-FCBE-4713-A6D8-08469C38A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E2B1A-AD00-4272-BDE6-CF9A7C527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4AD20-999F-4DAF-B13A-F603375B7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9F040-A60F-4C1F-ADD2-7FA5F3277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A835A-7E08-4FB1-8472-06523009C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5127-8786-433B-AC7D-6A31BEBDE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54523-035B-468B-9045-9B6617AE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E4D38-8473-4AE0-BB24-EEE0FDCE2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CEFEE-4151-41F6-93F2-2DE5C8C78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13380-79C2-41FE-978C-099C43C8F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3BB2B-BA14-4D4E-AB7C-0276D68F8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19E6-E569-42A3-849A-619BAAC2F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33B68-758A-4B0A-A909-CC91925B0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A1341-9A69-4628-91EC-DAFCDF5E5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C429A-3519-4D33-A1D2-2141A9F82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E648-9E47-47FB-98AC-4406AC03D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B1D1D-5FF6-462B-A404-5987584B9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30040-526A-49A7-889B-1F8646C2F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E487F-1084-40DD-8760-9D99A0198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31909-C686-4143-94CC-0B5886DD6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CAB98-0087-4666-A83D-C57813871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A0E49-0FFA-477E-8F96-F2A9469D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42801-0978-436A-B15F-54D2178D7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393DD-120B-43C5-B07B-BC2706464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8A216-07CF-478B-A740-3DA63CB4E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FFB3-102A-4A85-AAA0-DBE6E0529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B7E6-3B07-4BF5-87C4-36DBD28B8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6B9D-7DBC-47B0-9312-2F10AE9FD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EE2C-1600-4C19-AF95-F0ABE7DE0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A1F7-4A9C-44FA-BC2F-8D403D66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C5A58-BBDC-4905-B029-A785A275E7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5AE64-A153-4DA6-96F7-0D95328E9A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5496A-F612-4103-817B-6670261CA9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t’s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B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raditional Spirit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raditional Spirit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ts Me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ts Me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ts Me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69480" y="648828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It’s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ts Me_v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Its Me_vcho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3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4" name="TextBox 4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ts M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69480" y="648828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t’s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ts M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ts M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ts M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ts M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69480" y="648828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t’s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ts M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ts M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ts M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69480" y="648828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t’s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39:38Z</dcterms:modified>
  <cp:revision>31</cp:revision>
  <dc:subject/>
  <dc:title>Slide 1</dc:title>
</cp:coreProperties>
</file>