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0EF-E453-4B37-AEA9-096C33A3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45D-31AE-44E0-AAC0-E4A29697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6C9-EFB2-4AE6-8C5D-02A0DAB6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4E4-B790-4A15-A1A7-A39C5772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CD07-39C3-4C3F-A5AD-56E636A1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7E26-CD9D-42F5-AC1D-EFC922A4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CF62-0979-4C67-A9F6-23002F5A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046A-7018-49ED-BEF1-C20C735E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5387-B21A-43D8-90C4-51696759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9296-BF91-4FCC-B524-45E79A29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E1F7-DFEF-4948-9240-799BC4F4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8B4-11FF-47DE-A049-62AB9AD2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203E-BEC1-498F-9B28-808D5D32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FA9D-91AB-4140-ADD9-8E1AB76C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00CB-817C-4527-AF59-B9DEC28F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E719-0F67-457A-9512-0E595C1F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9FD4-6EC7-489D-BB1A-3989C6B7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BE1-1553-4DA9-BC34-8C64054C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9D58-D1C3-441C-93A7-7E050744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D0AE9-03FF-4C37-86FD-192E4DC4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6E450-5684-415C-9C5C-4CEEA2A3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C17-97A7-4F2C-9433-0C0E30AB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0E0F-E4FF-4CEB-86C9-56F4478D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5BDA5-BA6B-4CB9-9635-4B32472E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1B61-DF83-447C-8690-BA6DB76B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2B401-A276-43A7-A759-4170FC96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277F4-C70E-406F-848C-AD6C2F08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0908-2917-4812-A261-08A4F7DF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C6C3-18D1-457A-A637-58D1AD86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D2A4F-0B98-4DE2-ADEC-C9D78F18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8F5A-17DE-4DA3-B279-45BC1FF8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292-EFE3-4C24-964C-80E68700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FA3-81EA-4F7F-85E9-77DD7FA6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845-CC59-45E2-A480-A1D607D3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E01-155C-4F52-A482-8898F987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33D-E519-45C1-ACD2-46E7756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92A8-8B81-44D9-8006-57A505D00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E7EF-0B54-4AE3-AD41-149E83DE8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376D-F114-49F2-B61B-B8DD8CCF7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ll Be A Friend To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, Jr. (19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Dennis (19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ll Be A Friend To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36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'll Be A Friend To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ll Be A Friend To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ll Be A Friend To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ll Be A Friend To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Be A Friend To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36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ll Be A Friend To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Be A Friend To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Be A Friend To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Be A Friend To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Be A Friend To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36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ll Be A Friend To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Be A Friend To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Be A Friend To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Be A Friend To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9:43Z</dcterms:modified>
  <cp:revision>18</cp:revision>
  <dc:subject/>
  <dc:title>Slide 1</dc:title>
</cp:coreProperties>
</file>