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C4F-B0AB-41AC-9910-FF25F648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665-1E13-4D05-B6CC-06C1247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A8B-BE65-4AE8-A732-74A82523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CE7-50AE-4EB0-93E7-10A4CB7D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C4D8-3683-4101-8213-57B8A5AF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995F-8D1F-4982-82E6-617D12CD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2621-833A-4B78-B78A-A16509F3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92C8-E130-47E1-8A25-3A022D59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E163-ED78-4F2B-8735-EB119BAC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20C9-87FE-447A-8F58-EBA45E9E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7861-148C-4F00-9BC2-2F21FFC4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E28-E3AF-4F66-B7CD-79268CB7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D3C8-D425-4CD5-A8D4-9B5BC29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13C1-5605-4FD1-9EF1-02BB0617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28E7-60DF-46EF-93D9-AC505C83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D4B1-58E5-4849-9221-E8C348DA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87E8-C7B6-404C-98D5-68E4B537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3E6-EF8B-4A48-A1C4-9F0261D0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2492-4507-4A84-9F0F-7BEAC811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1984-E89C-43A2-A80A-8F89327D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5A76-ED53-489F-983D-27AA4518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5AB-EA58-49DC-9AB2-AEB59FC4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9CBA-A109-422D-AB69-BE53BB67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591B-7B94-416A-B6DB-559C4218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7D65-DA06-421C-9C7A-23B72C61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55FC-3FBA-4C2D-A38C-80F512FD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0D462-B1F5-44FB-A7A8-72ADD3C1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5650-DDF2-4515-872C-3764560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8A61-B890-406E-9544-D7A317C7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91AA-F670-4B3F-9BFD-907F8017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5B41-D441-4DC2-9479-B0C0CCA1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8F6C-90A9-4299-ADE6-B2638F4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D3D-8A4B-4CFA-B72D-F4A6AF5F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DE4-B77F-4EF0-A622-E8449832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C7E-323B-44BD-A7ED-70E1EF8C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7BB-F0E8-44FD-B8F2-F97FAFF4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EC97-2B4A-4591-B453-58E7D321D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B620-AC00-44D9-A61F-BAC250424B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CC09-CBFA-4160-BA92-0488F51E6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It Well With Your Sou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irgil O. Sta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It Well With Your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144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It Well With Your So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It Well With Your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It Well With Your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It Well With Your Sou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It Well With Your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It Well With Your So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It Well With Your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It Well With Your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It Well With Your Sou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It Well With Your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44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It Well With Your So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It Well With Your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It Well With Your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It Well With Your Sou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5:25Z</dcterms:modified>
  <cp:revision>30</cp:revision>
  <dc:subject/>
  <dc:title>Slide 1</dc:title>
</cp:coreProperties>
</file>