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010-E939-40DD-B01F-144AF8D0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8FE-AEA2-44B2-9B2A-D7C1A4D2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D9F-32C2-42B9-B3F7-AE9026A4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D36-C5A0-4CA3-96C3-94E85BF4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D570-0489-4865-8A2D-9848A588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0318-75D1-4032-929F-024972A6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4B99-5A8F-49A8-ABEF-69870A0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45D5-161A-40F8-97F1-D97BB7CE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0E5C-D0FD-48B6-8154-13ADEAA7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9981-31F0-4AE5-B0AD-68ADC754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97D4-A770-4587-8F7D-D8FFB4C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487-F6CA-4086-96A7-BCD049EC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C93B-0B51-474B-A39D-1B82DA1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4F09-B558-41C9-8DB7-1CB0924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C706-8635-4F1E-9F4B-E24CDFA8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CE63-DBCD-41A5-A119-4CBD84D2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88E8-210E-4C85-9DB0-20A7E41C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3B3-0497-4D09-9DB2-D3F932BF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B69A-5E7A-4233-BE40-BBF8BA2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6497-055F-4584-B91C-746EA01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3C97-ABC9-4A47-A1A0-7F120D88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37D-7E79-4A98-91C1-9B7EB7B5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AACA-1DD5-403B-9295-D480556D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F77BF-749E-4611-85D5-9B39C76C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181A-77D9-4985-A943-96C9411E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C3D3-A4F4-4CB8-9644-467D7DE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55BA6-B6AB-4A14-8F8E-B8AA014B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3E64-E160-4C2B-950C-EDA05C6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8EA7-A4CC-420A-B1F2-2BD7801E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7641-2A6C-41C2-ABE5-31BF15C3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A694-1E57-45F1-997A-91D9345B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C3B-BD0A-45A4-906D-61580D3D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92E-6243-48ED-9A29-DEAEAD9B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AF5-5B84-4744-9844-24ADE8D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386-ED57-4862-ACF4-5036D71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EEA-E2C4-4CF3-AAE3-90E966B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7C42-9135-419B-B5C6-7FB14A69C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E304-9D29-46AC-BFCB-96478CC1D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C694-9876-44D4-B7A2-7FEE05163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f Jesus Goes Wi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f Jesus Goes With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f Jesus Goes With 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604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f Jesus Goes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f Jesus Goes With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f Jesus Goes With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f Jesus Goes With 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f Jesus Goes With Me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f Jesus Goes Wi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f Jesus Goes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f Jesus Goes Wi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f Jesus Goes With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f Jesus Goes With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f Jesus Goes With 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f Jesus Goes Wi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604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f Jesus Goes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f Jesus Goes Wi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f Jesus Goes With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9:03Z</dcterms:modified>
  <cp:revision>34</cp:revision>
  <dc:subject/>
  <dc:title>Slide 1</dc:title>
</cp:coreProperties>
</file>