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002-668A-463E-AE84-5FF26AB8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6FC-4410-4CD5-970B-0C0CB9C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D6C-7EF5-491A-9573-AED2849C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FF7-D8AE-420B-AA7F-5888551E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916-D62B-4996-A9C8-4F2D3AB0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2081-CCBF-4CD3-858F-2C281899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B7F0-0711-406A-9691-6AE335D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45B8-763A-4120-8514-ACFCD19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BF36-C14C-488D-90AE-631AD70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A1C-F9FC-4561-B85B-D8877EEB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442-EA29-4C45-8A6A-AD58038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443-2FDD-4F61-BED1-993E7B4F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A6C6-EF34-4CD1-93A5-C6ECF92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C49C-2AD6-4F96-A235-C8D9CFF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4358-943E-4F09-8A31-0AECD72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A89C-91C9-4DA9-BA6F-F2816300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E5C8-46A6-4CA4-8A28-F0FB1FC0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F43-B5C5-4D4E-996A-FC37915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9783-E989-47C8-9F57-107ED23F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A046-4F56-46A9-BF64-1508616A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333D-149B-46EF-B178-6C60DB47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A0F-549B-41E2-BF42-E42C56C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0359-B941-4418-9E19-91167E85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72C2-E451-4ED7-BAC4-F987A0CA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8020-07B2-4E55-84AA-5DA6CF98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0E28-17B7-4A70-BE4E-6021AC10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9C6B-54D6-459A-9C1E-064FA78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5E3E-6636-4297-82D0-201BD7B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F24B-EB1A-4896-A2A0-92EC769C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5948-30CA-4733-870C-48A87596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6EE6-D6A2-42FF-95E8-333CB842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989-5DCC-4F0F-B80F-368B4C40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8EF-FB76-449B-B265-BE87E341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282-4463-44C4-8680-9F21B93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130-CB34-47E2-B1C6-A98B172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AF1-27AF-4707-AA93-FD97527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BA7-3775-404B-9460-5157604F7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8FA4-147A-4BB8-B821-516FEE4F4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2B68-73F5-454E-B990-103F47B11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So G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So Gl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So Gl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So Gl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So Gl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So Gla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So Gla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So Gla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So Gla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Am So Gla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Am So Gla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So Gla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 Am So Gla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 Am So Gla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 Am So Gla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 Am So Gla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 Am So Gla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 Am So Gla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So Gl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So Gl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So Gl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So Gla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So Gla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So Gla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So Gla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1:08Z</dcterms:modified>
  <cp:revision>31</cp:revision>
  <dc:subject/>
  <dc:title>Slide 1</dc:title>
</cp:coreProperties>
</file>