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AFF-96CD-488E-80E4-385D39B7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E5C-A51B-4A94-BC77-88025392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663-20C2-466C-8431-5C909C37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8C1-E9CF-4903-9D06-6BB5C367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F32E-BEC7-4CE3-83BF-3D596976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B969-4B39-4EDF-862A-03CBBAE0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F367-805E-46E4-8E6C-3AF205C0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96C1-F909-4CBB-952F-2794F034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733C-FE47-4250-BD0F-B81D519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53F0-6ECB-425F-8F0A-3754A9D1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9809-1F50-4DFC-B576-7A55D13C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9D7-343D-4923-A4B8-FF23039D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052D-6E40-41B8-B51D-13D7F09E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975D-1045-4037-8CD4-F60EACB7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D639-6E58-4DE0-8805-22309B69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C46A-17B6-470E-AF4D-9A6D639B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1F4E-DE38-4EB3-BCAD-0B119D31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25F-B511-47D2-882E-170715FA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A4A59-9A9B-4B9D-9A8D-44D142C0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800F3-ECAA-46A0-8552-D6314784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18083-DD4E-4B2E-AFDB-86E29DA0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8E2-19FC-4F13-9FB6-F300ABA9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8DE2-658E-4F6D-B946-E2F86E6C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382EB-244A-42ED-B2C1-989A0D38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0CD7-2143-4FB9-B7C0-AF1E64C2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31BB-2942-4DA4-9678-413E3D53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DA6E4-F542-4FBE-9749-B7FDE13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E8A6-5F47-417F-A850-34AAD7FA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6CC9-4002-41DE-BE15-5E2A9568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D8CA-CBE4-4D49-83EA-5361EF97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9EAB-753A-4C8A-90A2-F24AEEB1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2EE-5B15-4BA6-907B-F2EA9EB8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DCD-6EDD-4192-A65C-2277BE2A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0CA-AE91-4EF1-B206-9D039F38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DD6-F4D8-48F2-9C5D-0AF30221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84E-3E0D-4B85-ACB2-9F2677F1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8120-0A51-4B4B-8A90-8423B80E9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B7B2-A166-4EA1-AABD-0E7741550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C5FE-C18E-4378-85FA-83870CB4B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t Pays To Serve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C. Huston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C. Huston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t Pays To Serve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000" y="64882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t Pays To Ser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t Pays To Serve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t Pays To Serve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t Pays To Serve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t Pays To Serve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000" y="64882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t Pays To Ser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t Pays To Serve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 Pays To Serve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t Pays To Serve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t Pays To Serve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000" y="64882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t Pays To Ser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t Pays To Serve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t Pays To Serve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t Pays To Serve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8:58Z</dcterms:modified>
  <cp:revision>31</cp:revision>
  <dc:subject/>
  <dc:title>Slide 1</dc:title>
</cp:coreProperties>
</file>