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814-5132-461C-8229-799800D1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F813-1096-47CE-B981-6A0170E9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F41-1848-4D62-AE15-BB57F0B7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B12-05E6-45F6-A04F-A180BC6D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09B8-6A0B-4215-A661-AC884DCB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DF83-5612-4BDF-BE6A-BFB9E7E6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44B4-3CE2-4DEB-8783-2CBAC5AE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0550-2804-40AA-9290-E2BE095F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F145-07B9-4DB7-B104-A4385AC1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9006-6747-44B8-B74C-2B6D357F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5EEC-15A6-442E-97EF-7A4B38D6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98C-58AA-458A-AFC2-0DFC340E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B018-5824-44B1-9D30-342BBA20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33D9-C372-4FC8-A2F0-D88FAE66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0FB6-C9F3-4ECB-AA6A-C7F2177B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E02B-4C8A-4829-A426-677F5543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3423-A0BB-4EE9-ABDD-F13DA435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854-30A2-440B-83EF-24BB46A7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75773-3C81-4F73-ACCF-BB0B8AA9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70F7E-51E3-49B5-8A9A-2C7595BE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67B80-63E2-4218-854C-3CA15CA4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A54-2C6D-4564-85C0-14C9995D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7314F-AB92-4C8C-9A73-29821C75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856BF-2BD1-4A00-AFE1-B6691401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8869D-1E1B-4192-99FA-D06E0BA3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153F9-D051-46D8-848F-83BE3159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E014A-B3F7-4023-919E-820B27B7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48164-43BA-4B8F-B7DC-831A8E6E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D59B7-B5FE-4C5C-960C-47414A31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42FF9-383E-4F4F-88B8-E4FD403F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DAD52-B007-4148-A8E2-DE3ED47A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A0D-E5B3-47C5-845D-E20B5D88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1D3E-91BA-4DFD-A0DB-8FB90125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D69-8560-4132-93BC-866F62F1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457C-596A-4BEF-8758-3B37FA3C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759-2555-4486-98FE-526EBEA6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CECB-C2DD-4BCD-9F02-D3B20CFA2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90AA-C98A-410E-ABE1-0F606883F6B3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D23F-CE6B-4B0D-9D85-D0DC0980C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A Poor Wayfaring Str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Poor Wayfaring Stran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102600" y="4902120"/>
            <a:ext cx="174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m (F)/D -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ver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ristian Songster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58),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. 2&amp;3 Taylor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vival Hymns &amp; Plantation Melodies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llman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vival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(1891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a Poor Wayfaring Strang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9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A Poor Wayfaring St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a Poor Wayfaring Strang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a Poor Wayfaring Strang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a Poor Wayfaring Strang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a Poor Wayfaring Strang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9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A Poor Wayfaring St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a Poor Wayfaring Strang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a Poor Wayfaring Strang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a Poor Wayfaring Strang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a Poor Wayfaring Strang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9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A Poor Wayfaring St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a Poor Wayfaring Strang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a Poor Wayfaring Strang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a Poor Wayfaring Strang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35:41Z</dcterms:modified>
  <cp:revision>24</cp:revision>
  <dc:subject/>
  <dc:title>Slide 1</dc:title>
</cp:coreProperties>
</file>