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498-7C4A-4F62-9FCE-63062E7E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366-EE2B-47BD-B4FE-65ED489E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B8D-9A02-4655-B7D8-B9462A51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B86-1F35-49C3-94D4-1E2B2F96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D23C-BDF0-474A-AB96-1E617069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1CA9-3A1C-42C2-AFFF-47F16955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EF78-E958-4EEA-B48A-66921B62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2A47-C232-472A-8BE8-389196DB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C9B3-8C66-4315-9BA7-CEAA8B12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9B70-231B-4350-AE10-04E0EDBC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931F-53C7-41B8-A71F-FB1B2891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02A-44DD-4130-982A-CC95C0A9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0830-9E7A-4BED-B3AB-2CBB965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408C-9067-4AC5-887C-8D545DF8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53A2-0F9F-44EF-A34A-C315E9B5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975B-1236-4297-8038-430E35F2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6193-D5A3-4C8B-BE48-D7CDA409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2B3-1879-403E-B408-28B0915B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7B67-A784-497C-874C-B4919357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381C-7E2F-4363-8529-133F5931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EA56-1F3E-4EC0-9AF0-8F646AAE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43E-45EC-4A12-B7EA-0FF01448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3B9C-B6DE-4267-9F5F-7787A8C9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4352-DE00-4794-B4FC-DE367E5E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87E46-E400-4604-99C1-4941E569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80358-8E3A-43B0-93AE-6A32C0ED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ED1B-EBBB-4143-9019-5DC5E1C3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5C89-7F67-49A2-8126-DC2E0374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6530-B144-4AD0-86B1-D2333C13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E4182-066E-45B7-AD66-6A1218A2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B56D8-5D20-451F-9D7F-5A33BF2C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AF2-B46F-4229-BEFD-2D18C086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B6E-9E65-4A92-BDFD-B968706F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3A4-04DD-475B-A622-40ED07B8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045-8E1A-4E12-B763-9D722C72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8D2-A1E7-47BB-B02B-3C2DF254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F261-5731-4E4E-9DF3-0803467AC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6279-F21B-4E4E-BED7-BA8932D2B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D57B-0D67-4B84-9EBD-5028CDFC1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Thine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Jane Van Alstyne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Thine O Lord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620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Thine, O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Thine O Lord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Thine O Lord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Thine O Lord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Am Thine O Lord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620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Am Thine, O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Am Thine O Lord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Am Thine O Lord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Am Thine O Lord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Thine O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20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Thine, O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Thine O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Thine O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Thine O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Thine O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620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Thine, O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Thine O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Thine O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Thine O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2:17Z</dcterms:modified>
  <cp:revision>27</cp:revision>
  <dc:subject/>
  <dc:title>Slide 1</dc:title>
</cp:coreProperties>
</file>