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92D-365D-43AE-B983-8037B000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9CD-E17B-4AE1-BC1A-E5974CE0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51D-C885-4FB1-A9E1-BF475D8F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5AC-029A-4165-AFFB-C7FC06CD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627-DA19-4688-939F-B502DACD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2E89-59F4-4252-8974-18DBB4D8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B233-1CCA-488B-93A6-AAFC9716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10F1-8656-4F85-8561-D5A82BE1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907C-97AE-44E4-AEF3-C12A2659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AA03-0992-4F86-9B43-32280A31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2110-A900-4B55-ACD1-8DE96EEE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145-A6D6-4A6E-8C48-85748ECD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FB13-BA9B-4606-A26B-B1C12180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D661-B898-4B0C-8F67-91005913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EC31-2249-4458-B890-C0E30C61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9098-F85D-4882-B9F6-54021187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9F0-7657-486E-BD47-AC032648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9D7-52FC-4BA4-81A6-40FF5E78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F1CC-17CC-4810-9A65-99228C78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ABAF-A491-474D-822B-4454239F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511C-907F-4EB9-9BDA-2076A22C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CB1-E29A-4CC5-9CA8-818A1D83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15B0-0B2F-456F-B4FB-0C60D710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E0A7-281A-4269-9428-C3BB9C3F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0007-AA48-4518-9F3D-B180E527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BF7C-250F-4132-9166-7B5D3D26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C47F-41BC-47B4-9B4F-2009403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7470-D655-4962-9AA9-3CB9C61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AF88-D554-4660-AAC5-98B973B7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254D-0FE9-4F67-BA88-C1992027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8FA5-5AA3-4F41-99FA-0D2CC447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CE2-BE3E-4E23-9763-EBB477C2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90D-3B14-4AD3-A30C-1EDE6D0E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FE9-FA9F-4A06-9346-CEBB4C6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BC7-E74D-42A4-A356-A63C77BD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1A4-8E71-4A81-B7F7-3E51E4C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6E9C-9CCC-4680-A6AB-9EE95B75C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7790-8E18-464F-BFBF-C672043EF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76B6-5406-42BE-9C23-57C32A723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Gethsemane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E. Reed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E. Reed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Gethsemane Al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Gethsemane Al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Gethsemane Al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Gethsemane Al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Gethsemane Al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Gethsemane Al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Gethsemane Al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Gethsemane Al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Gethsemane Al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Gethsemane Al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Gethsemane Al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Gethsemane Al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4:07Z</dcterms:modified>
  <cp:revision>32</cp:revision>
  <dc:subject/>
  <dc:title>Slide 1</dc:title>
</cp:coreProperties>
</file>