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353A-A92C-4D64-8AF4-D77659456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E0BB-9464-4336-85F0-A6ECE4858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DA56-F4AE-41C0-A360-4EFEB4D87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5736-D34D-4425-A954-513AA651C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9E023-EB68-43D2-8EF3-79C68BFF3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50165-6C0E-4014-BF27-819618A58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EE740-A7CE-46CA-A77C-86D346D59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70914-43A4-4740-99CE-8A7328CAD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603F3-1D45-4C64-B567-3C04C3E06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70F17-82D1-41BB-A545-49526B4B9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8DE4F-7647-44C9-8B9D-3282F1FBD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05D5-C339-482C-8F05-954579889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B28D6-1373-4B64-8411-7DC975A6D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A8334-72B2-4E45-8E4D-7531D5D00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B37EA-0775-4B9B-AC95-69F668642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AD6C4-E7E9-454B-B29D-2D9941662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F74E9-A6B7-45B3-9EFC-0C3B1C834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5FAC-40C8-4A00-9783-A24679297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5729DF-8691-48BE-B035-FBAB5C8C8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BFCE2A-0140-4F12-BAC9-1A8E1368F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0BD9DC-A1ED-43BC-8B88-38193A8D9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D5DF-6625-4A15-B856-57565181F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6915B8-454A-4718-935B-F8C668888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FA7C1B-D362-4F2A-B179-DC1309965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A23386-0214-4C9E-B32A-83D8881CF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77DE1E-A1CC-4E79-9533-C75197351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44FACD-ED52-413F-8728-8C0F72B24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B1D466-E6D5-4C01-A9A5-6736CFE77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B48738-5243-4EA6-BDDC-AB54CC712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BE307A-A281-4DCE-ABEC-649E4BAAD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700210-D163-434D-88E5-76958FF0B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2005-C46F-43E4-A6D7-5AA79E9DD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69C8-1D1A-4DAA-BF40-F0A946E3B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6E27-3B13-44DE-921B-4BF1032D7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0463-0D05-476D-9ECD-C84D2E366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3FFA-94BA-4B03-8682-8780A039C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17298-F54F-40D3-82ED-898BFED121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54F6E-C091-40B0-8A92-9549A7AC1DB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E77E5-9925-4AFE-85F8-4F5373EF2C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I Know Whom I Have Believ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(I Know Not Why God’s Wondrous Gra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El Nathan (188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ames McGranshan (188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6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I Know Whom I Have Believed_v3o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78120" y="6488280"/>
            <a:ext cx="41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I Know Whom I Have Belie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I Know Whom I Have Believed_v3o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I Know Whom I Have Believed_v3o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I Know Whom I Have Believed_v3o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I Know Whom I Have Believed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78120" y="6488280"/>
            <a:ext cx="41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I Know Whom I Have Belie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I Know Whom I Have Believed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I Know Whom I Have Believed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I Know Whom I Have Believed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I Know Whom I Have Believed_v2o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78120" y="6488280"/>
            <a:ext cx="41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I Know Whom I Have Belie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I Know Whom I Have Believed_v2o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I Know Whom I Have Believed_v2o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I Know Whom I Have Believed_v2o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1T18:07:50Z</dcterms:modified>
  <cp:revision>31</cp:revision>
  <dc:subject/>
  <dc:title>Slide 1</dc:title>
</cp:coreProperties>
</file>