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70A-9DEC-4674-B83D-AE29AED9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75EF-C2A5-492C-9F4F-F4D86349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219-DFCE-41D3-B20E-16E2CD4D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659-E2C3-4121-BD3D-4B15B815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5C93-EDCC-4B95-BF9F-2EDB6782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9E7C-07F9-41D7-9346-ECBE1FFD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B2DB-270B-4DE6-9D2A-D05316A5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FC71-6769-45F0-B8F7-74C9364D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00EF-69F5-472A-BDDE-E9330702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DA6D-8151-4D4C-A1B2-20F52DAD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5DE7-DD1B-4778-995B-0940CF31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B333-09E2-446B-9335-F3CC8D68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E296-B162-4090-B322-7B63BE1B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4127-50E4-40B2-B399-52EBCB42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B63D-D1CE-4DCB-9AF3-24910500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AAFD-7025-421F-80B5-77A696A0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8FD7-BA17-4E38-A336-08C0B13A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15D-C21F-4BCD-9EE0-50FEB84E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E4C18-0D38-45DF-88B5-6DEB5FCC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319F4-9BE4-435E-9624-0416096A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65FC8-4BF0-44CD-9846-50C29A20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EEE-9220-4DF0-A131-ED2891E5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4BFF7-C7DC-468B-B84C-4BBD1E04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4C955-6AB2-4EDE-A9E5-0446D60C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A9343-2B0D-4F92-8AA2-741D6D1C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E6439-7EE5-4C45-90BE-530C8109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25BE9-CEAE-480D-AC0F-7BC4F1E7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6DE48-C155-4C99-A264-7DC52901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ABF6B-592A-4B35-8F51-BBC32A04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77A07-61D4-4D73-AA80-A9CD0CF1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81559-3F5C-402F-9394-FF2AB475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7478-4960-42F6-8C2E-333C7387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D6C1-C7A2-4D31-BB0E-B0D65EE3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093-6B66-40E5-A6E9-B3F0AB46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57C2-DDBA-4F75-AE60-56E71589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4E3E-97E6-4D7B-954A-62B1C7A1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72C8-7D09-4AD8-8A02-7149A0C24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C86D-C6A6-4B41-BD1B-20312B1D34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819F-D262-4B84-AB44-B2D50BC8D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’ll Live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J. Laney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J. Laney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ll Live O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2160" y="6488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’ll Liv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ll Live O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ll Live O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ll Live On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ll Live O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160" y="6488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’ll Liv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ll Live O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ll Live O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ll Live O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ll Live O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2160" y="6488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’ll Liv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ll Live O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ll Live O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ll Live O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1:37Z</dcterms:modified>
  <cp:revision>31</cp:revision>
  <dc:subject/>
  <dc:title>Slide 1</dc:title>
</cp:coreProperties>
</file>