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2625-6CBF-4ECC-A884-D40054C35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6415-41AD-451E-AC6E-F02132D4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38B2-4212-4D41-A182-717F0F47E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FA59-70FE-4F20-93BF-BD32E53D6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54CB-6E70-4C0F-A47B-4D76A4F4F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DDA9-9C04-4984-9958-FE670744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0B3C-EF6B-40F4-9B57-E3A694A6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6FE1-DC3E-49AA-9724-6303C83F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CE92-61A2-4311-8F80-FA3F4BF4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3EAB-7E8F-4A9D-B4C7-26C7B048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71A29-FDB7-4838-A33C-CEFB541F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A623-5421-4CD1-B6F4-F0C89065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7A32-0B7C-4BDA-A403-0A13ACAA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8A07-EF35-46AF-B949-2DF08A47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820E-F21E-4923-B2BD-66CC0BB1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61E6-9347-4684-A0CD-56F61D59C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00C9-9DA2-4F79-A2FB-E348B714E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1382-83CF-48FD-8CA1-CAFA9CE2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5D12E-0B1E-47A5-8E93-D78822B2B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0FC0A-8823-4EC5-BE6E-C27274A5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0FB65-44AF-421E-B06B-2E5564EA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AF94-516C-49E2-B102-47F63145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48609-293F-411F-98D9-D5F696DE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7818F-70BA-46C7-B81D-F6C019A2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8C071-419D-4991-B709-EA490F1E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685E0-ED56-45D7-94CF-6F75B423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7D660-1B4F-47A9-9FEF-32D2CE44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2E38A-0EE4-45E3-85D3-C646C2B6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AFA75-B278-4FB8-887A-FF5E72BE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5FD66-A4C3-428B-8BC2-C0E1B188E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6B409-D228-4395-B3DB-53B1B673D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4621-FAF7-49DF-A133-33C7F937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D294-53CC-49D9-ADFA-B208495A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7942-1441-4BE3-9A2E-98707A4F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5D53-14B9-41FB-B402-41A470EA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2B34-15B2-4EF0-B684-36D72D6E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4C5C-53D6-4FEF-9EDF-4AB1C43C8A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2818-0E35-4869-AB6B-ADEAA354DD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D005-83F0-433A-9085-2C139ACD2F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Will Sing Of My Redee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My Redeem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9/8 - 12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hillip P. Bliss (18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McGranshan (18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7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Will Sing Of My Redeemer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Will Sing Of My Redeemer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Will Sing Of My Redeemer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Will Sing Of My Redeemer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94320" y="6488280"/>
            <a:ext cx="38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Will Sing Of My Redee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 Will Sing Of My Redeemer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 Will Sing Of My Redeemer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 Will Sing Of My Redeemer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I Will Sing Of My Redeemer_v4o4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I Will Sing Of My Redeemer_v4o4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Will Sing Of My Redeeme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4320" y="6488280"/>
            <a:ext cx="38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Will Sing Of My Redee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Will Sing Of My Redeeme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Will Sing Of My Redeemer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Will Sing Of My Redeemer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Will Sing Of My Redeemer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Will Sing Of My Redeemer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Will Sing Of My Redeeme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94320" y="6488280"/>
            <a:ext cx="38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Will Sing Of My Redee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Will Sing Of My Redeeme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14:31Z</dcterms:modified>
  <cp:revision>37</cp:revision>
  <dc:subject/>
  <dc:title>Slide 1</dc:title>
</cp:coreProperties>
</file>