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CCD-DA2E-4BDF-A1E5-056B1955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6E1-AAF0-4238-98A9-9843FCAF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58C-25F2-4D8B-AA51-FCF77A31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59B-3F6F-4011-A2A4-175C588D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DDFD-713F-4614-AE00-BB4EC42E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C395-0D86-4136-BE0F-53B3679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6889-06EA-475E-81A2-4CFAC29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2631-261A-45B1-986F-F467FA8B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BC2B-DF25-42BB-8CF9-2593199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8E86-6D21-42C0-BA2C-DD7D8F17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E31C-7AEC-46FE-B24E-0A6FD9E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958-0701-4990-82D8-BCE5303D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E559-0735-48CD-AC8B-3DD79A8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5705-691D-48E4-8283-060E27C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0E22-475E-4EEE-87CD-699C1D2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8108-A686-4CDA-A448-484FFCE9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F4D2-20E1-4ED7-BD28-A247AD6F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82A-CB8F-4836-94BB-60E6AE56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76D4-9F9E-49B6-948C-F3D773FA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28B6-320A-4957-902A-85FDA2F8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49B6-9EC2-4632-AF4D-FF059C7B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EEE-DD5A-433D-9307-1B33642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486A-BBDB-4B96-846D-4173665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3FF7-E886-4E9E-A8E9-E4A4A6F6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1B22-E186-4F81-B69D-F5999FD1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C6A5-4B0A-491F-8003-FBE717C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B507-5B6D-4C0F-A21C-38C53A00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E547-3DFF-45D8-B5CA-E206583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2C34-046A-4EFE-9BBE-A961AEB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7207-0A6F-430B-92D1-C7D9B1FC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7EEC-0144-44D1-9C28-CA2DACD6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9E4-F05A-45AA-8B49-2FE0DB4E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208-D736-4BF7-8EB2-AA4C752E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5F5-FDB2-4483-9FC4-9821AF5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4A2-4C8B-4672-84A8-89B0238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EDD-4A90-4461-980C-DDF98469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3300-7511-4F4D-A544-EE6EA04B7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D703-5FFF-4677-BE80-57C758D1B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806-7701-4C94-83C1-BCCECB2EE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mmortal, Invisible, God Only W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D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0200" y="4902120"/>
            <a:ext cx="13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ter Chalmers Smith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niadau y Cysseg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mortal Invisible God Only Wis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mortal Invisible God Only Wis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mortal Invisible God Only Wis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mortal Invisible God Only Wis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mmortal Invisible God Only Wis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mortal Invisible God Only Wis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mortal Invisible God Only Wis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mmortal Invisible God Only Wis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2:56Z</dcterms:modified>
  <cp:revision>31</cp:revision>
  <dc:subject/>
  <dc:title>Slide 1</dc:title>
</cp:coreProperties>
</file>