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C2A-7386-4193-8D77-85D8F9A7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6B1-946A-433E-9A20-F5749D1C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BDE-1B37-4A7D-B550-4F108B38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4F0-98B5-477B-B191-4FE29891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4F7E-92FA-4EB3-A2CB-02AC3B60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0E62-1573-4588-BD94-E39DBF56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A6FF-2F14-4FC2-9966-266909F8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B02A-7E3A-4A57-A6C6-6388F772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5783-1A64-48FA-8228-6DD73D75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BDDD-9AF0-4A32-BDD3-80DE9CE0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5C67-8E1E-4654-98AB-C94A6AC9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261-80A4-44AA-9D85-CC7F53A0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75DB-FD66-42E9-9FAB-BF5161A2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8CAB-F615-497C-8A8C-BADAF418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E291-0312-45DC-9D60-37DD1097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161F-CF66-4C9F-8ADC-AF493547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F3FF-7C04-4C38-85E2-9F89E794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B09-480C-4F3F-9BC3-94302B18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1ED6-EE64-4D4A-AB2D-C72F0387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9E568-CFDF-43E0-A3D4-6DA8F0CB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4AFE-B8D4-43B2-A734-C47F1E9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4D4-B54B-49DB-BC3D-95CC2364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A6332-B4B8-41CA-A4F2-4FD5B519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17514-414E-45F2-AA47-1478E8FA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116C-D1FF-44B7-A6D8-1370BDB2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93948-766D-403C-9766-4378E95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58991-24A3-4C21-8AC3-C8BC88E8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8DC0-8DDD-498F-825A-68D9F350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9DEB4-C7CA-4F47-9EF2-9A251795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7569-61A1-4C8C-8C0E-89EBDAEA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CB4A6-BFAF-40C2-B877-2FE6C347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D49-A16E-456A-85AA-5D61ED0B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9C9-E553-4B9C-BF3A-43746D14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D2C-4F73-4C04-97E6-08031A6C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AB7-C743-4FA9-83E3-C7DA54B2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E86-47EF-4A92-AD61-DEEB7EAA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4A74-71EA-4031-A261-8CE3E9D65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9652-4394-489C-A24A-3ACA248C4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9079-DC83-4026-A0CD-7B4A529F6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Stand Ama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y Savior’s L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Stand Amazed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Stand Amazed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Stand Amazed_v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Stand Amazed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Stand Amazed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Stand Amazed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Stand Amaz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Stand Amaz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Stand Amaz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Stand Amaz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Stand Amaz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Stand Amaz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Stand Amaz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Stand Amaz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1:18Z</dcterms:modified>
  <cp:revision>23</cp:revision>
  <dc:subject/>
  <dc:title>Slide 1</dc:title>
</cp:coreProperties>
</file>