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3E8-C597-44C0-8FD9-CA0051FA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43C-5732-4B17-B15A-25C3C3C2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ABD-414E-4092-ADBB-DC6465FF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A98-24DC-410F-9483-F9A92D18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EB1F-91B3-472C-9FF6-80B3C439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230D-3957-42E4-BB48-97819D57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5588-E092-4031-9EF0-DAF989C5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A63E-F6DD-46EA-835F-6E379CD0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EE5F-8484-4712-B839-452DA3F7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6A26-2DD2-46A3-8569-0AF3B256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1B5F-72E9-4AB2-B59F-C354F4B9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DE6-E998-4886-B98C-2AC69D27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D5D1-F6CF-4D27-9EBB-20739BEA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CC8F-5532-4580-B9AF-B0DB2669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A620-A678-4B66-AC52-D7633D35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B787-03FB-41E2-9C4A-04CE7F4B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6D07-23C7-46C9-AAD4-CC41CB1D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564-665D-4939-AE4B-A8A839BE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0B57-8466-4169-A84C-A2C1023B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23B2-9CEB-4D84-8EC8-8140B8E0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DCD0-FE90-4CBE-97CF-09DED1EA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A94-0434-4622-B6CA-2B2D13D7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B02D6-7DF8-4AEA-B350-029A6C15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4951-8674-41D4-B0BC-234F8506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2B8A-10A7-4E43-A56A-F371E958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89206-3C48-48DE-BF95-18150AB1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35C8B-2B50-40C1-9C7B-62F29D48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8FEE8-96FA-493D-8BC7-A29C9A0C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02941-7B7F-4EF5-8B26-DCAAA0BC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BE7B-C247-48B2-8AB2-5AE7C196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38836-E322-474C-80F6-345B58CE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E4E-D342-4ACA-82B7-D5951D0D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3D4-B9AE-4B85-9DB7-66CFCA32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232-5C33-47AD-BE87-9BD249E5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7BA-B506-4C23-8595-84449A3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88A-4F59-425D-8E5D-2F88B95B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62B2-A732-4DD3-950E-F3D20A068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E6A1-3C43-48BC-9009-3A04B2557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CAC6-E6AE-4F84-BE23-A881C441B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Gave My Life For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KE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6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rgal (1858 &amp; 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Gave My Life For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360" y="6488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Gave My Life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Gave My Life For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Gave My Life For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Gave My Life For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Gave My Life For The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9360" y="6488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Gave My Life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Gave My Life For The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Gave My Life For The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Gave My Life For The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Gave My Life For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360" y="6488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Gave My Life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Gave My Life For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Gave My Life For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Gave My Life For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Gave My Life For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360" y="6488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Gave My Life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Gave My Life For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Gave My Life For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Gave My Life For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3:38Z</dcterms:modified>
  <cp:revision>26</cp:revision>
  <dc:subject/>
  <dc:title>Slide 1</dc:title>
</cp:coreProperties>
</file>