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65D-6DAF-4AB8-9431-29CC4721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6AB-7AC3-4DD7-89CC-9E5827CD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686-FB7B-49A2-96E5-E535725B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260-4123-4BCE-B1FE-A1C8E342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E161-D587-49A1-B050-29B64C4E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AA30-591F-46C3-BD3C-986651D0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8FE3-07C7-4E36-A8DF-0029EED3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D06E-969C-459A-9536-15887E77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2F00-9190-4824-923E-F9C3CC17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A966-0164-46AE-B956-7883FA76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BC54-E116-4A4B-AA2D-6F40E103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467-A024-4353-8A2C-51D3859A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8716-02ED-4AA2-AE02-2773B348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B509-5B51-4B94-B354-A719A1F9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0FFC-42AB-42AC-AFB9-AEAFD07D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6F1F-30CA-4DAA-ACC7-60E17645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9099-70E6-4174-A005-26696297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F65-D932-485F-91DB-6CFD0A61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43912-3719-4922-8005-95FFF7AD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DC3A2-4A42-4CF5-B130-FBC8433F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0156-67B4-4080-9881-D7A66217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3E8-7C9B-402C-BB04-7532F1D9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94A6-A164-4B63-8FB8-4AEAD1CC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DD14-E2F3-45F8-9A57-1586DDA0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AAFD-BB79-45BD-A83B-A61729FD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5520-C881-4B29-9560-F5E607FC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FF46-86EC-4943-957D-2EEE0F76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2F21-FD52-4976-8303-7F5C1B5F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ADF8-192C-4EBE-8F11-E28947AD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4791-009C-40BB-BFAB-29117888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6354-1A66-4A0D-8683-D3EC6E14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044-0247-4F2E-97B1-FF5FBAB3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F2D-B70B-4897-89DB-AC27FCB0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215-56BB-4FCC-A190-7BB78D47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E8B-F581-4BFC-B132-D5308DA3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377-C2E9-4635-B568-59B353F3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C9DF-AB56-459E-8CBF-1F32FE586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4902-8F3D-49EC-851C-C68DF8DD0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A650-6B03-49E9-9C59-6F27891DC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t Is Good To Sing Your Pra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LAENW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92, Arr. McNaughte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P. Rowlands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t Is Good To Sing Your Praise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t Is Good To Sing Your Prais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20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t Is Good To Sing Your Pr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t Is Good To Sing Your Prais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 Is Good To Sing Your Prais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t Is Good To Sing Your Prais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2420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t Is Good To Sing Your Pr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t Is Good To Sing Your Prais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t Is Good To Sing Your Prais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t Is Good To Sing Your Praise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420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t Is Good To Sing Your Pr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t Is Good To Sing Your Praise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7:14Z</dcterms:modified>
  <cp:revision>31</cp:revision>
  <dc:subject/>
  <dc:title>Slide 1</dc:title>
</cp:coreProperties>
</file>