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1A8-0950-476C-92A7-B74B7638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43C-A097-4BF0-BEA6-CEF7B1B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256-05BF-480F-BC7D-D11E2749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24B-52C0-4822-BE2E-004AC4C7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ED4F-2848-4298-A4A5-324109AC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958-DF7D-43D4-ADEC-7D2FDD5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531A-9C8E-4A32-90DB-8CAD2A9D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A3F0-8DBF-4910-9873-1196625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565C-DBCB-45DD-9049-4726BA1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A30F-B52A-4026-B39F-304C727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E52-CFBD-415C-82F5-9136C25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BA1-C392-44EB-A552-298FED9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D73-6E26-44EF-AADE-A963901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B7AE-33A6-45DF-B692-BAD87F1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17D-1EB0-41F5-946D-C73D4E36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4037-60F4-4C89-8025-5B839817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CAC-D93E-4FB8-BCD3-904F2F79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CE7-6EE7-4005-B9BE-C58A116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F9B4-8370-4D3B-B7A3-AA4B009C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6328-0CE4-4C50-8328-6A4163BF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6496-8007-4EB6-B72E-2659B4A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E38-8B26-4A81-9FB9-A8AE2174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6A30-96C8-4B75-8646-3803D872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3D7A-64E2-4535-9077-FDD7E48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3418-7E3D-4853-A1C5-B6E38CA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AF3B-53FE-431F-8666-0C8ED7D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7716-518A-4B63-887B-5CEB04B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FFEB-6123-40CD-99FE-83D0C7F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D060-C4E3-4D7B-9B32-3EFA77C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5F63-F88B-4226-8693-D1A506EA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2D71-BBEC-4D5D-892F-B8B74B29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2F9-7FE3-400B-BA58-AC3EB0C5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277-024D-4926-8977-61E3A5F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F0C-1459-4F58-91CA-050713A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A06-232C-4DB4-9DD3-E2015C1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033-3C7C-4385-B4D8-781D8A3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08F-7813-4C1A-82E2-B8F1A6FEE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402-A961-48EA-9C04-893F75BA3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818-129E-432A-A4BF-998EF9622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Know That My Redeemer Live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Know That My Redeemer Live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Know That My Redeemer Live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Know That My Redeemer Live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54Z</dcterms:modified>
  <cp:revision>26</cp:revision>
  <dc:subject/>
  <dc:title>Slide 1</dc:title>
</cp:coreProperties>
</file>