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F0A-522F-436C-94F9-8EA5F19B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36F-9DB5-47EF-8B27-829467AB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E8E-C0FD-428D-8D15-9E8351B3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D80-A198-43E9-B365-5E5196DD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AA87-DC24-4865-AFF5-7975D575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7991-777C-47AF-A038-D423113F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AFD1-DD7A-4452-A8D1-3EBC3271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4994-B040-438C-BEDC-147B03CB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B5C2-A8D3-407A-847E-E39AC116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5D2D-4A46-420A-9821-BAF346E2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B8A7-7E1D-43CB-B545-5CAF87E0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F71-E932-4190-B866-D71A5DCD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E496-6279-49C7-A4EA-D1BF7FA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943C-06E1-4BD3-9DDA-4025B2B2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B0B4-30AB-42EF-9278-0BDCA30E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0C92-2BBF-4E8B-8DA9-73B88DCE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20E6-DBBE-4B55-98BD-A8DB9588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B3C-42E8-4096-90FA-7BC1A0D6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0FFE-41EC-4FD7-961E-25422D0A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624F-D3C6-4F46-9CFC-BB1E2A1B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AB10-9E12-4019-90EE-925BD44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D65-2EA0-440E-8BBD-0B5FFD87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58DD1-A14A-48C8-A8BA-67DD6BF9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184F-7CB7-4237-8082-D266F59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AE191-C2AE-489E-8680-8826FFD2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DF7A-6373-48A9-9568-9FB6B662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42FA-6D52-420A-A149-4E595D1A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718B-4FC2-404C-9169-0CCBBC4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7B74-6504-42A2-A471-9D9F3FB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AD9C-351F-4E17-BAF4-30EFBEAB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DF64-83CC-4445-B9CE-0BC039A6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7E5-EDB5-4A3F-86DC-65DB35FC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D12-E7FB-4209-A8B6-446BE02F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945-F181-4243-B9FB-817B8B0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0D9-7DFA-4027-89A8-E03A1F64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B1C-8860-4AA6-836F-0222BF6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C7A2-47A4-4036-AEA1-F93AE3489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D4FD-38FA-4EFB-8550-F990EE2AB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0E0-6A2B-4120-B09C-9C637B8EA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Come To The Garden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n The Ga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Come To The Garden Alon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84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Come To The Garden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Come To The Garden Alon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Come To The Garden Alon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Come To The Garden Alone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Come To The Garden Alon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84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Come To The Garden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Come To The Garden Alon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Come To The Garden Alon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Come To The Garden Alon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Come To The Garden Alon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84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Come To The Garden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Come To The Garden Alon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Come To The Garden Alon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Come To The Garden Alone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2:57Z</dcterms:modified>
  <cp:revision>32</cp:revision>
  <dc:subject/>
  <dc:title>Slide 1</dc:title>
</cp:coreProperties>
</file>