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CA1-F39B-4076-8636-2A0F6C26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390-6F69-4044-B112-B1CFCA4E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9E2-3157-4DEB-8E09-3E2CF78D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2AB-7AE1-4163-B186-53346114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3852-2776-4D44-8DCA-46027DBD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E5AB-BA19-493B-9583-C3F623EE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A514-7ADE-40CB-A13C-7E105E5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AD41-D3AB-4957-9A84-4E0326A0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373F-D877-4473-B251-0B89E0B2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D7B2-0803-4003-8E4B-D244BF41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C6D1-C7BF-49DC-B144-F680D09E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9BA-E38A-4EA8-A562-628F1638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B05E-2034-4998-B05E-950DADFC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7AE8-8D09-4B10-A86F-7D30055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095C-E1FD-449E-90D6-507C7364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58AF-EC69-45CD-9DC8-FB06478E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CC4B-25C2-4674-9042-508BE1B0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C04-1449-46E4-8E0A-67B84F7A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6B8F-27D2-41FF-B692-A897EC7B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F977-70ED-477A-A9EA-92ABAB7E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B6AA-8482-427D-B73D-1F216D7E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F74-9B12-4046-A6DF-DFBB087D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0A63-8686-4135-A046-A4584F3D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566B-170F-483A-BCD9-BE398C8F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54DD-0523-4E6A-91F7-7D705AB1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0442-9984-444E-BFA5-7AE1A5CD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48BD-01BA-4EEA-A2A0-C7FE9F3F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5FB8-C9EF-46DE-AB4C-C96884D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A611-16CD-49E9-B820-A2F63FCE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BBA3-4BCF-4F41-B842-8B2D110A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CB1C-905A-4A7B-AF3C-DE697C92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306-3C44-4055-B057-BCDBF4E0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DF6-174C-474D-A026-BA31EF50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295-6A33-4438-BA4A-BDC0ACCE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95F-31E0-4226-A970-6C523FA4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AFD-5B58-4A16-B0B7-1DA07DB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9EF8-8489-437E-A3E8-3DE653BF0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8129-1863-4510-9335-290CEFF1D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F816-FEED-4E37-B37A-8E0703EBF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Res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lmer Hartsough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Resolve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Resolve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Resolve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Resolve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Am Resolve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Am Resolve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Am Resolve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Am Resolve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Resolv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Resolv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Diagram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Resolv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Resolv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Resolv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Resolv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0:19Z</dcterms:modified>
  <cp:revision>33</cp:revision>
  <dc:subject/>
  <dc:title>Slide 1</dc:title>
</cp:coreProperties>
</file>