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0BF-ACF4-455C-9842-6FED2C63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05F-EB95-41EB-8B41-3EBF6DC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FFA-16C3-4164-BA3C-E07742E4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716-AA42-4D31-BDD8-5C0F9EBB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A01F-6100-4AD5-A3C0-E4290E14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30A0-5040-4E74-8A07-85483A8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8FE4-0E1A-4BB0-8AA0-0FFD3E84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274-C6C2-4D3B-96E7-354085F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1771-922A-46AF-9C9A-596D0C6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EC7-7B86-4185-B1D8-A368714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541-B7C3-42CE-87A5-8200DAA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C8D-1427-4CFD-96FF-68CF006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2D2-3836-4F7D-BC39-15BAA69A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9A61-A4F4-4E15-A689-29C3BA3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55E-176F-409E-ADA9-D3A9E0BC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025C-B073-41A3-B314-3EB4400E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16D9-E812-43B6-98BB-1BEE6383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A4D-20D8-4CB9-BDA0-DA650270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2D28-DCBC-4123-BFC1-63FA9E49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7FAE-2C67-4614-88EE-95EB608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D445-611A-439A-874A-6E7481A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DB5-CEB4-4D93-9B58-9F55137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583D-ADB3-45D5-AF99-7BDFBA9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65BA-2483-4DAF-B23B-3B22B9C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B207-FCC4-4F49-83C8-8875C9A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25A3-DECB-4C51-B230-AFCFAE0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6E9E-A03A-4FAA-8FF5-1C70876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C9DF-4C7E-4C5A-B298-9207E8E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99E9-49C8-46FB-8A59-F9B72D5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AB49-C56B-44B1-888D-27D7B3FD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8874-77C4-40E4-A3F6-1F7F6D05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746-5A7F-4A5D-B2E4-91531F0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2FA-A053-4EF3-BAC2-B62641AC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FE3-9473-40F3-95D2-B2D2BD7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4D5-0BB7-434E-AB71-3689766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B83-2F69-4FD2-894C-587385E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0D5-6045-46D6-A7DE-915DBA8BE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E348-8C21-48D4-AE14-DE0501021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A575-A325-4F0D-A52C-D18E13127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e 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e Vi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e Vi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e Vi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e Vi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e V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e V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e V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e V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e V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e V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e V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e V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47Z</dcterms:modified>
  <cp:revision>25</cp:revision>
  <dc:subject/>
  <dc:title>Slide 1</dc:title>
</cp:coreProperties>
</file>