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B63-A9DF-4721-9536-05019CEA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8C5-243F-4E55-B603-603E76D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DC5-C9F6-4DC0-BFDC-817C9035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EB8-886E-4FF0-90EA-46E5C2A0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2200-ED3C-46AE-971D-A06D898D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79D4-D284-4794-8398-8EBA7D00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FAF2-EF90-41F2-A56B-CD73162E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A59-C2B1-4F50-A691-8BF24A6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410C-4393-41A5-B119-C1487230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E0E-F533-4BDB-B5F1-BCC77F75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01E-2408-43B0-885E-8429EBB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7FF-84C8-4F3F-8DB0-C60C6EF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7C7B-5DC0-4A39-B0C2-F8D1771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FFD-414D-4D53-9DC4-EE041C2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26E8-E9EE-4B0A-BD39-216D94C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26F-33BE-4395-9581-473AA67F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A23-8D52-460A-8601-6390BFE7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BA0-8B48-4629-93FC-086CCB37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7129-CCDA-42F2-995B-8358602A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F140A-4B5B-48DE-B057-C283D6BD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0632-64F9-48B6-AF6F-FA82B58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C33-C966-4227-88A2-9C9C7442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45E2-B69D-416C-AE24-BF416C28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E4A8-8A35-46A5-BCA3-F4FBBAD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8E35-4D67-4F59-988B-67CEA11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64F1-40D7-4C07-A980-6E6BFD3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BB44-BAE7-4094-A1F7-30612C4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B6EA-3853-40FE-873D-52D5344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1417-2226-4E1B-B3F9-F0F1979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7E1E-67BB-42B0-B934-E19AC055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DE33-B375-4893-AE6F-DEE2230B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85A-BB1F-4250-BE83-C96619C6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0DD-F681-42B9-8524-E25D90C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E23-C430-4CF2-BDD9-DEB2043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CE8-3E4A-429C-B46E-B46548D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C6E-1EA2-49BD-AFAA-D6E86E5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EF5B-D974-419F-88B4-C20F9CB1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54CB-9B70-4D78-9978-C10A4462A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F78-D0FE-4274-A8DC-8AAE2F5D3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The Mercies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89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Fil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The Mercies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9760" y="6488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The Mercies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The Mercies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The Mercies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The Mercies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The Mercies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The Mercies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7:40Z</dcterms:modified>
  <cp:revision>25</cp:revision>
  <dc:subject/>
  <dc:title>Slide 1</dc:title>
</cp:coreProperties>
</file>