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FCFD-B144-43C7-BEB6-2F2F2027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D2D-8D2A-4CF2-A40E-A34A6979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78DE-DD8A-439D-9ADE-A0E2B4F0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EAC-DC08-4870-988E-90F5ED67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4DB7-FA23-4FE3-A237-849FB225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D489-8286-40D4-A7D5-24A26B23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F7D4-5464-4067-A72B-74537902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55E1-B6FE-4333-B283-5A9DC880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05A7-A8A1-493A-9C0E-7A2B1DE1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A273-570B-412A-8305-F9376CE2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1ED1-7C31-4C9D-826E-203BE8D5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7F8-81DD-427E-8952-52B19894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607A-9EC0-4285-8A27-8F20F356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4FAC-20B8-4C17-B150-E83C409E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1F7D-32A1-4582-AD75-C7CA1F60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758E-5CFF-41C6-A7CB-5088B35E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2217-C965-4B91-8941-EAA91AC2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A9FD-A13A-4CCF-AF19-77B93536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5A04-A0D4-46AE-B6CF-4C008B71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F9492-4EBA-4E64-AE67-2FAAE032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CAA8F-6F51-4A27-A9B8-EC4E17B5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BE7-1DF0-4B99-8D47-9FDBCC84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7D0D7-AC22-40C9-9B1F-E3883C4A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A7C1C-47EC-45D3-8983-830FCA4C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F49DA-6B0D-407A-AB1E-3960122E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8384A-6E27-4B39-9587-5E715873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21FAF-4592-4A2E-B956-05B1DAEE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87B7F-34D4-47AD-85BE-4EAF714D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110EC-4773-4527-979D-884C5C02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3EF2B-0527-4112-AEB3-8646D48D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BB8B4-8EB2-4943-ABFC-D10E70D1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B76-2D12-4228-9222-CF08636A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1C6-BB3A-4982-9159-92302BE4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7041-8EE5-4227-93C5-25B9DDB8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A9D4-2F9F-46BB-B703-6F4E9C40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4A1-AE93-49D2-A5F3-733409AF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1C2A-EEA7-4DD1-9A45-1F5CBE9DC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F0C8-AAD2-4A71-983F-1BFD7515B7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0F6F-262A-4D07-A674-413A3154D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f I Have Wounded An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An Evening Pray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39960" y="4902120"/>
            <a:ext cx="126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Maude Battersby (c. 1895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by Charles H. Gabriel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f I Have Wounded Any So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80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f I Have Wounded An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f I Have Wounded Any So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f I Have Wounded Any So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180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f I Have Wounded An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f I Have Wounded Any So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f I Have Wounded Any Sou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180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f I Have Wounded An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f I Have Wounded Any Sou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f I Have Wounded Any Soul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180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f I Have Wounded An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f I Have Wounded Any Soul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7:58:24Z</dcterms:modified>
  <cp:revision>32</cp:revision>
  <dc:subject/>
  <dc:title>Slide 1</dc:title>
</cp:coreProperties>
</file>