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953-64C3-4B55-B6D6-98CE8488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AF6-F5AF-45B5-81D1-80F02EB7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8C1-DDBC-4FC8-B094-08562923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A79-C824-4D37-984B-037B4C35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304D-69B7-4AD8-B8B0-3F58E68A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3A1C-22A7-44DA-A9DF-4EC2B207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D29E-445D-488E-9AC2-2068148D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4C59-CB62-4EED-B07C-6C833A37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D725-B66F-47F7-B6D9-62CA8DB2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E606-63D4-4205-8EB3-F9A0E17A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37C2-6D3E-4D6F-A41B-A28B9E45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97F-C4A4-4A88-8FD0-77F6E37E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005A-1CD4-4A4F-837C-66DAC7C3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A3C3-F656-4A69-9D17-6F1B6F12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7F52-613D-4753-9EEA-4350D17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9BCB-E3BE-4CF3-A3BF-2F72913C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D8E1-B946-4784-94AD-AFC8015E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36E-1AA2-4CB8-A5BF-6A9DE078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63D9-3E5F-4E43-96AE-997D67E0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4EB6-17AD-425E-9149-24067E1A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9E24-2FF9-4568-AE6C-D05E7144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F61-9061-4630-89F2-08BEFD15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9B5D-31E3-4A8E-A8F9-681C5CA8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C20D7-F57C-4ED7-AC8A-869230A7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2BA0-1145-4B32-A6C4-4E5C7909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0BCCA-BE1B-4B4B-821C-1BDC220B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EE439-6858-449C-AEFE-B6B7902C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FD51D-3D0E-4A07-9245-8EFDE5B6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958DD-815B-4C10-A974-6F04F88A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6D85-DAD6-4DCF-9217-2028A8A7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2D22-B22A-40E0-85D1-C6415D37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162-83AA-45D6-A534-0D615909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8D6-C408-4390-BAC8-A579EF4F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618-59F0-4FE4-A71C-EBAF932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73F-61AC-44E7-9008-2D766372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6EC-2A59-415D-A39A-12ED5EE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EEC6-1C81-4ADC-BD0A-2EAF2C25E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2891-FCAA-4261-B2B0-C2B2A9499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6374-9C6C-41FE-8384-21802F4B7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Land Of Fadeless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No Night T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Clement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rt P. Dank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Land Of Fadeless Day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Land Of Fadeless Day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Land Of Fadeless Day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Land Of Fadeless Day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Land Of Fadeless Day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Land Of Fadeless Day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Land Of Fadeless Day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Land Of Fadeless Day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Land Of Fadeless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Land Of Fadeless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Land Of Fadeless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Land Of Fadeless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Land Of Fadeless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Land Of Fadeless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Land Of Fadeless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Land Of Fadeless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9:56Z</dcterms:modified>
  <cp:revision>29</cp:revision>
  <dc:subject/>
  <dc:title>Slide 1</dc:title>
</cp:coreProperties>
</file>