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B1F-635A-48FA-A596-FBACC7F8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8B1-9D84-4E62-B4E2-98563704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017-4DB4-47A2-A5FD-9E30A192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E51-2811-4262-AF1B-BA938B69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B397-7D82-418F-AB05-11C94E9E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8901-CB15-4ADD-ABB7-E8883C0A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0940-49B4-4DF1-BD0E-3EC6E3AF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04E3-5217-4A84-95DC-AD4D74E9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19D4-1FEF-4D95-BD35-12054B23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DA73-A5CB-45AD-B520-189B0ED6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DEB7-F7F7-4921-B1AC-1DF50C07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23A-0FAA-4144-A8F2-74E4A45C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BF73-4BAA-429D-9595-38A06178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52EC-082D-4649-9E4F-DCE8B3E4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FC88-5845-4463-9B2D-56E7FCEF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4CC8-9162-4FF8-BBFB-B4422EBB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2A7B-06D2-424D-A871-F3A64C5F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A70-0526-4CB6-BA47-70F1692D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1E375-6E53-4418-85BE-EF616000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F2DF5-F51D-41EE-BA0E-E2AD7E3B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317B0-64E1-4910-98CA-0AE996FC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581-F66D-4B6C-B69C-D292247B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C248-7D96-4E34-9671-80B311DB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F60F-1572-463C-BA01-9CD2F539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45700-F018-429C-A585-3D5C5B8F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989FD-B1E4-4AB8-B224-B4C14DE5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38092-A7A1-4B25-8915-4E0BDAC7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CF141-107B-4F88-B59F-AECFE23E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985A-9B7B-47AC-858E-D1C8DC45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C2FE-B011-4C71-B641-C39B7BD3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08FA6-C22D-4E4C-A84D-F945F454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ABA-D633-43D7-8B9F-AB8003C4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940-A266-4AD0-875F-89A1A82D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C2A3-A53B-42C6-8C92-75BCD8E6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769-DCD9-41A1-87DB-B22C7C3C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2AD-A0EC-4467-8C91-A1D705CB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DA96-2C0B-404C-94EC-0D3AEE01B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2B11-7825-42A2-BE14-F0C4F2C32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0C91-ED7B-45E5-9F16-3F42361FC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Need Thee Every H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ie S. Hawks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5680" y="64882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Need Thee Every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Need Thee Every Hour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Need Thee Every Hour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Need Thee Every Hour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Need Thee Every Hou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5680" y="64882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Need Thee Every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Need Thee Every Hou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Need Thee Every Hou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Need Thee Every Hou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Need Thee Every Hou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5680" y="64882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Need Thee Every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Need Thee Every Hou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Need Thee Every Hou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Need Thee Every Hou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39:15Z</dcterms:modified>
  <cp:revision>33</cp:revision>
  <dc:subject/>
  <dc:title>Slide 1</dc:title>
</cp:coreProperties>
</file>