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670-C0D2-4090-B621-9F00A51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331-7E2B-420B-8773-BD36997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CB9-3EDB-4304-ADD3-B058B9B7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426-9900-4A74-B493-951662B7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5F1-78B1-4C53-B5D2-A37ADF24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95C-FE78-41C6-ABDF-9003E845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E2B6-BE03-4236-BDE4-A37EB09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3650-28C2-47DD-B5D4-B38DC89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4F21-F2F6-454E-8B16-6D94765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9E3F-CF73-4C76-99DF-8D1CD45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BCEC-86C8-4181-BA05-10DCB58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611-8006-4AE8-BCD0-A598B90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6811-D0A2-4098-AF15-7B5F4C8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21CE-2C4A-46B0-BFC5-6F2E461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552A-2A19-4A96-A758-90527D1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D3D-0136-475D-8DDC-BB8F2C64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F80-C8DB-4D99-BBA8-7D531083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A33-8FD7-4098-ADC1-E583DAA2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C86C-00B5-49B3-87D7-7138DD83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E9D7E-651A-43EA-8752-E7869FFC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9411-E2F3-4138-9BBE-1D1B6A0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50C-B43B-4406-861F-DE24CE41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350C-1F29-4FFD-9C4E-4A9B04D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F9BA-31E2-4266-8238-091BA17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B9A1-A4B0-43D3-986F-A94A3DF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2783-1965-46CD-9120-9E34EB7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5225-F8BE-4B63-B847-3406D89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2345-2CB1-4FDC-8EA1-2315EBB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A1F3-64A2-46C7-B43B-BE5D060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6DB4-C9B4-4C55-B2E3-4D0187C9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4A69-72D6-4B5A-9AC2-DA25D39C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DF7-6700-4FCD-9126-13F2C1C0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687-1209-452E-BE9A-28CE164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0BD-B6E6-4384-ACEB-523582A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A64-169B-49FB-AA84-B426AE6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B11-40C1-4BA1-9196-7EDC265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749-A0FB-44E8-A77D-D404DD378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1377-7CD4-4084-88EB-D5B93DF48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4738-2F3E-4C0B-8888-AE1CF36C4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Must Tell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Must Tell Jesu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Must Tell Jesu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Must Tell Jesu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Must Tell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Must Tell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Must Tell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Must Tell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Must Tell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Must Tell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Must Tell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Must Tell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0:08Z</dcterms:modified>
  <cp:revision>30</cp:revision>
  <dc:subject/>
  <dc:title>Slide 1</dc:title>
</cp:coreProperties>
</file>