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A0-753F-4CCF-85F5-477A3457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DBB-1716-42FE-95EF-E194633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E72-BB25-4448-AC27-3309998A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6A9-0C0E-4691-83CB-F58AD0B5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61F-0D76-4E7B-9EAE-A2B4BC84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E32-CAB0-48D7-A430-09B4FC5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CE1-D093-4815-976F-67E84A58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C276-8A8E-4BD1-BEE2-91A8F7A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CC50-3B18-490D-9240-971899A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7703-AECF-421A-B7F0-E25EB16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60C-04BA-43E8-A8CC-21BFC41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B85-050E-4B54-9656-D8062FF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612-1901-44C4-A33E-34797B0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5E8-4ECE-48C5-9716-8634FE1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DF2B-314D-476F-BF19-EBBE0CE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4B5-D3D6-439D-A4F0-455ED56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0E49-A4CE-4322-8C31-36C45453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D4F-33F7-4E7B-B966-CE2322D5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DAEA-5468-4418-A73B-774E63E9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9CBE-200A-4A2F-8067-27391C2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72E0-4B9E-47E9-B868-2096F8F2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3FB-90B9-4479-B5F7-6F7BF9C4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725B-5869-48A3-B67D-FD06EA5F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F5A4-F03A-4B08-B01F-CDB8B17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D2BC-921C-41DF-94F4-3A2A83E6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9E45-5B75-4510-A418-60580FC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205F-24CD-4607-A994-CB476DB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149D-C332-4200-BEA0-974A8CE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B3E1-D74E-426B-932E-9C548B9E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389F-71AA-44C5-8100-EC80A22F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E959-1ABD-48B5-B475-9C82F9F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A89-4014-4644-929F-851FF21B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7DE-B912-4E45-89CB-7881D670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290-A998-4F3C-8B62-93AF31E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90C-A2A4-4B69-9D95-E12C5FF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E54-1283-4458-A36E-58F3B79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14B8-5E92-40F4-9C6C-E47846808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AB8-9B3C-4868-8C29-8811A3008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610-2B60-4A9A-9D28-992C6A595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Morning Of J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R. A. Evilsiz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Showalt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Morning Of Jo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Morning Of Jo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Morning Of Jo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Morning Of Jo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Morning Of Jo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Morning Of Jo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Morning Of Joy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Morning Of Joy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Morning Of Jo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Morning Of Jo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Morning Of Jo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Morning Of Jo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Morning Of Jo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Morning Of Jo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Morning Of Jo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Morning Of Joy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Morning Of Joy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Morning Of Jo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Morning Of Jo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Morning Of Jo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Morning Of Jo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Morning Of Jo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Morning Of Joy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Morning Of Joy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25Z</dcterms:modified>
  <cp:revision>28</cp:revision>
  <dc:subject/>
  <dc:title>Slide 1</dc:title>
</cp:coreProperties>
</file>