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881D-9508-4193-B00C-1708DD74B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5DD4-6CC3-4ED5-B9DF-29FFF462C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DC96-7185-425A-BF54-4C6DB6EC2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A068-CE83-4EBC-A5E3-2E0C6F242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EBC34-9295-4155-8CA1-CD3CE53EF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54AF5-5C45-47CB-9E12-1E961F793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E4470-C428-4E3C-9DE7-9E571B12D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67EDB-F86F-4E4E-93AF-BAC1D0314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DCF4D-0422-47B0-ABB1-6BE65EC1E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212D4-DFD5-4FCC-A37E-6C66FB7F5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5B934-C5BF-4CB8-A1B0-79BB202A0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32E5-6148-4472-A2F9-EBEEF0E0A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07859-E830-417E-8905-1801E272D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D1629-E888-482B-A5AA-4BF83F445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7799F-8352-4EC2-B0E1-E51C2783E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39129-34F9-45C8-A382-6DEAC28AD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97EFD-67E4-4EE1-83C4-81F4F7175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0444-7451-443F-933A-CD61B03B9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D7ECD-E23F-4019-98FF-FE0EA0511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61689-CA04-4E89-9AB4-FEB48AC0E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AD279-EF07-441E-9542-229EF9A44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5B92-0194-4282-8B66-7D0641538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FEAF2-C165-4031-963B-9A457ADD4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1160D-87FE-4440-A6C8-E4F601B2D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B884E-C916-46E8-9F60-29BFA7520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2E4A9-14F2-4A4C-A3E3-9E1303EE9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C2ACF-AAC5-4A8B-BCFB-FEF8A6CE9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CD23B-D110-425F-B91E-35C7782B9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70A11-011E-4EE9-B3C7-A5A3D708D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EAC32-1A41-4E02-A7A0-41D00B0C8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33A7B-CC39-4D18-8E4C-61DA8A956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BE74-F66F-49ED-B0BF-AF4F2A418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19A2-0693-4600-83E7-6A55CB675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3CCD-B74A-4951-98F5-61273BC2D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2049-422A-48BD-AADB-02E70236E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EFAE-E413-45B7-9083-D44E36EFC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AC19D-B1B0-4E4E-A506-589B3D965D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C0CBC-358E-47A7-A483-27127E40E2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F05FD-5CAD-4F54-84A0-BEB57CA840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 Am Coming L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. Hartsough (187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. Hartsough (187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7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I Am Coming Lord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94680" y="6488280"/>
            <a:ext cx="28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 Am Coming L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 Am Coming Lord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I Am Coming Lord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 Am Coming Lord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 Am Coming Lord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4680" y="6488280"/>
            <a:ext cx="28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 Am Coming L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 Am Coming Lord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 Am Coming Lord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 Am Coming Lord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 Am Coming Lord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94680" y="6488280"/>
            <a:ext cx="28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 Am Coming L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 Am Coming Lord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 Am Coming Lord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 Am Coming Lord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18:13Z</dcterms:modified>
  <cp:revision>34</cp:revision>
  <dc:subject/>
  <dc:title>Slide 1</dc:title>
</cp:coreProperties>
</file>