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F16-9944-4D79-89FC-11DC2B1D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F61-BEE7-4CBD-8941-0F4D64A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456-D382-4CCE-A1ED-995D3E6C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5D3-0E89-4674-9AF8-B950BEAE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65F-932A-4CBE-BD3B-E22529E7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23BA-844A-4E04-98A5-872E477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694-581C-4D22-9C61-370CB73F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23D-86C8-45A0-930A-341CB546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E4D4-D82B-4B94-8C02-0D9AAA02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70E-60D4-4F38-91DF-639CAA86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C70-5003-48E8-A779-4B6DFAF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A6C-6E7E-467F-9DF0-C18A86D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E440-9DE3-4EEA-B369-C4078D59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FAF-95A1-48E9-9BDB-FB173C4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022-EC13-4DE1-A3DD-D7792DC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120-29EC-4D9E-9B2A-C3F8F33F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797-1925-4DBC-8F76-BD2B3F57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F96-9B73-44D5-A1BE-A77E4AF9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C140-C9AA-4D1D-BC07-F07D904A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28A5-3DB0-4359-AA58-190FEA7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277A-D095-41E0-8AEE-A2FDCA6D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AA4-C0CD-4783-8D54-76B41D54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5D5E-481E-4686-ACB5-EB13D72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D94F-FF9E-44F2-9C26-44F2C429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82F9-5F26-4F96-AB5C-8083EF1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1A21-49FD-4E1C-BC51-B136E4D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69B9-D398-41F6-BC5A-D80FDE80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E221-6316-4D86-84DC-4894AD0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FB93-93AA-4979-BC54-DAA5E367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E74C-9B10-4C15-BCDE-11BB09A6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9189-222D-4BD4-A52F-08383DB8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3A8-F87D-4857-8473-B048147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474-6C46-4925-8685-9702EC18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7BA-F65A-40B1-8A7F-627C387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149-9D1A-47C0-BEEA-8818D77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2F9-9C66-44DA-8387-5414B57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EB8A-BD9C-4A26-A99B-D9B6F151C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8F9-FB19-4F17-9336-84A76A561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AE21-C203-4A15-BD39-6C7F612A9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Kingdom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Clark Perr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Kingdom Of The Lord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Kingdom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Kingdom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Kingdom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Kingdom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Kingdom Of The Lo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Kingdom Of The Lor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Kingdom Of The Lor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n The Kingdom Of The Lor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n The Kingdom Of The Lord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Kingdom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n The Kingdom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n The Kingdom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n The Kingdom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n The Kingdom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n The Kingdom Of The Lor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n The Kingdom Of The Lor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In The Kingdom Of The Lor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In The Kingdom Of The Lor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In The Kingdom Of The Lord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Kingdom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Kingdom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Kingdom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Kingdom Of The Lo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Kingdom Of The Lo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Kingdom Of The Lor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Kingdom Of The Lor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1:17Z</dcterms:modified>
  <cp:revision>33</cp:revision>
  <dc:subject/>
  <dc:title>Slide 1</dc:title>
</cp:coreProperties>
</file>