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D9D6-0BF1-42A0-933B-E65D81081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1453-EB58-4547-A2EF-C7B24CBF5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9DC1-CB40-48B2-8167-B6745C413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52DC-58EB-4E25-B502-1FDCD4C99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C64D6-B464-465D-A5E8-474F00904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29C2B-9949-4AD4-B470-BEAEC6C6E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63867-03BA-4FD1-A8F3-73EB266E4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EB440-BD10-4BD5-922D-4537120A8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B9FD4-840B-4F69-9739-DCB36C152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15258-9E7F-4BBB-A474-2BE7C4F62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E1D46-AA39-4385-87C0-8A48D23E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EF3D-2B81-44EB-90CD-C37B520F9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BE9DD-5AF1-4C77-BF8A-A73DB00D5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0A66A-5926-4EFE-B0EC-78A2427DF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6E105-D30F-428C-A5DB-EE4CF2226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68F69-C952-4CA2-96E2-0D59D840A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D3D34-816F-43F1-AE8F-764196458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3C04-3366-47F4-B7F3-EF5A23CDE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F4BAE-0900-4946-873D-4095A0570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C9631-4F6F-45EF-A3AC-B6F69133A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1D36E-C50A-42A6-8FBA-1B8766DA7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547E-5ABC-4E73-9A8C-DA4A42275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A265E-8940-4729-AAE3-61B13B644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F25F5-E333-4C52-98F7-33C6CBE0B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50372-7961-45F6-B83D-73F3B06BF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17AC4-2E18-4670-8513-F29FCA1D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A1693-3482-4EF0-8B78-6AEF950EF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CF474-F3B2-46EB-A9CE-A5E89301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5AB6B-356F-41D6-B143-B2C3DF977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65EB4-92EF-4770-B8F9-2FB145E90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922BD-4F67-4A0C-9DC6-21E6C06AF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1056-8454-4C38-BCA3-496B0B40E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2A85-F981-4E45-B6FE-6A4327AAE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C69A-29BF-44D6-A433-FF9EDFBB6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5AF6-EECF-4448-92A3-A364D596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A719-C176-4932-A8EA-7BC1EC0FA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1E26F-AAA9-4F4D-8BFD-FD50638C07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8E3F4-B689-4420-90DA-3332642CDF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89A50-0863-40FB-BC2C-CB2C022F2B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 Am Praying For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I Have A Savi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D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. O’Maley Cuff (186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Ira D. Sankey (187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 Am Praying For You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6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 Am Praying For You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5400" y="6488280"/>
            <a:ext cx="316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 Am Praying For 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 Am Praying For You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 Am Praying For You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 Am Praying For You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95400" y="6488280"/>
            <a:ext cx="316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 Am Praying For 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 Am Praying For You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 Am Praying For You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 Am Praying For You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95400" y="6488280"/>
            <a:ext cx="316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 Am Praying For 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 Am Praying For You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7:59:01Z</dcterms:modified>
  <cp:revision>40</cp:revision>
  <dc:subject/>
  <dc:title>Slide 1</dc:title>
</cp:coreProperties>
</file>