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5470-AB65-4EBF-8854-69AEA7EC1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BC73-02B1-46AB-940B-D67B0493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8172-D691-43A1-ACEA-22C7C8795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0110-2507-48EF-91AF-0D0A3DCD8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0030-615C-421D-AF2F-2EA87DFA4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07B0-371F-4EDB-A6D9-7B2B9518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7C37-1B3D-4D7F-9E6C-0B11CCBA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2F91-4AD5-496C-A024-93BF27B8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6B35-B42D-4360-85F6-7B970D7F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442E-993D-4499-8CBB-6CFAA2B3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6BC0-9A0C-45CB-96D9-97E07A1D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A658-3F69-4C44-8C59-C3FADA52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755B-E20F-4649-8455-A7BAD56F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91DB-62DD-41E8-9834-6C2565B0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4899-DF4E-49C0-88C2-8DF45C00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198D-D712-493E-BF4B-422B2B34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255B-0C3E-409F-B672-863FE3853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10ED-05F2-46C4-9BCB-AE9C1A91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CFF8F-63CF-40D0-9C60-7D641479C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360BC-130A-45F0-924C-9A86AB33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000E6-A5C0-4C23-B766-13B41C33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7077-80B5-4EA9-98E3-EDA47461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0BE70-0A5B-451F-9CB2-B4FC3D94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666D2-6DE6-481B-A830-FF27C7DA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9C84D-0709-4BA3-AE70-7ED7DCE6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A4F85-D60C-4FF9-8AE9-7CD06F50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942E0-7F4F-408E-83B2-687EB553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50071-8D0B-48E3-8CC9-1224F029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44646-068E-4347-A730-268DC9D0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784A9-F3A5-45A5-A9B8-BAFBA72A8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155EC-2024-4F3B-8CD0-DCC9AEFD6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C27A-D1A1-4E00-AC8F-807C5E78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0112-0525-4F04-8C81-1CC95AFB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6A71-EDA1-41BC-A35D-74B6A5E3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EC5F-5B51-4C27-AFCF-12F82458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5A21-8E14-409E-AE4B-B6DB6B10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F529-D4D5-4DEE-BA0D-B1918663E1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E07F-376F-4BA3-9A2A-57D0373A53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AC96-EAD2-4EB6-9CE2-FD9F2DCE59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n Heavenly Love Abi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6.7.6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2840" y="4902120"/>
            <a:ext cx="143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nna L. Waring (185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elix Mendelssohn (184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8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n Heavenly Love Abiding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0440" y="6488280"/>
            <a:ext cx="36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n Heavenly Love Abi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n Heavenly Love Abiding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n Heavenly Love Abiding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n Heavenly Love Abiding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n Heavenly Love Abid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0440" y="6488280"/>
            <a:ext cx="36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n Heavenly Love Abi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n Heavenly Love Abid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n Heavenly Love Abidi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n Heavenly Love Abiding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n Heavenly Love Abid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0440" y="6488280"/>
            <a:ext cx="36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n Heavenly Love Abi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n Heavenly Love Abid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n Heavenly Love Abiding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n Heavenly Love Abiding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23:31Z</dcterms:modified>
  <cp:revision>29</cp:revision>
  <dc:subject/>
  <dc:title>Slide 1</dc:title>
</cp:coreProperties>
</file>