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0F1-C131-4BBA-B187-707E6800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BDA-C43B-43A4-B6FF-D79830CC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EB0-6E8D-499A-BBED-9A1B9913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319-EFD9-4C16-95D8-BC3A1F92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942B-4AAC-490E-A93B-0235CBCF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6954-33B1-4522-A6C5-453FAD03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E5F9-0344-4DD4-9D18-B15920D2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1B1C-D14D-4E27-9144-70983605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A9B8-48BB-4CB6-9F93-C8EF84F0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DC41-A06F-4168-BEEC-32F100BF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758A-3204-4301-AB67-105639F2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A99-11C1-456C-9666-A54D7FAA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4A83-0150-4460-A101-0671DC36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6CCD-ED83-4F69-8710-2CCAAF7B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070D-9A2B-4571-9B93-5A0E3AE0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3E78-D47F-4638-9EDF-D0D9357E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31D3-7EDC-4BC8-8230-1C91CC51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09DD-6AE5-48E6-A38C-7ED207AE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B9DCC-F0E2-402C-AF78-0739053D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28D44-596B-4F1B-A5E3-9E18970C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E9BB5-A24F-4E5F-8E0B-B21B13D1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D45-F055-4CEC-9111-A71FE6CB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070B4-AE35-44FE-9BE8-CC66D7FA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36EC8-C9B7-4F43-BE51-88374ABB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D99ED-6087-4A37-9A01-15F7A7A3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64841-9624-4CB0-B1B7-178C2AE8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0623F-1F2A-4A5B-B31C-2D892110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BF273-2698-4D85-8A5B-FC658EFD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F7DE4-28D3-4734-A449-25549FFB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40ECA-CC93-4FA1-B902-F66604D5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0702E-71C4-42FD-8FAA-DFA9494B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6FD-0DF1-43FD-B267-D7C38D9B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178-A3D0-4BB1-9BF4-D7C91FCE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257-E3ED-4358-8ECC-879F71D6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A2A-535F-4F14-884E-3709C7E2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8D9A-2B81-4E17-A7DC-79D73BAA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168D-ACB4-4A43-9A1B-7CE44D076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07A5-FF3A-4962-8CF8-46447AA6DD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0CD8-3B51-4EA0-85D5-B3E4D66CD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Service Of My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o The Harvest Fiel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llit S. Teddie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llit S. Teddie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Service Of My K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1240" y="648828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Service Of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Service Of My K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Service Of My K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Service Of My K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e Service Of My King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1240" y="648828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n The Service Of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e Service Of My King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e Service Of My King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n The Service Of My King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Service Of My K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240" y="648828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Service Of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Service Of My K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Service Of My K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Service Of My K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Service Of My K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1240" y="648828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Service Of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Service Of My K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Service Of My K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Service Of My K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2:31Z</dcterms:modified>
  <cp:revision>32</cp:revision>
  <dc:subject/>
  <dc:title>Slide 1</dc:title>
</cp:coreProperties>
</file>