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094-944F-4651-8F90-0BDD8210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974-18D6-403F-8B41-6F17F59F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02F-13A9-44A8-AEE0-E5842752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8B6-3A08-4351-91AE-90B137E2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16F1-74B3-4794-AB6F-48DD1E94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5286-C8D9-4B3D-B5D5-05900FBB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8DB9-2765-4211-B0BB-251646A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3D27-DA90-4E47-A232-F88A2B65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DA20-A822-4DE8-8E2E-01904218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5693-B1E0-4966-B877-D5D3084A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692D-5F66-40FB-9981-53C7A2A1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2E5-1132-44C6-BDA7-E2069601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ED4B-E470-4450-A433-5ACE03A7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FFAB-EB32-420B-863C-617E4ADA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58D1-152C-466D-AE08-47E9C582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E731-5064-41B3-9A08-9751825F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2CE9-4035-40C2-8098-23787098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F2C-09EE-4DA3-8F4D-4A64A94D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CCAD-3714-47F4-949D-B54E2FFD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748D-CCE7-40CE-8BA0-48A6EFBD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3799-29BD-405B-93B7-0A5D1D8A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1BB-36DE-4221-B5F2-CAA3C75D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244C-72E9-4A5D-A9B7-00E00A3C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2B31-0305-416F-A72B-6DA6C05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9386-64EE-4642-B3F7-882217B4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E3CA-9D05-4742-90DC-8C94D00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97D6F-41E8-436A-B793-B5067C4B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786B-1C23-4128-AE8F-44D4A463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B3BE-6317-4821-BAD3-B9C4BF71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85D1-E519-48FF-AC81-10849E8F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6B23-2C81-4398-9E3F-B732BD64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E6D-8199-49CE-BD3C-62E83270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364-1BAE-4B79-AC03-1F689779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3C4-AADD-4892-81C4-75313989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E97-BFDF-42A4-BA6C-24C44A3B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227-F977-4839-AF81-671BCDB7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B24B-557D-433F-8037-B56927A85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1E8B-31EA-4CF3-AF8A-65F7C88B63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8425-FDAC-49CC-AA7E-BCD6FFCFC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Love To Tell The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56528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therine Hankey (186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rus by William G. Fischer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G. Fischer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Love To Tell The Story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Love To Tell The Story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Love To Tell The Story_v2o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Love To Tell The Story_v2o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Love To Tell The Story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6360" y="6488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Love To Tell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Love To Tell The Story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Love To Tell The Story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Love To Tell The Story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 Love To Tell The Story_v3o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 Love To Tell The Story_v3o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Love To Tell The S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6360" y="6488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Love To Tell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Love To Tell The S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Love To Tell The S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Love To Tell The S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Love To Tell The Stor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Love To Tell The Stor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Love To Tell The Story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6360" y="6488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Love To Tell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Love To Tell The Story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9:04Z</dcterms:modified>
  <cp:revision>32</cp:revision>
  <dc:subject/>
  <dc:title>Slide 1</dc:title>
</cp:coreProperties>
</file>