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E85-5848-41DC-BAE0-74463CC1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BBC-FC0B-4EE4-8980-7141C0F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F0E-490D-43C7-B32A-7555DFCD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C60-4145-4998-B92E-83BD6E0B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099E-D708-4C0B-818C-01715EB7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932-647B-4EB1-8C99-2060620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FEB-7DD2-4388-A35C-87D83791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8FE-3136-4A2B-89AF-EC82B67A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BCE0-7EB8-4392-9897-B6ADCAC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88D-14E8-4FB7-ABE4-C4C99820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8A09-4C4D-4C6F-947B-E1736E3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D7A-390C-4990-A35A-E451C0A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219B-45D2-489E-A464-B44C0EF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8FAA-8404-4458-A83A-95487AA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E13D-ACD6-46EF-AF5C-5678E3B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7E77-AD1C-475B-B7CC-36380229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DA2-AA95-4364-A142-652710AC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5A9-481F-49CA-B726-258438A7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7B71-90A8-4BA9-A2BA-CFFC2C09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C5D6-4646-4931-A8FF-41581DC9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7C5F-121F-4297-AD87-FFB6A22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6E9-5DEF-4F1F-919B-28932A09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1F20-3061-4909-89A3-E7B0A04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33DA-43EB-43AF-A483-EEC6BCC4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5395-DBFA-413A-96EF-3C09F4A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3B9A-7A62-4796-8007-E7AC5E4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05F85-2A5C-4153-9F18-994435E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87A3-7EF7-4498-8EAB-8C6DF55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8C14-0C25-4104-8106-4ABBE657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A2AF-5321-43AF-AB68-B998AC5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F3C5-4E3A-4C60-AA9B-59CD405A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6E9-66C5-4478-AC46-AF2BB18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621-DA36-4625-8C00-8CFF0C4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F1C-4F6C-42A4-9125-BBA015E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1C7-8BEA-4137-9CBA-2900868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D6D-9266-4F18-9946-E916C22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6BD1-3708-4355-B87F-E353BCDA0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CD2-9223-4A30-A702-1A883750E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F88-2FEC-40B2-8E9F-EA97F14C8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at Home Of The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at Home Of The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at Home Of The Soul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at Home Of The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at Home Of The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at Home Of The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at Home Of The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at Home Of The Soul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at Home Of The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at Home Of The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at Home Of The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at Home Of The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at Home Of The Soul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at Home Of The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at Home Of The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at Home Of The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55Z</dcterms:modified>
  <cp:revision>32</cp:revision>
  <dc:subject/>
  <dc:title>Slide 1</dc:title>
</cp:coreProperties>
</file>