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A50-BEAC-42D9-BB3A-9993C886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1EE-6F36-4A11-91B7-2647AC80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A4A-6405-4084-A463-53070016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D7B-8038-43E5-8A26-42C75B67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573B-F001-4B71-981A-68FC9B36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13C-D49A-4101-B5C7-5C4838A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9094-85F2-4BEA-BE91-CB4F76C0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AE6-2DE0-4019-A9BA-4CCA8D4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869E-4AE3-4B1B-B15A-EB36B5A2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9FB-F274-4703-A258-5D98864D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E84-C7AC-4D23-A589-36C75F5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7CA-3BA2-45B3-92C2-354995E9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9F7D-3E08-4C86-84D3-405C7181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C13-7944-4924-8797-1451594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80F9-4FD5-4A92-841F-26655C59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36D7-D950-449F-966E-55DCEE9A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FF6-CE4B-438E-BD9C-C1F6BA3D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5E8-9671-4F74-97F4-DF668D2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4C54-055A-4FD6-B4D9-6C4E40F2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C120-3259-4362-BA0D-2BAABEE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A258-BF13-407C-ADDD-15B8BD99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9BA-BAAF-4CE8-AC87-AABA04E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19A1-1C3A-4F1D-A3CB-98F77488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BBE1-6F24-4BE1-A738-17848C89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15F7-AE65-405E-BB6D-FB89159B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DA1D-C120-46FE-BA0A-067420F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1A02-530F-40FA-B36E-D1BFB69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185C-C2C7-46CB-BAEE-21DF0B2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7D70-BE02-47DB-A3EA-6C3D467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3428-5570-43A5-AF69-DF698300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76A1-F9D5-46E7-96E2-45014F1D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3EA-C0D5-40A0-883C-BA2ED7B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FD1-E2E1-421A-A8A2-3A953EC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C66-2C4E-4B33-A506-291A625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29C-2069-499B-8D98-2165EC5A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974-3026-444F-9BC1-B0569C9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C0D-27EF-4644-AF34-D34B77FB8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B6C-DF0E-43A2-A7FB-F30248774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A2E-BD66-4096-8497-28CE01AA1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My Name Written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rd, I Care Not For R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ary A. Kidd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My Name Written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My Name Written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My Name Written Ther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My Name Written Ther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s My Name Written T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s My Name Written T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 My Name Written T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 My Name Written T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s My Name Written Ther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s My Name Written Ther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My Name Written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My Name Written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My Name Written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My Name Written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My Name Written Ther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My Name Written Ther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My Name Written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My Name Written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2:21Z</dcterms:modified>
  <cp:revision>31</cp:revision>
  <dc:subject/>
  <dc:title>Slide 1</dc:title>
</cp:coreProperties>
</file>