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61A2-BB1D-4F5D-8201-33DD6E303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3BC8-D763-4DFD-B1F8-AD066189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E8BD-C911-4DBA-B77B-E9471D9BF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DF9A-F7F7-4952-803D-9EABC4D3D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1F45-3D5F-42B5-A633-8A5CE4034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8ACB-4BBC-4474-AE33-630259B6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BBC8-E1BF-44CA-8ED0-97CD93FA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D6A2-E50F-459D-A86B-3857B046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EEF1-3068-4856-9F57-E8682C1C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EB2A-A944-4832-9787-8B109458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D1A7-4A4E-4521-A6D0-6248DAE3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27C2-3B38-48B3-B5E4-A8527C9E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7084-8536-46C3-9B38-E0403982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A201-D858-415B-B7DF-9EA75F47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8311-D13E-45F8-80F8-07FECDEA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4377-E529-42F5-9684-A6DBA1207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A385-055D-414B-AF63-A6822EE19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579B-AE28-471D-95B6-624007DC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467AD-2616-4ECF-8D11-3433CA44A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3CEC8-D63F-425C-9BF4-EF67E730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0CEFF-9C59-4359-A093-27528248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2FD8-453D-4266-B2FE-6F66D970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39019-8B30-4610-8697-9A58277D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4C72F-6B3E-4F48-9605-D75A2095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BB3CF-972B-46BE-BB88-8B41C4D9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6B329-1EB1-478F-8016-D0ED2617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94463-EF85-446B-9243-29D941B5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292E3-61FD-4DD3-BE76-60965CF1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659CE-2420-469D-8DBD-2EA10079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EC958-F368-4376-8FD1-EDA77FA2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5941A-C27B-4DF7-BB2F-88ABB51C2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C254-C6C6-46F7-B3E8-C053ECB2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1E0B-34CB-4F12-9B3E-74FA3ADA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9A26-ECC7-4096-9D90-2C722839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B994-70A6-47B6-94A6-399839B8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7206-0D8E-43C6-8449-56DD6691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FC3B-D686-4E3C-B9C2-097D1A122A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DBED-76B9-46C8-9B90-14B722C280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90AC-6782-4837-A9C3-7E2EE01C9A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Want To Be A Wor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Isaiah Baltzell (188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Isaiah Baltzell (188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7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Want To Be A Worker_v3o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1720" y="648828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Want To Be A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Want To Be A Worker_v3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Want To Be A Worker_v3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Want To Be A Worker_v3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 Want To Be A Worker_v4o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81720" y="648828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 Want To Be A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 Want To Be A Worker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 Want To Be A Worker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 Want To Be A Worker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Want To Be A Worke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1720" y="648828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Want To Be A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Want To Be A Worke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Want To Be A Worker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Want To Be A Worker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Want To Be A Worke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1720" y="648828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Want To Be A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Want To Be A Worke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Want To Be A Worker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Want To Be A Worker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13:06Z</dcterms:modified>
  <cp:revision>34</cp:revision>
  <dc:subject/>
  <dc:title>Slide 1</dc:title>
</cp:coreProperties>
</file>