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78-E011-4211-8CB2-24F1E416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98B-8E90-424C-AA6A-9141D86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D30-0C49-419C-A589-95DDE1C6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E4D-AF15-4961-9E97-5FB8B8E3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4F53-93E9-4D59-97FD-029144CC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19A3-6403-4A6F-9C6F-742561A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A36-688F-46A8-9CC5-C69D9F22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0FB3-5A38-4EB8-8D1D-BFD5800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23E4-58DE-4386-A221-DAED6E9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9C99-A379-40A5-8BA5-985CBF3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D56D-0265-46F8-B385-8C1D183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FD2-CD3E-495B-A6FA-B0AA7F7A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D09-84EA-438D-A607-EA4166F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9B3-FE61-4B2B-BA0D-7B8BC11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F458-FDC8-499E-BD8E-BD55CAE7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CF27-B517-4D15-9568-29EBEA25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09B8-DA95-4144-8ED7-46C81C24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217-1163-48DB-B991-A2CB5C8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EDEF-7727-4F4B-9F05-CE3F45EE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AF22-37D8-4425-9CDA-35AF176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70C9-385F-4DC4-A9CB-174456E4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44E-D63B-4206-A19C-2A227A9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F914-A43D-46F4-9365-CC24DD6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E634-AC25-422D-A938-F33386F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1B8A-626E-4B28-B046-E6705064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D380-ECD4-4520-9709-3549DF8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374B-63E6-4A04-B306-ADE883F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F71F-C14B-4FBB-A944-7EF52C8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459F-A485-4135-9CF4-04AE93C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ACA8-C42B-4108-ACC5-F99B37D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4883-3E02-445A-9EE1-CBCF03E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D23-81D1-441F-9F85-F5B0479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3AB-9B12-498F-98A6-5CF13ACF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549-52C5-4F36-9EDC-0F6DE7D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8AB-9E22-4565-B1CB-8FB98D6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922-390A-4BD8-A869-B8F86C7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773A-78AA-4E29-84EE-1908D507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0A0C-FEFF-4965-955B-02116DB09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479-ABFF-44A2-B800-DB547EA6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P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Ever Will I Pr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Cumming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arrison Tenn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Pr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Pr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Pr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Pr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Pr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Pr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50Z</dcterms:modified>
  <cp:revision>27</cp:revision>
  <dc:subject/>
  <dc:title>Slide 1</dc:title>
</cp:coreProperties>
</file>