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4C8-D2CE-49D0-BDEC-DA757466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54A-6AF0-4BED-9DD4-E9696FB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CDC-83A3-41B0-9BB0-11B42E43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237-397C-4C51-A853-607449D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81FD-AD52-4E30-8E03-B58CB910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F3B7-DD98-4AC5-BBE4-9389C341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7AF-14B4-475B-BABE-9386B440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C3F-2826-48DF-A911-E699B86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9A1E-0B5E-4D39-A116-15AA445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A57A-403D-4F33-BFCD-5C5269A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998-7E3C-49EA-BFCD-46E408A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7A5-3F9C-4940-B8D8-34B602A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E5BE-5400-4B8B-BA56-6311167A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88E8-666C-41FF-AD7C-188B4A9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2331-4A70-47D2-AE3C-A445E63A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354-1668-4A5C-B779-474DCBA8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D1C-6953-461A-9410-E391687B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01B-2EBE-499A-903F-2737B52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582A-D01D-4409-AEBB-FF797EDE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4336-DFB5-4C31-AA69-05C1918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101F-BEEC-4652-89D7-A2228C1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362-480A-4C22-B90F-05D3DF07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9560-2FD1-4982-9E18-87865D6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ACDC-7415-4A6E-9DFD-1ACE6A8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C67F-8A6D-488F-BE8F-8701278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FCDA-DB75-4639-BA4A-ADF5592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7246-DA79-4E98-AA9C-D3F1F6E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6336-BA74-470D-8551-5353CA2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F5BE-9851-461A-BEF3-47E5162E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4F87-8E2A-49E6-80FD-D359637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2544-EFC4-46D6-9843-DDA2DBF9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843-0645-47D1-9E8A-97E7A99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AA0-843C-4B23-B6BC-9749F74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62D-FFA0-4AB7-BD27-D2734D6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A03-F0C1-4D4C-B3B7-F03E03D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4D9-533E-466D-97BF-BB718A2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9DA-BDCD-4C80-B66A-48BD3762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8D79-E1F1-49FC-A38F-884A77B95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A00-361E-4A1B-A17A-439810E04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ing The Mighty Power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LACO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sangbuch der Herog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 Württemberg (178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. by William H. Monk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ing The Mighty Power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ing The Mighty Power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ing The Mighty Power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ing The Mighty Power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ing The Mighty Power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ing The Mighty Power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ing The Mighty Power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ing The Mighty Power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ing The Mighty Power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ing The Mighty Power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ing The Mighty Power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ing The Mighty Power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48Z</dcterms:modified>
  <cp:revision>14</cp:revision>
  <dc:subject/>
  <dc:title>Slide 1</dc:title>
</cp:coreProperties>
</file>