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362-81F6-4BBD-BB1B-08364212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560-29EB-4C04-954B-E6AABFCA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CF0-6F62-4AF4-8C9F-3166FBFF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CCC-C62C-4F31-BE46-BDE8BD81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5534-D3A1-4CE8-9D58-72F93BEE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708D-F9A0-4804-A6E9-9434F75E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FB8F-4361-486D-B916-B5432D27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3D6D-0D13-447C-9AEF-CF3882E2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D574-688F-454C-9619-59F5C4BA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DA35-3891-4241-8D91-5BF71C10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B4A8-5F79-44F6-AB65-77E7B7F1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9C6-8A1F-4C6C-BF85-7822A9D5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E1C6-FAFC-46B0-A804-BAFBD9C6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85E4-2A57-41FF-9C6E-6A1F6267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51AB-ECB4-4E68-A562-7ABE5128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3CFF-2CAD-49DA-AE10-A07C3B48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65F9-6454-49FE-A386-F0779B1F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A58-CC73-4AEC-A9DA-1D761069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337C-29E0-440A-8B00-A5723C88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4586A-8EE8-49EF-8B57-A30BE4A4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B6EE-1470-4319-BDB6-5AD7A6EA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C76-F231-4FA4-BD32-54508BC3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15531-E27D-44F2-87B8-D00800FA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FDA2-317D-43EB-96CB-A1C84FE3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EFF17-CEFD-4B7C-B6AB-DD06D906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25342-8BA8-407C-B919-23CF8BFC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082AD-3F1B-4911-8861-7CE789E9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DBD4-F77D-4650-8D87-2287EC5C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B7382-127F-4EB6-B0D3-17F5CB52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CB5D5-ECC4-4F31-985B-E53878BD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F054E-C4F0-4B05-9615-D54AA181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7FB-E122-4632-84A8-7B0C93F5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CDB-EA66-4754-9185-4FEB959C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9F7-611C-4DC2-886F-ED3799C5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383-7F81-450D-8520-52B0F905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5C1-59AF-4E57-A872-24F51344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CE59-CB0F-46C0-AFD9-FAF72D3B9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35CB-AC0D-47D9-A08A-41CCC3BCE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EEAF-993A-4FC8-AC1B-3E4DE3141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vory Pal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Barraclough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Barraclough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2640" y="64882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vory Pa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vory Palaces_arr1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vory Palaces_arr1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vory Palaces_arr1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vory Palace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2640" y="64882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vory Pa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vory Palace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vory Palace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vory Palaces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vory Palace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2640" y="64882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vory Pa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vory Palace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vory Palaces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vory Palace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40:03Z</dcterms:modified>
  <cp:revision>35</cp:revision>
  <dc:subject/>
  <dc:title>Slide 1</dc:title>
</cp:coreProperties>
</file>