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957-D8F8-4C5A-AED4-AD4C5CE3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C0E-F690-40F0-99F7-DE46CB46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714-9CFE-4EAE-8C10-17CDD7CB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A71-F192-4FF4-9503-5BADDBCC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0865-9D4A-4408-84E8-284290C0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3568-71F6-4E12-9060-EA609955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7404-55EC-47AD-BA37-6A4241BE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56C-C691-4C5F-9BBF-B42DF4F6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6101-883E-479F-8699-0AC570A2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BD95-B3CB-4C4A-A206-5F831E92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1E20-E7F9-47A1-88D7-211E9B7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D6E-C457-4984-9EDD-D144D1A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5F5A-CEF8-42FD-8D8A-BC489EA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368E-A380-4BF4-8A42-992E8AE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F68C-C838-4BF7-9C78-D8134B3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C8F2-7A12-452C-BD78-0BF82689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DBA-AF6F-4F4C-AF6C-60C43D87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67F-161B-4B64-B817-12A22162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C66B-880A-4907-95C0-10FBACE8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7950-1E16-4210-85CB-BB136614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F326-7610-4300-B302-5CF05CB9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604-E701-4C67-A94D-D90A7428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7DC1-BF0D-4CEA-95DE-C4EACA88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D4D4E-B3C0-4551-8320-D7197655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A3F0-C6CB-42BF-A6F2-8BB10851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F877-3477-4846-89AC-5EAB724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CB17-D622-4B0F-80BA-4E36433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8EE0-BF44-43F8-861E-4165BB7F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02F1-71BA-4295-8F77-81E77340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96D6-ACDC-4A84-AF80-65072C46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5848-4FFE-4FDD-A9FD-96B0B100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49A-A18A-431B-A6A4-506F472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DFB-2C89-46AB-B85A-2FAB812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FD-890F-418D-9CAE-579680D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4B8-EC09-43AA-B256-33A35B8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717-A02A-4DA4-8417-B30F1EC6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6ADB-007C-4D9F-AD8F-7CB1D0154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9C7-746B-4652-A46B-7382CAC0A1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92FC-2235-4501-AD29-E7FFF0988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to The Heart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Deeper And Dee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wald J. Smit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wald J. Smit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to The Heart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to The Heart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to The Heart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to The Heart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to The Heart Of Jesu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to The Heart Of Jesu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to The Heart Of Jesu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to The Heart Of Jesu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to The Heart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to The Heart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to The Heart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to The Heart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to The Heart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to The Heart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to The Heart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to The Heart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1:57Z</dcterms:modified>
  <cp:revision>32</cp:revision>
  <dc:subject/>
  <dc:title>Slide 1</dc:title>
</cp:coreProperties>
</file>