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95DC-4E61-4DD9-85A2-E41C8A07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D88-0FDF-430C-AED5-24538D36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BE8-A388-4050-BCAB-5A644B68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E47-8B32-47D3-B0D4-A9552B38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EE58-AB77-4D3D-84E4-3E9F3C82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824F-ED5C-47EA-A7B4-569B29AB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C8C7-6DBD-4063-823E-0D72130F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24F7-85D0-4209-84E8-182991C8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442F-86A1-469E-8C75-172F9724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B7C6-B990-422F-A12C-004C0FBC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E559-F03F-4793-93F5-34B87D8C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1BA-2ADC-4DA0-9DEC-CDC69E35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106A-ABC7-40DE-B463-78DAC51C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F1B6-5F48-483B-B5C9-173987A6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0BA2-DCA7-42D4-B041-85E1D69E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2F84-4779-4987-BF3F-428F0E05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DD7F-102B-440B-9FE2-4FFC634D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6E87-5FDB-49CC-B33F-3A11D8EB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DEC6B-C753-4158-BDBC-3F3E0575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69921-E3B0-4531-A4DE-3C4881FB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BC297-5BA3-4D84-B04E-BD77B105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079-B1EA-4243-83CF-D637FE0E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1A0CB-8AED-4CE1-AAD5-D9BBF95E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6688B-4444-4508-81E0-134243A6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A93AC-D396-4EA5-B0A2-93846A6E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680C0-DE4B-44C4-B271-9159AF57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727CB-0B79-4C07-91EF-4457FD3D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497B0-EE7A-492A-9B67-994B1335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6B40C-C03C-4831-A23D-3F6837FB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355CC-A3CE-4306-BF3E-D775FCF2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32167-A2DC-4E83-9ADF-8FB120AC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855-9A25-4C8C-8E92-69ADA658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022-B208-4ED7-95C8-2616BCC7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8B3-3AC3-49AF-AB71-7BB0A650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E66-A7F9-492F-9493-69E4F2D2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1AD-03BB-4833-B3A1-A7ACF309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9F8A-12E1-4002-BEF8-43CC814B7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4CD7-B371-402E-B955-0F86D9570B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AC63-C005-42F1-9A5E-6D72A203B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Have Heard Of A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F. A. F. White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k M. Jones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Have Heard Of A Lan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360" y="648828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Have Heard Of A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Have Heard Of A Lan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Have Heard Of A Lan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Have Heard Of A Lan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Have Heard Of A Lan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360" y="648828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Have Heard Of A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Have Heard Of A Lan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Have Heard Of A Lan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Have Heard Of A Lan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Have Heard Of A Lan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360" y="648828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Have Heard Of A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Have Heard Of A Lan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Have Heard Of A Lan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Have Heard Of A Lan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4:06Z</dcterms:modified>
  <cp:revision>29</cp:revision>
  <dc:subject/>
  <dc:title>Slide 1</dc:title>
</cp:coreProperties>
</file>