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68F-C361-4128-B4FF-792B643B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073-20A5-4A6A-9EFA-BC8CD6ED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5C4-F003-4638-A047-6F178EA1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929-5014-4B7C-8977-CAB3D195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4CDE-AFBA-4DA1-9299-072579F7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6301-06E5-4ACB-804E-54FA6C51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AA3B-093D-415E-A209-C5A6611B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51FE-69DD-47DC-B7FB-FE7192B5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E22F-F012-41F5-BE83-EC50EC73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F24A-BA6C-4514-826C-E0210720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D886-E558-4308-AEB6-9D737355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6D1-2DEA-4269-A62E-8D0EAD20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2306-BB29-4230-B1AA-0E94FA0F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56EE-3F5B-4AF1-B400-96779028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C8BA-8924-4C38-857D-F8D27DE8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6314-E6E8-45B5-A39F-8F72ECCF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6A9D-8150-4AD9-91BC-A27762E5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132-3151-4251-91F1-A13361EB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192B-8C72-43CD-A364-9C131FA0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67996-04C0-4B50-9ED6-BD8A808E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6F800-C4B7-4FFA-A673-4DBA74D3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1DC-61FE-42C2-9439-525A1346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480B7-3034-4113-BA76-7B9290B4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E9FF3-8581-4F3C-BEF4-9E016213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4F029-5ED6-457C-986A-CA5D9484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5B5D4-9DF8-4B1A-AF99-74742C8C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3E809-D0A5-4EBC-B81E-FE935927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D2F0-64DF-4065-98C9-8F4EC0E3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8B9D6-F3E3-40D3-9DB8-F2C5BEFB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8A405-063A-4C09-81C6-1384221F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C7FA4-5B06-406F-B023-1B9A3E42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BE72-AE9E-47B4-AF69-8D5134D9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69A-8145-4682-B488-98AB02F7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D08-D978-44AA-8D3C-10D047A7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1D2-C8DE-4B01-AE95-61FADC40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557-1E24-4F47-A981-D5AC7048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6AE4-9300-4127-AC1D-160764AC9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7FA8-B141-45CD-9842-4800886776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CC1B-B9F7-4A2F-9EEB-23CB0E4D4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n-NO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Love Thy Kingdom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EAL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mothy Dwight (18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B. Everett (18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Love Thy Kingdom Lord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6640" y="64882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</a:t>
            </a:r>
            <a:r>
              <a:rPr b="0" lang="nn-NO" sz="1800" spc="-1" strike="noStrike">
                <a:solidFill>
                  <a:srgbClr val="000000"/>
                </a:solidFill>
                <a:latin typeface="Lucida Sans"/>
                <a:ea typeface="Arial"/>
              </a:rPr>
              <a:t>I Love Thy Kingdom,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Love Thy Kingdom Lord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Love Thy Kingdom Lord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Love Thy Kingdom Lord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Love Thy Kingdom Lor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6640" y="64882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</a:t>
            </a:r>
            <a:r>
              <a:rPr b="0" lang="nn-NO" sz="1800" spc="-1" strike="noStrike">
                <a:solidFill>
                  <a:srgbClr val="000000"/>
                </a:solidFill>
                <a:latin typeface="Lucida Sans"/>
                <a:ea typeface="Arial"/>
              </a:rPr>
              <a:t>I Love Thy Kingdom,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Love Thy Kingdom Lor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Love Thy Kingdom Lord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Love Thy Kingdom Lord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Love Thy Kingdom Lor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6640" y="64882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</a:t>
            </a:r>
            <a:r>
              <a:rPr b="0" lang="nn-NO" sz="1800" spc="-1" strike="noStrike">
                <a:solidFill>
                  <a:srgbClr val="000000"/>
                </a:solidFill>
                <a:latin typeface="Lucida Sans"/>
                <a:ea typeface="Arial"/>
              </a:rPr>
              <a:t>I Love Thy Kingdom,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Love Thy Kingdom Lor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Love Thy Kingdom Lord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Love Thy Kingdom Lord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8:26Z</dcterms:modified>
  <cp:revision>31</cp:revision>
  <dc:subject/>
  <dc:title>Slide 1</dc:title>
</cp:coreProperties>
</file>