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F33-D00E-48A2-89D2-E6C583A7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446-CDAF-40E2-AABA-7160E740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A89-74B8-49F9-80E4-61DD3540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7AA-3DA8-468B-8964-C635E595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DBAF-D99E-4880-A4F7-0C399431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32BB-D3DE-4F74-8FC9-2C125FF3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D2A1-92B3-4C6E-963A-1050EACE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06D8-49C4-4471-9C86-F27FFC12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990F-8C44-4FEA-857B-A5C96B4C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9E42-19E4-4377-AD44-F30A9C87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606A-0DD7-4402-8608-3DADF9F2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8ED-61C1-4F3B-AC17-99FBE253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360E-DAE2-4A87-8C31-BA797415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B8AE-4AFA-4F76-98CE-6BC2D03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037F-977E-450E-9B7A-8DA6C08C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C81F-1D93-4D06-BBE9-AB96722D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52A1-C1B5-4CB2-8B28-E1FC75F7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D74-3A11-42A2-B019-C51E7816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1F62-F705-4AB0-B3BF-9093B9BE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BD67-37EA-4BCF-9644-8A48526A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C7213-FC47-4A3B-BDF6-61AF08F2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149-C98B-42C5-AD75-ADF7B5BC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9067B-E7B8-49C4-8815-8ED8C6A2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6F5B4-6D9B-4571-B1FD-95A17983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CFE8-046F-441D-A74D-BADC0DC5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38FA1-E959-4E40-8940-10E8E25D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82455-25BF-45B3-B632-8CF9963C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B59E6-F8AF-4687-BBA3-54000507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E545E-8D6A-44DA-920F-F120E961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9B6E-6312-4DEC-8EF4-03C95714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60CB-30D5-4B58-A401-18B75109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C62-4A52-4BF5-A1C8-8CE4AF31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D58-36F5-42A9-A8EA-25B83058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440-D875-4AA4-A20A-84D19F72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2BB-83DC-4990-92AF-DFF626EB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3CC-D196-4679-831F-4E717F06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12B4-707A-4646-BF22-79E51321B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ACA1-0909-427B-9C75-5CB6628EBB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4552-827E-483F-8D45-157FB4312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Bring My Sins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LEAR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6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rgal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332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Bring My Sins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Bring My Sins To The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Bring My Sins To The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Bring My Sins To The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Bring My Sins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332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Bring My Sins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Bring My Sins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Bring My Sins To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Bring My Sins To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Bring My Sins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332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Bring My Sins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Bring My Sins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Bring My Sins To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Bring My Sins To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4:34Z</dcterms:modified>
  <cp:revision>36</cp:revision>
  <dc:subject/>
  <dc:title>Slide 1</dc:title>
</cp:coreProperties>
</file>