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231-61F3-4366-BB30-A15A7AEC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756-D14F-405C-BDB0-09F7C2BF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CD0-2FE6-4BAB-8551-921EA6B3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ADC-7591-4C7A-849A-BD909C11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B22D-40E3-41BB-AD60-4C2D8732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2A1A-F77E-4E28-A9F3-7ADC1B9D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8507-AA67-408F-A1A5-619C527B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731F-2780-4649-AD98-E4A63B28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6176-28E6-4D8D-9AC2-C28EB2B9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8F20-C9B2-452E-8B6A-8F8013BC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80A1-31A8-477A-B1BA-3DE3782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181-7DB8-4FF8-B034-63AEEC05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E80A-D0A5-4E96-915B-D537947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B2CE-716C-4892-8B9A-7D5B4009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4908-BFA0-4C03-8032-33B046B2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B46D-84C2-4C72-83A5-2A6AC473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4AF2-225C-4B9B-8AEC-D8B2FEE2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BA1-DD97-4500-826B-E8E6E358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1543-157C-44FE-BEEC-7524E4BA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EF0E-6E3D-4F87-966B-2ABF378D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180F-F21C-4777-91A5-97EB9FF1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FB4-E0BC-4576-A5A4-BAC3F885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10F1-0AB1-47EC-BC35-2D74373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E8AF-28A5-43FE-A72D-61CD46D1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35D54-342D-451D-8329-51D80B52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4CC2-C5A7-484D-85D2-E705BC5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72C6-24F1-435D-8632-B9D6E68B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5552-2947-4806-A921-29A0E2F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D6D8B-4704-49B1-9AE2-0488936B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A2A8-0A33-4040-AFDF-E938089B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800E-7011-4C71-BC11-53D457C1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144-8CBE-495B-8DED-A28F2C0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51E-55C6-4204-8604-6D86CE9A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038-E3AA-4068-BBA8-17CCE811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DAC-5AE3-484A-8237-C26A4FA7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9F0-94CC-48A6-ADE6-F1F9B338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9B6-4C78-43B0-AE8A-D5E1FE6D7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DDF9-E909-4125-B12A-85D0A58E5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AA91-8B9B-41F8-8D99-9C19396E0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 Is Well With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ratio G. Spafford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 Is Well with My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 Is Well with M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920" y="6488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 Is Well With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 Is Well with M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 Is Well with My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 Is Well with M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9920" y="6488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 Is Well With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 Is Well with M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 Is Well with My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9920" y="6488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 Is Well With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 Is Well with My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55:55Z</dcterms:modified>
  <cp:revision>29</cp:revision>
  <dc:subject/>
  <dc:title>Slide 1</dc:title>
</cp:coreProperties>
</file>