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47D-7055-44B3-9AD4-BDE2BACB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A485-6652-45F1-8B0B-D982B0EA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D184-BFE0-4E3C-B5A4-9926F0D7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CD5-B681-4F26-AC51-A4C8023B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62C1-B486-40C6-ABCE-E2B331E7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D32A-8568-489F-9B64-090614F4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8789-893D-4074-8782-FEE1DC4B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A2C8-D464-4A69-A280-7F6CD933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B2C3-63A9-465D-AD67-EF1C58FB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A970-2831-40AE-A098-8D627F9C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74E5-70C3-4870-9BDD-49EC7B77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296-6169-4338-98FE-C6D874C2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3F6D-4B5B-4E66-B474-150F23EF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047D-E40E-4941-9132-D1648822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A551-C216-4976-98BA-51DF89A8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C7DD-C9B3-4760-B4BE-4F7E0B2F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2F1B-0FB3-40E5-8E41-F6CA2809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F88B-0B11-48AF-BC37-40592B1D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EE2F7-8794-4E8C-AC1A-A18C680D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F3A7D-E5EA-4B0B-8351-855285D3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967FB-9A8B-4440-9FE5-79BCC37F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55D-3B40-41D1-A06E-C62868D3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43D09-B2B4-457B-82E9-018B7145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BBB19-E891-4852-BDCF-8629F26F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2BD5A-7941-4DC8-8130-63154613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8911B-FDD8-4FDE-8753-45242821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585A2-0C79-4A36-BFB9-39379518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8C5E-9790-46FC-BA7C-DB658F60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D99C1-28F1-42AE-82EE-3DC88055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E7904-D30D-49EA-A2BF-213A3276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A7BF1-2DD5-47B7-81C9-716648B5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059-3A47-4F2F-9E2B-E0B187F4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C90-55F0-4503-9DA1-C043E506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1A5-95C0-4E55-B9CE-1227D175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02D-59CB-482D-B776-065A7BAD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76C-756D-4954-9317-75FC9D6E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FAA1-B55C-4144-992D-1F9EFDA1D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FF82-EB58-46B8-86BA-2038815525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4F59-1CEE-4A48-B372-C96C802C3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Shadow Of His W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B. Atchinson (18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O. Excel (18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e Shadow Of His Wing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e Shadow Of His Wing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e Shadow Of His Wing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06920" y="6488280"/>
            <a:ext cx="39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Shadow Of His 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e Shadow Of His Wing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 The Shadow Of His Wing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 The Shadow Of His Wing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 The Shadow Of His Wings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Shadow Of His Wing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6920" y="6488280"/>
            <a:ext cx="39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Shadow Of His 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Shadow Of His Wing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Shadow Of His Wing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Shadow Of His Wing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Shadow Of His Wing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Shadow Of His Wing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06920" y="6488280"/>
            <a:ext cx="39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Shadow Of His 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e Shadow Of His Wing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e Shadow Of His Wing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4:04Z</dcterms:modified>
  <cp:revision>31</cp:revision>
  <dc:subject/>
  <dc:title>Slide 1</dc:title>
</cp:coreProperties>
</file>