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894F-3AB2-4289-A90C-523D9466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5402-F34D-4518-95E6-D2492E84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9AE6-8691-4D59-B0DA-5FBF44E5E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CA27-313E-437F-898B-63AF6DCE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1F75-39C3-4B14-972D-20993710D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1BA6-CC63-4F01-81BB-3F97573D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FE45-F4EE-4445-B22B-5E951907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750E-17FC-43F9-BCD3-244A6E18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2F49-ECFE-4FB7-B442-0CC76637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1ECC-C993-4929-9D87-9F7CF1E8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7D5B-72F9-4EE1-9E15-66F63073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E823-F50D-45E4-AB6C-E464078B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5B03-0A21-48BE-A215-24164DE9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5DE1-8B9C-4233-B3DD-D8AF5D36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0406-953D-470D-A90F-4CC0838F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88F2-FB82-4635-9754-9038D6FB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714A-95F7-4A70-B22E-8582FC8F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12C5-9C91-47E7-A0F9-9F0E2D90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F1CFD-520A-4D2B-86F2-85965888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A7182-06E5-4A7D-8D6F-7C6074D1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0FB5A-6C8B-4C02-86EB-80D1FC92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EA1D-8B08-4CEA-8A02-0D0A0B78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CEB38-BED5-432A-89B9-08FE3447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4AEC1-32A7-4C47-AC34-77868EBB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03843-BFCD-41BE-8D63-A894B692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181C7-E39D-4FBA-80D1-6E48EA26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4EF11-0E71-429B-BAED-405C1016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1F49D-30E8-4849-BEAA-9918A0DF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DAA28-FE10-448A-BDCD-DB4A52DE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9DD5A-9D51-4060-B55A-0039BC494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6A638-B4E3-40A7-B8B6-050F9F88C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2926-D737-41A1-B31D-84F9E097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A51D-554F-4D92-8A54-E39F4538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5152-A17D-4ACA-AAF6-6A990D8F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D1A6-6907-4678-94EC-83AACFEE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E064-51D2-42C2-A67E-C651C11D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FF4B-1E00-40B2-9168-9BA354589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242A-3D77-457E-8B38-D048479085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77E0-19E0-496A-8544-BBCC6B1479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Know The Lord Will Find A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5360" y="4902120"/>
            <a:ext cx="125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C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Fold Hy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Folk Melo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Know The Lord Will Find A Way For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7440" y="6488280"/>
            <a:ext cx="43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Know The Lord Will Find A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Know The Lord Will Find A Way For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Know The Lord Will Find A Way For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27440" y="6488280"/>
            <a:ext cx="43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Know The Lord Will Find A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Know The Lord Will Find A Way For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Know The Lord Will Find A Way For 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7440" y="6488280"/>
            <a:ext cx="43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Know The Lord Will Find A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Know The Lord Will Find A Way For 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7:20Z</dcterms:modified>
  <cp:revision>31</cp:revision>
  <dc:subject/>
  <dc:title>Slide 1</dc:title>
</cp:coreProperties>
</file>