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849-340C-4C80-8C87-4A9A1869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89E-EAA4-4D6A-9D7B-60A8AF2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7F6-773C-4983-B0BB-37ABC193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2F5-B5CC-4CD9-A5EA-18F51F33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630-26A1-4ADB-BD4E-3E8ADA76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9BEB-E67B-48D7-AA05-DB85A3B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3A5E-9E04-4710-9ADC-833E95D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EF9-0363-4BBF-9213-24928A3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0D3F-039A-4E30-AC60-6A4C5727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E02-4C79-469F-8D41-7FEC3F3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17E7-FD45-4C83-83EB-FD8CC28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A1E-6727-44D6-A18B-09E6B074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0FA-D30D-4263-921F-9C94814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9575-A117-4464-85DE-941C06E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BB0-5574-40AB-8AD9-EB470BF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D308-E68B-40AC-8164-555AC6B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4A78-7E71-4E6A-B643-9C06908F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D1F-4ED2-47B3-AC21-004DBDD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E5A2-82A9-4697-9F25-33AD07E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E9A3-6979-4E74-B611-21AE77D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7F1C-ED3E-4874-8A5B-F703AD0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0CE-A675-4D74-858B-437545A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1D43-B93F-4D66-B0A4-BFFD3DC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A49A-7832-4512-8784-B19FE37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E25C-7065-4F6C-8AEA-29E2277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8310-1F7D-4ABA-9109-4261A75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C910-7C74-45BD-8689-27CAC7E5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BADC-7488-4A99-B198-B2D807B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66D1-AA4C-43DE-9E23-60D7BC5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0E80-F344-487D-B1EF-4FF78A6E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4B8-0B18-40A0-B111-0C62D18D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906-EFEF-4F6C-AA93-7EF44AB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B27-7622-450F-9177-BCC0F890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88A-B95E-4641-AAC8-BB75BC0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68D-0800-41DF-80C3-687F457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2A4-2E01-44D7-8AF0-2CE2919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51C7-1FED-4B15-BB97-FE1262B8A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8106-3C74-4412-804F-A64CC0F5A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620-C313-462C-92F9-823C92721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Thy Heart Right With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Thy Heart Right with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Thy Heart Right with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Thy Heart Right with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Thy Heart Right with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Thy Heart Right with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Thy Heart Right with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Thy Heart Right with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Thy Heart Right with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Thy Heart Right with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Thy Heart Right with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Thy Heart Right with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Thy Heart Right with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6:49Z</dcterms:modified>
  <cp:revision>28</cp:revision>
  <dc:subject/>
  <dc:title>Slide 1</dc:title>
</cp:coreProperties>
</file>