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239-3121-4E80-895B-A92CD0C8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078-3C04-424C-9D73-FAC2868A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DDD-18B6-4E41-8AF5-4A03A0FC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14B-2047-4CC3-BCE5-BDEB974F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0719-E4F7-45C9-B5CF-CD422E51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502F-E4DE-4BB3-92BD-319EDEAD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CF7E-07A1-4FA1-B321-466BF8C3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1669-844C-42DC-84BA-48FE3230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A7A6-D51E-42AC-9B93-6D270F7F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7D8D-5CD7-4BEF-98F7-4D3560C6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6D5C-AFF2-4D86-8925-F8F549C8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05A-6F28-447B-BDB0-AAFE0AE7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5442-E58A-4783-A3FA-E403A55F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A4D0-15B3-4C29-91BA-1E19CB9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C5D1-17B1-463E-8B27-49353C3B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47CD-8C6E-4D66-A0DD-19A54A2A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383C-CA07-4CFD-A466-4BC56948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85B-0364-4DA3-819E-687CF99D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A176C-55D9-4FBE-B02E-8125092D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45C5-1B5D-440F-BB78-3904D72B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F404-3835-4EF9-8B44-10997438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2C3-8696-4F58-B895-C4A720D4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1EBB-7511-4BDA-9805-E76F3BC1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DF7E-B529-4EDF-92A8-F1BDF0B1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F747-1B36-4ECB-9C71-A04D8AD3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C5E0-6669-4595-8232-87C80F5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08B8-BE68-4DCE-BFA4-D22B2DE5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326F-4614-4EB6-BBD7-9B03B6B6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18DA-0863-44CD-91E7-13C5CA8B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9B41-0F90-456B-915A-6C4307B8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92BD-FF38-40B2-B9C5-71A1679B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614-F7B7-41F3-8184-489EAE98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C40-A102-43B0-9672-914025C2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221-109A-4529-84C0-DCFCC4B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92C-D4D2-469E-8FAE-FE6E780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A30-1810-4847-8523-6D197D2D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DC94-14B3-4941-805E-E0B8E409E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8BCB-8BEF-4130-AAC5-3C99D4F4F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CE26-FAED-4D12-A87E-5F0636F93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Desert Of Sorrow And 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Water Of L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R. Tricke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Desert Of Sorrow And S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120" y="648828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Desert Of Sorrow And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Desert Of Sorrow And S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Desert Of Sorrow And Si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Desert Of Sorrow And Si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Desert Of Sorrow And S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120" y="648828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Desert Of Sorrow And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Desert Of Sorrow And S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Desert Of Sorrow And S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Desert Of Sorrow And S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Desert Of Sorrow And S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120" y="648828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Desert Of Sorrow And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Desert Of Sorrow And S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Desert Of Sorrow And Si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Desert Of Sorrow And Si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6:27Z</dcterms:modified>
  <cp:revision>27</cp:revision>
  <dc:subject/>
  <dc:title>Slide 1</dc:title>
</cp:coreProperties>
</file>