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979-B101-43B1-AC39-0FAC3C7C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6BB-5276-41FC-B0BD-ABCB3B46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7D7-3500-4D47-AC89-04C8E0C5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BA3-5B16-4893-959F-D1A700EF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AE6E-FBBB-4C6B-8294-421AEEB5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7038-11FE-4D07-ADEA-46A8DDA6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8A50-7E44-4443-BA47-39AAF32A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FC33-B26D-4658-8241-2921CA99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2D01-9450-466E-BAB9-8BCBA4B9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B221-4C4C-4250-8D1F-287F3079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18E1-ADA3-4C00-8AD7-70B3C798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BCC-FEC7-4E13-A006-28D28914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9F24-85A1-40BD-979E-7AE93FDF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5AF4-A538-4D0D-BEA1-43D08D86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BCBA-291A-4CF4-81A6-80CED807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09A8-B15F-4E6A-A00D-C7DE9522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3DB0-BC89-4093-84CB-F0DE75A6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125-205F-4ADA-8EF0-946BF13B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54358-41CF-4A21-9804-1189EE5E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E84F-80F1-467E-932B-1A242280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C637-9EA6-4C18-A75F-A9A0EA85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FBD-3307-4EF1-9C98-91C2B6C2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B7ED0-5CB9-477B-A4B9-B2BC811E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396A3-55AA-4DDA-9E33-A3C36882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17E33-08CA-41A8-A075-459713D4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78E3-FFD4-4EE0-80C4-5851662F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9F878-1BEE-43E1-AC4C-ABBDA527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43F46-4535-4EF6-B996-35D1C5C2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9D617-3A48-4FEF-AA8F-3B3998A2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675CF-DAAC-4361-A953-6CEBB36E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7A9E2-28AA-42D4-BF58-A29DEDFF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D96-6B01-4F18-B38D-8A24A37A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0CB-2EA4-4784-A74D-A3CDFB3F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E8C-25F1-4AB4-8BB3-91867F9D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93A-F1B2-46E9-BC67-C32052F5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AD0-3919-41F3-AF9F-E5BBAB79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4681-1514-46FA-B79F-DEEA19327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F8DE-CE6D-4A51-B950-F75F1788D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A087-E8A7-4091-8211-A3A62C9D8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Hour Of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ENI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ontgomery (18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pencer Lane (18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Hour of Tria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200" y="648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Hour Of 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Hour of Tria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Hour of Tria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6200" y="648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Hour Of 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Hour of Tria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Hour of Tria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6200" y="648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Hour Of 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Hour of Tria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9:15Z</dcterms:modified>
  <cp:revision>29</cp:revision>
  <dc:subject/>
  <dc:title>Slide 1</dc:title>
</cp:coreProperties>
</file>