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E2D-94C7-4338-A043-79685F8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39F-224D-416A-BADE-93D16443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E0B-2CB7-4DE3-AB62-03AEFD4B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329-6581-4AB2-9A52-8B5B15A3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FA61-F115-43C0-811B-8C64434D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E610-C3E8-48CF-9417-ED2FFD2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EBBB-E74E-4BE7-A47B-370EDAE5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1AE-7279-46FA-A533-BE905205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762E-63B4-4672-9247-099B95D5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E308-4A8A-4495-871E-A98159E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9EE8-0BD2-4CAA-A896-AF4CDFD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6EA-572A-4A7A-9807-24D2B5C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6CF-DACD-4853-A740-F7E4AE1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8365-258B-4976-BDB0-8698BDF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BE4F-B3FB-4F2D-915C-6EE0F47C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E19D-3C1F-42FC-BA71-E766A93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4BA-BF5C-4663-98BA-AD64ACFF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7D9-D050-471D-9808-124AF26B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B81A-E300-4DA3-9137-58027C93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F172-E14D-4C9C-BAE7-B8EF88F7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582F-F651-4C8F-9855-9FC18420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10B-D482-4E07-B6D6-E54F3AF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B3A2-585C-4DF0-B194-FBECA00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9A1F-4AE3-4406-9B05-8851F7E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3368-2C12-4549-9988-A9FE51A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B64F-D1BE-41EC-AECD-2932DD5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C28E-92EC-4107-884F-5F952B5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CA94-DAD1-4E16-9380-F2A8946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93E1-AF84-44B3-97DF-BD77589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B852-BFB7-48D2-87D5-3463FC7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D440-16B0-4240-912B-08DA3457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79C-6E51-42F0-9C58-AB2EE95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F28-3C38-4BFB-885A-9E3FE1E0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EDC-7232-4C8E-8EDA-B0DB4F4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7E3-47E2-4B9F-9CA7-404CBE9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CDB-705B-4917-8439-F0E0575C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CAAD-877D-4411-AF68-B4669700B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556-03A1-4D56-B781-D8BDCECC8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76D-8E04-4272-BE7B-12CA3A980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Mine No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Mine No Mo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Mine No Mo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Mine No Mo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Mine No Mo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Mine No Mo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Mine No Mo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Mine No Mor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Mine No Mor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6:51Z</dcterms:modified>
  <cp:revision>26</cp:revision>
  <dc:subject/>
  <dc:title>Slide 1</dc:title>
</cp:coreProperties>
</file>