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016-35BC-4A97-BCDD-3EABA124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70C-78AD-4DB0-80E5-35C83194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124-59C4-4191-ABC2-2F6BA833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B90-B90C-486B-B4C2-3C3A12A2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3924-01E4-4285-A7A1-3825F854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03B-0491-4CB2-AF9D-B4B0167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AEB0-D6C0-4A95-89FA-11EF2C10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A2F-745F-4338-B8B4-425DDED9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E5D9-E662-4F53-B7BE-C48E863A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92CD-1787-49C7-9E08-626EA68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2EA-C3C6-4E50-B9E6-6842DE9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E5D-EB20-4064-8D53-A937DFF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77FC-891A-4FB1-8B9B-6BED377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0AD0-5925-4447-BE5A-BC449AB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5AA9-299E-4A86-A3AA-F33E6AD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1BF4-4121-4EA5-ABC7-A181BFCB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105C-53A8-46C0-B150-F4FBF16A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A8A-9DA6-4629-88BD-17B8490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25B9-35A1-4F91-81BC-317B80C7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1F47-5927-4BAA-8F3A-349BFF8C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A8E5-072D-49AB-9D1B-A55F349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886-EB25-4E47-BFF5-57A3E597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F60C-8F8A-40E6-96FE-9B383ACF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AE37-654E-4F69-B772-E282209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DB04-878C-4DD2-BBA5-3B039F12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2E01-AEC6-4D32-AC4D-6BD1D636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273D-C5EB-4F29-90B5-4D55FA7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2FA7-CDB7-4EA7-B092-DC1E53FB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E848-67F5-4A05-A918-85A3838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6B73-A0E4-492C-9876-FEF3A613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00AB-E806-437B-B952-C6450AE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768-A173-4907-A85F-307C3FFC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647-91C4-4264-B02B-188EC2A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ABB-C177-4A78-8DB4-4CEE716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FFE-A973-4E3F-B57D-5EE2A87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573-D243-4B83-A782-3C5D2BD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DDC1-E5B3-44C0-A98C-F8D98B328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3D9E-B19C-4C70-AEFD-385E4ED70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FEB3-48A1-4184-9E6A-37F63028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m Not Ashamed To Own My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Z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Glaser (18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 Not Ashamed To Own My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 Not Ashamed To Own My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 Not Ashamed To Own My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 Not Ashamed To Own My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 Not Ashamed To Own My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 Not Ashamed To Own My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0:10Z</dcterms:modified>
  <cp:revision>27</cp:revision>
  <dc:subject/>
  <dc:title>Slide 1</dc:title>
</cp:coreProperties>
</file>