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4D3-AED9-4A36-8118-9C3F64AC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F70-192D-4ED9-815C-723867B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244-B082-49AC-857E-74C264C6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428-0129-434E-A50F-F9B275E3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B7C-E726-4451-A70F-583B5745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987-2FFC-4899-9E5B-B696CEA0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47E-05B2-4D55-AD1A-DD489B67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1A4B-154B-4C96-93B7-8FDEB514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66B-C71E-4306-8E9B-0D4992D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45DA-52B9-4FF1-899C-A9B71BF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74D-A7B1-4CA7-8156-E287E84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E84-C45C-4BEE-8BB3-CB0D3258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F64-E624-4BEB-A8E4-B87ED35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CC29-AEBC-4F39-86DC-AE96F79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01F4-2EA0-41D6-91B4-25ADE5BA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FD6-1C7D-43CF-9BF1-828949D2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380-3428-4DA2-9876-22DB83E0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FF6-2BE9-4DBB-8492-83ED4CD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7CF9-73FD-43ED-9F55-970E7DAF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37D4-8EC5-4B20-8C4D-15CDC638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83D5-1A52-481A-A10D-E63B3AAA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228-21DF-45C5-B25D-008AC9E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FB8D-C6EA-4058-AB7B-1E3476F5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329F-AA82-4100-A0AA-7218B1AB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B203-215E-418B-A8ED-AE0449E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35AD-2E37-41BC-A5F8-DC5C71F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7644-1FFE-481C-8C2E-9259830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C2F7-40A6-4CDF-A70F-38FC5A1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001C-B936-48CE-A73D-ACAD2DA6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082A-D47D-4CEC-8FE4-878ECF73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3992-16F8-4F0E-BC64-03ACBC0B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537-5F8F-461D-9913-3791F48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5D2-EA67-4364-A2DD-40AF61C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AFC-1E95-4DFE-BAEA-494C93E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D40-15D4-40E3-9E02-CD4A470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28F-6AB0-480C-9098-B7C0A5C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C9F1-5E1F-471C-84DC-85626D5A1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8D2-F693-4E7B-B4DF-0EB9F612A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20D3-0454-4DAD-A25C-9C7BC54EF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ve Got Peace Like A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e Got Peace Like A Ri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e Got Peace Like A Ri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e Got Peace Like A Ri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e Got Peace Like A Ri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e Got Peace Like A Ri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e Got Peace Like A Ri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e Got Peace Like A Riv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e Got Peace Like A Riv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3:26Z</dcterms:modified>
  <cp:revision>31</cp:revision>
  <dc:subject/>
  <dc:title>Slide 1</dc:title>
</cp:coreProperties>
</file>