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BBD-9884-4CB4-B395-B6C9466C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C60-C780-495B-91C4-763A82A8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B1A-5418-4881-879B-937A67A3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E6D-E1BB-4BD1-8E4F-C4451D6D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19A5-D4FE-4D3F-BC0C-FDBD95CE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918D-D044-44F4-881F-D642FD15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AE83-E213-4C6D-BCC6-EB59FBB8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3119-5329-4B5B-9158-A9001753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E8C9-C57B-4821-A5B9-AFE8304E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1581-AE1B-4BA6-A10D-78DD0519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8E72-A868-4FB6-B617-8C37D081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BEB-5D73-472B-9801-342E9D27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7784-7E9B-4397-8D0D-8A1B53C8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4FFE-DEB0-4F69-890A-FD8C82DC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6BEF-1A06-4AF7-9E47-88AABC88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2102-6996-42E6-82E7-84CDD651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F0E9-239D-43B0-8CE1-27FA52BB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F7A-64C9-48D1-8D2D-0E3745D1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5B59-8114-4E91-B8F4-225DA9DE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835E-F8DC-4A9A-8537-BAE63436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EB16-ABE8-42AA-96D9-036B7031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2FD-51B9-409F-87AF-40FD61D0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1960-BB82-4CB6-A5C8-59C92A39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D664-8B2E-4313-97BC-5DFFD3AF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F12F-2993-4EF3-99DA-E4A47783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87EA-1E24-412D-B0FB-057E955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AAAB-5525-49CF-B8E9-424A80C9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B7F3-7233-4CEA-A285-46961C3D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9EA5-B5EF-41B3-8F50-6336AA0F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821B-8830-469C-868A-9302D2C1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F2DF-AF2C-4293-A62C-F5252D9F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F81-7BEC-4BF6-B8FF-4842A203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E65-5D46-4772-AC7F-8F6287DF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097-8091-406A-861B-5B3D6A5A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246-0A3A-4D4E-85F1-4A5878BE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6DC-570D-4199-88F4-5DA74EE3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5BEC-8D1D-4FCA-A4C1-FE57CDF1C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1B4F-5147-450E-A800-E75D3A408B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F8CF-E328-400C-A944-8325FCCA5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w Firm A Fou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1.11.1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Keith (17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om Funk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nuine Church Music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w Firm A Foundation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w Firm A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w Firm A Foundation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w Firm A Foundation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0440" y="648828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w Firm A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w Firm A Foundation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440" y="648828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w Firm A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w Firm A Foundation_arr1_v6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5:31Z</dcterms:modified>
  <cp:revision>31</cp:revision>
  <dc:subject/>
  <dc:title>Slide 1</dc:title>
</cp:coreProperties>
</file>