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01992-44B4-4356-8405-EB04E59F2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91113-BD63-464E-83B2-EC8862F59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50220-59F1-4730-B7AA-4B555E1B3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12EDD-63C3-4260-8D7F-8368D7852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54095-C6F0-44F9-A2F3-9E886555F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0255C-3DE4-437D-BD64-A5D19A50A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7FDFC-D768-4DA7-9C09-EFDB32D77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72835-4526-40DE-B11A-7E1598DBF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B7157-97AA-42B4-83EB-DD67762D8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4EFA1-BDE5-405A-869F-264785829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6698A-8A15-40E6-B716-53622C3E8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B88D1-3955-475A-92A4-B274A896F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D9D84-7416-436A-9951-D8315BF32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402B6-1FA2-48F7-9453-4E83660B8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4FF2E-0373-4FC6-8067-1F50432AF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70A14-B0D0-4C20-9400-5212F5BC3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4FA05-4E2E-4FDE-B970-BEC39CF8E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ED18E-F07D-42D2-8DE9-B5C972DDF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BAE707-952A-4F82-A59E-2C28894DF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6EC713-D42B-46B6-BED9-375DB8631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C78E9C-2872-49B2-B704-D4FF7AF58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2C8E7-1BCF-4B5C-8785-16D7C989E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8604FB-BD4A-4BF3-B7C7-D6923780E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9366CB-7552-49C4-8467-B3DD881D3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CF2011-9E79-4BFB-8B19-AC2E1DD97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8F8321-AE50-4CD0-B485-152FC735D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28EF9D-DB9C-4F8B-8488-8254CC474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6E7405-8844-4287-A9CF-18CE3F7D0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A0AA06-84C3-4B30-A620-5CDA7ADD6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DDB8DF-8745-4551-85C7-4E52CB73C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6C069F-7D69-4FC4-BF7C-8C2230BFC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DE2E7-8CC8-4A97-85F3-24C7EDD94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CE04B-B9CE-485B-A9AE-77219D30C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C9EC2-223E-4358-A220-5268FBC2D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9A896-B53B-42DB-8A15-1DBA811BF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D6D30-226C-4D93-B192-797E720D1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BD0DB-B0DD-4791-8292-2209EE2CA8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24309-D73F-4E62-929F-DD5E26BE69C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7A381-4B48-40AC-87C1-3B6B1034F4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He Is Lo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40320" y="4902120"/>
            <a:ext cx="1249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F/E - 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T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Based On Philippians 2:11, vs. 2 by Alton Howar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American Folk Melod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11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He Is Lord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67320" y="6488280"/>
            <a:ext cx="200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He Is L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He Is Lord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He Is Lord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67320" y="6488280"/>
            <a:ext cx="200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He Is L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He Is Lord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76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0T16:09:55Z</dcterms:modified>
  <cp:revision>20</cp:revision>
  <dc:subject/>
  <dc:title>Slide 1</dc:title>
</cp:coreProperties>
</file>