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B4B-3D71-496D-AF3D-9AA9145C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D6C-43BB-4EB1-9512-01DFA4AC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8E6-CE5D-4489-9A91-8CDB0DC8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E22-9941-488F-85BF-F9A3204C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78A1-8697-4FF1-BB11-FE59A745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68D5-6F39-4A0A-8064-45FB3902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986D-3940-4C32-A28D-5262663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86D3-F20F-4EF0-B7F0-1FC315F2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313F-A3AC-44D2-B49C-EA6A4100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E6EF-BA15-4CF8-8137-E7C1F89A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2F5B-9695-46AC-8C3E-0935615A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F1F-C79A-4528-922E-8B1D9DFD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6963-406A-4DB9-B937-D4A9A03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3074-B03A-4433-AD0F-41EA8B26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A771-BD4D-4DD1-A288-31F6C68A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1833-974E-45C3-A6F5-88B64272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F3C5-58B1-47CA-BD29-BB0019DB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418-D80E-4FE9-B9C5-B2CAA80F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3037-E490-4DB6-9DBC-95583240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B636-C7BB-4758-9BEC-8A0F920F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F4F0-06ED-404F-8CD7-A8B01D7B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A27-FEA8-4D07-BC40-6893B371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50C7-17D2-464D-B1C9-55AFDB20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60A6-0E30-4D01-98F0-B3955503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E0E7-2C9E-4FA4-A1F8-D5A10346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2E82-010B-4282-AE93-A56A9FF1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2B2A-8944-47B9-8D6B-81DB807B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BA71-5594-4419-BBE9-F13727C0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C870-E30F-4EA0-94C2-F81C27BA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4C46-3B17-482F-A084-4E2CE1F0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D9F2D-1934-4B66-884A-08002E43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FD1-689C-4455-AD76-38771DCF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AF5-E823-4D02-9FE7-D4955309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AE4-34C1-418B-A492-AE181F9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15C-B28E-44B4-897F-9E23B29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1E0-B32C-4244-9AD4-55920E10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9269-E951-4053-A13D-C21345B0A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0BFC-375F-4125-8363-0D50080EE3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0E2F-3329-45B9-9160-C89EDD7BD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Paid A De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, Arr. Michael R. Greene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Paid A Debt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Paid A Debt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760" y="6488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Paid A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Paid A Debt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Paid A Debt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Paid A Debt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6760" y="6488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Paid A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Paid A Debt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Paid A Debt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Paid A Debt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760" y="6488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Paid A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Paid A Debt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8:26Z</dcterms:modified>
  <cp:revision>31</cp:revision>
  <dc:subject/>
  <dc:title>Slide 1</dc:title>
</cp:coreProperties>
</file>