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4120-7D54-4F63-A748-A4A3A9E9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58BB-353B-4D01-8456-D79EC82D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441D-9C0A-44C2-BD34-E3AF63D05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5501-A016-4669-8F4A-21EEE9E01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2F9E-A917-478E-92EF-6050A15E2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4CAD-4F32-424E-9F8A-9E1C4919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C7F6-6B22-4477-A53F-2E3044B0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E6E5-FA23-4A7A-9BB2-00CDEEA8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2656-CE87-447A-AC49-4735458F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D1F0-47FD-47C9-8960-2622A674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E823-B6FA-446E-ACBD-2FC1AEE4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CECE-CF00-4A5F-B9B4-9294B705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B16C-BC85-48AE-AE91-E2809F56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3220-A5ED-4167-B482-BD171307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622B-F642-46AD-8658-FA615CD3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8EAA-B037-4DB8-84E3-243D61587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9326-F9B4-4DA1-AEA0-CBB1A982C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826B-B29B-4863-97DD-8547C84B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0BA32-17CC-4C6B-9D23-9A07D4AD8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B70B3-2999-4EE3-B1E0-24A90C67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1A9F3-8CFD-4A38-B2DD-B4FC594E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2701-4410-4481-8ED5-454471AE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FB037-7B96-4ED4-9FDE-84FA2F3A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8D990-3FA5-4B9E-825F-F8ED59CA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A00C6-B55E-4609-8D75-59E87BDC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D6D12-8F2E-4844-94C1-40E614D3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C80D6-4AEB-4E99-B49E-96FAE8C8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084D2-F219-494E-B4C2-615FF8AF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7A2BF-EC86-44C5-8A8F-B793D3D7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CF02C-597C-4DF4-BF10-F215E0F1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EA3B6-2125-489A-8902-C47445BB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9466-1218-4487-9A72-F011E96B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D13E-433D-48E8-A81E-8E6BB8EF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BA77-2153-4297-90F5-8779FDBD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ACAB-A78C-4427-B091-14EF2321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4F37-5734-4EB1-A6EA-9F72B345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CA67-4C18-4E98-B748-FDAFC1641A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2E56-50DC-44E7-80D1-2DD60DA738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B016-06D6-40CF-B6DC-823D24D2D8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e Leadeth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A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seph H. Gilmore (186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B. Bradbury (186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e Leadeth M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65160" y="6488280"/>
            <a:ext cx="25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e Leadeth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e Leadeth M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He Leadeth M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e Leadeth M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He Leadeth Me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65160" y="6488280"/>
            <a:ext cx="25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He Leadeth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He Leadeth Me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He Leadeth Me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He Leadeth Me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e Leadeth 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5160" y="6488280"/>
            <a:ext cx="25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e Leadeth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e Leadeth 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e Leadeth 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e Leadeth 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e Leadeth 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65160" y="6488280"/>
            <a:ext cx="25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e Leadeth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e Leadeth 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e Leadeth 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e Leadeth 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19:44:02Z</dcterms:modified>
  <cp:revision>25</cp:revision>
  <dc:subject/>
  <dc:title>Slide 1</dc:title>
</cp:coreProperties>
</file>