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7C3-2ACD-432C-A956-FF091646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633-FD9F-4CAA-9690-466E1AC4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E15-A2C0-47E4-AD9C-F32A4235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7FE-F77D-4E6E-9A26-903A8132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4D71-1F29-40F5-A05A-132C71E9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AD3-C9EF-41E1-BE04-FAE0412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3984-3570-45E0-ABE6-1AC29018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CA7A-E93D-4209-AD66-7B08523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2205-5DE4-4AC1-AB7C-FA395EE4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D73F-578B-4C9F-95D6-B75566A0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68A-47CA-4FA6-B769-2B6C0C0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65E-F459-4B3A-A754-018F78E1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09BC-278A-4F55-9AB4-16C170BF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4B3F-894F-4FEB-AA12-16BE66D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D20-7FD6-4B02-A57D-AA3E5142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D79-662E-4E5D-B859-36E5A8B1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F3C9-E630-4D24-BE4F-4803E2FE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7B2-3399-4254-90FA-37C7692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C728-947E-4FDE-90A6-DF4AD408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5420-747D-41F5-928A-0319C2C7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2896-A7FE-4D91-98CF-3CCF333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002-2459-415B-8F8A-BA9487C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DD37-B69A-4AC4-815C-4558DC50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E2C4-CE2C-48A6-B390-3DE986E2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551F-7DA7-48D6-825E-FF31BAC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1891-3F13-4663-91C2-DFDBF59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9884-0E20-4EC9-9604-745E7B0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9A89-51AF-4A07-850C-2D23085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8091-6A45-4F63-ACBD-DD5CF5E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3086-BE6F-47B6-8CCC-3235CC36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9F0C-98EA-4AA6-8DC5-764BACBC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229-1335-4975-B0B1-DC9A2FA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DE7-B23D-4AB2-87FC-A4F49AD3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137-B438-4FA0-9841-7E42A21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77B-C5F3-401D-8C55-98F0F7C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749-6221-4EFA-9CE1-CC7C040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290D-04E2-4AC0-98A5-9B80A218B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ACE2-E6E8-4418-8B8A-9F938F30C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6C8-2BC5-4ECE-9CA9-CFD0775DF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rk! The Gentle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B. C. Slade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rk The Gentle Voi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5920" y="64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rk! The Gentl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rk The Gentle Voi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rk The Gentle Voic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rk The Gentle Voic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rk The Gentle Voi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rk! The Gentl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rk The Gentle Voi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rk The Gentle Voi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rk The Gentle Voi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rk The Gentle Voi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rk! The Gentl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rk The Gentle Voi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rk The Gentle Voi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rk The Gentle Voi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10:28Z</dcterms:modified>
  <cp:revision>26</cp:revision>
  <dc:subject/>
  <dc:title>Slide 1</dc:title>
</cp:coreProperties>
</file>