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F30-3B44-4C26-A0A2-ADF443FD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F1D-F742-441E-9241-8AAFAF7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9F2-E09F-46B9-A39D-F54C0EE1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B22-B37A-4473-BBD6-51265DB1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A7C9-6161-4ACC-859A-38027E09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2941-2E0E-4CAE-B110-E61898EE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6100-398B-45B7-9C1B-399D255E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B05-6899-42B7-8983-493BDA27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145F-BB27-4983-ACAD-FB5A62A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1CBB-7703-479F-B239-DADE2F72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A036-522F-4C78-A0AC-268135A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017-2896-490B-AF75-6607BC3E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8225-1057-41F3-A146-5E9F7D56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D7B-8C53-4CFC-9534-AA48CD8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5257-7363-4F91-87F8-739DA276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98B7-B3AF-4A0E-B8C7-A3571975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7F86-2DAA-4834-9C75-2A02DF12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DEE-E4C6-4EE4-99E1-71D4C2D3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EA60-57A9-465B-B1CF-1F588810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E5F8-A70C-415D-9483-A66A191F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9693-6209-4296-8FBB-2919C5D0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287-1A51-4508-B725-1B0E95FC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6AA1-04CA-455E-8E1D-44C7B2F9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8670-64A2-4E1F-9270-A28DAA38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340F-5CB8-461F-8EDD-689A094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BD53-B9BD-4D57-BEFA-9EA9E5B5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9EE7-6937-481C-AEFD-01D8D4C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8D41-013C-4342-B21C-1F40341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6AAF-3C42-46FC-9804-0836EBBA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B042-1274-4465-8D13-52AC8E64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5E8E-1C8A-49FB-B20E-9DC038DF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2C3-EDE5-4AD0-A65D-236448A8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2A2-2CD7-481A-A6FC-4910522F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FEC-895D-44AF-AD07-856BF6A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C9C-E470-49E0-9A64-F86E487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109-4516-4C2E-B8CA-7C9F160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C720-A6F1-4287-9D95-EC7DDC3B5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A78-8900-49C5-B7AC-CC09FF044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9243-5DF8-48C6-BEF4-5E0D7BD29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Keeps Me S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Within My He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B. Bridges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B. Bridges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Keeps Me Sing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Keeps Me Sing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640" y="6488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Keeps Me S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Keeps Me Sing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Keeps Me Sing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Keeps Me Sing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9640" y="6488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Keeps Me S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Keeps Me Sing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Keeps Me Sing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Keeps Me Sing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9640" y="6488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Keeps Me S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Keeps Me Sing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3:09Z</dcterms:modified>
  <cp:revision>27</cp:revision>
  <dc:subject/>
  <dc:title>Slide 1</dc:title>
</cp:coreProperties>
</file>