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347-C262-4214-A557-9BEB7F08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AC3-AC7F-483B-9917-808AB32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A8D-B4EB-4854-A42A-B366C1A3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425-2609-4282-9D11-BB2DAAF7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82C-E7A8-4606-ADF5-9C07EA78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4A50-D4E6-4137-921E-35CADE8A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7A7C-887E-4624-A20E-34E633D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09B-E060-43F1-9B90-DCA3A02A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76D0-3770-406C-A31E-FC813A3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CBD-E496-4CD0-81A2-8C0207DA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6EB-DABC-4347-A322-24E4171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4ED-6AD5-401C-9E2B-E3FF6CD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F2A1-10F4-4081-8541-393C63E1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7E9E-BDA0-481B-9F66-8BA1969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B2E4-C346-40BE-8390-A4B42CB7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017-6AD5-47AA-8766-FFACA42E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559-CF04-4BB8-A9C5-C207A7F0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44B-E375-448F-BC65-A81F18BD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79D0-A2DC-45D2-8834-D2376AD4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0C02-60DD-4E6A-8C51-83E8BD7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8C89-2867-49B0-A7D8-9AA91BF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79E-713C-4D18-A026-AAC10C2A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3E63-E4A8-415C-9BD6-8984EF4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1CF9-772D-4340-9875-58F4108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9D28-B14B-49D2-840F-6229045A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00D6-4952-4AC7-8B00-7E797482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8294-D352-465A-9CEB-D09552F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4352-10AF-48C1-9F74-45F935F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774C-F103-490F-831A-6FDEE39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B699-E20B-41ED-A568-033ED8D3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BC62-6AF1-409B-A0A3-57E64A9B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4BF-30D3-4EC5-82CD-D957E4BC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B2E-4B3A-45AF-8AD3-FB3100A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7A2-8383-4D3C-A7AD-7BF77A5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052-3177-44A3-9844-E34E41A9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233-1AC1-4A8E-9456-E73EC13A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AD72-8557-40F3-BC27-D6B23AC7C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F92-646F-4210-82E6-F60076A00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90E5-FEEC-4E40-8AC6-BBC9A94AC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ve Thine Own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DELA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5.4.5.4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dellaide Pollard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ve Thine Own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ve Thine Own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ve Thine Own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ve Thine Own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72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ve Thine Own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ve Thine Own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ve Thine Own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ve Thine Own Wa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2:42Z</dcterms:modified>
  <cp:revision>28</cp:revision>
  <dc:subject/>
  <dc:title>Slide 1</dc:title>
</cp:coreProperties>
</file>