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3699-7E30-4FA9-9023-14A939058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4996-36F8-41DC-ADCB-9D2BC96E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C5A9-7C6B-4385-8DB1-54C7A574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31E5-D10F-4F1A-8FB2-9660EEAA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73CD-2A5E-486F-9C8A-0B7AF534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087D-273A-4A13-815C-AC51BE52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BC26-6E52-42E6-8043-A0980AE6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2D5E-3B86-4A03-9CD3-FE154174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2ACB-8347-4935-9B3E-43266427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3CCB-2DBC-47ED-835F-60844F74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4A1B-1D4E-4FA0-9F5C-6876A752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D7F3-2AA9-4CF6-86EC-10082711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8540-21F6-4BCC-8E19-75E538E0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0DC7-C657-47E5-9F2A-00A0E462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1A4B-E46F-4DE1-8B80-C5A7BCBB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08ED-8859-4026-B585-300B1338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945C-0DBB-47B7-87D7-1FC05464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F1EA-C7FB-4E9F-B72F-2008BB9A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36D11-0F4E-49C9-8149-AE5EAAD5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15229-7529-4A22-A1DA-0D5B1C3C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B2839-1402-4CE2-9A0C-63D5742B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F71F-D763-4BEC-AC7F-5125ED94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664DF-1DD6-4D1C-BF31-682B2099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0037B-FDE4-453E-A107-840AFE57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77D93-E31B-476C-82DD-E09B868D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F8C62-D9C0-4EE2-A386-C0543C18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353E3-7185-4A02-A7F3-953B5168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FAF14-67C5-448E-A2F0-4B2F379D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666B6-7955-4BE0-A258-741BC82D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19761-2B1D-4E93-9C4E-BC8B3FE9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F5D6C-A3A3-4D8A-9016-3287B8B1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F7E2-67B6-453E-8757-AD0E7EE7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ED26-57A3-41ED-BE4C-AD17A02D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1462-AEA6-4343-863C-611356AA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243B-8F1E-4B83-9244-D7D95FF4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5347-FEF0-4F85-8A20-F3A3A67F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C306-0C46-451C-B688-56C954CA7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1577-8649-4142-9594-C148A7FC2F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EFB2-6628-4537-9115-3C3197DC3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arvest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Arise! The Master Ca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ry Brown (18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8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arvest Ti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arvest Time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arvest Ti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78840" y="64882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arve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arvest Ti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Harvest Ti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arvest Ti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arvest Time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arvest Ti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8840" y="64882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arve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arvest Ti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arvest Ti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arvest Ti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arvest Tim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arvest Ti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78840" y="64882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arve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arvest Ti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arvest Ti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6:11:05Z</dcterms:modified>
  <cp:revision>32</cp:revision>
  <dc:subject/>
  <dc:title>Slide 1</dc:title>
</cp:coreProperties>
</file>