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C6D7-7C09-4ED2-AF9E-F9DCCFCB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8A70-0AC0-419C-A49A-7DED0CE7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E981-1CAC-4042-BAC6-B124976E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D058-269E-402A-A3D1-4FF08CFD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94CB-5D1D-405B-A42D-0A56CF0F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F591-3D27-4806-B628-489EFDC7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127F-2B95-41CF-A8E5-EA7A78A7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7060-2680-43D0-97F1-9712EEC2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7679-D531-459B-B94F-8469C148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FAF2-5151-4513-9782-49FC4849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DB54-36AD-43A2-8D58-0CA78FFB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D3FF-09EE-4697-BB9A-3F758B19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5A59-3DF8-4ABF-8F9A-2F4D54A1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BD4C-9780-48F9-B884-CE03B420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0044-835E-464C-A6C6-D2342EE6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B36F-8442-4F73-9156-F4472AE0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8FD3-B2A9-4B85-9600-63DF8E7D5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8B81-5B7F-4C60-950F-EE73FB0D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6B9D8-89E6-4ECD-A762-3CB464D10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8CCBC-E174-4094-93B6-DDA6FBFE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83BAD-B5A7-4F25-B336-7928AD4F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F714-1724-46DF-85F8-AF754BE2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FC35F-C802-4B23-A09C-7DDDA92D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82D03-DBE8-46C4-BA26-77958092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88281-4589-49D6-9B0A-CDFF3627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3995B-7665-48D4-932E-C510DA45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B5D73-1359-4D62-9742-8F0DB78C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35D6A-DD48-4876-8281-3C13E574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E2E62-928E-436E-AD7B-41D04469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3F5A8-10FB-42E6-A7BD-CC28983CA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862FA-8B63-49AC-BAC0-833421EF7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428C-9862-452D-9840-F5A8B3A5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7453-3C95-4622-BDBB-7E74F1A6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F28E-6AE7-41CC-9F72-451CDB0B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0E6A-25E5-4A29-AEF1-BF60F1E0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E6EA-64FA-463C-80E8-F58F2288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40C8-9C75-45DB-8F45-DA2F1C7819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7087-9D9A-4425-9D6C-79803B6CC9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940C-119D-4DFE-8F8D-904EDE37A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e's My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Rowe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D. Vaughan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es My King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6680" y="6488280"/>
            <a:ext cx="22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e's My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es My King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es My King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es My King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es My K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6680" y="6488280"/>
            <a:ext cx="22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e's My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es My K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es My K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es My King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es My K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6680" y="6488280"/>
            <a:ext cx="22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e's My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es My K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es My K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es My King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19:59:33Z</dcterms:modified>
  <cp:revision>18</cp:revision>
  <dc:subject/>
  <dc:title>Slide 1</dc:title>
</cp:coreProperties>
</file>