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3118-2417-4D71-8D4D-D17FE650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4C5C-A7E5-46F7-9C98-1ABAA36C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7C53-C8A0-4CAB-8DEC-F67D4D48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0A6-741A-4BE2-A4C3-B4C01BD1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2CF2-8EF3-4622-A5BD-F1B1215F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14D6-33BF-4E45-BEF6-08E8D913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4B4D-800E-4B88-B11D-36C82BB7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CD5A-0694-485D-8078-E4E428A3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F53B-72F3-4162-9C28-863ADFA6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385A-32C4-4249-8083-503274F5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A770-27D1-4ADC-BE05-CA893618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E4A-D7A4-4EFF-AD3A-4BFB5D05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46B2-EFB5-44E2-AED7-4D205F8E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F5A2-3DDE-46AE-8237-F31134EE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6B1A-12E3-49F4-9609-5864D061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B895-FD95-4993-8261-FC2B7885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EEDB-BEF9-4406-9B18-234D52CB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F7A-144A-4BB0-8682-A2B49297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7406D-1AB7-44AC-887F-813DFA74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37070-8C3B-4988-B53E-2D65DA83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8F761-49B6-4135-B625-DEA9ED7C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3F56-018F-46AE-8B04-B3BE05F1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B2931-181F-4404-87E1-6DF76E5A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8B6F8-C3D5-4D93-BFD4-BFD6CE67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6164D-90E4-43D3-B287-EA9387C6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4AB93-F55D-4296-9F9E-64B6EDDF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D2CBC-055E-4311-9C9A-3F6E7DDF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9069F-644F-40A6-8548-B804C290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D8641-D025-4CBA-ACD1-D89F23D9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5008C-CFA4-4C2C-AEE2-0147B47E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A3264-5E01-4A34-BA1A-3C203DD7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D70C-4F5A-42AD-9558-962CF0DF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728-4032-4EC2-A611-3A8974F5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C6D-F1CD-47EC-91CD-3D8E930C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979-3521-430E-9CAF-546E5527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D53-34EB-4A96-8571-94E0C34B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F9B8-F6A6-44C8-B11F-6E028CFBB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7832-B615-4D86-92E7-E43F0EF476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390F-551C-4254-9032-EFC877630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ow Shall The Young Secure Their Hear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ROY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30600" y="4902120"/>
            <a:ext cx="126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B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: Isaac Watts (17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ttr. to Ludwig van Beetho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ow Shall The Young Secure Their Heart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ow Shall The Young Secure Their Heart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5440" y="6488280"/>
            <a:ext cx="54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ow Shall The Young Secure Their Hear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ow Shall The Young Secure Their Heart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ow Shall The Young Secure Their Heart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ow Shall The Young Secure Their Heart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45440" y="6488280"/>
            <a:ext cx="54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ow Shall The Young Secure Their Hear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ow Shall The Young Secure Their Heart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ow Shall The Young Secure Their Heart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ow Shall The Young Secure Their Heart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45440" y="6488280"/>
            <a:ext cx="54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ow Shall The Young Secure Their Hear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ow Shall The Young Secure Their Heart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06:11Z</dcterms:modified>
  <cp:revision>26</cp:revision>
  <dc:subject/>
  <dc:title>Slide 1</dc:title>
</cp:coreProperties>
</file>