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521-8CA3-4E8A-A6B5-1B15CB9A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9BC-ECB1-434E-9285-429EDD56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FF8-BC3C-40E8-B8A7-AF5D6CCC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6B4-D750-4191-B034-78F1434C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197-0BF7-4E26-8D07-93BDC8C7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AB7C-7CEA-42B0-99DA-4372289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F91-ABEB-4F8A-9B2D-ECEA8FEC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02E-DD21-468D-8724-AA03D44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1F9-34D8-4FC5-BCB9-9E2E1A2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DF0-643B-4F9B-9799-98A9E7F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6AFF-92A1-4F9D-9B75-707A7BE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A5D-D460-47C2-A633-02D5E716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62E3-1963-4720-8114-6FB90F5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B28E-5E32-4CEE-8DC2-BC742B8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9A2E-EB6B-48D4-A48A-9EB6890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8B51-70D8-4C64-B9BB-8C0087F2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9F0-F7D7-4DC6-B638-75B7410D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9BD-A2C9-4824-94E6-A1064DA0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C558-F849-458E-BE2D-6B65D74E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9CFA-7B00-49B7-8E14-3BE4521E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F19E-CAA5-45F1-BDB2-053C65C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A9B-FEAD-4842-9B26-FBAA3AA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2CFFE-ACC2-4C5D-AF44-4655C81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CBA5-56B8-46C3-AD32-D83C343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DBA3-F1D3-4DAD-971D-E7CB7868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6773-012F-4979-9646-F77B7E2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0A1F-D343-46EE-99AD-19B7D89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C1FF-E982-418D-B60D-2C1475F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6FAE-226A-46C6-B739-A51781F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3CBA-F784-431A-848D-B3A52665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7871-8635-4044-B235-DB91C47A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532-53E2-41E3-8FE3-C5D63C4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1EB-34AB-4F68-A0EB-D8C83C8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0CF-73B2-4FD8-8CFC-D5B5543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57F-8FE4-4026-A790-89E0EB7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153-F24B-41DC-93B3-583F1C4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C05-3336-4FD3-95CA-30E1338E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40E-FD24-4CFC-A1FB-26423EEB4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FDB6-B0C1-4648-92EC-15F5392A1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weet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RTON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weet The Name Of Jesus Sou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weet The Name Of Jesus Sou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weet The Name Of Jesus Sou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weet The Name Of Jesus Sou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weet The Name Of Jesus Sou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weet The Name Of Jesus Sou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Sweet The Name Of Jesus Sou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Sweet The Name Of Jesus Sou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8:55Z</dcterms:modified>
  <cp:revision>15</cp:revision>
  <dc:subject/>
  <dc:title>Slide 1</dc:title>
</cp:coreProperties>
</file>