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FA1-C29B-49F5-A556-87740FF2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12F-F0E9-49C0-BF39-EB0F30A8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FB9-9AE8-449B-B30F-B17087D5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F30-4DD2-455E-85D7-2FE1E82E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FE7D-3474-48DC-9008-43EC8F3C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1E9C-DCA5-4A6C-BC95-9D986DDF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5176-6A0B-4ACB-9E6C-378E2A5B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4CAF-D9E7-4AD1-861F-0AF06D5D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B6F2-CEEB-4536-A332-BEF4C325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99C0-AD11-4C24-91BF-60EE7E71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0A6E-381F-4B6B-A87A-A996C70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54F-1521-4D27-AA62-DB7DA426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0FBD-419A-47A6-9742-2231818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4318-589C-4DDA-BB32-796DAA91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011A-70AE-4097-80C7-0216610C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DC47-8F13-49F0-A326-361DFD5A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1354-3DEE-47B3-BBD2-AF6469ED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58F-3F64-4F45-B96C-26C9A81C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68C19-9458-4D55-9190-2C8766B3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A106-90C7-4AE6-A400-DD3253F2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CF79-785E-465B-902E-1D8AD083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1C5-E161-40EF-88F1-BA190F4E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BF6E-836D-4CC9-BAFB-D9428E28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4313-13CF-4849-80A3-5799C8A4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CD82-6E62-4BBC-9D6A-7CDFEDC1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1962-5AC6-4F76-A5C5-9A9FA8B2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08E61-F725-49A0-A357-F352513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D691-B4CE-4DEB-A878-135A829E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B5D4-A566-4304-99CB-AB766D97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B262-051B-4F09-BC5E-00B6C047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A6A2-D318-4FB4-9032-16511804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97D-7708-488E-9BC1-89A47108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9EA-BF16-498D-AF65-716D92D2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957-C1DD-43D6-AF19-54F861E8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560-EF9F-4E27-8925-DC5E177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10C-FCF9-474F-AC60-FC862130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EEB4-BE84-4268-BFE4-F5575949C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ADA0-8734-47B3-9CC7-2A2973C50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64F8-91B5-4868-8DC9-5FD38A9B3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re We Are But Straying Pilgri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. N. Carmen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O. Perkins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re We Are But Straying Pilgrim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re We Are But Straying Pilgrims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re We Are But Straying Pilgrim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99720" y="6488280"/>
            <a:ext cx="45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re We Are But Straying Pilgr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re We Are But Straying Pilgrim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ere We Are But Straying Pilgrims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ere We Are But Straying Pilgrims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ere We Are But Straying Pilgrims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re We Are But Straying Pilgrim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45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re We Are But Straying Pilgr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re We Are But Straying Pilgrim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re We Are But Straying Pilgrim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re We Are But Straying Pilgrims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re We Are But Straying Pilgrims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re We Are But Straying Pilgrim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9720" y="6488280"/>
            <a:ext cx="45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re We Are But Straying Pilgr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re We Are But Straying Pilgrim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re We Are But Straying Pilgrims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6:31Z</dcterms:modified>
  <cp:revision>28</cp:revision>
  <dc:subject/>
  <dc:title>Slide 1</dc:title>
</cp:coreProperties>
</file>