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453-174A-4F57-97A4-4DFE0436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A36-DFBC-415F-8E69-14D955F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DEF-960F-4545-86F7-4B87D261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CA5-CFF7-4BDE-89A7-3C73C67B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52E4-DF6B-4266-8BB6-4967C8BC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CEEE-142F-46E4-8735-D875CFDB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1CA0-EF8D-44E5-972F-AE96B3A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04B-3F77-4856-A328-308661A3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89E2-AD12-4514-A7A5-79F62FD6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875D-3780-40BD-B718-F586396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5BA-3315-4EF9-A4DF-CE79186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DE0-EF96-4152-8997-ED20364A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C49-1C50-4BFE-ABA8-D5B7152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97C-0B24-450A-9C69-2537F52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0729-DF75-4DB1-A72C-440EC462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478A-E8E1-45A2-BE85-5D09C70F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DC30-A347-45E5-9883-41165CB4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E89-BA60-4352-9F26-30600A6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9AE5-DDEE-4C37-BA32-96E52FB5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7627-E1CC-46B1-BE1D-E8D9D4B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2825-02A5-4683-AE72-D62132D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7DA-EF23-440F-8946-5CE7724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0D70-3AD8-42D2-8989-A35DEC34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B408-3C96-4560-9DCC-26C5328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1E27-32DD-45A0-BA28-4E67911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056F-3FE3-4311-8A2B-181AE05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81FC-3464-4DFC-A3F6-5500BA0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40FE-8460-4A5E-B661-E08F655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C0FB-EAE9-4944-8C03-DD1FC39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583D-9E33-48E0-A2C6-E9B2A88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B40F-5BC5-4689-BDDB-6A86103B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DBC-3BFA-4EB3-87D0-24FDED9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A22-8EFB-402B-886A-50DD5BE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4C7-DD16-4C8F-A591-2BAA822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B27-D523-4D81-B62E-32F551A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658-60FF-499A-B70E-5DCC80B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4F10-1408-4662-8084-BA070FF13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8614-703B-45F2-8980-E0CAC59B4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1975-FA8A-4618-8227-66CD57F0D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! We Sha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We Shall Ris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We Shall Ris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llelujah We Shall Ris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llelujah We Shall Ris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llelujah We Shall Ris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llelujah We Shall Ris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llelujah We Shall Ris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allelujah We Shall Ris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allelujah We Shall Ris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allelujah We Shall Ris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We Shall Ris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We Shall Ris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We Shall Ris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We Shall Ris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We Shall Ris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We Shall Ris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We Shall Ris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We Shall Ris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8:47Z</dcterms:modified>
  <cp:revision>32</cp:revision>
  <dc:subject/>
  <dc:title>Slide 1</dc:title>
</cp:coreProperties>
</file>