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15E-67C3-4F39-BBCC-CD2F5F3F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3E3-601B-4E44-B384-B1DAC16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C05-D43F-4883-9593-FF27F84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620-3850-4741-9D1E-0F2AABD9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36D-F23A-4876-8EBE-1C47BF6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6DAE-B768-4620-9528-DAE541AF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AF7-84E3-4E40-9C11-C6916C7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D3E-495C-42C7-9AED-9727544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E280-C54D-4015-8C67-66D5AB5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32AE-3856-4E66-B2BB-5BC2EB6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18E-4E51-426B-8527-F08A43F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17D-F99F-4C22-9E9C-87AB43A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216-C796-48BE-9146-5C10586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DEC-16E1-4A7E-BADC-9D936FA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872-E11B-4D01-80C9-6E8B2330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F6E9-94D8-4526-9A2E-3A8C1092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2B7-3FDB-4BED-A422-D0DC84F7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594-180A-4D08-9AFC-0BBF6F2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D6EA-0D7D-43DF-B4DC-FB6A5B21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D94A-2C57-4152-8409-CCA6474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94C3-D419-4727-B876-71062251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E93-8FD5-44F7-B381-1E7256AD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B3CE-AF16-4480-AA89-FBE04F3E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5204-25AD-438E-8062-F0AEBD3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EEEF-D26D-4E2A-8E49-785F7E85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6080-DF9E-4A50-949A-58C9C77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2922-3B48-4214-BF9C-AD14360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03F7-5C3F-4754-BC24-C5E805D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5411-C0FE-4341-9672-D152AC0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85D7-A808-49D2-8C4E-E94BF1C6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C370-308E-40D5-BB83-C317E5EB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8E2-4F96-417F-A9AB-98FCC621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72B-3650-49E8-A831-BBD77945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AA4-1CAD-4505-985B-02F3177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79F-3EAE-4E10-B3F8-8B65374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DF7-5AC5-4BC7-B1EF-1629E31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DBD-93C7-4E70-9E18-AE8C63BCC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0810-8B2C-42D7-9B7B-69475D7FE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659-4E9C-4EF1-8B39-D1FB0B0E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d To God's Unchanging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nnie Wil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L. Eiland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ld To Gods Unchanging H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ld To Gods Unchanging H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ld To Gods Unchanging H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ld To Gods Unchanging H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d To Gods Unchanging H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d To Gods Unchanging H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d To Gods Unchanging H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d To Gods Unchanging H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d To Gods Unchanging H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d To Gods Unchanging H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d To Gods Unchanging H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d To Gods Unchanging H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1:49Z</dcterms:modified>
  <cp:revision>27</cp:revision>
  <dc:subject/>
  <dc:title>Slide 1</dc:title>
</cp:coreProperties>
</file>