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276-1037-4C7E-96E6-4C1B22A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C72-A818-4626-9FD2-780F9F78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4A9-C335-4CF5-B07C-CD60F4AF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16A-E762-44DD-93D0-C608618F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89F6-4AA7-4481-A085-0B3C7942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A812-F5E5-43CD-93B1-C2B1FCDA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5C03-8E4F-48B3-9B78-A4889D62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1C0E-D015-4DB5-8CA9-435F595A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3CA4-1145-4151-9C44-2F5BFCB1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3E3E-6B13-45B1-A84E-59889A67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59A-6D5A-40C3-9C73-81CE78D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EA0-66FC-47C4-BCD1-CEBDA110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14CE-662D-4B6F-BD40-719C756F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2DDD-2B1B-4DA4-A0DE-E74A168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8FFC-1209-4C69-BA3E-48325FAE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CCD5-D7E4-4BAE-9FBE-1059E3DB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F133-17B7-421A-9B72-7FC1E74E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723-DCD0-4B72-B111-E4A8A4A6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EA3E-9D10-4F8A-9446-386B092D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F18C-3E58-4D42-AB59-11ABBEBB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D527-2D0A-41E5-8D62-F889F2AD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038-F7F3-4AFC-BCD5-910E1A97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C3B2F-EFCC-409D-9033-AC5D9B59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FEED-41E4-4E93-84B6-89540FD0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0A70-60A2-4EB2-8283-9C7705F0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3E91-101B-4774-AF5F-8054F95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37B2-6285-4976-81EE-3C65A43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912C-9BA2-4D21-9057-648732B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3721-4EE7-42C0-8B39-B0799C02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46CF-4668-435E-ABE5-3D37BDB4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02C0-F4C9-48B1-B996-3F786429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C54-51BD-4112-89B2-06C841F1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BA6-2433-4430-97E0-56B05A09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D1B-CB60-43B5-957E-445D8DBD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5A7-8010-46F3-903A-0B4C665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A3A-E969-4E53-BA8C-F70B832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6500-B671-454A-B0F2-CC96CF669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97D0-5835-41C3-9E80-4626AA886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E502-3259-41ED-93DA-8ACAF860B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Is Able To Deliver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Is Able To Deliver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6720" y="64882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Is Able To Delive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 Is Able To Deliver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 Is Able To Deliver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 Is Able To Deliver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Is Able To Deliver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720" y="64882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Is Able To Delive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Is Able To Deliver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Is Able To Deliver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Is Able To Deliver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Is Able To Deliver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6720" y="64882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Is Able To Delive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Is Able To Deliver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Is Able To Deliver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Is Able To Deliver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1:38Z</dcterms:modified>
  <cp:revision>27</cp:revision>
  <dc:subject/>
  <dc:title>Slide 1</dc:title>
</cp:coreProperties>
</file>