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CF4-1A07-4E6E-A60E-17859DE2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709-AA29-4BA2-B990-C68722CC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A8A-4625-44E8-B548-03597D1C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06B-A0D9-4641-8795-3C0E5E00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E839-889C-425A-93B2-8ADEA02A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6FCD-E88F-400D-B182-18F9F42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9CA0-CD87-41B9-A7D8-0C57A042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E7C0-3CA7-42E1-8611-888FE92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3079-70EE-43DD-AEE8-2341B18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FCF4-1D46-4C97-8DD9-95AF292D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0A0D-8E39-415A-9116-186AA93B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30F-32D8-40EF-943F-B829B8E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DCA7-AB17-4BF1-A16C-5580C8E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7610-042A-4D81-B76E-9D4989E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05C-8BE4-42F5-9B24-8281EA7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C7D-720C-4140-B6C4-646B6BB5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177-9554-44D6-A749-6C8C85FB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183-7630-44A0-8532-60C6D6A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D37F-1480-42CC-8EA6-D6DAB297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021E-5B7D-45D5-AF16-CAE51582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A4D9-EBF0-4BF4-A5F1-BF636D6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AA9-81F0-4643-BDD2-4FD0F2E3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4E0C-A959-4894-88DA-AC4A8ACB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855C-3E84-4B16-899B-3B7E3AB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4AD6-4F5E-4FE9-88E2-6018BBE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6537-DCE3-426C-A7CD-0F03D40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26EA-A202-4036-B2B3-D347E7C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83CF-3B24-429A-8D6E-5EF1812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01F7-74AF-4B98-98CC-B33C19A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5068-1A0B-4F36-988F-2B1904F4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3F9D-553F-4FF8-BEDD-8144DC21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8EF-E3BE-434C-8A5E-1D1EFB0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B5E-FDB2-4D35-8EF4-BAA3F65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416-BA91-41EF-8B9C-CA1B44AB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CD2-C2FE-450B-AA71-8B8FC2C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E64-C0F3-4A59-BC34-333B8D3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8777-9C47-474E-B355-AF6CA4713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964-9C70-4339-9FA5-F609E906D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C4E-0570-4BFB-9443-976F4EAD3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s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D. Martin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s Eye Is On The Sparr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s Eye Is On The Sparr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s Eye Is On The Sparr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s Eye Is On The Sparrow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is Eye Is On The Sparrow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is Eye Is On The Sparrow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is Eye Is On The Sparr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is Eye Is On The Sparr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is Eye Is On The Sparr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s Eye Is On The Sparr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is Eye Is On The Sparrow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is Eye Is On The Sparrow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is Eye Is On The Sparrow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s Eye Is On The Sparr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s Eye Is On The Sparr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s Eye Is On The Sparr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s Eye Is On The Sparrow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s Eye Is On The Sparrow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s Eye Is On The Sparrow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s Eye Is On The Sparr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12-23T01:59:00Z</dcterms:modified>
  <cp:revision>31</cp:revision>
  <dc:subject/>
  <dc:title>Slide 1</dc:title>
</cp:coreProperties>
</file>