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855-11A9-48FA-BB8F-D3EACF40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DC7-2E1A-4831-8FA4-6C7FC70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96A-B4B9-4800-9E23-7B230FB1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56E-A3FD-4C17-8712-20D396D0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26BF-EA9A-4753-832A-CA1E4CDA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7AA-B0DC-43AD-B5AB-861DF286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EC36-F7A7-46DB-BE8C-B03F3E9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3F2-B891-46A9-96FD-39480B2D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827-118D-4A53-B1FD-03F643B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D92-F318-468C-B60A-22A8356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FF2-E60E-4793-9480-4B92FFF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1ED-A6BD-436A-AC9B-CBA6BB5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818D-BB36-446E-AB4D-C7D79FD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8348-C9D9-41E0-9526-3314A53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F97-CA95-4EC5-9E61-36704EC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F08B-8408-44C9-B8C0-2C8CA9F7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33E-B05A-4535-A2DD-64FF053F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163-BFF5-4F67-B44E-464C24D2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15FD-229F-4A2E-A955-F6FE0898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1872-E4DB-4B80-825A-1B391D8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7184-C09D-4885-82E9-8285E10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590-B265-45BB-B1A6-DEB8E1B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00CF-CEF9-482E-9444-D52FDE1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12D5-D9A8-4429-AF7D-4EB4693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1121-263E-4CB4-A75A-B751516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B8BA-6D6D-4A75-975E-6C4C8A3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B15F-2846-4F2D-BFD4-2B99040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EAF2-E244-41C9-83DB-3839FE7E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75B3-651A-418F-B7D4-06DA59DC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D88C-014A-4E6F-B90F-9B96B5B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8EBA-9896-44EA-B7D1-8DDBE653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CFA-9E34-4CB8-B3DC-E011149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4BF-CFAE-4B75-BC44-42673EC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C6A-72FC-47AE-BE37-EC72721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371-A7B6-46A1-960F-CADD87E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854-6350-4A37-AD4E-AAE702C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2AB5-1268-43C3-953F-77640DC85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92F9-6B71-4259-A2B8-4889FD095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4392-BDEA-428A-9F6F-AA1333973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! What A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What a Savior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What a Savior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What a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What a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What a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What a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What a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What a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What a Savio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What a Savio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33Z</dcterms:modified>
  <cp:revision>19</cp:revision>
  <dc:subject/>
  <dc:title>Slide 1</dc:title>
</cp:coreProperties>
</file>