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BB5-C86A-44ED-9042-4AF3420E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786-FEED-4C4B-94C8-FB66848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AD6-25D6-4211-B727-BE3D5584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5E6-1C30-48C6-B8C6-DBBEBDCA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994-491F-43F1-AC19-DF3F9BA4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DF5-3032-49F4-85CE-F7855036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B5AA-29DD-4BCA-AF2C-4D67100E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7C1-5811-4CE1-AC4E-C2C6C79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322-BE96-4390-BC4D-FE09D68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A4C-347D-4134-8E5F-44F71C9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001C-3A9E-4AFA-86AC-9E4C961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282-B2D4-4FC2-93B8-979EBC69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156-F66D-4B9C-9B7C-56931C4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1990-1D00-489C-9DBA-D29B1D2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DE82-466F-4F0E-950C-B4BD14C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3C0-5E44-4D52-AC37-14AA9398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183F-F1E6-44E8-A4F9-9D52C5CE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CF3-6599-44BC-AD9C-1282D1C1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5C43-48F6-43D0-8960-F78ED173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EF04-B6CD-4D81-99AC-F13A5924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08B6-80BD-46EA-90EC-FC51FE1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14A-9350-4ABF-A2FD-08610ED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EA2A-F051-4238-A0E2-934EE7E7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F6BC-26B3-427E-B253-2132C6DD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DC74-324E-4E9B-8EDD-12D58DD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21F0-C628-47E6-B22D-B7E3FDB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7485-C717-4C90-B646-AA556E5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85C3-D18F-4E6B-B110-F64CCDB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BD28-678B-4C53-870E-B3A165D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B198-0184-44B7-9010-FBE7189C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B2BD-12E9-473A-8647-F1990CAB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476-8F35-4BA0-925D-FAA6F6D2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BB9-17A3-476C-BBA1-45FA7ECD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C2F-1C77-4442-9064-A83F09B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FE3-1EF8-49AD-AE8F-D3C07EB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E2F-B2F5-4C89-AFB4-9EA4136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15CA-FC1D-49F2-A43B-C7AE2D291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FFED-2072-482D-89BF-357BF85A2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A16-2393-4EB6-8CFE-085F78971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, Praise Jehova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3), Psalm 14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Praise Jehova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Praise Jehova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llelujah Praise Jehova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llelujah Praise Jehovah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llelujah Praise Jehovah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llelujah Praise Jehovah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llelujah Praise Jehova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allelujah Praise Jehova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allelujah Praise Jehova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allelujah Praise Jehova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Praise Jehova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allelujah Praise Jehovah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allelujah Praise Jehovah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allelujah Praise Jehovah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486200" y="6519960"/>
            <a:ext cx="1660680" cy="338040"/>
            <a:chOff x="7486200" y="6519960"/>
            <a:chExt cx="1660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39560" y="6519960"/>
              <a:ext cx="6073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486200" y="6611760"/>
              <a:ext cx="103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Praise Jehova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Praise Jehova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Praise Jehova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Praise Jehovah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Praise Jehovah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Praise Jehovah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Praise Jehova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10Z</dcterms:modified>
  <cp:revision>18</cp:revision>
  <dc:subject/>
  <dc:title>Slide 1</dc:title>
</cp:coreProperties>
</file>