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122-9E18-494E-BAD0-7BD5794A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79C-DB41-406A-848A-EAF8211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683-A06E-4250-BEC7-C398D3CD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586-AD34-4541-86E1-56B7FFE5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D90D-E522-46EB-A115-8822D650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FC00-BFCC-40E2-B45C-6685E4DE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EE33-4AD4-4BB4-B6E3-720106C2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4665-1BE1-4465-A59B-191C05EC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6F02-8C83-4E1C-B9E3-A811140E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4EAE-5B08-4B5A-8D3C-AFD11345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F598-0438-4711-A73B-6D114391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105-CD82-46C7-A928-6D70649E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4AA-24FE-4E31-B8AC-D327ADD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3A1-A6BD-4A5C-B823-5D598D3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8A91-EFD7-478B-8733-206CCCF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1B8F-2F53-40C7-9A86-D2DA50A2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1A2-4A9C-4784-BE09-61FF9A0F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2BC-7977-49BF-85CA-5149D66E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F6F6-B815-4826-9160-2025BE02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4D27-A896-48E3-AFE5-8808AF3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353D-D6A1-49D4-BE4D-49B68C84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889-D91C-4FEC-B729-33DC94CF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0074-CE2C-4A83-8CEA-29BEAC7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65B0-80A7-4F32-A3A2-491F7287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67E4-7781-46F4-AB5C-D3F65BBA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4588-021A-411B-B5E9-52B24AB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910C-C608-47DC-9471-2B532AF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F1EA-5EA8-438F-BF61-5B35379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F2C9-6097-42F5-95E9-62184965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F657-F6B5-4216-BEFF-F1E5E3AE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48D3-8E36-4657-8DC0-A199145D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32E-5BE3-4EAE-B705-AE4B34B0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05D-15DA-48B5-B1FC-27E18C6A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E7D-924A-45E7-8FA9-32822DD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BE8-5171-4439-AC88-94D85C7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3CA-BAB1-4AEA-89C0-D3A3810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312A-6F18-4789-BBCF-68DE2DF0E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BB4-8D41-4FC2-85CE-49EECDBC1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36EB-9960-4EDC-A175-5F197271F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igher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igher Ground_arr2_v3o4o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igher Ground_arr2_v3o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igher Ground_arr2_v3o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igher Ground_arr2_v3o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igher Ground_arr2_v4o4o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igher Ground_arr2_v4o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igher Ground_arr2_v4o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igher Ground_arr2_v4o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igher Groun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igher Groun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igher Ground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igher Ground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igher Groun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igher Groun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igher Ground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igher Ground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1:00Z</dcterms:modified>
  <cp:revision>35</cp:revision>
  <dc:subject/>
  <dc:title>Slide 1</dc:title>
</cp:coreProperties>
</file>