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6A1-CB15-483B-81BE-F1D95F86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970-FCDF-441C-B286-E9A9EB7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5F1-693E-4150-BE15-7964BB70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8B3-72D1-4AF7-A390-FF93C75D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13B-F687-43A2-888F-09F3A35D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8A28-1B68-47BB-A17E-A29BFA4A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4E5F-B063-4AF2-8DCC-63547C7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C5B6-5C53-4638-8BF2-E2696EBE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D12A-DCB0-4A77-9982-67BCA2C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9427-0D52-4434-A340-090934C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C76-4EB9-47F8-AEE6-520369F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00B-4B77-4CB4-95FF-F1C8FE4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BA2C-98F3-4043-8F45-E6CB2D1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C18A-B9CF-424E-9D42-73D7F3C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DEDE-8562-48D2-848E-F08F9770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66C6-F9FF-456C-B253-914CEDE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23E-2E9A-4077-84AD-06E1448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5AE-E32C-4057-B30F-237ED6B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E80D-2E2A-4CB4-8EC2-D220DA95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CAAE-D99E-4E69-BB51-AA3AD655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D6F0-A24A-4CCC-B6DB-F601124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46E-1576-4D2F-8D47-AABAE69C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5449-7DBF-48D8-BDCA-C37004D6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E178-8235-48D8-A7F8-2B9133A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1AA3-92D5-40C1-88EA-92BB7A7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09E6-5232-41C9-9E75-DA5272B0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9A57-34FA-488A-BA90-52AD1BE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9BBC-533C-4D00-B062-8964FD1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913E-A953-4CE1-AFD3-41103F09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7B20-116E-44C8-9393-F16AAAAD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CE59-493F-4E80-AB45-1A38C6E4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08D-CAD2-48EA-A670-178E4298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910-DF44-49B5-B209-DB749A9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B28-78D5-4583-B6A4-A5C5F46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8BF-747A-4AA4-A29A-5A169BC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460-5B65-4049-9EE5-F8DF97D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A5D-F289-4401-93C1-615CA898D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888-EFC1-4E7A-AEE0-4E8A89D36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77D-0E07-40BD-87C3-0F015896F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IC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.12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ginald Heber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Dykes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ly Holy Hol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ly Holy Hol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ly Holy Hol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ly Holy Hol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 sheet of music with word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Holy Ho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Holy Ho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Holy Hol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Holy Hol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y Holy Ho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y Holy Ho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y Holy Hol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y Holy Hol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34:39Z</dcterms:modified>
  <cp:revision>19</cp:revision>
  <dc:subject/>
  <dc:title>Slide 1</dc:title>
</cp:coreProperties>
</file>