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B19-7B00-48C3-BB83-26AD7AA1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624-BBB2-4848-A337-C3D3370C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BE3-9AA3-49CA-96A9-ED790E17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525-392C-4140-B3D2-0CD0528A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7720-7630-4608-B509-44C74B20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59FB-5736-40E0-B0E1-ABD45883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A5BF-6CBE-4388-BC9B-98FD11F2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BCCE-2D81-4B80-8611-477B8A46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3CCA-6B67-4A84-99D7-99AC084E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D6E2-2435-49F7-99BE-D0B53C9F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D664-02AA-489B-AA34-BAEE8284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3B7-0AB0-49BC-9812-C391D5CC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CB6A-9DB7-4548-84CB-CD9FE66C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9B0B-181B-41A4-B83F-51F80383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3A62-2496-483A-9EC7-F23A4B80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E7CD-7054-469E-B921-1AEAE036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5266-A577-4C8E-BB76-B60F8C22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41D-20B2-4B10-BA67-2EEB6AA5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A81F-60E2-4902-8AA2-E6E33A27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4E23-E9EE-4073-A6B4-B0440F08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5A89-D854-40C5-A011-F474B336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493-999A-4FF4-B7FB-3BA52E8C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37F1-6130-45BA-9356-6E2F3398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D4873-8351-43EE-A71D-65DDDE6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0039-E43B-4780-BC18-538763C8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02D2-8C36-4810-B7F5-92B07A38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79C1-0E68-4959-B1D8-3001FC70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97A6-4394-4205-A4B3-0F2BF8BE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2CEB-F3EB-49CE-ACB2-0FC59CF1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9B71-6B48-4450-86EB-63C4E728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C7799-8F40-4223-BE09-75654CAF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74C-EDB9-4732-B194-B481E53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52C-351E-44AF-A134-62BBBF6C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A24-1381-4E08-9D8F-B16DE3AD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9E7-CE09-4F39-83D7-F3ADC219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E64-EC23-4391-AD43-5C647DB5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4447-B35B-49AB-BC1C-AF2017CE0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1AC5-ED3D-454A-9E8B-1189D0673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28EB-298E-45AB-ADED-5CBB5DADA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ly Bible, Book Di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L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urton (18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ly Bible Book Divin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080" y="648828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ly Bible, Book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ly Bible Book Divin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ly Bible Book Divin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0080" y="648828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ly Bible, Book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ly Bible Book Divin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ly Bible Book Divin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080" y="648828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ly Bible, Book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ly Bible Book Divin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ly Bible Book Divine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0080" y="648828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oly Bible, Book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ly Bible Book Divine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6:45Z</dcterms:modified>
  <cp:revision>31</cp:revision>
  <dc:subject/>
  <dc:title>Slide 1</dc:title>
</cp:coreProperties>
</file>