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E8E-86F6-4BD1-A561-4C427BAC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E60-7B8C-43DE-9D79-2483E29D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98F-D3FA-42C8-B4DE-EEB17645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7F7-DECE-4611-B3C3-F5218908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8910-DA7E-464C-81E9-F41858E4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F079-0B21-4EA5-B5DE-9343DFA1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2FF3-0346-4E0B-9CF7-97F02310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376A-5E04-4C84-A830-CD5F13B5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8E54-419B-4E87-8574-DDCCF0E3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F96A-134B-45DF-8EE1-AB182FB9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5D56-EA87-421C-8423-7029700C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F35-DA67-48BA-ADB9-E6A88535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FA90-493C-4AEE-B8E1-FA2B01A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68C6-33FD-438E-A8FC-E0FE83C5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0469-8FCC-441F-863D-93341F48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B05D-3DD0-44A8-8639-3583F6FD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5E29-C809-45C3-A7C3-F00C9600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C39-3546-4EFB-A5D0-E3757EAA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BEF9-A7C7-42E7-850A-35E01FD3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F35D7-C052-4B66-A8FC-3E7D2EA9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9B39-A377-4D2C-9CEB-F52E6F12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495-B0BD-4B20-9AEF-9BB7E7A4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6A6B-EAF1-40B9-B921-604B7A94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76E2-7B32-49C7-87B9-484423FB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12930-CC41-4782-A6C5-FBB47514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8F6B-CFD6-4C07-8419-9A5642DC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3968-3151-47D5-A18E-D6C63F02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1845-06E5-41F1-8946-BB39DB9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EDA30-563E-4660-B50C-749A32E0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5E99-64AB-4B3A-B77A-9A37B30B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4D22-4A04-41AA-BD58-16496690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BD6-37B0-4102-A441-36F27D19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AF8-2916-4DA0-858B-8FED68EE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C3C-736A-4FF9-98BC-0D8FFB6B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4B6-96CC-4CC5-AD07-DBFFF87B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A53-54FD-4812-813B-B62B0A23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2763-46B9-4819-802F-4999B08C7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8A34-65D1-4C35-BA17-E276E61EE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59DD-AAAE-4739-95EB-AD2EF90CC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ar The Joy-Bells Rin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Degen, Arr. by P. P. Bilho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ar The Joy-Bells Ring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7280" y="648828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ar The Joy-Bells R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ar The Joy-Bells Ring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ar The Joy-Bells Ring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7280" y="648828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ar The Joy-Bells R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ar The Joy-Bells Ring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ar The Joy-Bells Ring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7280" y="648828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ar The Joy-Bells R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ar The Joy-Bells Ring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3:26Z</dcterms:modified>
  <cp:revision>35</cp:revision>
  <dc:subject/>
  <dc:title>Slide 1</dc:title>
</cp:coreProperties>
</file>