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DBE-A0E4-416F-A651-9BEB5B01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D34-0FA5-42FB-81D2-1A6D8CDB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9BB-7ED7-42F1-8488-F3B4E122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CAE-0A3D-457E-8104-58ABC314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0EB9-4385-40B2-BA08-61552F9A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9CE3-5D14-4532-8693-C1308245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CEA4-89B1-4E44-952C-71AE3684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F8FC-650B-4618-89C1-81D4E6FF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767C-2BCC-4B8D-BB3A-CE65115E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9264-830A-41C3-869E-0E612B7B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2CA9-CA62-4C2E-8EE0-819B6AF0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ABA-731D-4448-90C6-87F5E4EE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DC82-B468-4B47-80A1-9A174D3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E305-FE5B-44DF-AC57-A557FFE2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6B9C-6AB9-4019-A6FE-8931F063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BDB4-3873-4D68-9C6B-D2427D27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6DE7-3B50-44E9-9013-DC0B4BF8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18D-5BDA-4A06-BB7D-48937DAB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5A973-BD1E-4D50-B460-D0E1627D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BEED3-7D90-41B1-B875-38B312CF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1433-F7C9-40DC-957F-E5D1D544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207-A32B-4813-8974-EB3BBD4B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E687A-9758-44C7-A7D9-C0277B97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9852-DF98-4497-9C94-86D9C4C5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7A9B-4A6E-40AF-889E-680DA110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7395E-8AD9-424F-A336-3DE860B5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C842-C5AF-400B-8FA0-F2DBE24F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86EB-9CEA-45ED-A3F6-FE9D01DE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6EC0C-E6DD-4E27-9861-BAC4F5E1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74868-C8CB-4A7A-8564-D3A85A06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D04D0-EBF6-487B-A6DF-2BBBFA64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939-DB86-4A5F-B03C-1638F58F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05A-E365-463F-9974-D024A383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7F7-F2BD-4970-8D00-6505D19D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C3F-A999-4E8F-AACE-6E1AACD9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1CA-8990-4EF2-B89B-08F24A5C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D5DE-3F63-4929-9343-183C85267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131F-EE90-4846-8C4A-08BBA2D823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F5F5-F63C-42F4-9304-5091541EA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ide Me, O My S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ide Me O My Savior Hide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2520" y="6488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ide Me, O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ide Me O My Savior Hide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ide Me O My Savior Hide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ide Me O My Savior Hide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ide Me O My Savior Hide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520" y="6488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ide Me, O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ide Me O My Savior Hide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ide Me O My Savior Hide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ide Me O My Savior Hide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ide Me O My Savior Hide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520" y="6488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ide Me, O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ide Me O My Savior Hide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ide Me O My Savior Hide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ide Me O My Savior Hide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7:34Z</dcterms:modified>
  <cp:revision>31</cp:revision>
  <dc:subject/>
  <dc:title>Slide 1</dc:title>
</cp:coreProperties>
</file>