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E80-C473-4DD1-8FA6-B197D969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F84-440F-4D55-9783-2A20F4BF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604-D6B8-4FF6-A813-209C62D0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CC6-6862-4A7D-97EE-212DF4F9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16B9-A053-48DE-8F0E-A9E35A3D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D401-1CC6-4800-B168-10E9918B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F9E8-8266-44A5-9A3B-A7D283B2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E279-84F9-453A-AC8B-57B4F61F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8EBA-BF4D-4A97-AA38-0D846032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2323-EBEB-4B65-A391-3C406D1E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CA8F-EB40-4E26-8EDA-0EE6DFD5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02BE-3FE7-49F4-A512-86A04588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D1EF-1420-49F7-8667-3ACB5318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5DF8-BBF4-461C-A7AB-4884649E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716F-4CC8-47B3-96FB-B0E44D68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78F6-8E92-406B-9432-C4568A02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5D5E-D41B-4510-80DC-C16B3E28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924-8802-4B75-AF87-5482C390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1671F-A88E-4EBE-BF16-7D8A06DC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53EE5-D50C-48B6-B3B0-9A6EF89D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672CF-8AFC-470F-93D2-B34F5263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68B1-6669-400A-AC95-2F57A0BB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2D96F-B789-44EE-8173-221C2B38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D5D39-DC25-481B-A2C2-03436EC5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686E4-E515-4C45-B23F-B6F51521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E0166-5C97-4975-9C86-F731F4E7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E976B-1801-4291-882A-70ADAC95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C30EB-EF5B-468F-BF7B-ABC46530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9FB5B-8486-4F3A-8A33-271CEE51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3018D-F39A-4B72-B8D2-B380D753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3D57D-6659-42D1-8E9B-80849644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649-7E0F-4970-BC26-BB6785DB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891-9581-469C-86C1-C284DD68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3B98-8C62-4948-BF88-6E58C11A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151-571F-463B-A26D-3BEF6A56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541-3E33-4F8E-8C5F-F93A604A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0ECB-B182-4DB8-AC9B-A8CBE25A5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3AE3-2A37-428E-9E18-062CE7E059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51B1-D46D-4598-B6E7-09FE4F89B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 Is Wonder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8320" y="4902120"/>
            <a:ext cx="268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 (Al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ing through 5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prano</a:t>
                      </a:r>
                      <a:r>
                        <a:rPr b="0" lang="en-US" sz="1600" spc="-1" strike="noStrike">
                          <a:solidFill>
                            <a:srgbClr val="d9d9d9"/>
                          </a:solidFill>
                          <a:latin typeface="Lucida Sans"/>
                        </a:rPr>
                        <a:t>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d9d9d9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r>
                        <a:rPr b="0" lang="en-US" sz="1600" spc="-1" strike="noStrike">
                          <a:solidFill>
                            <a:srgbClr val="d9d9d9"/>
                          </a:solidFill>
                          <a:latin typeface="Lucida San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e Is Wonderful_t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8720" y="6488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e Is Wonderful_t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74520" y="648828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4 ~ He Is Wonderful (+BA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e Is Wonderful_t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8720" y="6488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 Is Wonderful_t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18720" y="6488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e Is Wonderful_t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8120" y="648828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5 ~ He Is Wonderful (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e Is Wonderful_t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18720" y="6488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e Is Wonderful_t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18720" y="6488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 Is Wonderful_t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760" y="6488280"/>
            <a:ext cx="36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1 ~ He Is Wonderful (AL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 Is Wonderful_t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18720" y="6488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 Is Wonderful_t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8720" y="6488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 Is Wonderful_t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78480" y="6488280"/>
            <a:ext cx="42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2 ~ He Is Wonderful (+SOPRA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 Is Wonderful_t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8720" y="6488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 Is Wonderful_t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8720" y="6488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 Is Wonderful_t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6040" y="6488280"/>
            <a:ext cx="39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3 ~ He Is Wonderful (+TEN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 Is Wonderful_t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8720" y="6488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42:30Z</dcterms:modified>
  <cp:revision>33</cp:revision>
  <dc:subject/>
  <dc:title>Slide 1</dc:title>
</cp:coreProperties>
</file>