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E41A-DDE9-41CE-A466-0B38DDED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2117-2F14-4053-898F-823FA9E2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4B9B-E493-4682-8C03-DC056B78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8A9-B16A-4A8A-96B6-E6BBCAB1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66AC-239D-414C-9545-21552F9B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350E-8B21-4394-B5F4-7B10676C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C251-8B3F-4543-A6B6-4E2BEE8D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8253-DC23-474B-BCA8-09DDC1F8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7B8A-5438-4157-A3EB-DBA06EB4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8C4B-82E0-4414-9B47-263DECFA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7DE6-29B3-48B3-98E5-D5A8135F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0B3-162A-4DFD-BBFD-1626802B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4D36-CAD8-4C64-9CBB-B5F22493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3828-A5D1-47C4-9AF0-9A03B3EF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451D-68D5-47C5-A9CA-E1139E4C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72A9-9EFB-4E58-96A0-BAB8391B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49A4-DAAC-4FD1-9BA4-9896487D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1B4-40E5-44C4-9555-B2A1CBA6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C7C60-34AD-4245-A46F-BC43E5ED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93379-0561-440D-83B4-9AD81AAA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779B0-B396-49EF-956E-F78B92BE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F13-75CE-47CB-9570-F0C84E95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1547D-2A84-4AA9-94C7-D6E58BBC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362E8-4BDB-4756-8EEF-F37E2373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072C7-A099-47EA-8F41-67B617ED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859E2-0547-4F8F-A242-10E84286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48ACB-C3AD-4AC5-800C-134ED50A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4E371-1A5C-4EC7-BA5E-97B828CF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AC66B-D753-485C-837B-5EDE140A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77DAA-A3BF-49E7-8619-038974FB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5308D-AED2-4B4C-AB9F-51C41658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1889-88F8-4837-8720-AAE12337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181-75AD-4D73-9730-D5BFBA29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2D8-2060-4CC6-87CE-5F4FCC3E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E37-522F-4FAF-BDD5-42BDF488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FCC3-50C8-4F4F-BEC1-542B4C1B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6B7F-78C9-4DAF-B96D-0624BEABA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FE72-9655-4A17-8058-52884C3AE2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23AE-46D5-47E5-8023-0478496EE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 Loves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684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loyd O. Sanderson (194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o. Showalter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ng-Land Messenger No. 2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howalter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ng-Land Messenger No. 2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98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by L. O. Sanderson (194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e Loves Me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 Loves M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7320" y="64882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 Love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 picture containing sheet music, music,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 Loves Me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 Loves Me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67320" y="64882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 Love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 picture containing sheet music, music,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 Loves Me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 Loves Me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7320" y="64882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 Love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 picture containing sheet music, music,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12:07Z</dcterms:modified>
  <cp:revision>36</cp:revision>
  <dc:subject/>
  <dc:title>Slide 1</dc:title>
</cp:coreProperties>
</file>