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F1A-DF7F-4BE8-B465-75D3C09E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04C-775A-4CA6-961E-B572ED2C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004-E6E6-4B49-8DEA-36DA3171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5A7-37D9-4E83-8FEC-BF3C449A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5C17-5A9E-4306-AB5F-08094F56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F4A1-9235-4CF7-8B3A-0BC5131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18E9-7DFD-4D40-993B-144AB2C4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8EC5-DB9A-4E0E-A121-8FA7CEA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2DFD-9488-4EAD-BC72-C10DD4F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C1E2-DB9F-4D33-B40D-7AB5C991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BFC7-4513-4BA0-A614-D41653E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73D-516E-493A-9827-9819E49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F9AF-B7E5-45B4-AD14-FA20105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A855-E2BA-4222-ABB5-6FB7E1B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82D4-DCC4-4C8C-9AA5-8787BC2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465-112E-4238-8B3F-A8C3A218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4414-679C-47D4-99BD-83B03DA2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B81-F434-43D1-9713-0B4A3A3D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14CE-DD9B-4FD1-8E07-D854449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4CBE-AB68-4027-BA3E-6A381A96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6BAA-C6C8-43B4-AE38-192DD77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9D2-0006-4187-B000-E35B78C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D9DD-7BC8-45FE-A95F-2F2242F6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CB95-A6BB-4BF7-97FC-B71027CC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EE64-BD62-4D16-9506-C4C9DA59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46A1-0915-4698-8C93-1C97CC8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9C88-D222-4956-8D8E-24A0AEF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EE1F-F60D-4EA5-BBE2-8A1F980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52EC-586E-4AB1-887B-C3C882D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C445-A88D-410A-BE6A-D9A0A5D7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47B0-BD89-4DE2-BC27-97C6A8D5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6EE-22F1-4C3C-8FF1-DF446FBD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42C-497A-4D49-86E8-D4ED01F7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A0E-B9AD-4BD2-899D-D14E071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802-77EC-4F3E-A2CB-B904A624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34D-3FA4-4916-904D-985000B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821A-5C84-487C-AAA1-9701EBCBE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1289-9385-4C2D-BB49-B0D375DBD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B2A0-8269-4367-997D-6CEC40C79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me Of The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me Of The Sou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me Of The Sou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me Of The Soul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me Of The Soul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ome Of The Soul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216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ome Of The Soul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ome Of The Soul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ome Of The Soul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ome Of The Soul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ome Of The Soul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me Of The Sou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me Of The Sou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me Of The Sou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me Of The Sou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me Of The Soul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me Of The Soul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me Of The Sou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16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me Of The Sou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4:58Z</dcterms:modified>
  <cp:revision>26</cp:revision>
  <dc:subject/>
  <dc:title>Slide 1</dc:title>
</cp:coreProperties>
</file>