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6D2-9E36-4986-8436-506C2CD3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93A-8D28-4C9A-85F6-19047141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147-A247-43BB-ACA6-C5F61026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AA6-01F5-4589-8D6B-D78741CB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3DFC-CFB6-43AD-94A9-7C72D157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939F-DABA-45CE-BAB4-46F9F2CD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C981-BD0E-4497-97FD-C15DE0BE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1C20-5C9E-4CA0-8538-4D1340EC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C66C-DE24-4609-B7D9-2C4DAE86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F461-2841-4E0C-8C9A-F1ACEFE7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DD3E-A5ED-417D-B3AF-601DF886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94E-1324-48D2-85C1-B8EFA9D9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3FF-731E-4B04-8D3F-54A998B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F586-D6AE-4982-9B30-0BAEAC04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443D-5ADC-44A6-8068-B4035232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D9B5-1FEE-4D0B-B0A7-2F443F8A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75F8-562E-43B9-A9D8-BD9D6922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C7B-13C9-4136-8D7A-D653AE0C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25BB-7292-4E89-9CB2-6C4468AF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CEDBE-6EEF-4DE0-AEE3-B89AA01E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206A-6695-4C43-9BE9-23942F0F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277-BE9D-46D9-8336-5EADAF5E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C30D-98B6-4611-8B5F-4FDF99A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5274-6E1D-43F3-BD83-9F2488BB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FB93-ACE6-4235-864C-EC11328B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D425-2C50-49CE-AAD6-E77B41F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882C-D719-4B13-B381-A2A45769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8D37-455D-492A-95C5-7209CA51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AF19-7725-44AB-9C18-BD86604C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5F90-A9C9-40BA-A03E-409CF216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1EC0-EC04-49B6-8DE0-6F88DCAE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5E9-F069-4F7C-B382-A9474E35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885-D169-414F-9FFE-2FAEAD3E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FD3-160C-45B6-95A5-04ADC712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7E3-1B9B-4669-AE33-FFC560D2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2F7-B151-4DA6-A087-B8E5D30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AEBA-6F0E-4B41-B319-7D2C483C9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3ACD-60BE-44AC-B360-6E2DC3C43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BA0D-EF56-4B4E-BDCA-77CB7A337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Sweet, How Heave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Swain (17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w Sweet How Heavenl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w Sweet How Heavenl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Sweet How Heavenl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Sweet How Heavenl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Sweet How Heavenl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Sweet How Heavenl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w Sweet How Heavenl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Sweet How Heavenl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sheet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47:39Z</dcterms:modified>
  <cp:revision>27</cp:revision>
  <dc:subject/>
  <dc:title>Slide 1</dc:title>
</cp:coreProperties>
</file>