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FBB-E126-4F9A-8EBE-5E4F946C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596-4987-45AC-AA0C-7A3F07BD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17D-3528-4D08-8FAF-D9A7B1D4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DE42-5B57-4325-A3E1-F0BC9766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DC25-44B2-4FFF-8B47-63FBFA00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65CF-73B7-4234-AFD2-BCDF6F8B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1D1E-D782-4237-8924-07896395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E2F1-69E6-4681-A090-42A5ADC9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CF8C-5727-4AFA-B86E-E7395064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F08B-B09A-4B95-BF92-F663C824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6A21-4549-433E-88AD-13A23982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E64-A830-4458-8AAA-8D943BED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2C58-AC4B-453E-BE98-D71E955E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A7C2-481E-493D-B843-A1E1FD9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B17C-FD3A-4A69-93F1-5AB3AE40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C539-5C5D-4B36-BB68-654B4003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03B8-9656-4C1E-8C34-4953BFC7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96A-2AFC-42AD-A7B7-F380B618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951DF-DC8B-4462-9184-82268968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22A82-031E-4A7B-B959-86EB9FC4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D88FC-0552-43B0-A8CB-D30FE582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A5C-B5C3-4ED1-805F-2D6B7FD5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EA639-D756-4F4D-B43F-D1D5E582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EFCFD-2245-44CE-9497-8B41A72D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354DE-7F99-497A-A9FF-54B2B398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3FD2A-3A05-42D1-A04D-1E10CAEC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0F94-4C7F-4859-83DB-B5D6CB97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62C8-69E5-4EBD-8F01-32ECDC0C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9DAD8-872D-4ACC-9906-EAF16C89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F5903-1899-4DEC-86E1-C76DA225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0C098-967D-4C47-B66E-2104982C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955-3A23-4EEE-84F0-323FA2C6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BD9-6B5D-473A-A24B-5C4037A6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646-EC99-4C40-B197-2EA13415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5A7-C077-4A56-859A-39ADB808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2DA-DE16-4DCA-BB82-CADA5A19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046E-3802-44F3-8E0D-2EEC220E6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8CC9-63E0-47F0-8976-7474A0D282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7D41-F477-4FF8-A373-C13B6102C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ar, O Isr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6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, adapted from Deuteronomy 6:4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, Arr. by David Sex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ar O Israe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ar O Israe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3080" y="648828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ar, O 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ar O Israe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3080" y="648828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ar, O 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1:57Z</dcterms:modified>
  <cp:revision>23</cp:revision>
  <dc:subject/>
  <dc:title>Slide 1</dc:title>
</cp:coreProperties>
</file>