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7FB0-DEFD-43CA-9E65-17A704442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F1A3-D654-47A7-9F95-6F9300C5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82F2-C20D-43A6-815A-0782F646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9900-EC6F-42B8-B0F1-C1BD0E6D6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A5B4-8FB3-4737-A63F-E4889DA8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B126-B6C4-4C89-9304-46311A4A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029C-D789-4D53-8D30-4BE49BFE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C59B-95EB-454A-B760-EAC477F0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3797-DAF4-4650-896F-A132D726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CE73-04F1-414A-A879-EF0D22DA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5AA9-C3D0-4BAB-9D78-BE131BE0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9E3E-4762-4BD7-A175-DA078F6F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C969-0735-4B65-AD02-DB4014CC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F148-322B-4CD9-800A-FC2473A4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8BF6-5C32-46CC-8FAD-43A079B8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9EE6-2FC1-44E9-A1D3-0ADC297D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4F2F-1D1C-4284-BB5F-8D3638761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EA99-9782-44F0-B6B3-9DEFC8ED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F1486-DCDA-4D9A-9FA4-C65A836F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A4471-9811-426A-BCDF-CCF2527E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27FEB-D7A0-4A84-82E1-DB0EEA3F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03A1-8D49-46B9-AEB5-446508CC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E3BA4-F55C-4C47-B1CA-567F88FB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FB544-68B0-4734-9D0A-B56C9742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B7760-AC74-4EF9-B823-AB0E7734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4BFA0-32B1-4204-BD0F-92C00A8F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62079-CAC4-4596-8666-EE03A0ED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C8B4E-8984-4615-A324-22A15AF3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04997-92E4-49B5-84FD-95192E59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FEC0E-02E5-4894-B8D8-FBBB4888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B80D8-49E6-4602-B9F2-8B25C537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2375-EB2D-4335-B9D5-7E249875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9D3C-2E1F-4264-A7D2-D1CB262E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D5E1-17C1-425C-BD9B-E3770C40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C923-9A67-4CA2-83EA-366737DE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50A5-56B3-4E26-A516-C9006ED0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CD4A-B5F8-4DF9-8ECA-D646EA6418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ADA9-70D8-4F93-B9C8-A7FA2E452A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414E-1012-456B-8C24-F25E51E250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e’s A Wonderful Savior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Virgil P. Brock (19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lanch Brock (19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es A Wonderful Savior To 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8880" y="6488280"/>
            <a:ext cx="42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e’s A Wonderful Savior To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es A Wonderful Savior To 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es A Wonderful Savior To M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es A Wonderful Savior To M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es A Wonderful Savior To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8880" y="6488280"/>
            <a:ext cx="42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e’s A Wonderful Savior To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es A Wonderful Savior To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es A Wonderful Savior To 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es A Wonderful Savior To 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es A Wonderful Savior To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8880" y="6488280"/>
            <a:ext cx="42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e’s A Wonderful Savior To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es A Wonderful Savior To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es A Wonderful Savior To 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es A Wonderful Savior To 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9:58:14Z</dcterms:modified>
  <cp:revision>29</cp:revision>
  <dc:subject/>
  <dc:title>Slide 1</dc:title>
</cp:coreProperties>
</file>