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D81-C3BD-49E3-A16E-958F897B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4FD-7315-40E9-92C8-45CA8B11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875-E066-4487-BBB6-4480391B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37C3-844D-401E-854E-C70F7024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BA25-E020-4F10-96F8-BB7B0D52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95A6-5A67-443B-8DF7-3FABF90D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51A3-D465-401B-B73A-EF092105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B9EC-4B72-4A2D-9D8B-B7FF8D25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4281-D6B7-49F6-A19C-B151664D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3923-F0EF-49DD-A72E-57A63628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BEBB-2AAC-4E57-84C0-A9A643C1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D6D-27F7-4340-8E8C-B6CB45F5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C53C-E933-410B-A99B-B50A9A50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16DD-E841-4BD6-8121-BFA32F55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6B01-B871-42B5-A83B-21FA00B3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73BB-5B2C-467D-87C0-C10188C6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A734-620D-4DF8-93F0-5A849BA7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AB2-011E-44AF-B767-0736479B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2D88-5E0B-45AC-A7E4-7D648A03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6A494-9D01-4005-B87F-4AD86819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D4267-0C86-465E-89BC-1A09B0F3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832-6A83-406B-A788-D48F9902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5DFCC-F80C-4C47-B294-A7931483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026C-A47A-4EB7-8D6D-44FBC513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EEDE8-CC24-45DA-B349-F87A670C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37F5-E276-4105-A1C7-63642099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FD91-0B37-401F-9AC1-D2DFAB9A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C3AC2-86A2-4C79-A4CA-E32D8E7C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43752-E221-4C57-8A6E-2596B724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3484-DA8C-47FE-9836-333F79D0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0111-A633-43BA-8C3E-909E0E02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D22-CFFE-457E-B5DA-05AE4505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810-16B4-43C4-B2D6-34C91FF3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78D-F954-46C5-8293-5152DEC7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5EC-CC84-4A99-8785-BCDC5AFA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ED3-7149-4F09-AB8F-5737794D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2F55-F920-43F4-ABB9-8FF6CCDFA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72ED-8041-43CD-9987-ED215F5BBB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2130-980E-47BC-9BE1-540751F1F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ar Me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ASS ME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5.8.5 w/ 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68), Arranged by Eillis J. C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Doane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ar Me N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7600" y="648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ar M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ar Me N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ar Me N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57600" y="648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ar M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ar Me N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ar Me No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57600" y="648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ar M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ar Me No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music, sheet music, text, musical instrumen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57600" y="648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ear M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picture containing sheet music,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23:30Z</dcterms:modified>
  <cp:revision>34</cp:revision>
  <dc:subject/>
  <dc:title>Slide 1</dc:title>
</cp:coreProperties>
</file>