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506-C1B5-45A0-BE1A-2968A2E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576-E5B3-457A-8A81-90A551F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D4-1638-4472-9A0D-BCCE0255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D50-53FA-4C43-9EE4-331F6895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1B29-A2DD-42A6-9652-2DDF3805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8702-CC9E-457B-A7DF-2F4F1CA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424A-E9E8-4A94-AC54-402308B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C67B-FC43-4C25-B7EE-E0CDA69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BEE-FEBC-46F4-88A0-0B8838A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D33-59A7-4C88-921E-9A20A449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64B-50A4-491C-85F4-BB8426B5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8A2-1D2E-40E0-B00C-2C467F99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E62-A1D9-4DFA-837E-8D1CB84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C2E5-EE8B-4284-B3CB-DB99ED5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3EE8-B4A4-48D1-9CB1-5CFCC1DE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E916-0503-4AB6-A8B6-B6FC911E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6D82-6569-4F9D-80CE-F488563A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8E0-1098-4FF1-8854-192024B8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51F8-3FAD-400A-A942-8DCE286F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37CC-D61A-4D1E-BC11-AA622E3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DA19-E641-4259-9D19-E4D8E4DC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462-174D-4C61-8B1E-95B7639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B5F0-7E2B-43CB-BD29-7FF85CE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5A28-12FB-463E-AA4A-0E16666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32A3-030B-4332-A850-080AD3E0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C2D4-E88B-4F17-A1FA-8FCC3F6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772B-1666-4239-9B07-D4E4992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0B55-C92A-45C0-BAA4-7151FCB5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A753-9410-4918-88C3-351F91E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AEE3-A7D3-45F6-9C63-E57C0A8A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2AE9-4122-4B84-BFCC-78EE988F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C87-2235-4FF9-8730-7EAAD21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746-C555-461E-9279-B691C28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CD8-9CD6-444D-B4B3-D71CE14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224-EA6C-463C-B082-3E23E08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FC2-C354-4836-A014-A8E5D76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74F-9776-45C5-B40B-4E54962C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EC34-5481-4D3F-89A3-229B60833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21B9-87F9-421D-B91C-E15CE47AF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venly Father, We Appreciat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venly Father We Appreciate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venly Father We Appreciate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venly Father We Appreciate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venly Father We Appreciate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venly Father We Appreciate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venly Father We Appreciate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26:34Z</dcterms:modified>
  <cp:revision>34</cp:revision>
  <dc:subject/>
  <dc:title>Slide 1</dc:title>
</cp:coreProperties>
</file>