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FFFB-107B-4172-AC57-3892D7C37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7804-1389-4758-A343-A5268481E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E9E8-5159-4201-BFDA-607ADF6C2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E7B1-0260-437E-B587-1C0E3612C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F3D72-1CF9-46A7-9B34-A66083AC9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2E12C-3438-494F-AEB5-6E8416447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15B7E-8A22-4FE7-A3BB-2C86F7A50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63EBD-167A-4007-B39A-C04B1BCAE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9111B-B0C4-4AB7-B119-87297AECC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C2FD7-CC7C-4DA1-AF36-67E026086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5A6B9-9AEA-405C-A659-8F80BACA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2758-CB2E-4D25-9033-EDE3D0D87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84426-6D05-4872-A982-E8D81EB8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FE851-1758-4D83-A53B-9EF49B6E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76681-D514-4537-8BDA-8C7FB5B80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ECEC9-A5C1-4A47-933C-C238D7626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418D1-91FA-4502-88BF-B56C0D2AB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469B-2CE9-4086-B86E-AA11664A1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A10FF-A847-4427-BC9E-4F6A9EE20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94FF7-7522-4AB9-B4E0-53B07246E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9FCEA-ED51-44F4-9590-15AFAD936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CD97-3D86-4EF9-B112-B57177F3F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31217-93D6-4D4C-8358-4ACB66087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2E2D5-13D1-4058-ADC3-B35F5AB9A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41F65-EAA1-4EB7-B0B5-700A1D457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D7BC4-7190-4C28-84E5-8B675C13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AC529-55F9-4A03-AC38-0593B361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EBD61-9424-4455-9DE2-64B081EC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042CA-E2B1-4E73-A83A-0104FB777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DEC21-B0DF-4EBC-BA76-9773ADA40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4A4D7-2107-45A6-976E-6ABBD40A2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78FA-C019-4B6C-8B51-0895E1D7B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B612-41CA-47A5-BBA1-5193A91E5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243F-8C3F-4183-A878-08A6A011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4AD1-6E05-431C-82BA-FBCCAE66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4980-F008-4B16-9F4E-BE56A9AA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2A931-544B-4090-9CB0-35FFABA48F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84916-A673-4C82-A683-1A4A841AFA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C15C3-130F-4BBB-992C-EAA20BC72B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He Lifted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D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otte G. Homer (190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es H. Gabriel (190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He Lifted Me_arr1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72360" y="6488280"/>
            <a:ext cx="22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He Lifted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He Lifted Me_arr1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He Lifted Me_arr1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He Lifted Me_arr1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He Lifted Me_arr1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72360" y="6488280"/>
            <a:ext cx="22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He Lifted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He Lifted Me_arr1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He Lifted Me_arr1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He Lifted Me_arr1_v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He Lifted Me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2360" y="6488280"/>
            <a:ext cx="22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He Lifted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He Lifted Me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e Lifted Me_arr1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He Lifted Me_arr1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He Lifted Me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72360" y="6488280"/>
            <a:ext cx="22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He Lifted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He Lifted Me_arr1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He Lifted Me_arr1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He Lifted Me_arr1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0T19:45:45Z</dcterms:modified>
  <cp:revision>31</cp:revision>
  <dc:subject/>
  <dc:title>Slide 1</dc:title>
</cp:coreProperties>
</file>