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17C-3CA6-4C78-8E93-62C14E65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49B-2F42-4EB8-BD85-202CE742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C74-61C1-4B44-B0BD-9C90D1BC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A3B-1153-404D-BE97-7458A605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02DB-37B0-4E2E-A61C-9867964B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CB19-A86F-4139-9761-8044AF52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8073-A08B-4FEB-A7E7-C938BC18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CCBB-282A-4D3B-A685-0FAF97B4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8B24-0770-4546-879E-520847B7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307C-8DAB-4CF8-B830-56191D7D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C6F6-F937-4793-9042-E8B5662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C18-663F-44BB-9595-7A88A16A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8E0D-8B03-4283-8C96-0828AE3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FD04-2648-4E4A-A866-AF80735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1943-1FD9-4AC1-A283-232F4425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0AC0-0DA4-454D-AB0A-2980E71E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8BB8-6F04-4C40-B0E4-2F0906ED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DA6-8DC8-45B7-BF35-336C451E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C4F5-76B8-48D3-81E0-62E29563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2FD7-A15B-4EE6-94F5-AA5FD68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4957-209B-4F02-A25C-11C82F6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C41-D7F1-412C-8E4E-330162FA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4F8D-B541-4A45-A8EF-DBFB399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4DEC-506A-43AB-8F82-031D5FA6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7356-AE2F-4B91-B337-65F1BD1C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F479-BC47-47F1-9C59-088844B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E5BD-8B9E-4517-A80E-28D8C8D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E328-6C50-4CEC-92A1-16ACA19C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4F7A-309D-4B7A-8DBC-92F0478B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2D34-59D5-4DCA-B40D-83B32329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E4DA-F71A-4E6F-945B-BA3A0440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524-7757-4B15-83FC-11DD6FB9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3B3-7ABF-40D5-B2A7-73F18A97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FEF-EB75-4A4D-9350-34AC5EFE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BF2-39C7-40DC-831B-C6978B37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0AF-E585-45CF-858E-73E6EDD8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4376-DF1B-41E5-866A-577739E8A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DFD0-B1CC-4F3A-8492-149EAB104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6BDE-87B9-4D8E-B267-B0A6D99BF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Beautiful Heaven Mus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A. S. Bridgewater (c. 19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P. Bland (c. 19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w Beautiful Heaven Must B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9920" y="64882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Beautiful Heaven Mus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w Beautiful Heaven Must B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ow Beautiful Heaven Must B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ow Beautiful Heaven Must B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Beautiful Heaven Must B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920" y="64882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Beautiful Heaven Mus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Beautiful Heaven Must B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Beautiful Heaven Must B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Beautiful Heaven Must B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w Beautiful Heaven Must B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9920" y="64882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Beautiful Heaven Mus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Beautiful Heaven Must B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w Beautiful Heaven Must B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w Beautiful Heaven Must B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5:40Z</dcterms:modified>
  <cp:revision>31</cp:revision>
  <dc:subject/>
  <dc:title>Slide 1</dc:title>
</cp:coreProperties>
</file>