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2ACB-3295-403F-9E80-3BA09E0BF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3945-778A-494A-9231-D213A596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2C05-198E-4DB0-B6F7-69D5C50B7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D7DC-5B40-4212-A45F-C2AE2FCDA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7B51-0C4F-438B-82D1-C04C10625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6AFC-BE74-40F4-BDE6-A1AC3A73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2CF4-8A59-42A6-98F7-75EB3E31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75BB-FECF-4DC4-8DE7-4A163C93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1658-CFBB-46D6-809C-5935BB14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71CF-EF91-44A1-ABE0-4C3EA384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2EF5-575F-4BE4-BC10-AA3C7A92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1842-F94D-4CE6-AD7E-1B201B4D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A9DB-956B-4E2F-AA3C-31A1AC7A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3BCC9-718E-401B-A813-7C3F1FDA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7929-8281-4581-AD3E-002FA213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C944-4ADB-4D26-A767-EFE67AF25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989B-47D8-4676-872E-FA64B6EF5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D7D8-FC8C-4F2E-B0DB-15A4BC5A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F1B87-E390-48B5-9B33-3AFE2B887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28B35-BFCF-4677-B028-7D039124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EA5A4-3F34-4AD8-99CE-44A4A1F3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5B54-6B78-4A8F-B6B2-75E2D110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D52A8-730F-4C1C-BD91-99CDECF8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1CD70-81D4-4D30-9DD9-17A54AE6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FDAB2-58EA-4160-BCC4-98BDAC0B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E3751-04D6-40A6-8245-F21DDCB4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9EA82-2212-45BD-98BC-C7C50CBC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4A019-C0E0-4F6C-925A-716FFA4E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CF082-8330-460D-A1AA-2316292A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956E8-D852-436A-9293-3954D709E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AC10D-D4F9-48A3-9369-8136F0158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767F-EC18-4F50-9752-B8D8E661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B3B9-4605-4F24-8E91-3916ABD1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ED74-AB54-4565-B2A2-A13315AB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5878-A176-40ED-B027-D6077537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8D3A-F996-41D1-A340-BEA29294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1739-C781-4D08-BAD1-A667B1F732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186F-210E-4FBE-9EAF-EF82520F9E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CA6D-D4B2-444D-B5F1-DE6135C873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oly Is Th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G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aditional, based On Isaiah 6: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anz Schubert (c. 12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oly Is The Lor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1080" y="648828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oly Is The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oly Is The Lor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oly Is The Lor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91080" y="648828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oly Is The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oly Is The Lor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7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20:03:07Z</dcterms:modified>
  <cp:revision>19</cp:revision>
  <dc:subject/>
  <dc:title>Slide 1</dc:title>
</cp:coreProperties>
</file>