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258-13FB-4EA6-9AA2-28B8954B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263-6670-446B-962F-BBD124DA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4CD-BEB2-4C87-92C8-7594209A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C94-7BC6-4A94-AB43-0480A9E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272-80D3-4AC1-AE72-E0BE6D53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7EA2-2344-4D9E-943E-20902EB8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3AFC-B4E6-4CDE-B696-53E5CAD3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E83E-D29D-4227-8C79-6CCA6FD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5C8A-6871-41A1-8D75-FE0E721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B248-6C19-4481-92CA-A582ACC5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B59-B193-4F65-A09E-21CAD7E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889-23BF-407F-95E5-219A6E7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3FD-31A5-4641-AB45-1CF455A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AC99-A60F-42EF-A016-61BABAF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8E5-D986-4B0B-93CC-0DA06CDB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8D0C-0E42-4702-942B-0F759D57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E8DD-D629-44F6-82EF-0108F813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7B3-6256-4B5D-9445-C50736A6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C6E1-AA1C-466F-BE9C-86020C15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17F0-21AE-4A43-B7E8-35BD0812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69F9-C4FC-42F5-B9F6-30388751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1FD-AF88-4D87-9180-CB8CF36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61AC-F2D0-420A-9ECB-CE7FE05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0F84-1D0F-4015-B8D2-8895E94B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A884-029A-40FD-9498-D8047E9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2D38-F791-48AC-A098-AD7BF56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E6C6-D401-4F1B-B5EA-7717855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5AAD-D9EB-478D-BF09-138374F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399F-1C2A-4B60-956F-B3C62FC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F24C-DA59-4352-9151-6169AEAB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8B75-62E3-4EF2-A15B-1E5EB036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6A9-F61D-4753-9C8E-52E9275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64A-9461-4A0C-99F2-DED01569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6C0-8FE9-4D63-8B6C-B274C05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108-2D08-4C8E-887B-0B5E110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DC4-2577-4097-904D-20C3B2B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5FDC-AF2E-4CB4-AC3D-1EEC713C2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D2C6-7334-4B7C-896E-E28963C32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E7B-4708-4312-AD01-B6A24C885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venly Su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alking In Sun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J. Zelley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H. Cook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avenly Sunl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avenly Sunl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avenly Sunl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venly Sunl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venly Sunl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venly Sunl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venly Sunl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venly Sunl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venly Sunl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venly Sunl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avenly Sunl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avenly Sunl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4:11Z</dcterms:modified>
  <cp:revision>25</cp:revision>
  <dc:subject/>
  <dc:title>Slide 1</dc:title>
</cp:coreProperties>
</file>