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CFB-2EB4-45A8-B637-923337D8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5E4-0C5D-421B-90C6-804E8A9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5B3-96F7-4301-9FFD-93A8A877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46A-4091-4BD8-BF16-8D6D4DC7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DCF2-77D5-4D10-96AC-D936934E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8C1-3D01-4BD1-B9A2-97AB1E6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ADE-DA31-4043-9F79-97E58B67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1C70-672F-46FD-8C2B-443C43A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32B-2D07-4DEC-919E-6CE1F50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0889-109E-410C-8F56-40F32FE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DE2-EF39-4275-8C49-BD41ABA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722-B6A5-443E-BA8F-93414F4F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2FED-2BFA-4BB7-8621-B8F742E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423-4368-4438-A857-0C41559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4E8-6D1D-4E87-98E3-062FC8F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1218-2CC7-41FC-9142-C407E308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429E-5CFD-4D44-A229-FDAA4D0F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84B-18C7-4FF2-9B58-4BE1769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495C-D49D-424F-AA62-5C0292B9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EBE7-1ED0-436E-B92E-22B07AFC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5862-031F-4FC7-B972-7420B49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499-89EE-498F-9B30-5CF8AD0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B67B-1856-488C-940D-09FE02E1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9D31-867C-4B5C-9D58-CC2E0B5F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AF43-56EA-4F70-A3B0-468DAD0B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F202-2133-4FE7-BD30-B9338F25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58A6-F84E-48DE-8B24-E8A5C05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A9B3-E03B-40F3-9573-DCF0717C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8CC3-8E84-4C53-8494-267B23F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8D31-F06F-4E18-9A54-716D5AF4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CBF6-D114-4AA8-A3FF-CC1E84FE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17E-766A-49B1-B769-2A3D48F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0DD-4683-4C31-8E47-6F75350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155-D178-43DE-B8D8-F1E22B0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EE3-32B0-4EE6-A6BA-9D5D59C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683-2A96-4B61-A861-C284DD6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C8F-B222-4D45-85DA-CEC99740A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815-AD35-40EC-B3EB-914E78159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3A8-2DEB-4749-AB14-C12C337D7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Calling The Prodi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Is Calling the Prodiga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Is Calling the Prodiga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Is Calling the Prodiga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Is Calling the Prodiga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Calling the Prodiga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Calling the Prodiga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Calling the Prodiga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Calling the Prodiga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Calling the Prodiga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1680" y="6488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Calling The Prodi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Calling the Prodiga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Is Calling the Prodiga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Is Calling the Prodiga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6:43Z</dcterms:modified>
  <cp:revision>35</cp:revision>
  <dc:subject/>
  <dc:title>Slide 1</dc:title>
</cp:coreProperties>
</file>