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BC5-479C-4F83-B881-F9BAEAC7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E58-317B-4CA1-AF8E-437AECCC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9C3-9592-4506-B354-F3943AC2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F1B-D7F9-4B84-8B7D-608E3F8A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8507-E0B2-484F-A2BD-6BCC22BD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3D2D-4942-45DE-A94D-35D4A230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01EF-0359-4115-9171-7A2EA803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8A5-AF01-4397-97C8-BE472655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6062-D1C7-4551-85C7-9DE8BD44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BB35-4381-4893-802B-72ACAC04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066C-F8D3-400A-88F2-DB1EC59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6C8-BDEC-48D0-9BEA-6B963D4A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D60A-B203-41F6-BD3C-A4C86A05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75BB-485C-4EF1-BC43-872F0508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3C81-6939-46A0-A7E5-51D6532F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A014-C155-4291-BAB0-55E87FC0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28D9-3E2E-4659-9D62-840D2E49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FD4-2712-4DC7-9CB0-FDD22B28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819F-0DA6-45DB-B8CC-F2B5ACE6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756C-7A14-4318-B1AE-3B2EE618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A639-2F0A-4DA5-8A72-3547E62F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2B6-38E8-4757-90FB-9DB6413C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FEC8-963A-4F88-A1AA-BFF889C9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061A-2777-4221-BB35-2202BAB4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19A8-30B7-4375-BC72-7451821A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CFBC-5DDD-41FC-9351-8B713CCC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C536-6358-4BFE-B18B-931DAF7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D1EA-2589-4E9E-83E4-569875B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FBC5-2E0D-441A-BADD-B2ED08AF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C65C-FD2A-43CC-9903-B35ACDF3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08A7-F6E6-4C37-87D8-9176FBEC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BAA-4B92-4EA8-B8B3-A5E1EBD7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AB9-94AB-4374-BEC3-C4C855C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A36-2E1E-41E5-B270-0F7354F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FFE-7B6E-49BD-A368-769D75B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097-3EDC-4F79-B382-D4E85429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446-5FE8-4530-820E-D41787279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FDB7-4F6B-44FA-A1BD-70AD46052E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0BA1-B5EB-45D3-B295-4F954B18D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ive Me Th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8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 E. Hewitt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ive Me Thy Hear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ive Me Th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ive Me Thy Hear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ive Me Thy Hear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ive Me Thy Hear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ive Me Thy Hear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ive Me Th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ive Me Thy Hear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ive Me Thy Hear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ive Me Thy Hear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ive Me Thy Hear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ive Me Th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ive Me Thy Hear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ive Me Thy Hear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ive Me Thy Hear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2:27Z</dcterms:modified>
  <cp:revision>27</cp:revision>
  <dc:subject/>
  <dc:title>Slide 1</dc:title>
</cp:coreProperties>
</file>