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B2D-276E-442E-A34D-5702356F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4F1-00C8-413F-9F0A-750F97BB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1E6-5FEB-4EFC-B018-905FFDB8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BBB-55C1-48E1-95B7-74D9A89A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67F4-08D9-4717-8D08-4141A8CB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7333-F646-44CD-86F1-EC5FB412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A5D-EEFD-493F-BF87-8C29AE0E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F324-7A3C-4DEB-B0AA-AB33129F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BF0C-9DE4-466A-AA37-8054A99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02E-0754-497E-AD64-49BCC0B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2D0F-89B9-40A8-82A2-1AFDAAC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2DF-7B96-4203-A410-CF1166A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BC0-D42D-4322-B8C4-A6A60E8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23C-B963-4017-AEB8-60F4882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F23-FDCA-49F7-8BB0-8D33BE7F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E2E-58A3-4568-8489-10BF9284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EDFB-F497-4176-AD62-CEE1EB19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3F8-62EA-4FC0-AE3D-428D085F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ABCD-E672-4AF6-9638-B292F21A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5343-85B1-40D1-9C62-5B14ABE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E7B9-A92A-4ECC-8180-9E3E0D3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097-DB16-4535-B006-9023918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5A16-E864-4CF3-A465-1D886EA9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5255-7D7B-4359-840A-961C9D8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22F7-E6D4-43A3-8F0A-7036787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DCC1-1731-41E1-A13F-9F3E53E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98B6-2F32-4354-89FB-1B29858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5123-F846-43D7-86A7-A20AB1A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A6C5-8900-49B2-A11D-1F6A67E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3351-9BC7-4677-A521-408E25D2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83DE-D125-4572-A9C0-990A5F2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FDB-A1E3-49F9-A549-DE7F0FF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08E-A787-4BF6-85E0-D0C8548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48A-A4B9-49B8-B58A-F056CFD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24A-B8E2-4A54-9998-B2BD331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E8E-CFDF-4B7B-9E9C-18523FB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6C77-209D-433E-9799-97E3850FD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9C3-B6BD-456A-8510-369B3781E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EAB-0D18-45F1-99A5-B2F1BD0C7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llard’s &amp; Badg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ymns &amp; Spirital Song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E. S. Lorenz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I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I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Is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Is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0560" y="6488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Is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Is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7:42Z</dcterms:modified>
  <cp:revision>21</cp:revision>
  <dc:subject/>
  <dc:title>Slide 1</dc:title>
</cp:coreProperties>
</file>