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48D-17E1-4537-9963-DB22021C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D21-FC69-435C-B632-58F3700F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621-DB90-4161-A4FF-8FBE5919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BAF-9ADB-4B96-BB87-44154FFF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8B18-0D3E-44F6-9056-6DF43825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22D-5BD6-46B2-AADF-BEC916B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12EA-454E-4A99-BB49-B961855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443D-83F5-407B-AB2A-373FBF86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E90E-1E58-40EB-89D3-BECF2C0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D98A-6B5E-4534-83BB-B16CB2B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417-8C36-4783-B3EE-F8F050F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410-0043-4F3A-B059-6776D163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019E-6FB3-49B5-9939-4E8489B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87D-B66F-45C5-89FE-7DC81A4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C2F-FB0C-40CC-903F-7504E26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5E5-9AD8-4D24-93F4-E3AA9DAB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BA6-9689-4CD6-B369-C0844F96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7AE-12B2-4032-B602-D40CB74D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7B04-9F00-46E8-8B98-8F25A189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2428-B0A3-48B3-8A14-1641050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03CB-48C4-4A92-BE95-C3602EF5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525-D558-4D9E-8600-D33DB533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8CF0-238E-4F18-8787-8B51E196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7BAA-4791-4B93-8A78-1B21B85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06FB-82D5-46B2-9437-67BD85DC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252C-9B16-409D-BE44-1DB23D5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248B-7F6A-42AD-B063-EE68C8A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AB9C-221F-40F1-B7CA-F7D451C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ED7D-A441-45DF-90E0-363E5F5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B587-4EA3-4B91-AB5A-4D39631F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DD8D-B015-4F31-8C65-B8DDA021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3B9-DC6D-43B5-84B3-8EA92514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234-BD33-4201-B78B-48899B0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E59-979E-4B4F-B541-9D276BD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CD2-676B-48EE-AFEA-2465F5C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48C-7393-4E82-94B0-4F52053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F9B-ACBE-46A0-8C77-63B15BDB2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486-6F9C-4F43-902D-F2C44D4F6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D81-75D8-488B-B81F-BA6B899BD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Holds The Future In His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D. Vaughan (19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Holds The Future In His Ha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Holds The Future In His Han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Holds The Future In His Hand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d Holds The Future In His Ha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d Holds The Future In His Ha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d Holds The Future In His Hand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d Holds The Future In His Hand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Holds The Future In His Ha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Holds The Future In His Ha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Holds The Future In His Han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Holds The Future In His Hand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Holds The Future In His Ha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3560" y="648828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Holds The Future In His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Holds The Future In His Ha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Holds The Future In His Han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Holds The Future In His Hand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5:45Z</dcterms:modified>
  <cp:revision>32</cp:revision>
  <dc:subject/>
  <dc:title>Slide 1</dc:title>
</cp:coreProperties>
</file>