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B36-162E-45B2-AB2A-E3EDCBC5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E99-C28C-4C09-9F84-BB60CD14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843-11C4-46D5-B352-8C817E8B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0F5-49AD-470E-B3FB-D3C037E4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EC23-1D23-4015-98F2-1F9D61F5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2795-7E5B-458B-BC0A-FB7F2748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4259-FE17-46D0-B7B9-75667782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1C3E-D1EB-4043-B54C-18F8A105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DD07-7218-4405-8B70-4605047F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60EE-AA1A-44EA-9392-F35202CD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50D4-2C6A-4F23-BB5C-394D6219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250-5C58-4C90-8C1E-0B7E4C2B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0784-ABF3-4AF3-A9FC-01E53406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9A04-0592-4BFF-937F-F9A20278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DF8F-FB45-4627-A9BF-DE81A6A5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E056-6214-478E-AE6F-182DC08B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A7DF-F26B-4FAE-A1CB-72F4F96D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A9F-7022-4FB6-8251-72B4F3D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6B73-A638-45EE-8A89-C7A384B5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7DD2-5FA7-49F4-8617-2FF85EC6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3215-1802-4E17-B31A-ED1FAD0D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6EC-D890-4AC1-8A5D-A4643C4B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92050-588F-40D3-BF40-F02F35D8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2258-E1F6-4072-B5BF-6E44F901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D277-838F-42B7-AFDB-EA022F0E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8581-F517-4221-8CDB-D81C596C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AE2F-ECC2-48CF-B472-2C3F240B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5197-5499-4646-8035-23393EB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6D1B-7860-43BC-9157-D575C56F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F7DA-7641-4AF9-8E4D-C67F1A48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067D-F0A7-447B-B11D-7D89B10F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E48-739B-4DDB-ADC2-D47A446C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FBC-43E2-4F0B-AB3A-C7F0AB0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94C-A5B1-4DFD-AB51-D3E0C0C9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EC4-5948-48A9-BB76-FF24C407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773-081A-4B3F-98DD-8167B17B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3C19-3F12-482D-8C82-B877718A3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200A-240C-4721-9940-E9DBE9348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CE35-D057-4368-B63C-8B2C7E931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God Be With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Rankin (1880 &amp; 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G. Tomer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od Be With You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240" y="64882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God Be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God Be With You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God Be With You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od Be With You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God Be With You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5240" y="64882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God Be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God Be With You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od Be With You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od Be With You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od Be With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240" y="64882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God Be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God Be With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God Be With You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God Be With You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od Be With You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240" y="64882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God Be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God Be With You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d Be With You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God Be With You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7T21:24:56Z</dcterms:modified>
  <cp:revision>29</cp:revision>
  <dc:subject/>
  <dc:title>Slide 1</dc:title>
</cp:coreProperties>
</file>