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019-0DD9-4D7C-B08E-A9314A42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6F3-BCD4-455D-8549-CD355A6D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D63-DD6C-42CE-A6F8-92FA913D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AFC-30EA-4965-9468-935D5D29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44B-7DFB-49FA-B789-A510C8ED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810-7502-4786-94DF-E0EA4CF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90B-6F8A-4E03-A1C4-3F66796E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023-ADE8-4EBC-89BD-A9BB031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695-BF94-4F6E-9EF8-5665F25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FA5-D170-4839-AB90-FB233C7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E66B-73B0-4CEE-804B-1133172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C97-E2B7-44D6-B4D7-B994643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E38-FB33-479C-8C4F-4A30E3D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19A2-DA7B-42CD-BD2A-5E69610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43A8-09C3-4E6B-A56C-F236410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38B8-2CB0-4361-A91D-66C0CB35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4702-F6CF-4BF9-B3F5-8C9724BA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F76-58BD-4FB2-832C-B18D410A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E5E-CDE5-4A43-8AB3-351FF9D7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A8A-C97B-4AF8-A2CA-9B88570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70D-1A2A-4D91-84B6-3E7B93E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1C3-BD8D-4745-AA0D-54EFA5D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100-5239-4470-AF9D-D1E9AE8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884-1FC4-43B1-8A6F-B5E8CC9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478-5737-4488-A095-545BAD3E4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800-E68E-4074-A791-57F7BC91358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To The Winds Your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ul Gerhardt (1653),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ra. of Psalms 37, Tr. by John Wesl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ive To The Winds Your Fe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996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To The Winds Your F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ive To The Winds Your Fe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ive To The Winds Your Fe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ive To The Winds Your Fe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2996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To The Winds Your F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ive To The Winds Your Fe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ive To The Winds Your Fe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0:55:22Z</dcterms:modified>
  <cp:revision>30</cp:revision>
  <dc:subject/>
  <dc:title>Slide 1</dc:title>
</cp:coreProperties>
</file>