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8ED-E03B-4F1C-BFBF-54934AB0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E00-4F1A-473E-B6C7-D449EAD2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B59-C69E-468B-A4FC-F832F326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DD2-9A82-4C25-9A0A-B65EF525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10E5-7BCC-4FBE-8813-3AD505B3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B615-84FF-444C-B41A-ACF8BFCE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B3F2-2E74-42EC-B62A-6B019AEB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B7A4-9931-4998-93B5-BEDC80CA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8F4B-1945-4D68-9B98-91F9B356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77B7-BE48-4E55-9D20-93F5FF46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241D-97EC-4286-8572-733F9D7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DCE-C4E2-4DE0-BCF9-B38A52B8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76B4-604D-4DDB-8FCA-5E556989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8225-3D8F-4F4E-8CEC-DB6E5AD1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1E18-6C54-41AA-9C5A-3C35A565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EC98-68A3-4441-B320-3753BFC3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8C24-F70E-40A1-8EFE-58FB998E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931-DA07-449C-B329-171C2504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7C3DA-1759-426B-B5CB-1903EE09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46BD-65BC-4459-9108-6B3CA675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05CC-8393-438C-BD7C-1D70898E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E8D-D931-4019-AF3C-72DAC6D2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9A87-B092-47A0-9EA4-2CDAF00E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BAC7-ACC2-422C-AB79-E48CDB5A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65EE8-2DA3-498C-A53D-E88FE85B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9A0F-DA80-42CD-BEE1-CEA08B3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A4FB-F5BC-4B4A-8A25-114C9213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AB18-C360-4180-8004-E54A5618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0EDB-EDDE-43D7-87CF-57F5F697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F621-D45A-46DE-B6CB-5FC00778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A076-9380-4ED7-8475-988A460F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BFD-0C83-408B-8642-935BA996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C13-6351-4832-854F-EED2F05D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F16-E980-416A-860A-1DC59C56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486-C1A6-4797-B042-9B3C01E3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C15-6839-4288-9850-39625C3E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027A-7926-4514-868B-D47A58BCF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568C-B8D0-4E03-985A-D0FCB741A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895F-AE4F-41D8-B690-BEC2A1463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Calling Y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rhard Tersteegen (1735), Tr. by Jane Borthwick (18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G. Foote (189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419120" y="6289560"/>
            <a:ext cx="63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Lucida Sans"/>
                <a:ea typeface="Arial"/>
              </a:rPr>
              <a:t>This hymn is FREE to be used for the glory of G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God Calling Yet_arr1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00080" y="6488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Calling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God Calling Yet_arr1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God Calling Yet_arr1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God Calling Yet_arr1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God Calling Yet_arr1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00080" y="6488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od Calling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God Calling Yet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God Calling Yet_arr1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God Calling Yet_arr1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God Calling Yet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100080" y="6488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Calling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God Calling Yet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God Calling Yet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God Calling Yet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God Calling Yet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100080" y="648828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Calling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God Calling Yet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God Calling Yet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God Calling Yet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5:16Z</dcterms:modified>
  <cp:revision>31</cp:revision>
  <dc:subject/>
  <dc:title>Slide 1</dc:title>
</cp:coreProperties>
</file>