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C75-466D-4FBF-AAB1-B76FFC6B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917-14A1-480A-BE61-1D3A06E8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643-E849-45CD-ABC6-ADD3AD96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D7A-6EB6-4612-971A-2847034D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505F-0992-4F4D-9FE2-E2E327BD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CBCD-59A4-4254-91BA-CE11361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598D-7657-4083-91A8-B033ADA8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631-590B-4F35-9F56-D3A8E37E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9ACF-A1C4-4F32-9102-C4582C0C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F36B-0D8A-4B4C-8C08-69E13624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4357-84BA-494D-B6E4-6506069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E03-42F0-4C9B-A100-5AD1C847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6DAE-EEC5-486F-8EF9-450F1102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B1EE-6896-4665-BA1B-3ABF708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25A6-1679-44E9-BBE5-2A76F7E8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339F-D3C2-49F6-9C4C-DFC31335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7D8F-5E8C-4761-A8BF-B3EE5FDD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272-4F75-4A9F-B04D-58EAFBBD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5D7-05D4-482F-A0B4-13889081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DBF-5FD8-46CB-BC25-D6DAAA54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836-734F-4DB4-A974-35751487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782-5A5B-4147-A543-B157E594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AAE-F443-49FF-A4AE-62BCF3F9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750-0AE4-4C0B-9C8E-49AD88F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A4D7-AABB-4A0D-B2F7-BFE2B6126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AA6-78C4-4709-88BB-AB0F04217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Has Smiled O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God Has Smiled On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432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Has Smiled O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God Has Smiled On 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od Has Smiled On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God Has Smiled On M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od Has Smiled On Me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od Has Smiled On Me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3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07:39Z</dcterms:modified>
  <cp:revision>25</cp:revision>
  <dc:subject/>
  <dc:title>Slide 1</dc:title>
</cp:coreProperties>
</file>