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304E-7F03-410D-84A7-ECFFBDBB7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7AF9-D4F9-4DC1-8AB5-2798DA6F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C21F-FFF0-4D4F-91B7-EC1F730DF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520B-BD0E-4B01-8F8A-AB34C14B7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CD1E-4770-4704-B49B-13098EB4D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A492-2A68-4D12-8E9C-9097CD7C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8399-0634-4471-8BA9-BCAF6FC0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EF41-86C0-4F5B-BD0D-FE5B109A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1506-2B4E-4EC0-9F2E-A36EDAED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CACF-E5D3-4013-BE07-35CE73E1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9C637-4AF9-473D-9C6C-3CBF73E8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1DD7-4D08-408D-9F6C-B69E04FC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30CF-3541-4ED1-A875-76EB16F5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657A-F7AF-4546-A705-80EDD957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A781-07A7-4ADF-AF59-79E97C92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13F4-92FE-40EA-8537-1E9A8F421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3C87-4AE7-41AD-8A33-0657CDA0A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AD3B-BA48-409C-9E51-8E9BBBAC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F0C2E-C51C-41BC-8FF2-FA484FF18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A670A-3866-457F-98CC-B9F5EA14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58644-9B1D-4A4F-9A9F-FDFD164A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6CBD-BA77-4B04-A952-FF11F8C5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5BEDC-A420-4D24-972A-C6609CFC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66D1C-1112-4FD5-8843-677C680A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38BFA-A43D-40CC-ACE2-029A8189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3CB3C-D90F-488A-B5EA-DB143B3C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02E01-61AC-477F-A99E-739FACFF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B47D5-345A-47A2-A49D-1466D26C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57F3E-715C-45FD-B7B9-80BD30D7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09D88-A5AE-4E8A-B05D-6ACF2FD3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7BBC6-DB24-4055-9AD3-59B2B31C9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54AA-C936-44B4-B2D5-E6A51041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3534-B055-4D1D-92FA-DF8B57D0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CD53-CCF2-44F3-B96E-A63A06E7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F2AB-8A07-4427-BF3E-45911B28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4A9D-3CC1-4F51-8D96-64B30FCC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E224-D0E9-4938-9A50-BDE19712EB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CA54-6E04-491C-BDBB-E710CCF85F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E846-D89E-4F5D-928D-A0779C9353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Go Tell It On The Mount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GO TELL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IRRE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B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piritual, vss. John W. Work, Jr. (190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pirit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9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Go Tell It on the Mountain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5920" y="6488280"/>
            <a:ext cx="38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Go Tell It On The Moun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Go Tell It on the Mountain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Go Tell It on the Mountain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Go Tell It on the Mountain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15920" y="6488280"/>
            <a:ext cx="38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Go Tell It On The Moun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Go Tell It on the Mountain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Go Tell It on the Mountain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115920" y="6488280"/>
            <a:ext cx="38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Go Tell It On The Moun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Go Tell It on the Mountain_vFINE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7T21:24:35Z</dcterms:modified>
  <cp:revision>34</cp:revision>
  <dc:subject/>
  <dc:title>Slide 1</dc:title>
</cp:coreProperties>
</file>