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1DA-ED0C-4468-9EFF-BA87C08F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A72A-793F-4A31-9558-3B7020C2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4CE-7230-468A-A077-E0F9C763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7ABF-5DBC-4EBD-8DDB-D9C0248B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4F0D-A093-4102-960B-AF10AAA0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FD73-3450-493F-BA29-1FB32C10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BA11-DA73-4B4A-8E2B-4A549A9E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C33B-24E9-497F-896C-2C61FE80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6ECE-9D36-4D3A-8FA1-590C31F1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75E4-3F68-4EAC-9B51-D33E58D7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ACF2-5A05-4946-9478-95F69EC6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E752-2919-4E68-978B-750A14FE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B400-B484-49F2-9C48-CD9CD36C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D186-05A1-414B-8179-74F0F19D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9290-F2D5-4F67-9416-75E2E007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1D94-2F2E-47B6-BD16-F953D62D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A7BF-65F2-43B4-B92F-2A5D1C72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D571-1A29-437B-8EB1-2C017083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49CFA-AF8C-4E20-9B2F-C73C4F51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511BB-BE52-42F4-94C7-DA2C3B32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1850A-6F69-4695-B0B1-08FF8FDB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64E-530C-4512-BA22-7C7AB3D8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C6903-DEBC-43CA-AB36-CCC04700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9AA00-7B8C-4504-93FA-5B26F1F2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14470-E3E2-41F4-A1F8-FD473723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F6566-8CDD-48F9-B93D-A4C8AD5E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212AB-CE18-4173-8658-1135248E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41F2F-36A5-4E21-8EFD-E0E35CA0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9B0EF-DE24-4AF3-85A0-33F751AE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5DF81-A6CE-4752-9A2A-0222F94F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4AD71-7DA8-45FE-9E73-DC0EC142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DC5A-0CC1-4E7E-A68B-8B9B6BDB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6D90-1749-45E7-B717-BE4CE77B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570-96F9-4DE3-9BD2-DAC5244C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0B03-AFB8-44A9-A788-229E2EF0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A6A-1B2F-4937-A654-9C306211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720B-C4B2-48E6-937C-AC798D65D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2D8A-FFD9-446C-9C33-035A824DB9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517E-D5EB-4FB7-9841-1FDE977F7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od Is The Fountain Wh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G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enjamin Beddome (18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l Mason (18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od Is The Fountain Whenc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560" y="648828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od Is The Fountain Wh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od Is The Fountain Whenc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od Is The Fountain Whenc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7560" y="648828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od Is The Fountain Wh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od Is The Fountain Whenc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od Is The Fountain Whenc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7560" y="648828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od Is The Fountain Wh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od Is The Fountain Whenc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6:17Z</dcterms:modified>
  <cp:revision>22</cp:revision>
  <dc:subject/>
  <dc:title>Slide 1</dc:title>
</cp:coreProperties>
</file>