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9DA-0C64-4F9D-87A7-AAC8A77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D01-1B1B-451F-8D37-988931C2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E19-0334-4524-8D2B-879E342D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9B1-C477-4694-8231-586133B7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4159-72B7-42BC-92FD-5CE03501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3132-5203-457B-96C6-26E693F1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1E89-40C4-4197-A870-A9A16C36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6AD4-BE44-42AF-9C2C-23E4FD9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4291-7281-408A-A5BB-3CFC99D4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55DB-2C63-4605-BE36-67DD5AF2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890-A26D-4308-ABC1-E53CDED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BF0-6D08-4C48-9550-28F961C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EBCF-C026-493E-A869-D604E6F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5C94-033A-412A-B210-2407813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65E4-FCAE-486E-8316-7F393FC4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2E3B-EBAE-48E5-B29E-D25E6CC4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1CF-F70A-4FDF-9852-E418E254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385-E40C-4420-B56D-FE59F10F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F239-10D7-4B8F-BB91-65B5BE56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C59E-04BF-4F9D-AFD2-8CE1B0DA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1ECA-7338-4B9F-838B-2A902F2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C8C-ED06-4557-BB6C-141CD97F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4A0C-341D-4D62-8BFE-F56D1314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AB1E-786C-4C1F-A86A-57ADBCCC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0797-D3F9-426E-9AA9-22CE91E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D4A4-851B-4C70-9436-97C4D90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FE94-4251-46F6-82F6-B8BB4FF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2796-9904-4565-8E9D-D0A52E3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B795-D62B-49E8-9715-881F616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0E26-738B-451B-826C-A0DE4DAF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369A-F5BF-4CB4-ACF0-0A288CB1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E05-51FD-431A-9747-B514B64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230-ABA9-477C-877A-C4EDAF9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686-71C3-4969-B99E-17083A3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E86-8819-47A3-BE29-7E681F59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7A8-41C8-433A-8BBD-ACCA2FC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4A9-78D0-4A21-8813-CE7D7F2ED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C009-CB6D-4C77-BCCE-5A65995D1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0F0E-67D0-421C-8FF5-756C22785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ive Me The B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scilla J. Owens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ive Me The Bibl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ive Me The Bibl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ive Me The Bibl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ive Me The Bibl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ive Me The Bibl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ive Me The Bibl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ive Me The Bibl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ive Me The Bibl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ive Me The Bib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ive Me The Bib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ive Me The Bibl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ive Me The Bibl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ive Me The Bibl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880" y="648828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ive Me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ive Me The Bibl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ive Me The Bibl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ive Me The Bibl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1:23Z</dcterms:modified>
  <cp:revision>29</cp:revision>
  <dc:subject/>
  <dc:title>Slide 1</dc:title>
</cp:coreProperties>
</file>