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51AB-7AA4-45D1-B433-74F98C23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44A2-490A-44F3-BB13-B2F51FE5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B5FF-9BB0-4ED7-BB42-7FBC5E6F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D9E0-834F-44E7-9DA5-C6C5E580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D46D-755E-4507-880C-52FFB253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8A5B-9C88-446A-9884-9B2EEF09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7708-6417-4DAE-8F38-480DABF3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9349-63EB-4FB1-AF06-CEF7C42C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8727-DE82-4253-AD4E-A56FBD46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E679-78C0-414E-9E78-C76FC6F1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6822-0735-436E-8C36-A28B7CF9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436E-0B69-4E1F-B4AA-E3B1F4F4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CE8A-1A4C-4F56-B808-991A9543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C7A5-0481-49C3-843D-7D29D4C7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FCDB-01CD-4970-9D15-FDD1FF54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C936-D3C8-409E-BCEE-424EDEB6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5598-6AE2-44A5-92AE-AC1DDC45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5343-6CD1-4254-A1E8-8D922056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B8FA8-EC5F-4D65-92F7-B4A11300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3DC25-4201-42E2-BA1D-481CD183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BDFB0-E46D-4153-95F0-6501679B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A527-3970-4D6F-BEE4-B51203E2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60F76-93E5-443E-8ACF-7530830E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9D2B2-498F-44F5-A0BE-4F932048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AF722-E80A-4288-B74F-22254507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D9268-7292-47A0-9D0F-E1D201BC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47D70-CEF6-420D-B965-DD953E9D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6FE3D-C9C1-4543-A871-6745F560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F7E02-8F3E-4FF3-9405-AC8ABE04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DF5B4-4F73-4C9C-9F56-47568848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40EC7-B033-4AA3-869C-58BAA82F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7664-431F-4CCB-87B2-D42DDC76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3237-7836-468F-BCDA-7645EE0F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0304-50CD-4902-A219-846E761E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3E50-70C7-4D3A-904C-6CE75F86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51C8-9D1B-4424-9D11-8A07F06A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9D49-7C8C-407B-B177-2DACA98AB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BA00-9DC8-488D-B199-3E248D2C92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1731-4280-40E5-968D-C294C6F04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uide Me, O Thou Great Jehov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CWM RHOND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4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2280" y="4902120"/>
            <a:ext cx="13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Williams (1745); Tr. vs. 1, Peter Williams (1771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. vss. 2-3, William Williams (17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Hughes (19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Guide Me O Thou Great Jehovah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7720" y="6488280"/>
            <a:ext cx="44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uide Me, O Thou Great Jehov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Guide Me O Thou Great Jehovah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Guide Me O Thou Great Jehovah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Guide Me O Thou Great Jehovah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uide Me O Thou Great Jehovah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7720" y="6488280"/>
            <a:ext cx="44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uide Me, O Thou Great Jehov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Guide Me O Thou Great Jehovah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Guide Me O Thou Great Jehovah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Guide Me O Thou Great Jehovah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Guide Me O Thou Great Jehovah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7720" y="6488280"/>
            <a:ext cx="44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uide Me, O Thou Great Jehov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Guide Me O Thou Great Jehovah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Guide Me O Thou Great Jehovah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Guide Me O Thou Great Jehovah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29:25Z</dcterms:modified>
  <cp:revision>29</cp:revision>
  <dc:subject/>
  <dc:title>Slide 1</dc:title>
</cp:coreProperties>
</file>