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D2BD-A380-4589-804F-68864421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F78-CF5B-47D6-B7F7-9B2F1C77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007B-B0F8-440C-B617-AD6299A2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320C-27D9-4681-B708-E58CFC0B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4A1E-9824-468E-869C-4971A605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D3DD-D4BC-4E6F-B5AC-9553D556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3487-EB56-4235-873D-2BCE6F67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C3B2-5082-4D95-BE3F-73556D65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73C7-E5BF-44D9-9417-A9344EB0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20EF-6247-41C8-BFF9-803C6D51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9DFE-B6D5-4C3C-8DA7-E6BF7627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99BA-A064-4663-8144-7DB15728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B419-A716-47F4-A49D-07AFAC30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B698-C5F4-45C4-AE32-CE7A16C6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5DD4-BCEE-4D7E-A159-682FB637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BC3A-D92F-4DDF-8093-C8D8D964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FEB2-4C3D-4130-8EE4-1170263A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BFA5-B9D6-4F8A-A28E-A13C020E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8C07-E928-41BA-8175-1C9C3986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26B-067E-4BD7-AEE1-4D4BBECD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D93C-EA54-49E3-9943-64D771F0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E2D9-FBB7-4295-A9F6-A5D6C8EC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9063-00C8-4102-8C2A-51F4D554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EED2-4BF8-44D6-AABB-FD5421AA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8C22-DFAF-43C2-A335-E3C0D03A1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0D7B-4BE3-4B80-A1F2-B9E2F33960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uide Me, O Thou Great Jehov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Z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4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5000" y="4902120"/>
            <a:ext cx="131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Williams (1745); Tr. vs. 1, Peter Williams (1771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. vss. 2-3, William Williams (17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Hastings (18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Guide Me O Thou Great Jehovah_arr2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45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Guide Me O Thou Great Jehovah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17720" y="6488280"/>
            <a:ext cx="44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uide Me, O Thou Great Jehov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Guide Me O Thou Great Jehovah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Guide Me O Thou Great Jehovah_arr2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Guide Me O Thou Great Jehovah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17720" y="6488280"/>
            <a:ext cx="44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uide Me, O Thou Great Jehov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Guide Me O Thou Great Jehovah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Guide Me O Thou Great Jehovah_arr2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Guide Me O Thou Great Jehovah_arr2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17720" y="6488280"/>
            <a:ext cx="44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uide Me, O Thou Great Jehov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Guide Me O Thou Great Jehovah_arr2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9:01Z</dcterms:modified>
  <cp:revision>24</cp:revision>
  <dc:subject/>
  <dc:title>Slide 1</dc:title>
</cp:coreProperties>
</file>