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BC3-BE8D-49A2-A941-76BA2796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68E2-79CE-4642-A103-344C8DF0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57E-ADF5-4BCA-B77D-52942528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FF6-0A6C-49E0-8AD2-9A3E5AE7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0C40-6B80-414E-A471-57EAD84E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662D-1F69-4CC3-A726-BCBE7F8A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771E-B78D-4F74-8C6E-0817EDED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0A03-A7B7-4A8A-AB29-71B2B5AA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5660-54E5-4408-8A12-A2284BFC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D05E-FCE9-4A1B-88B8-036F0AA0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5BAB-9052-4C1F-AC28-85A4B4B8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96A-FA7A-4B47-B460-C39256BC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1289-81F3-4E93-A958-6DDFA7CA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22C2-F68C-47FD-9964-D18F646D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83F8-6702-432F-8F5D-FFE2ED24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C16F-6CEC-4DA8-A908-25F4076C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3BC0-76BE-4B6B-9B28-B13B8CCC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10B-78A0-4CA7-B5FB-D3BDB087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4272A-28D5-4149-8DAF-6626D1F7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A3B59-E128-4933-BBF6-C93155FB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145D-870E-451C-BE99-9DB562DE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CDAF-DE77-4979-9B2D-0964E8EE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66E28-FDD2-4DED-9E00-1EAB46BA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EDA6-68C9-473B-AE9C-3F691D70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1DFB-FA9E-4D91-A2C1-025CA792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3A0BF-62C7-46B5-86AC-C6A2CAF6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80B2F-B25D-4BEA-84D0-557C98F0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B6409-2C7E-4C35-8757-1CBC8496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9660-5255-4BBF-984A-15634FCC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A5D3F-DCE1-41AB-B818-8A9B8B0F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B9D9E-033B-4347-94A0-B84B08CB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D71-270F-4FEA-B2A7-CEEBF746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D7D-3CA7-4F35-B575-61F08877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A52-E93D-4635-8486-FDD7E623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EC6-81CE-408F-AB9B-0213D480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1F5B-A881-4077-A279-B4928EB6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749E-F393-47BF-9333-EE8E4AE8E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BC6E-CE41-4157-BEF1-EAE1DB9A02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8523-6EED-4041-9895-3F1A68594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lory To His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Stockton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lory To His Na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5760" y="648828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lory To His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lory To His Na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lory To His Na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lory To His Na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lory To His Na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760" y="648828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lory To His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lory To His Na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lory To His Na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lory To His Na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lory To His Na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5760" y="648828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lory To His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lory To His Na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lory To His Na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lory To His Na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1-25T17:46:18Z</dcterms:modified>
  <cp:revision>23</cp:revision>
  <dc:subject/>
  <dc:title>Slide 1</dc:title>
</cp:coreProperties>
</file>