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CE6B-CACB-4CC3-ACEA-71CEE492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A29-F601-473E-AB27-E23C25F0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FB26-73C7-44AC-8A37-F20E1BBF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3F66-6162-4723-9C78-99925CC2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4852-04EF-41DE-834C-A1F19F32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C165-7D04-4744-9C5A-6F9DD7EA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8C75-C10A-4874-8D36-935BCA69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6ADF-F6F1-4862-9CEA-A8F9C629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545C-9818-49A6-A147-6EAC6497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D184-D999-49AF-90B1-F90B891E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78C2-BA85-4C98-B24C-D24125EC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85F-3AC3-4F0A-AF96-DB084D92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0043-EEBD-4F99-A9AF-B93849FA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039B-E5AA-4957-AE81-A2E37015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BD47-F9E5-4688-9334-BC7FC7D1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A5DE-B6DD-4E26-BBBD-75136699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3B63-A8C4-4D66-9745-2BFB5C71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3C2-2CAF-4F56-93C7-A41F0BE5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BE705-B79E-4A0E-9343-35E5E259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697C-BBDD-4218-AA8A-076C21A3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80596-D7AC-4C9B-AA0B-DAB2EAB3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B8B3-A34A-4BD3-9B40-7F5F302E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50221-0FD5-4DE2-9271-D1AD39EB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BA870-56AC-44B2-9FBF-5337E04B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74ECA-9ED2-4CAA-92FC-DC3744B2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5DE2A-EB99-471F-BBFC-11A2E595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02AFC-22AC-46FA-9C5B-EBC28EFF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3E171-127E-4F56-BD9B-74CF9BA9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60816-089A-44AF-9110-9E808984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244D3-24A3-4BF5-B19F-A436AF93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70562-C3EC-4886-8E0C-59E32B72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560-F711-4D62-BC19-0C6FE45B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FA3-D367-42C6-BD73-B0EDC7EA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54A7-FD6B-420F-A51B-1C72FC6D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7D0-4678-4DF9-9D61-8F973D3B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2D2C-769F-425A-8CDF-BB85D5DE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6C19-9BC4-4324-973D-A81D7F798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769E-9FEF-4B7D-BCFA-99A613DF89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3BF1-CA48-45EB-ADDF-63DC79437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lory Be To God The F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WM RHOND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4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oratius Bonar (18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Hughes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lory Be To God The Fath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3040" y="6488280"/>
            <a:ext cx="38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lory Be To God The 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Glory Be To God The Fath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Glory Be To God The Fath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lory Be To God The Fathe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lory Be To God The Fath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3040" y="6488280"/>
            <a:ext cx="38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lory Be To God The 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lory Be To God The Fath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lory Be To God The Fath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lory Be To God The Fath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lory Be To God The Fath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3040" y="6488280"/>
            <a:ext cx="38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lory Be To God The 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lory Be To God The Fath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lory Be To God The Fath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lory Be To God The Fath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3:15Z</dcterms:modified>
  <cp:revision>32</cp:revision>
  <dc:subject/>
  <dc:title>Slide 1</dc:title>
</cp:coreProperties>
</file>