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A5F8F-E2A0-48BD-8DB8-AEFF3B769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E0937-F8BC-44E2-AB60-C11C851AC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04F45-802A-43FC-BB48-9D0B79201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8D3BA-5C6E-433E-B216-4767D8A8A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55F9A-DA20-4675-8D75-1CC30ECFE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CD9E5-51CE-43F3-B22C-E8FC6DBC5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B7D0D-5793-46AC-9319-BBB2DCF88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225C1-F9D7-4F2E-8089-1DA602D60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3DF12-EA30-4ECD-AC2C-8E7643ACA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51AA2-5D7A-44AA-AB3D-EFA8BC789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4258A-E5A0-4F82-9252-CC2389A99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1D7A4-BD65-40BD-B7AF-E45E415C2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21322-085A-4EDD-97BE-558E4DA1F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39534-831D-4F6C-9B9E-CA27F0500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3DCBB-5EA0-46D0-8E9E-B5B6D43AC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81249-D987-4E6B-9519-C8DBA304A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62E25-E99A-46CA-9D6E-504852CA0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DFF78-A7C9-4AB2-BA43-124BDEFF6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195A92-4754-4E6D-9509-73184799A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E13025-FD8B-4B51-BF23-EB837AEE0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0ABD5A-6758-4B34-A0F5-23ED36F39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071D2-ED85-4AC2-B9A9-00A31D328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C63209-648D-4AED-AC6E-5E61FB2F3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4F3BAD-67F7-4968-AEBC-20853DDCF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DF4081-AD66-422F-91E8-DAA51AEB3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99B758-E2AC-4A4B-9B91-9BBEA4DE9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54DCFF-996C-44F3-82F4-EEC05AF64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3DC6D5-AA61-4FD9-B71B-915C3E6F0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30E27B-F2CE-413A-8251-6C1DEC6D3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70CC93-BE8E-41C6-AEB6-E20B4C05F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9BEDDC-4484-4A0F-895C-CFC0EEED9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1796D-A4C1-49BE-ABE9-418D7DFBC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2BA54-9C17-42B2-B975-121F3E070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44A5B-96FF-4A36-AE54-E72260D14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5BFE0-1F4A-466F-A324-3E4CCC2A5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12129-2DD4-4699-9EC3-3BF470602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7878E-EC42-4DBF-B33F-2D99C6F656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17442-DB2B-4229-A482-56228D0C5C3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533EB-087C-429B-A614-7DAECCED6D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3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God Of Our Fath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NATIONAL HYM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10.10.10.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40320" y="4902120"/>
            <a:ext cx="1249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F/F -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Daniel C. Roberts (1876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George W. Warren (1876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10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God Of Our Fathers_arr1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88920" y="6488280"/>
            <a:ext cx="30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God Of Our Fath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God Of Our Fathers_arr1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God Of Our Fathers_arr1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88920" y="6488280"/>
            <a:ext cx="30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God Of Our Fath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God Of Our Fathers_arr1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God Of Our Fathers_arr1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88920" y="6488280"/>
            <a:ext cx="30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God Of Our Fath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God Of Our Fathers_arr1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God Of Our Fathers_arr1_v4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88920" y="6488280"/>
            <a:ext cx="30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 ~ God Of Our Fath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God Of Our Fathers_arr1_v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84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17T21:28:08Z</dcterms:modified>
  <cp:revision>30</cp:revision>
  <dc:subject/>
  <dc:title>Slide 1</dc:title>
</cp:coreProperties>
</file>