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780-041F-4032-A038-AC767949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AE3-1AA8-4B40-A88B-707372B0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2EF-7C75-4BE7-8179-7485D35D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2CD-44E6-4426-AE04-79AFC949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C2E6-9EDE-4BDC-83AF-1658073C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30A6-1A6C-4232-9485-321B798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CF9-12DB-426A-92B8-6C4A8EC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D70-1211-4230-8E1C-16C66790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FD7D-AA0C-4286-8691-5963F9A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EB2-FC4A-4245-9907-E1CCA92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2D2C-98B9-400F-9A48-F765EE3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9EF-1191-4894-A592-E729ACA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673D-BE55-48AB-9CCB-6CCDE32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B6ED-715C-4B12-8E4F-BC64142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F0A2-101B-4CB8-8F76-7729AFD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265-1BC7-4F6A-B637-0438288C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ECFB-C469-4056-92EA-C89C5DF3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825-22F5-472B-84AE-CEE437DD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9075-45AC-4E5A-934D-B1AA0698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8F22-EC7E-4F85-B285-D811D32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B877-16A2-4068-A913-1DA6144C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738-BB00-4ADB-ABCC-75E9F667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2004-7FBD-427A-9A89-0F115BE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65BE-29FD-404A-9E9E-0A8B45D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E457-4C11-43AE-B1D4-2686848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8080-4CD9-4AB3-B63B-3CE779A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6BDA-AF8F-486F-8CEE-49EDBDF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BC0E-0FB2-4E9F-A6F9-5618A7C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C053-AF83-4B43-856D-F8D60446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2EA5-1980-48FB-9EB9-748A1950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6C4-400B-44F2-BAF3-6A0EC679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ABC-DA1C-4A69-9EA0-4917531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79D-5B79-4991-B4CE-931D7E8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E9A-0FF0-4335-B0A5-5E23523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7CF-7BCD-44F2-96B5-E607136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FBE-AFD7-4F1F-8ECA-EBB01F2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BB20-742D-4D92-8F0C-045588137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7F6-52DC-4FE6-985A-074DECDE0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C702-542F-4EEC-9A07-014594A3E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race Greater Than Our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ulia H. Johnston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B. Tower (19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race Greater Than Our S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800" y="64882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race Greater Than Our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race Greater Than Our S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race Greater Than Our S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race Greater Than Our S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race Greater Than Our S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800" y="64882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race Greater Than Our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race Greater Than Our S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race Greater Than Our S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race Greater Than Our S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race Greater Than Our S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800" y="64882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race Greater Than Our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race Greater Than Our S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race Greater Than Our S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race Greater Than Our S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8:30Z</dcterms:modified>
  <cp:revision>18</cp:revision>
  <dc:subject/>
  <dc:title>Slide 1</dc:title>
</cp:coreProperties>
</file>