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188-3AA1-45F1-B40A-8FA383CB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1B6-2D9D-4C02-9C4E-FA7CDBE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716-5880-4585-8959-F3B28F10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1D2-3C3E-4B70-9499-FED703DD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C653-34C3-4D0B-B4CD-AB3F03E4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35C3-01CA-4A2D-90C5-523FC342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DB9A-4B88-4AD0-B67E-F4B41EA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2AD-1F67-4A1B-88AF-E4010C5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24F2-46ED-41D3-9D9E-24F00CAC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F7FC-23DF-4D63-BD86-F826357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08DD-1B8A-4941-8186-44989DD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CF7-315A-4969-8B55-0F233879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32E5-4A57-472A-AAFC-18169B2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7C1D-6A31-4BEB-99F1-FFEE15D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6909-199D-43D5-8039-1A34DFB4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D8D-01AA-433F-BF15-B803753A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1C1-FEBE-4703-A9B2-9FCC8E82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25F-E128-4798-BF3B-1B1313E1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DED2-8B09-4BBC-8412-2C5AD3C5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EAFF-37C1-4011-BC39-14C87DB0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C23E-F96A-42FE-88EC-28877FD1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7BA-2B3B-43D9-9EFE-8FC727D4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E1A8-30E8-433D-B028-E6AFC44B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A460-0BB0-4113-8A85-150F0610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7944-32F8-4966-A151-0050D463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C29E-6DB2-4CCD-B063-9D1CED0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78ED-4AAC-4509-9D5B-1DB6A24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AB39-9236-43B5-ABB2-644BEF95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CAB0-871B-4D59-B84F-8A0F018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C1D4-09EE-4104-8296-2BB6CA9A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FA40-BA6C-446D-83D6-CB5E72BE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957-6D1B-42F9-9551-DA62DD1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AA4-7C72-4669-B50E-881E969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53F-EC16-44E0-B00F-95BCE04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0B9-FE7C-45DC-BC2E-27B9730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5F7-ED99-4DAE-9668-725487B3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E781-6478-4AF9-95FD-9F4B5AF7E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1A86-5B60-41E6-AD22-D3EF3B088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7669-D24D-405D-B8F8-7C19F5B08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 Into Th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own Roland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 Into The Fiel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 Into The Fiel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 Into The Fiel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 Into The Fiel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o Into The Fie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2880" y="64882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 Into Th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o Into The Fie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o Into The Fiel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o Into The Fiel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o Into The Fiel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Go Into The Fiel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 Into The Fie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880" y="64882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 Into Th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 Into The Fie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 Into The Fiel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 Into The Fiel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 Into The Fiel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 Into The Fiel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 Into The Fie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880" y="64882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 Into Th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 Into The Fie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4:15Z</dcterms:modified>
  <cp:revision>33</cp:revision>
  <dc:subject/>
  <dc:title>Slide 1</dc:title>
</cp:coreProperties>
</file>