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FEC9-F8BC-4D5D-B7EE-4E3A97E71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B569-81FD-4CB3-A526-9AEDC27D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A549-0D72-4DE8-B1F1-E52CD4485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B369-F5C2-480D-90F7-2B1AF078D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3F5CC-4335-47F0-8A67-A6F06A4BC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F886D-409C-496A-95BA-D7F19826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888D-D026-4109-856C-F9CAC711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B2F8-3997-4E31-8EC4-7D091DC3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869DF-EDBF-4BB4-94A5-A04DC39B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42BCD-ADC6-4EAD-9A22-19BC6B46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B3FB-B3EA-4BE0-983B-D68B5284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1393-A11E-4EED-A735-43F5E890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59C5-4887-4C83-B9F9-F5FED33D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D0C3-E2EA-438F-8397-B0FC0C60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9F292-91AF-46EF-8C47-01497286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06B3-0B3B-4A49-98D3-E7B07E9B2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8BF4-D5E2-49BD-A925-ED22E843C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E147-3132-4D95-A9C4-556A7C30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DDACC-3B6C-49FD-8DA3-3F9CE45AC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856DE-2AE5-4EB3-A046-9C732BD7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05E5E-2603-44F3-AC25-15B61268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42B0-B902-47AB-9BF3-C2C97302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B7D69-B348-419E-B69C-6B090AD4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E00CC-3280-4F8C-BAF7-D4A0CCDF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08704-94EF-4C4A-9DB1-211BEA5A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4D578-2326-4C2B-999D-FB292E4C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B8C0D-92E7-4EBA-B886-3C6D5B0D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49A06-1CA0-4899-A862-1C8DD08B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70952-AFFC-4F02-9867-A7F5C7E0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EC918-F3B0-4F2D-A292-2D88A28A1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932B6-4A3E-468A-9E20-1187FAF90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385D-1406-4500-9D9C-EE4E4634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F821-20A8-414B-B5B0-49FC03D8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E443-E4BD-4694-8E1B-CC68FD0E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917C-BF7D-484C-B320-96D3FAC4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F3F7-370D-4F16-845F-260DB0CC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6674-691F-45A2-8107-44F141CB64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C7A3-6CA4-455D-BA49-082711A303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058B-DA17-4EA8-BD41-4BB142FBDD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God Is So G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55080" y="4902120"/>
            <a:ext cx="1326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merican Folk Hym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merican Folk Melo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God is So Goo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0640" y="6488280"/>
            <a:ext cx="25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God Is So G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God is So Goo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80640" y="6488280"/>
            <a:ext cx="25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God Is So G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God is So Goo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80640" y="6488280"/>
            <a:ext cx="25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God Is So G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God is So Good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80640" y="6488280"/>
            <a:ext cx="25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God Is So G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7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7T21:27:17Z</dcterms:modified>
  <cp:revision>21</cp:revision>
  <dc:subject/>
  <dc:title>Slide 1</dc:title>
</cp:coreProperties>
</file>