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342-06C7-4840-9F76-E4A511AF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2E29-E135-4D51-ABA5-FECFA086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3BB-2D3A-44D7-8BE4-7946B41B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95F-13A9-487C-970A-02FF166A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8CDD-05BD-44A7-898E-E45D7402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B255-7D3B-4FD3-AAEC-64518EE8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575C-998E-4BDE-BAA8-BBAC3B47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3002-24CF-4886-9402-A8BEA555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90CF-8E50-4AE4-91D6-448B10E9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36BD-5AB4-4BEB-A14A-8F143999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9F04-16D2-491C-830A-CF8CDADD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9025-C8E0-4A2E-9ED1-DD11195C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1BCE-48A1-4E22-9656-AE11626E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C4E2-F11A-4209-9522-DDD012B8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FB4B-B9FB-420A-B84C-E80A3B98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1AB5-682A-423A-8243-A04D133A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255E-915D-42BA-9746-6A193BB1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A3BA-548B-4B82-8A3E-66342E79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B17FE-AD76-4224-B4D3-69A39799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A5DBA-73B9-4D30-932A-C862B34A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41D89-FE5A-45DC-8263-BFF1979E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234C-D7B6-4E83-BBE3-7906D8F6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F3B55-5440-4F74-A6C0-91DB9696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037A6-2146-4C2F-A83C-A868C437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2ED26-9912-4D78-AEB9-55E0F642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613FD-5005-473C-89DC-005106EC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FC4F2-7511-4AC6-A99A-E2AA4DF7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45768-9585-4427-82C3-CA3C2D63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A2BEE-299C-4CB4-B26B-18F3F19E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9DE06-3354-46A6-A27A-0C88229A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DC06D-4247-4DC8-BBB4-271D9984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F70-D1F5-4A28-99EB-D08B7403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58B-8B09-4DD8-96C8-28237C4E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059-5763-4C06-95BB-BD797F9D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54E-15E5-4727-A8DA-71B4CA95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A5F-DD6D-4994-A572-AC624745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C37B-D239-4705-BD85-278111D57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97D6-D4CC-4A9D-974C-946F86A9C2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C8D1-D249-4637-BF83-069829953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Fear Not, Little F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y A. Kidder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G. Dailey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2320" y="648828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Fear Not, Little F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Fear Not Little Flock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Fear Not Little Flock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Fear Not Little Flock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ear Not Little Flock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2320" y="648828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Fear Not, Little F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ear Not Little Flock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ear Not Little Flock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ear Not Little Flock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ear Not Little Flock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2320" y="648828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Fear Not, Little F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ear Not Little Flock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ear Not Little Flock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ear Not Little Flock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5T11:20:43Z</dcterms:modified>
  <cp:revision>31</cp:revision>
  <dc:subject/>
  <dc:title>Slide 1</dc:title>
</cp:coreProperties>
</file>