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2F2-744C-4C54-A6C0-D247070D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4A4-AC44-45E1-985D-F624FD12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B5C-5812-4D55-80BE-70502ACF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71B-3D2F-40B0-BBFF-8DB9974D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0AA6-8A71-473D-95DA-2210936C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E81E-989D-4897-BA86-FB19421E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3DCD-220D-4117-8296-5CFD83E1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53B5-0269-4804-9F05-2C79E9A5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41D4-B06D-4A17-9520-B48496EB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0F23-6DF4-405C-ACF5-EF2F9532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58C2-7983-434B-9980-063FC795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701-0AD9-4AAA-A091-06090722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79BC-9BC9-404D-90CA-80B84B63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B9C0-51F6-484D-9662-D9230356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3641-F157-41EF-BDFB-3BFFF48F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FDEB-42C3-4870-8E02-CA56AC37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0C7B-D735-4D75-BB89-A5E77267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37F-4C36-4B47-986B-0C5113DF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9A823-84FB-4376-872C-96FA9FF9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C25D-E464-430C-A07A-E68C0AE0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FC19D-867F-4870-940F-5871D9A6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9B0-BB0C-4967-9C7A-CF940B6A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DE36D-8199-4D59-9585-747B6BDB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C9686-1DBB-4C7F-9953-6A8A4164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2514-27EE-4183-BBF8-8487C427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570FB-8DEF-466F-ABC7-A53513B4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BB3F9-EBD7-416B-8541-4EF90F22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4556E-1F17-4A1E-8ED1-978787AE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B9720-110E-4990-900B-17AF812F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6E4A-BE73-4158-8A8D-F59501FF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20212-BC54-4294-8D6A-CD69D38E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302-688D-4D02-8A13-6F6B9E0D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FEF-504C-4905-A704-3E1F4AC1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266-8366-4BB8-A70F-131AC120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310-7F10-4DA3-AB9F-3DF376E5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286-3498-427D-89DC-45C2A4AF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F138-6319-41B0-A5DF-22619B4AB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4FF7-5F04-4F0C-9F15-8CFF1DF087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CA88-A745-4BFC-9DE5-467A7F5FA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lee As A 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IN DOMINO CONF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4160" y="4902120"/>
            <a:ext cx="164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m(G)/E -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S. Dana (18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panish 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lee as a Bi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lee as a Bir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lee as a Bi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800" y="648828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lee As A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lee as a Bi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lee as a Bi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lee as a Bi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lee as a Bir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lee as a Bi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1800" y="648828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lee As A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lee as a Bi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lee as a Bi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0:08Z</dcterms:modified>
  <cp:revision>24</cp:revision>
  <dc:subject/>
  <dc:title>Slide 1</dc:title>
</cp:coreProperties>
</file>