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2D52-270B-483E-BF06-807B0BF7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F1C4-1D23-424E-94FC-71A99EE6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137E-9156-4F96-B2CD-3C9D78B2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0EDB-FF2B-4547-A29E-CA8B0A88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A61A-3949-490E-BACF-D1E2C69E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4BA8-92C8-42F0-8AC9-32CFED8D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48AD-56FD-4332-8679-AD0DC96A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8562-5C48-4223-8A03-D28E0E0A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3BF2-CC6F-4A13-A645-5CF7EA12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5D1A-1FC3-46AD-9B41-A2AC80A4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185D-0CEA-45BA-9F9F-0A31DA56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BA78-5ABE-47E0-BB07-73888BD8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62F1-75FB-4D87-A86F-EE585994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D6AD-ACAC-49EA-AE0B-D7CF4766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1586-8750-4A1A-A768-120516FA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0E95-066D-4FCF-90A1-4F6FF4EC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E6D4-A4C9-4867-9246-0764DCBA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08B8-B776-478A-B553-B6686D9C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4C302-E6D8-4877-AFB6-C3A5FE50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BB8EB-B708-4E8E-897B-24BA15D6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7908D-4A48-4CCD-998B-8C067317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7804-CCC4-418E-96F7-AD396761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6F293-0994-485E-B19E-2092BF66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97840-446F-4FD6-A90C-32ABF0E4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8C497-94F7-4CBD-81D0-76C95C33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0E5DE-0E5D-4AF7-AB8D-2717AD78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F826F-82A6-49E9-B237-739B4F8F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A1EFB-5C70-4158-9619-7A826E45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E75CA-F3B9-43E6-91B1-ABB933CD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B5D87-42F5-44C8-BF90-2502BA64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05896-5BDB-4636-ABF8-AB5CB27F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1B1B-1BD7-45FD-A64E-729F3B50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7521-3419-48EB-BA6E-DD072D60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718D-5A78-4093-99FD-31E77256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3A47-F3CC-4F51-9D9D-A3899181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4F17-F0FF-4B2C-B0C2-AAF2E2DF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0700-CC4A-45FB-90C6-B03F520DA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976F-6675-4CE3-AF3F-BA8CA7F920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0637-0732-4739-8ECA-25A828BF2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Fairest Lord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CRUSADER’S HY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5.6.8.5.5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E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17th Century German Hymn (1677), Tr. by Richard S. Willis (18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Old German Hymn, Arr. by Richard S. Wills (18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Fairest Lord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3600" y="648828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Fairest Lord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Fairest Lord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Fairest Lord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3600" y="648828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Fairest Lord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Fairest Lord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Fairest Lord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3600" y="648828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Fairest Lord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Fairest Lord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5T11:22:09Z</dcterms:modified>
  <cp:revision>23</cp:revision>
  <dc:subject/>
  <dc:title>Slide 1</dc:title>
</cp:coreProperties>
</file>