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ECE5-8EF3-4662-89BC-8F3064C33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4ADF-DE84-4E3B-8C77-005CF856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10CA-43EC-4F28-8DB7-AF7A67868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A67A-57C4-40FC-8929-BC9DF4776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7E6D-3281-4552-8794-E90A5D05C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9D8F-EB32-4041-B543-EB626238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5DB8-4BCE-4934-A358-11903228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0E6E-7511-411C-AA59-2B6C3F5F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E7EB-F8B2-4AB3-8154-0C295997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D521-17A4-47FA-9640-7042A3DB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1B89-7F79-4CB3-BF8C-F07C09DB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F65B-B2A4-4B8B-BAD8-ED3C5099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FC36-114F-4D38-BE02-94CE2776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ACF1-3887-4236-BC6D-FE83573F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328E-CD05-4699-9A4F-FCCE0BBA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8077-6019-4BE7-9C84-924A8DFF1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0050-96DF-4EE4-A127-8FF3E393E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E1C2-AFFE-4372-B7E3-27E4EFFB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0FEB7-A0CA-4073-9D0B-ED6E73F99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B29C3-84D5-4DD4-9792-5108190D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B16C3-C9F0-4D9B-A95A-2184146B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B011-0E1F-4E87-884B-54E65B87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3D990-2F88-4595-82F4-6BEE6689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3D578-6AC7-4EBC-8A1B-FF412360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ABDA3-2FFA-453A-BE52-A9F61660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715C9-7B33-4B67-95F4-42FDCCBE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65A5D-C63A-4A15-8E4F-119BFB76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17CCE-AF33-4910-ABFE-E531BBCC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01E8E-D3A4-4240-B08B-D16A16D2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51EA7-9667-421F-91C5-7EF056165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D618D-DB00-4829-B50A-CF464C6A4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3C60-9EA9-42C5-A806-C0B70CD9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918E-DC39-4568-91BA-B781FB9D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501A-2B8C-401C-B51F-1A071BA0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016E-ECF7-4F1D-99F1-3C7CB5EB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4B1A-DEDB-4B47-9533-8187D1E2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8750-777D-47D0-A7E8-71729CA1E0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0D0E-C522-44F2-99BE-09649AED2A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191D-7A9E-4966-9D8C-2696BA9F0D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For The Beauty Of The Ea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D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7.7.7.7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olliott S. Pierpoint (186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onrad Kocher (1838), Adpt. William H. Monk (186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For The Beauty Of The Earth_arr1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For The Beauty Of The Earth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9080" y="6488280"/>
            <a:ext cx="393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For The Beauty Of The 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For The Beauty Of The Earth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For The Beauty Of The Earth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For The Beauty Of The Earth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09080" y="6488280"/>
            <a:ext cx="393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For The Beauty Of The 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For The Beauty Of The Earth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For The Beauty Of The Earth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09080" y="6488280"/>
            <a:ext cx="393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For The Beauty Of The 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For The Beauty Of The Earth_arr1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5T11:19:52Z</dcterms:modified>
  <cp:revision>23</cp:revision>
  <dc:subject/>
  <dc:title>Slide 1</dc:title>
</cp:coreProperties>
</file>