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6B05-84EC-49ED-A131-25E8406F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F8C0-A034-44B6-9D53-219D76CC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144-83F6-4E5A-92FA-11377277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E0FE-0E39-43FA-99F1-5116EA0A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CB9A-5439-4BCD-81D1-2B9576AB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9E43-45B6-466D-B31A-055FC69D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828D-B3E5-4BCD-B90B-229EAB94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7AAF-91F1-49B2-BC2F-D8983E4F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4CBC-D589-4F63-97F7-E77F5710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FE67-9E3B-460D-B5B3-DEE8106F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D8CF-D45E-41C1-A040-19434848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76C9-F153-40C3-966A-B7B24C1F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33BC-07A9-486A-BE83-C6FC725B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53CA-A8AA-4A93-84C9-D523BFC2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E3C3-D738-4BEF-8EF5-9F6A69F4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0F2F-27C7-4FEB-B2F4-73D5C815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DEFA-B596-4F03-A651-8FAB4B70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A6C5-C7B6-4AC9-A65D-4D03A314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C59A2-86F2-4F72-B2EB-ADEA5853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16BE8-D614-44B5-BE3F-0ACAB21C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95A46-A6FC-4541-87DC-F1DBF84C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4B78-C425-41A6-84EF-F61A74CC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56892-65E6-426D-A9D1-63430928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0D7D6-AB11-4D84-8A37-D0F98697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29344-99DA-4155-97FF-219A34ED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845ED-40DA-470A-87E6-AA97EF71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7D212-8001-455A-90A6-F2DFBF36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1605B-A032-4ECF-8EBD-A4332523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C8364-0F03-4F14-82AF-7E8AB1EE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67F18-6E16-495C-A84B-2BA22001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5A5FA-15A8-4F7C-944C-D889F4C5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8558-88E4-4F24-80DA-86ED9F93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EAE0-AF5D-4A67-A0BB-53681CD7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B99B-2FCE-493A-8AC6-5488629A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2FE-6199-4630-8F7F-00AB3467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8B68-D3A7-4454-80B3-316DC3FE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C2E5-1849-40B9-AA74-6D786E5D4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7393-276F-4BE9-A7A3-7B2D4E26F8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6E93-64FE-4E90-B76E-1D957B300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Faith Is The Vic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H. Yates (18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ra D. Sankey (18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aith Is The Victor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Faith Is The Victor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Faith Is The Victory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Faith Is The Victory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Faith Is The Victory_v3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7640" y="648828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Faith Is The Vi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Faith Is The Victory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Faith Is The Victory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Faith Is The Victory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Faith Is The Victory_v3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Faith Is The Victory_v3o4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Faith Is The Victor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7640" y="648828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Faith Is The Vi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Faith Is The Victory_v4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107640" y="648828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Faith Is The Vi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Faith Is The Victory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Faith Is The Victory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Faith Is The Victory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Faith Is The Victory_v4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Faith Is The Victory_v4o4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aith Is The Victor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aith Is The Victor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aith Is The Victor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Faith Is The Victory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aith Is The Victory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aith Is The Victor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7640" y="648828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Faith Is The Vi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Faith Is The Victor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5T11:21:53Z</dcterms:modified>
  <cp:revision>30</cp:revision>
  <dc:subject/>
  <dc:title>Slide 1</dc:title>
</cp:coreProperties>
</file>