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B6F-493A-48D3-A84A-44584DDF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A87-366D-49D8-8B2D-C46B6BC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72D-DAB8-42C0-927C-881EB9CA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198-463B-4B6D-8EC8-8B0CAAA5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656A-1185-448C-B83D-ACBEEEA6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0DAF-ACBF-4F3F-A62E-F59471C2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C8A7-74D7-4588-A70C-C64E9C1D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6A1-7225-48F1-8E47-28E9A67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2A6-F58E-4A3C-B547-80F4558C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1E23-D2AA-4CC3-986C-F1A05CFD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F3F-EF47-4174-B1AD-78DF224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214-1F23-4818-A0CE-B97FC041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7D23-90FB-4C76-813D-3DDF70B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FCC2-0A70-40D4-A08F-608E6C3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54E4-9A06-4095-B877-1F17D2F4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CF8B-8A88-48BD-A85F-ACCC358A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95F3-0B57-46D5-A4CC-F7003C6A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D73-86BB-48DA-8581-0CFFDD7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2DC2-FE78-429D-8A88-0FB00CA7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D195-C419-47B2-BC10-2F7102E7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87A4-946F-4EAC-978E-239B4DAA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771-39E2-4F37-8295-407F911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C86B-5380-4A4E-B457-9276F49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8411-59F9-47F8-82DA-EEAF3A57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0E1D-5414-4E27-B852-58E3E97B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96F4-F894-4B58-9510-0CA9DFB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658A-9799-45E1-84A7-0583360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B813-968A-4AC5-AA44-842822E0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94D4-DF7F-46AE-9C30-7481E23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568C-70E7-4B95-8F4F-EC492322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17F8-6F60-46DD-95F3-97B30AFE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C31-D921-44EB-8D49-44E80E68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F72-AB26-491C-8752-B00A905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289-F020-485A-AD85-3AB30D1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729-F5FF-4536-B2C9-72A878B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69C-B277-480F-AFBE-9E4540F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404-749B-436B-8B6A-0FA8B5A1D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2CB-C3F8-43E4-B1DB-E876AA977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005B-D314-4B0F-A611-A2C39AD67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rie E. Breck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ant Colfax Tullar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ace to Fa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840" y="64882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ce to Fa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ace to Fac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Face to Fac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ace to F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840" y="64882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ace to F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ace to Fa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ace to Fa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ace to F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840" y="64882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Face To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ace to F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ace to Fa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ce to Fa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5T11:22:27Z</dcterms:modified>
  <cp:revision>31</cp:revision>
  <dc:subject/>
  <dc:title>Slide 1</dc:title>
</cp:coreProperties>
</file>