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F6C-094D-42D9-94C4-D4A67F75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DC6-01E6-478B-96FA-A4AA54D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DBE-6884-4495-89E3-9F65918A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0B2-7E00-4FB3-8EEC-72623375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9D33-ABC8-49DF-90C4-611DA45B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0C46-0BD4-44D2-99BC-94CAB94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57CA-ADD3-4B56-8CFF-8EFDC6E1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997-A7C8-41FA-8D3F-4FB707D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CC7-424D-4AA2-837C-CEC5C3A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4E8-D2FC-4332-BDD9-6B3649E0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4DB-9746-4B90-92DF-AE9E87B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4EB-EEA3-4639-B1D0-834B09DC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5F30-081A-4965-8823-B5C557F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0A6A-A8B5-4B16-8A60-3DE938F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192-0960-48A9-A62D-70C4CB8F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15C6-46D9-4BF0-B71C-2BEE5637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198-1AA3-400B-BC7D-AAD4084E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71F-C368-419C-A553-C42F8B73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D2EF-38AC-4F24-8825-5AEA69F7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4ACA-8CA5-45BF-85F7-B73BE38F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E22B-4545-4EBC-A205-2848794D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F8F-B70E-4CC6-984E-F858F82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D3FA-E7A6-494E-BC6A-9244D9A3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3E85-BBE7-4CD2-9946-E34513EF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036B-314E-4AAE-8BA0-A812FE89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2AEC-A481-4F72-8A43-3D666F1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D964-1CA7-4D8D-BB69-BA6CDE0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73C2-F932-4D17-B9D1-169EE70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1FF1-0E7E-4B3E-95C1-A99153EF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DF60-AA87-4357-A6F4-E68B2F2E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F556-D455-4CF7-921C-DF4ED624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508-363F-474A-BA03-9E0DEA3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482-2D05-4C92-84C5-FC3018B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7DF-79D5-418C-BDC6-5387B17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F55-A679-4E74-8C3A-4A9CFBD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FCF-1F7F-4115-B587-331777C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7D2-4C19-402E-8DD8-2B66C38FB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841-6CFE-4920-A283-F0EB469C8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797-C333-42BC-AF5E-FE43B4574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rther A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B. Steven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B. Steven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rther Alo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rther Alo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rther Alo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rther Alo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rther Alo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rther Alo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rther Alo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rther Alo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rther Alo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960" y="6488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rther A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rther Alo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rther Alo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rther Alo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00Z</dcterms:modified>
  <cp:revision>26</cp:revision>
  <dc:subject/>
  <dc:title>Slide 1</dc:title>
</cp:coreProperties>
</file>