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5FE-59F2-4AA5-BCD3-BE0872CA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A84-38FF-4338-8CB1-C05D9D07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1A4-E6D4-42AD-AD02-6C864843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E61-7ECF-4C36-B42E-D5C6526D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2B25-F52F-45D5-B27E-B6F6B65E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04B1-3596-4CD5-B2B6-3AE93901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1889-F2FF-4A47-B4A0-7EBDB2A8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26C8-5DE0-4D69-AB26-0BBAA500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83CD-D2F7-4DB6-B8FA-9F105D56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6906-84FD-4C37-ADDF-4122FAC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9326-67B5-414B-AD44-C0DB1E9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26B-C06C-4223-99DB-CEE1FE5D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2D3A-1188-41FC-98CD-55B7335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A4E0-D621-49F9-8283-BBE9700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7F4-3BE8-4C94-A933-61C64C13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7B95-1112-4D6C-96AE-848B0D66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A7B0-544C-4DD8-BD46-BA740881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2CE-67E0-46BE-B98E-98AF8DD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491C-A109-48FD-9077-6DD02D1D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2957-DAAA-409E-A281-0835645A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1D8F-B145-4744-B9BA-CC65984E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813-1D81-4B23-87D6-35CF8749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4059-3E13-4F34-BD1A-4B8AF827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D781-785B-4606-A6BF-D25AAEF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2DF9-004C-4B74-B0BE-F13F0E4D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B406-028A-48DD-BD8B-51BE55BA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AB31-8E3F-42CB-801F-7BFBC485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DEEA-F57F-4190-98CE-7C7D40D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E736-DF30-4102-AF23-90A5E91A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9783-D40D-44D5-AC2A-D32D43A2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1771-E3BC-4A0A-979B-7675C58D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9AB-94EB-48C8-A76B-9F6C5356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A89-B5D3-4762-8EB4-88A31C5A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827-AE6A-4406-B80B-829666E0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1CA-0669-42DB-8983-7803E94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D05-E49E-492F-9BED-8E35681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DA21-B5F6-44DF-9DFF-059DD5DD4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BAF8-63A3-4128-9368-AA3BDD540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81A9-CC56-41A7-B997-0D0CE47A8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rom Every Stormy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ET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ugh Stowell (18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stings *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rom Every Stormy Win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160" y="6488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rom Every Stormy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rom Every Stormy Win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rom Every Stormy Win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3160" y="6488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rom Every Stormy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rom Every Stormy Win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rom Every Stormy Win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160" y="6488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rom Every Stormy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rom Every Stormy Win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rom Every Stormy Wind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3160" y="6488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From Every Stormy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rom Every Stormy Wind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19:36Z</dcterms:modified>
  <cp:revision>33</cp:revision>
  <dc:subject/>
  <dc:title>Slide 1</dc:title>
</cp:coreProperties>
</file>