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6CB-A495-4EC5-B529-7B813CD5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11A-BC7E-47CF-9728-E75BDFA4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BF4-B936-4C89-8E7E-04F6BF50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9C1-7A21-4B92-BB80-A2E1CBC4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EE95-99A8-41E9-A38C-3751B1B5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43B2-5F48-4F88-97AE-DB34E952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EB56-2A89-4026-A9D4-496083C4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6769-A186-4BA2-AB88-C73E8163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4D41-3367-4605-B4FC-C90B96B6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609A-8433-4B34-ACB4-B702DEE9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EF70-1C7F-4D02-BB38-E1EFEC46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AA2-A148-45A8-ABFD-F4B7A3DD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6710-BAAC-4CC6-A1D5-9D903E40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26DD-6311-45B1-8B99-B652F34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FF05-8A4F-4E3B-8AE6-E8F8AB5B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0A44-5FBC-4AF5-B410-FCEE5FD9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AD29-FFCE-48FB-AA48-1CE6E182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52B-3F50-4CA0-B2C9-9FB7CC09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5DA8-697F-4B46-A983-D7E7584C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34A7-5121-4B00-8DC0-213AEEBA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99DF-4182-4D12-8E5F-7A571C4E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C63-D708-4379-BCEA-C2A67A7E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66CAC-5B85-409F-8A93-BC4CB01B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D392A-2774-4F54-89BB-CB4D3FB0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D394-095B-4024-A422-A4E8D4F5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1775-CBC8-4C6A-928F-43CABA7B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998F-221F-4973-8288-5BAF7D46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94D2-F88A-420B-9992-F1DDF64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18B8-3F6E-4E13-89F4-780D6412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9D88-358C-4BEA-9E1C-E7DE865F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F848-9A1A-4AC2-A964-D300FFA8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55F-8308-4450-AA75-47D06B1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7A7-9D85-45D5-B888-E1C979D8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F5D-80E5-43DD-947F-2E9B1C8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37B-E7A1-4E56-96D4-FB90764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251-21FB-444E-ABE9-2EF44EFF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578-A045-4BAC-9583-C1B45AFC4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3D75-57AA-40F6-8B11-861292CEC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A2BE-B2B3-4C3C-8BA6-8EAB5B23D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r And 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Call For Re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O. Thompso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B. O. Clemm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r And Nea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16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r And 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ar And Nea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ar And Nea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ar And Nea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r And Nea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16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r And 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r And Nea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r And Nea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r And Nea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r And Nea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16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r And 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r And Nea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r And Nea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r And Nea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1:33Z</dcterms:modified>
  <cp:revision>27</cp:revision>
  <dc:subject/>
  <dc:title>Slide 1</dc:title>
</cp:coreProperties>
</file>