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9B9-F2C3-45E7-8C48-3FFF9B5C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522-E47C-4FFA-8D30-A5D6C5A7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F7D-03D0-4ED3-B20F-55695BB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F75-30B2-4B24-80E5-7AA1D956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F70E-2E81-4ADF-BDE6-0A20E8D8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91B9-B9EB-4AC1-9059-67402EA2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28F-1172-4324-9FB0-1AA8F13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BBB0-D261-4330-9372-3707F9E8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3A4-47B6-4456-A7D0-DB8B2454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1797-6CBD-422E-9227-ACE6ECBE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CAB7-9F2C-498F-A4A5-EA94193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F22-E917-48AB-8693-512F462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8109-007F-441E-A14A-5F5A26D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B0C5-509A-4D0D-9A9F-14529E0D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CA0-5DDF-4F70-9AD9-DD74DCC2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F3A1-A31D-4C8B-84FA-72576E0A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898-E6BA-48F9-860F-5CEA8240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7B8-F5E8-4377-BAB9-A144685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D051-5D98-46F7-9794-6B9F040D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4BA8-DF5E-4FBF-82BF-43118F2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CCBB-0AE1-46A6-8994-8D670A8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5FD-943D-4FDD-B639-40FE783B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434B-64D7-4B75-9E1B-E8DEBFBC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67C0-1859-44DF-A542-34D0DEF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1C3C-C34A-4C26-A5D7-2EB106E8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051D-1B00-4703-B00C-4700E9FC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B22B-BD0E-43ED-9FDE-542B6B7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245B-789D-43C9-8BF7-14E0FF1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7CD7-726E-4671-B41E-1CFAFD1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F340-AB2C-441A-852A-CD619734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1947-FE71-42F7-800C-24BC3E44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638-4FC3-475E-8D5A-ED3DEAB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599-46AD-406D-AE86-F3092EC9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B22-4A6D-480F-A097-DF3BFBB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6B6-BFEF-47B1-AF63-3A5939D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052-915F-49AD-B34A-DFA8582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19EA-CEDC-4F7F-99E3-388BD3425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D3D2-CFFE-49D7-BC0F-6F39E599A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E1B-9B52-4137-B41D-600006F54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ith Of Our F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CATH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W. Faber 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i F. Hemy (1864), Arr. James G. Wa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ith of Our Father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ith of Our Fathe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24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ith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ith of Our Fathe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ith of Our Fathe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ith of Our Fathe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324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ith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ith of Our Fathe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ith of Our Fathe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ith of Our Father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24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ith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ith of Our Father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19Z</dcterms:modified>
  <cp:revision>26</cp:revision>
  <dc:subject/>
  <dc:title>Slide 1</dc:title>
</cp:coreProperties>
</file>