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EE4-22D1-4489-8A40-92E5CE33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87F-8363-4B73-BD50-1CD4932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7B5-254D-44CE-A746-C4ABF69C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21B-FCCC-4BEB-B508-C2249524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ACE-781A-4392-8685-6F33AF3B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6684-5668-4B73-8384-CB25104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CF0E-6FE0-47CB-8024-F0C616A1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592D-7092-43EA-89A5-2F7A2A86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3895-1DAD-4ACB-9BBA-C9D30260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41FA-F36C-4F83-A403-6F27019B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CD09-0388-4B0C-9BE1-638F505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018-FD46-4C57-B839-4C12761E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43D5-BA9E-4EE7-A32E-C054B56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B6AA-251A-40E0-861D-FA712D1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A003-C045-49D1-9A4C-B3CD0A4A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1624-6423-4706-9ACF-807E2346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7F77-FDFE-4B17-A789-DBB18CF4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EDF-0AF3-43C6-B987-FF205FED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75A5-9305-4599-A766-E026572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8ECC-60E3-4203-9523-5B9D0107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91136-F48E-4431-B44A-1EDB13DB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969-DFC6-429E-ACA8-FEE166F1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689A-9D88-428E-BE6D-22DCE171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7CC7-1E6F-4D8E-AD9F-C4D83E49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6C99-D2CC-489F-8EBB-5992EB3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BD1F-44B8-4043-9FFB-32D78D3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9CD8-AECD-44CA-8E72-FFDA19C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8041-8ADE-4540-ADFA-1B73C12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05F8-F1B5-4451-BA4A-E67B2DBD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D026-191B-4BBF-A842-7ABDB72A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282DA-C39A-40CA-89AE-EBF55852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D37-987B-44EA-9680-BC24F864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3DB-8140-4E73-BB8B-4B3BA655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855-A05D-4613-BB44-35088DB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9A6-360C-4989-9C04-62CEBCA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0FF-ECC9-460D-8F9B-256DD0E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25D-3BE6-4E40-9572-4DEF5B00C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BC5F-4BD2-4B85-91C3-EEE94AAC1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97FC-79FC-4550-864C-DA7EC4047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ootprints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D. C. Slad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B. Everett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ootprints Of Jesus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ootprints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ootprint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ootprints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ootprints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9720" y="64882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ootprint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ootprints Of Jesus_v3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ootprints Of Jesus_v3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9720" y="64882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ootprint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ootprints Of Jesus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0:27Z</dcterms:modified>
  <cp:revision>32</cp:revision>
  <dc:subject/>
  <dc:title>Slide 1</dc:title>
</cp:coreProperties>
</file>