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996C-57DA-4E73-8A3E-EA8EAD7E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968-036A-46F5-8E79-C9A891F8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4AF-3310-404D-AF85-03072A43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3C0-F38C-4053-84F7-65E09F93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39D1-7839-4460-94D8-DD1E194B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4185-9B09-4647-9B5B-1592F95D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0CD3-8C34-496D-9140-D88261F6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0717-AFFD-43CD-BACC-D710FFA4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3174-180E-4879-B005-559B0BE2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6041-126B-4F81-B9CC-8A6A4A2A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F6AF-EF0A-4AEC-91E7-E719E61E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7C0-9AE6-4304-9C1D-98433085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ED54-6ADD-4F8B-A2A9-86C0AA07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220A-DAC9-48F0-8E18-2E0DE04F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B794-FC9F-49DD-85C5-0A35606D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8F31-FEED-48E2-9946-467102F8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B45C-74D4-47C5-8E84-E9F53AE8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243-39F4-4A4E-A2F8-E2D3C9AB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BC150-3565-4AD2-8711-A2795A5E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20273-BF93-48DD-A6BC-B0CD3F48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9E5BC-9F3D-4C2F-B6F6-1A6F0AB1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93EE-001C-489B-AFED-F8337723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80691-638A-40C3-B929-F6BE7656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D6F17-CDB7-4524-B4C1-01BE668D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0BDE5-5F58-4EFD-A2F6-8A0358C9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84A48-2CE8-410D-9D76-66A7E4D6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96A8E-9B34-4817-9A07-03EEEBAA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8C53D-2B7C-47F2-93C0-8875C1DA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96CAA-4A51-43BC-A0BB-08A9F2BA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44423-81ED-4D85-8D62-6B4AACE8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2BE99-63F6-4944-94BE-4E34794D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487-DAFC-4FF6-B2F1-CB8376F5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502-29E6-4C5E-BFF2-04B0E01D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2C75-E171-4BAA-A66C-6F0CCC4B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447-3FF4-41EC-872A-168A8986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B56A-743B-40EA-83DB-792A3779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BFD4-3EBF-4EED-B4D9-ECF7F197E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D0C8-9309-4486-91FF-6D82C15407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6570-58BD-4D44-8B24-04DEED021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ay By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LOTT EN D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0.9.10.9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G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rolina Sandell Berg, 1865, Tr. Andrew Skoog, 19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scar Ahnfelt, 18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ay By D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6600" y="64882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Day B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Day By D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ay By D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ay By D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ay By 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6600" y="64882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Day B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ay By 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ay By D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ay By D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ay By 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6600" y="64882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Day B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ay By 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Day By D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ay By D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14:30Z</dcterms:modified>
  <cp:revision>30</cp:revision>
  <dc:subject/>
  <dc:title>Slide 1</dc:title>
</cp:coreProperties>
</file>