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E0C-732E-41DF-947F-292F0F48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826-F0ED-4993-8568-AC8EFD4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720-67F5-4695-A00D-F5C112F6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C47-6EEB-4034-B2D0-703A87D0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EB27-C1F0-4930-BEA2-F98AA970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E43E-BBD3-40B6-B9F0-509BC4B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088D-68DE-4429-BA56-7D3F52D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3575-F791-4930-AAAC-0D474183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5C7A-CF63-44AC-B761-4DA6EBE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552-AB67-464D-8D8C-A23E359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032F-742F-4A37-9F2D-AF45DEE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240-BC55-40C4-9ED5-4E1E91A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A0A7-0FE2-44AE-B1C7-F4B156C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F03A-500E-4FFD-B9FC-26472C7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3763-513F-4DF4-B15C-08E1E46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C63-ADC1-4AC7-ABBB-D7912D4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E7BE-ACAF-4FCC-A1E9-A1312A6B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647-DDDE-4ECE-8624-987CE10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822E-7102-4BD1-967C-02D2A18A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725C-54F7-46B2-B58D-EC9B9043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9E43-AA4E-4BD4-8CFD-3F45714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D85-AEE5-4943-9BB8-16A9B0D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55F8-25A1-43F1-8C15-CC3AFA69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F7EF-CD18-4C63-A287-39F763F2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0A15-5252-4D70-8CF5-36EC8A5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B06D-5011-48F6-A33C-8636B27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83BE-4107-4AAF-A826-B62C2D41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C3E5-0C2B-4334-90E8-4083963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282E-0270-4E37-90A9-52634EA2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D533-F2EA-4083-BBD1-D8C45FD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BD30-CBA8-44F5-B320-B57F2C86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63A-70A6-4ABC-96B4-B0B9AA3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02A-C164-4C97-AAB3-08414AE6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803-794A-4E95-84B4-98F2551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0D2-5A22-4685-9E6B-216A482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0BC-D984-424F-8247-FAFC88C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DA6-CE3A-4C5A-8DCB-12C9EF12E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26A-B661-43BC-B2BD-AB7B596F6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079-DA67-4AB9-B3C5-F6434EC04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ear Lord And Father Of Man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G. Whitti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C. Mak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ear Lord And Father Of Manki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ear Lord And Father Of Manki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ear Lord And Father Of Manki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ear Lord And Father Of Manki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ear Lord And Father Of Manki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ar Lord And Father Of Manki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ear Lord And Father Of Mankind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6:51Z</dcterms:modified>
  <cp:revision>37</cp:revision>
  <dc:subject/>
  <dc:title>Slide 1</dc:title>
</cp:coreProperties>
</file>