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A598-0C66-4D00-936B-B130F069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56B7-7E4D-4473-B52F-3A56D92B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2922-1D59-4755-8539-FA850835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E209-EF28-4EB5-B6E6-F073986B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3C56-385C-4C9C-8D3E-6A7B06DD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FD2F-E190-4D0B-8618-568C0B63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DCE2-29C1-4B28-885B-459012CE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06B9-C910-421D-953A-2CAA2062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F112-D79D-4FEB-8DBD-5E0E6BC3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1EC4-C8F3-47FF-8110-92E3B9BD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02EB-4594-4011-BBBB-5190A0F4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A353-23F1-487C-91E9-59A5F493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0E77-3856-42CC-8F33-041A5A6E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5315-685D-4CE8-AD80-75E1BB02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84A9-2A1A-443C-9F0A-62E13CCB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7885-9A45-42BA-8ACC-FAFFE3FD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9441-E410-4CB3-96D2-43BFF757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5F89-0C4C-4E44-9342-458F875F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9A97E-6F8E-47E6-996D-D2AC6BE9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BAC5C-4B48-4AB3-9B2C-DEF9108C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1A4CA-FE08-4490-8B0D-534E3F79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3B50-71D9-43E7-AA9D-8EB0B434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BC44A-044D-4132-9D12-D2583C91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08DBF-8E84-4795-ACA0-84E7AEA9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91780-6641-42CC-87FC-EAA6E8B6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7EF6D-E550-459D-8A69-2D6C0CE9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B302B-12DB-47CD-A0F7-9FD945B2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18E9C-67B4-4DDF-A02B-67A420AD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5E52E-B13A-468F-BF0B-77C6DE9B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054E0-D885-4880-8E2D-D190D4C3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BBE6D-BA2F-4540-BEF7-577F0B7B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2A71-8CD0-484C-8E90-D283F068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B9F9-0D4D-4E46-AD7E-C8B23DAB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2AC9-0B06-4578-9ED2-31D8250E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0987-26A7-4CCA-8611-21243CD8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9F95-057F-4E75-8E12-88E542CD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79AB-9DA0-4DE1-92BE-DB32B8D90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241E-DC1B-47D3-B3FF-33F46FC967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8E1D-C2C9-4185-A265-0A2E5DBB4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Does Jesus C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k E. Graeff (19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Lincoln Hall (19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oes Jesus Care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0360" y="648828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Does Jesus C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Does Jesus Care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Does Jesus Care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oes Jesus Care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Does Jesus Care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0360" y="648828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Does Jesus C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Does Jesus Care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Does Jesus Care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Does Jesus Care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Does Jesus Car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0360" y="648828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Does Jesus C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Does Jesus Car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Does Jesus Car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Does Jesus Car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Does Jesus Car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0360" y="648828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Does Jesus C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oes Jesus Car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Does Jesus Car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Does Jesus Car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4T21:19:34Z</dcterms:modified>
  <cp:revision>26</cp:revision>
  <dc:subject/>
  <dc:title>Slide 1</dc:title>
</cp:coreProperties>
</file>