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C8C-BBF2-405D-A42C-753CB10D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C54-254B-443F-980A-53B28B8B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50E-B205-4A58-BFF3-4D5C91F1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6CF-7D9E-43AE-9C0D-A87E2CF6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1578-20E6-4118-9A8A-2F5FC086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7724-FE02-4EF1-A92C-FCB4B671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85FB-A58A-42B9-BB18-5BFA4D5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752B-5083-4090-BD48-855BC91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C7F-ECD6-474F-BE8B-C2D248EF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4756-B91C-45F9-AE26-3B095215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7A64-6F12-4D47-B22A-210BA472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CD7-ED77-41E0-AF9D-B199B90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F3F3-5A46-44C4-AA05-60DE45B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7E1C-EDD3-4585-AC27-AFF10CE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F6E3-9A41-4FE5-A839-5B408C83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73F1-D535-40E0-930D-69A855F1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BFAF-87EF-4A15-B689-108F8565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CCC-5FEA-4A66-BA70-EC51F696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4FD8-BD76-42EC-B2D9-86F2CFC8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DA64-FCC8-4761-8AD6-1DBC2F0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1BF5-E553-472A-A699-517BAC35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864-2A67-4DF5-9FF8-CD0B780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ABD8-3F18-4D58-8F03-EC1061FC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EE77-2C63-4748-80E1-31964F2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60DE-277C-4589-A506-62BC1B51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48A9-173A-4299-A9A2-D46B247C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F73A-66E5-46C1-9F31-DBA22B8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41DE-96CB-4763-BCC2-3C52338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9BE8-E7BA-4362-97CC-C0CC837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653A-7651-40E1-813C-9D997D2B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ABA4-1C62-4F28-95BF-A3DDF0F8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D15-A646-4295-958A-0FE915B1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F29-BE61-4BE5-8E7E-BA9A4F0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CD6-1406-4B50-B76D-D28001E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7BD-E054-4A47-AC27-8F0356C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986-DC28-40BA-B6B2-59024FB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B790-16BE-446B-B901-576AAF0B5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A982-EED6-4B31-8F7F-2ADE71373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452-544B-4A57-AE0C-E6A226A8C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id You Think To P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A. Kidder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id You Think To Pr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id You Think To Pr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id You Think To Pr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id You Think To Pr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id You Think To Pr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id You Think To Pr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id You Think To Pr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id You Think To P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id You Think To P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id You Think To P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id You Think To Pr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id You Think To Pr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id You Think To P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id You Think To P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id You Think To P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7:59Z</dcterms:modified>
  <cp:revision>29</cp:revision>
  <dc:subject/>
  <dc:title>Slide 1</dc:title>
</cp:coreProperties>
</file>