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25A-A5D5-4966-8B75-BBE67A0B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688-8A61-42DE-95E1-7A47E33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3A3-BCB7-4F6E-A0FB-585F193D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C19-912A-4B19-91F2-E187152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8C5C-C306-4B13-AC5E-7C1F5030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FA7-4B56-4197-8D8A-298F6F99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62B-43A6-4A2D-9D68-3B18B76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08F7-DB6B-4EA8-9A77-082FBAAC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3595-99B7-4BCF-AA48-0068871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BD3-C27B-4BB4-BAD2-F3A2FE0E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B9B-F9BB-4DDD-A495-3E47812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EAE-D88D-4EAE-A01B-894AE69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4CE-8538-404E-A5FB-241F7BE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379E-1612-4BDF-94EE-C5B3799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AA8-2FB9-41D8-9FEB-DD205D7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9522-D26C-404F-BEB7-6E54900A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A2D-3831-4478-A90D-AA7C948F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C60-D4AC-4784-AA68-E9BB3B9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CCEE-FDAF-462C-85E5-878B3B26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3814-BE11-4922-A4FD-D3E8BCE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F385-7F05-44DC-9D37-E41F0A40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2D-6D07-405F-BA87-057FF7E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4FF3-73F4-4F56-9925-D646540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9B15-44F4-4F85-B24A-563E8629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099F-6FA2-4959-97A8-FDEC5C79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9B50-F69D-4F6B-B3BE-A30DADC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0639-0765-4485-8B19-FF94D22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5C86-304D-45F2-B803-E9B36B8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227F-69E8-4867-901A-5636F42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A5BB-83BC-4343-8254-C44CA1F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767A-EB4E-4D32-B30F-662FE180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086-4ED8-48D7-A358-590E4161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AFE-F0F1-4F18-AEFD-8A959844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E0D-EB0E-4FFF-A9CA-242F724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6C5-1C39-4C57-98EA-F9F808B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C76-3362-438A-904D-79CD28F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1F0-F8C9-444E-B7F2-69973FFD7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6EF-563C-4AA5-8D56-993E5CF4E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323E-A2FE-448E-AACC-95D858ACC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x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Ken (1673 &amp; 17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ourgeois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n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Dox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8385120" y="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1:13Z</dcterms:modified>
  <cp:revision>18</cp:revision>
  <dc:subject/>
  <dc:title>Slide 1</dc:title>
</cp:coreProperties>
</file>