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5B1-70CA-4ADE-BB73-1111D55C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3A3-170C-475A-8199-D3D95BF1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155-A6F8-44E1-95B5-DB329610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04AB-D370-4CC4-8082-15AAE810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778F-FAE2-4E64-8EB6-D7B1AEB6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4E86-6F44-4BA5-9E3F-CC193407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F6F4-47F3-4440-AB67-26816747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A094-470B-4C51-81CF-26572554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C2D0-9B6B-41E4-9910-83A3075E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D719-2DBA-4403-A7DE-2123DC72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949A-38A8-46D0-8B23-4FFB97C1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202C-154A-479C-B35D-62C77C02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4AE9-F1BB-4FE6-AA05-1F4A056F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BD32-23EC-4BFA-93E2-075D0A09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6DA8-4DA9-4885-B093-7365E17D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52D0-79F8-4D72-AE67-452654B0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2887-80F9-4517-8701-8C09926B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5D94-D66F-469C-9D3D-9B3E0F22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49815-830A-4347-9A2B-08643386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2C818-D22E-4951-A64D-623F58D4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38205-D59B-4EA9-B61F-AEB1B99F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ECE3-F198-4405-A91D-6158EA21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751EF-AE75-4AF5-B869-21D1A300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FFA42-6932-4DA2-B5DE-22B5F08F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73C69-6D1C-4272-8E71-63E3F57C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F8D3E-001D-44C1-9DCD-F230B1C1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9F861-B059-498A-8476-C827DAD6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2989D-BEB8-4921-B6BD-BEB29822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5CE2C-10CC-47FD-A236-5966534E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BE1ED-194F-48C5-9FF6-39B7A4DC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01222-F2B4-4E64-8B35-E738A277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964-1505-4E22-8CB3-DDCA587A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BE9F-57B4-49D3-AF8B-E08C18E2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F0F-11F0-4B84-84AB-B8BFFF65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CF8B-7765-4A24-9B73-33723906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CD7-A287-41E5-9333-86F2C7B9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38EB-C349-46E2-AFCB-3BB92A6CD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489F-8B70-4697-B3F4-DE5D06215F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2F23-01BE-4291-BD08-8F50F324C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Do All In The Name Of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ustin Taylor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ustin Taylor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o All In the Name of the Lor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38960" y="6488280"/>
            <a:ext cx="43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Do All In The Name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Do All In the Name of the Lor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Do All In the Name of the Lor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o All In the Name of the Lor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o All In the Name of the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8960" y="6488280"/>
            <a:ext cx="43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Do All In The Name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Do All In the Name of the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o All In the Name of the Lor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Do All In the Name of the Lor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Do All In the Name of the Lo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8960" y="6488280"/>
            <a:ext cx="43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Do All In The Name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o All In the Name of the Lo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Do All In the Name of the Lor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Do All In the Name of the Lor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4T21:18:40Z</dcterms:modified>
  <cp:revision>27</cp:revision>
  <dc:subject/>
  <dc:title>Slide 1</dc:title>
</cp:coreProperties>
</file>