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99E-91B7-4619-A89A-39AE5138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87C-95B7-454D-A049-790B741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F85-AA55-44A8-A908-2C24CE1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7DD-1A87-43EA-B97B-A6BCEB97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8B90-877E-45C0-A2B0-0FC1C637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B859-F504-4337-AEF3-2CB957B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32EA-7FC9-4BB8-8EDC-7108E49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5BE0-622D-42C8-9304-CCD7CCFC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999-AB38-40D3-B35C-66F89AB9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B810-F048-4DE7-9206-3D6DFC53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89F2-055C-497E-9905-83169F4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7B9-5945-4F45-89A9-62B72E3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C39E-2DC3-4A15-AA7A-AD3EA26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B200-A74E-4F0A-BD39-8F13BE8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8609-3C76-4CF8-9E17-17B058A3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228D-F4B1-403D-82BF-F60D5076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3D02-A89F-4DB8-AED6-A2B1DF84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3FC-934B-48F9-81A8-AA2A32A4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929C-7BAD-4D37-B531-28954B35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2C0F-35E7-4E22-AC2C-2270DDD4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9845-33E0-4AE8-83A3-20A42D74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7C7-130B-4FA9-B767-4C37F516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EDE5-7725-4363-B508-9485140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F678-B988-4361-B828-2B0D7334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AFC3-AF68-43D3-BA63-FD3A16C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62A4-A094-496A-B340-C2AC231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3BD6-BC3E-47E4-A97F-B22D0DB5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2C00-62AD-499E-B9AF-51207A75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98A0-57CB-4923-9891-65A1FD7C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06C3-C4D5-4B9E-9FDD-A8A37561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5F78-0CCC-4077-9FA8-CF498E25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C74-A7CA-45AC-B3A9-C3EA28DE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575-F226-4F4E-B75D-4C6C4D93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963-A1CE-490B-AE18-27F537C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1DF-CCA0-4809-A45C-3832439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1AD-3223-42A5-8B57-5B186E7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32C-6A4A-4E15-B213-593D73FA5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ACF7-78A9-46D3-B111-438319859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19E3-2955-4B6A-8AB2-A7DDD3642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wn In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wn In My He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wn In My He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wn In My He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wn In My He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wn In My He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wn In My He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20:34Z</dcterms:modified>
  <cp:revision>32</cp:revision>
  <dc:subject/>
  <dc:title>Slide 1</dc:title>
</cp:coreProperties>
</file>