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1B77-5CE1-4A11-A113-30F1590E2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56F3-75D2-4FC4-A504-6694786B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982D-1F45-40DE-9F52-A81099A9B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152D-B743-4DA1-A631-63C341F5E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3CB0-0611-46C5-93B2-9052F4060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0DB22-9A08-4BBC-BE0E-B76D8AED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812E-0B79-494B-B4B9-A832FED5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FE29-BAA7-42D4-ABF3-2EB63AF0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71B1-C36D-4705-A13F-013068F1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06FA6-6B6E-4D3E-8DF5-4325DCC1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AE8E-B212-451F-B42B-9FDD7570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EE0B-2815-4A3B-914C-D33C3DFD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A442-8772-442A-B79C-ABB8E2DE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A6114-AA70-4C90-A1E2-C4B69694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50A7-EEFB-43C8-B9BD-5BC003D2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C97C-4880-4718-A9B5-7EF2B14FF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DBBA-E34B-4C0E-B341-68E36E736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9A06-1A9F-4ACC-B946-FE3AB033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A7A11-09AB-4643-BDE4-70D6C3525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0E340-A404-40D9-8029-262DFA01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DEC82-C3D0-4F71-B7DA-EB1B1BC9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579E-2B4F-410E-8108-FC9E672E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BE456-481D-4A9A-9C9D-9C79A98D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95132-EF65-4790-8341-6E62517C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B5EFE-67EB-4A18-B74C-D60F6B1B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35D6E-7D62-400A-BBB2-A039434E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5A8EE-A172-45A2-B14F-99E1F80B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C14EF-8794-467A-BB1C-BC19A42F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80887-342B-4F50-A6B0-406D2B08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F989C-68F7-4F41-94A0-A37655079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3446F-D9B1-4D79-84E3-B67B4BA11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3A28-A254-4D09-A5EA-B4160A3E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CDC9-E102-4691-A02E-28724FBD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A16F-5809-49B3-B490-7C3B5BBA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FA61-CB31-4E56-A9FF-8CD0BC39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0650-5143-4AAF-A64E-3F90C414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4084-36EA-42D0-92CA-6111E948FC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7B49-F06F-4120-8F81-237A9899B1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5FD1-AB17-4943-B494-5E3C4A56D6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Day Is Dying In The W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ary A. Lathbury (1877 &amp; 189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F. Sherwin (187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7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Day Is Dying In The West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Day Is Dying In The West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Day Is Dying In The West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99360" y="6488280"/>
            <a:ext cx="35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Day Is Dying In The W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Day Is Dying In The West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Day Is Dying In The West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Day Is Dying In The West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Day Is Dying In The West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Day Is Dying In The West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99360" y="6488280"/>
            <a:ext cx="35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Day Is Dying In The W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Day Is Dying In The West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Day Is Dying In The West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Day Is Dying In The West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9360" y="6488280"/>
            <a:ext cx="35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Day Is Dying In The W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Day Is Dying In The West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Day Is Dying In The West_v4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Day Is Dying In The West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Day Is Dying In The West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Day Is Dying In The West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Day Is Dying In The West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Day Is Dying In The West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99360" y="6488280"/>
            <a:ext cx="35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Day Is Dying In The W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Day Is Dying In The West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Day Is Dying In The West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4T21:15:48Z</dcterms:modified>
  <cp:revision>31</cp:revision>
  <dc:subject/>
  <dc:title>Slide 1</dc:title>
</cp:coreProperties>
</file>