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F8E-84D5-43AF-90E9-C4A90D1F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363D-912D-40F0-9527-9435BBE4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8CD-4B12-45B4-A0B5-299F2C59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ED2E-7CFE-4AAA-8801-FB4E26C0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FC1C-EBAC-4792-8EB4-BADCFC63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B83B-9439-4A2F-A929-99428200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D90D-4C16-4E96-924F-F9B8FD96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7718-C365-47B5-B129-97B652AA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C8FA-C67B-40DB-8739-334C0840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D75D-1E30-4171-9375-87B16620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B613-7CD5-4A3D-8857-C9F28D4C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C2BD-77A1-4035-B900-E866E608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5338-6FC5-44D8-9240-0F89BD7F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29E-5904-4691-B26F-88B7C211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8837-4AF9-4550-89F4-FA369BFD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21FC-4D67-4220-AE44-D31B301B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615A-3E29-46F2-9D5C-1AD84E71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C3A-1572-4AFB-8DED-9CB57710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EF4D3-969A-4DD3-AEA9-325944A9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A5C05-2991-4862-AB64-7C348DCC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829F7-EAD4-4EC3-9231-DE39BE32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0A5-B4FF-4454-8F34-4951C1F9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4E48A-243E-4DFD-A419-E75D7E7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0E11-9CE5-41FD-809E-C8D74BB2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B9A2A-0C00-4CDD-A13F-304C56B9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AD8B-85A1-4913-9582-9A5CF210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98080-930A-4E5A-9ABA-A8D18DA5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A1ABE-73F2-409C-930E-4F441C53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046CF-578A-4DB4-921A-EED71193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E0ED-9C8F-4D97-85FD-9965FC62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9873-0C8E-4907-BB14-B6F12B66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715-03E9-46AE-AAF2-DD707D38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E2D7-8180-4B94-B3F3-2207676C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5CC-D0FB-4020-9DD8-FDC16CCC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D29-E940-45A2-8DC2-90C6623F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4549-9460-4649-94B1-BE9AEA0A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CB0C-BD6A-4CF7-8A5E-037D93301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2E93-8DE0-4F69-967B-E0108EFF44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F41C-932A-4A9F-9C02-A62653102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Ye Thankful People,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. GEORGE’S WIND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B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enry Alford (184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orge J. Elvey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me Ye Thankful People Com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Ye Thankful People Com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Ye Thankful People Come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Ye Thankful People Come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ome Ye Thankful People Come_v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ome Ye Thankful People Come_v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ome Ye Thankful People Come_v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ome Ye Thankful People Come_v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Ye Thankful People Co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Ye Thankful People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Ye Thankful People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Ye Thankful People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Ye Thankful People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2200" y="648828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Ye Thankful People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Ye Thankful People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Ye Thankful People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Ye Thankful People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34Z</dcterms:modified>
  <cp:revision>33</cp:revision>
  <dc:subject/>
  <dc:title>Slide 1</dc:title>
</cp:coreProperties>
</file>