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E17E-B877-4BC3-B0DD-F50755F8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E959-7E0C-41B2-BE3B-B808E87A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7126-AB4A-48D0-A4DA-3C096CCD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1ABB-1995-4E56-99F5-62C48D24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CEA7-FB98-4B09-8572-5F93A607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B835-8B83-4A74-8C80-21BAFA8C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B311-D76F-443C-8D8A-B43B0D7C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264F-0A29-41EC-B777-D4F6F967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8A6F-6B0A-423E-A19E-54BDD99C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65E2-2DE2-4F0F-9360-77ADC077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BEC2-BA31-4ECC-8FF3-1E0CE4D9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51FE-6CA3-4547-996F-51187A1E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3C14-A18F-41A3-B8EB-553BBE30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03A1-EAA5-42EB-9DDA-03E89BA8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9B91-0DD7-4EBC-A14C-02526CE4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4573-065F-46B1-A35E-D40CC77A4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4F05-199F-4EA9-BC3D-28900BB8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9690-FFB9-4D93-B73B-065A9B62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8BEF7-28D4-4652-889B-202EBCA4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2242D-6DDF-4BD2-A4F8-E2A66F87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A4076-AC10-4A29-BF74-84B0426B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47A8-6DA3-4F13-BCC9-08CEA8DB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03B71-64A8-48BC-AB7A-34154077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A80BD-45AD-438E-A9AC-11B89A45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FBEF7-0D36-41B3-A3EB-7EB12340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32028-E2A1-46FA-A5FB-B48A4659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08BE1-D6B7-4530-A948-7872664E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633D0-87E5-4039-9461-949C58C2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0F22F-EB36-4BFD-BFE8-B2C61B31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CE936-E2C1-46D4-8485-5B075111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70347-5C67-4F55-AEE6-73E1285E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F960-1FB7-40A8-BF54-3226AFCE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CD65-86AA-4633-AA9F-668138CD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B6FC-C53D-4A18-A3AE-C5F3F298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661B-E41A-4F8C-BC60-3E8A3D9C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C214-E2ED-4480-BE65-578E5229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BA96-7810-4E9C-8A25-FBC689AF39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33B0-90B3-4F9D-9D82-93B7CBEDF1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A4B7-BD1C-4502-916F-4B3EFCCE2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ome To Jesus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E. R. Latta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. H. Tenney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ome To Jesus Today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19160" y="648828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ome To Jesu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ome To Jesus Today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ome To Jesus Today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ome To Jesus Today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ome To Jesus Today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9160" y="648828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ome To Jesu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ome To Jesus Today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ome To Jesus Today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ome To Jesus Today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ome To Jesus Today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19160" y="6488280"/>
            <a:ext cx="31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ome To Jesus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ome To Jesus Today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ome To Jesus Today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ome To Jesus Today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6:56Z</dcterms:modified>
  <cp:revision>30</cp:revision>
  <dc:subject/>
  <dc:title>Slide 1</dc:title>
</cp:coreProperties>
</file>