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465B-32EB-43F9-9AD5-245564FC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0C9E-3B31-463A-8CE7-853DB604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0AB-1903-4BEF-9AF6-D0E420FB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3C8F-3F38-4AE1-A0C5-7FC71855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B93F-578C-4C96-8274-B43DB85C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3965-BBC3-48BC-998A-52F8BE90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F296-CE4F-43DA-8F6A-58C16D91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50743-0278-4AE7-A215-623BD85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34BF2-3D54-48C6-B22F-ED0C8B59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74F1-1704-465B-A80C-A7C8BB37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F0AA-B349-48C7-A071-AAA40B15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7CB-CE7A-439B-83C1-8EC0DCA0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C52B-06C5-4F53-AFC9-4B5A901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A0E-C32B-4B2C-A96D-A1389C7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20BC-D01A-4C71-BC93-C8D9AF1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B571-E8E1-4655-931D-35320094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67A6-9072-4522-8D0C-529FDE1F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D0C-09E4-492F-B12A-5133603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7B51-09E6-428B-8659-5DA654DA8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7883-5E5D-42E0-ACEB-6BE5EBAF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C233-9421-4442-B011-DB2A2063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9D7-5009-4016-825A-743A3F66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09B6-A26F-4888-ACA2-CB5F451C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5555-944D-41EC-8495-D2076B6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0B8F2-CAA7-46BE-AC9C-5819E68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035A8-CEF0-44B1-8D64-A91D0FC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32E6C-B0D4-4EBB-97E1-D37E1F4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460B-5C5F-472F-B9A6-BA11A915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D1351-F4C9-49BE-BA9A-A24A9E58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D82E3-31CF-422E-A5FA-384546CF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5DCB-790F-4A6C-95F8-CB42B0EF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C3C-B897-4EE2-B1CB-258B47C9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2382-D814-4C6A-BBFC-917C6B35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690-A83C-4B73-919F-3FBB0A21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12E-0EBC-4FB1-905F-A8CEF53F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39A2-22BF-4399-901B-02A49DA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1D5-79AD-49FA-A349-89FFF09C9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52B4-D47B-4B44-BF4A-F249F4A2C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A1A8-2C41-4C0D-8A8E-7C89AA266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ome, Sinner,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While Jesus Whispers To 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A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. E. Witt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R. Palmer (18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ome Sinner Come_v5o5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ome Sinner Come_v5o5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ome Sinner Come_v5o5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ome Sinner Co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ome Sinner Co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ome Sinner Co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ome Sinner Co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99720" y="64882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ome, Sinner, 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ome Sinner Co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ome Sinner Co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ome Sinner Co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57Z</dcterms:modified>
  <cp:revision>35</cp:revision>
  <dc:subject/>
  <dc:title>Slide 1</dc:title>
</cp:coreProperties>
</file>