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CFB-77B4-4628-A56B-5C5E0B79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804-8908-4CC4-84F6-CD643F0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CE1-C3E7-4D31-973D-22D378CF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4F21-A160-49C8-B54B-3A187F466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ACEF-3215-480C-A646-86C9A8BFE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EB4B-0A06-421B-98C8-C0889AF5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ED19-B854-42A5-940C-105BDE65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43F3-E07E-4244-B4E5-1F82E3A4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C6A3-6ADC-4085-BBC0-D0272BA0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B748-9F3C-4441-A351-C0A5484D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C03C-0EB6-40CD-9028-0F648777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F4D-2049-4B44-BB1D-9C19A260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3E48-D299-4FAE-B222-49577769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B10A-D2D2-41B1-A271-72FDE00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1E6F-EF28-498B-AA7B-F6DB6F39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323C-5C17-4632-9DBA-5C7F5142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48CE-BFBA-4A6F-B910-582434D6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93E-74F0-427D-A477-1F127846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48BB7-7779-437D-9029-E8A7C08F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85B1-133F-4CFD-A260-4C7670D5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0199-E82C-436A-96D5-A2E253A1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A12-ECDD-4897-9190-3F91AFD6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FA34A-AD10-4472-AF6A-DF0F8D4B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C943B-6C30-4C25-82CA-B38EE7A8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985A-4E79-48BA-8741-D1AE4EA9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8A98-5642-4497-840D-6D0CE3D8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67C7-67FD-409D-A77E-4431804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5A778-D0BF-48E2-AEF8-D44145BA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C6708-C8F1-4231-80EE-6505CAC1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D91C2-F6C3-4F5B-B103-5CEBF7CC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29047-F17E-4A67-8087-A06C458B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8F5-8452-479E-8918-864F57EB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AF8E-CB3C-4C43-A7F3-191DADAC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024-D9BB-48F6-BF67-07220740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F6E-6FBD-4C06-98F5-12CC0B0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047B-DC5B-4C53-BBC9-711DCB70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27B-D1AA-46F4-AFC2-F5DC87C05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3CE6-1D2C-40FC-8CA5-F713887385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A754-F0ED-46F1-9A21-9EA2A6217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ild Of The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72360" y="4902120"/>
            <a:ext cx="219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E/G - 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/Cho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Hattie E. Buell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n B. Sumner (187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ild Of The King_v4o4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6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ild Of The K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ild Of The K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ild Of The K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ild Of The K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ild Of The K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ild Of The K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A picture containing timeline&#10;&#10;Description automatically genera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480" y="6488280"/>
            <a:ext cx="27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ild Of The 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ild Of The King_v4o4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4:01Z</dcterms:modified>
  <cp:revision>32</cp:revision>
  <dc:subject/>
  <dc:title>Slide 1</dc:title>
</cp:coreProperties>
</file>