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2523-AF4E-4E51-B2F6-51B904FC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DED-74AB-4C5F-A819-9D5D3C53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9E0-1B28-4E5B-8756-C4A630D2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193-F991-4219-B681-394406BB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21A3-1753-4690-BB8C-8393E353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054A-554C-4D97-9300-43574CF1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44D3-1D1D-4952-BCB3-5EB315BF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FC47-9299-45DE-8822-5A12DC64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3829-8083-4CBD-B04F-F20292B3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1B78-648D-4000-A968-8E70F4C3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8ED6-8536-46AB-ACD3-B1116201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0C0-7F73-4841-8614-B6ABC52C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52B8-25EA-43CB-A8C8-31247CF3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3616-B1AB-423B-8BFA-916527E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B1DB-4A2A-4D0F-9EAB-D171B039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31D7-0CF7-4CA2-A3C7-BFBC7B58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6441-4133-45C3-927E-2AECD034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421C-F0A5-4B10-B610-393F458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75E98-B4E1-427D-925E-01875132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AF276-86E5-4B17-8F13-DC85F83A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47BB-154D-4913-BE28-B430D85D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FCC-4ABF-4C23-A310-75CCCFF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3729-36D7-4EE0-A31B-E94692A8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D1399-A2C1-41CD-8AD9-F3256F9B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8429-8812-4CB9-87FA-318C2852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6931-8F10-4B7B-8E42-E2E1019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F6EDD-0B9C-4C39-B402-405AEF5A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3993B-CC40-4529-8655-829BD26A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49F0-1869-4E6A-83DA-FCE66A61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EDFB-7828-4A46-85D0-6921F39F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6106-A204-46CC-B6E6-CC5FA4D3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84C0-BDAC-42B4-9962-AF00F839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5A1-E764-4ECF-964E-DF3EEFF3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708A-0220-4C43-889F-D9E47F8A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CE3D-BC38-4615-BC38-75CA06B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086-B9EF-47E8-AFDA-C4994C16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B8B2-5320-4926-9120-6A5C8F93D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A83-2239-4B8A-A6F4-A1641EFE6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E2BC-BEC9-48C9-BBA4-712904AD3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6"/>
          <p:cNvSpPr/>
          <p:nvPr/>
        </p:nvSpPr>
        <p:spPr>
          <a:xfrm>
            <a:off x="0" y="392040"/>
            <a:ext cx="91440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  <a:ea typeface="Arial"/>
              </a:rPr>
              <a:t>Can You Count The St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Lucida Sans"/>
                <a:ea typeface="Arial"/>
              </a:rPr>
              <a:t>STERNENZH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8.7.8.7.8.8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>
            <a:off x="40320" y="4902120"/>
            <a:ext cx="124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F/F -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"/>
                <a:ea typeface="Arial"/>
              </a:rPr>
              <a:t>Verses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599240" y="4902120"/>
          <a:ext cx="1544760" cy="1096920"/>
        </p:xfrm>
        <a:graphic>
          <a:graphicData uri="http://schemas.openxmlformats.org/drawingml/2006/table">
            <a:tbl>
              <a:tblPr/>
              <a:tblGrid>
                <a:gridCol w="1076400"/>
                <a:gridCol w="468360"/>
              </a:tblGrid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Lead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Alto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28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Tenor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Bass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7f7f7f"/>
                          </a:solidFill>
                          <a:latin typeface="Lucida Sans"/>
                        </a:rPr>
                        <a:t>D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8"/>
          <p:cNvSpPr/>
          <p:nvPr/>
        </p:nvSpPr>
        <p:spPr>
          <a:xfrm>
            <a:off x="8108640" y="661176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000" spc="-1" strike="noStrike">
                <a:solidFill>
                  <a:srgbClr val="7f7f7f"/>
                </a:solidFill>
                <a:latin typeface="Lucida Sans"/>
                <a:ea typeface="Arial"/>
              </a:rPr>
              <a:t>PDHymn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3368520"/>
          <a:ext cx="9144000" cy="1484640"/>
        </p:xfrm>
        <a:graphic>
          <a:graphicData uri="http://schemas.openxmlformats.org/drawingml/2006/table">
            <a:tbl>
              <a:tblPr/>
              <a:tblGrid>
                <a:gridCol w="905040"/>
                <a:gridCol w="8238960"/>
              </a:tblGrid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Word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Johann Hey (1837), Tr. by Elmer L. Jorgeneon (19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Music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"/>
                        </a:rPr>
                        <a:t>German Folk Tune (c. 15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1"/>
          <p:cNvSpPr/>
          <p:nvPr/>
        </p:nvSpPr>
        <p:spPr>
          <a:xfrm>
            <a:off x="3852720" y="2443320"/>
            <a:ext cx="143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an You Count The Stars_v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an You Count The Stars_v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an You Count The Stars_v3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an You Count The Stars_v3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7507080" y="6519960"/>
            <a:ext cx="1633680" cy="338040"/>
            <a:chOff x="7507080" y="6519960"/>
            <a:chExt cx="1633680" cy="338040"/>
          </a:xfrm>
        </p:grpSpPr>
        <p:sp>
          <p:nvSpPr>
            <p:cNvPr id="192" name="TextBox 2"/>
            <p:cNvSpPr/>
            <p:nvPr/>
          </p:nvSpPr>
          <p:spPr>
            <a:xfrm>
              <a:off x="8545680" y="6519960"/>
              <a:ext cx="59508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Lucida Sans"/>
                  <a:ea typeface="Arial"/>
                </a:rPr>
                <a:t>E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4"/>
            <p:cNvSpPr/>
            <p:nvPr/>
          </p:nvSpPr>
          <p:spPr>
            <a:xfrm>
              <a:off x="7507080" y="661176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Lucida Sans"/>
                  <a:ea typeface="Arial"/>
                </a:rPr>
                <a:t>PDHymns.co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an You Count The Stars_v1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an You Count The Stars_v1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an You Count The Stars_v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an You Count The Stars_v1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an You Count The Stars_v2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120" y="6488280"/>
            <a:ext cx="36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 ~ Can You Count The St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Can You Count The Stars_v2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an You Count The Stars_v2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an You Count The Stars_v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29160" y="64882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  <a:ea typeface="Arial"/>
              </a:rPr>
              <a:t>vs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5:43:46Z</dcterms:created>
  <dc:creator>Noel Chumbley</dc:creator>
  <dc:description/>
  <dc:language>en-US</dc:language>
  <cp:lastModifiedBy>Noel Chumbley</cp:lastModifiedBy>
  <dcterms:modified xsi:type="dcterms:W3CDTF">2023-06-13T19:22:13Z</dcterms:modified>
  <cp:revision>32</cp:revision>
  <dc:subject/>
  <dc:title>Slide 1</dc:title>
</cp:coreProperties>
</file>