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ACE9-EA98-427D-A0ED-FBD8D0F5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59F7-B7DE-4EFD-A0F1-DFBCBC4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BB6-7FB4-41E1-807E-38DB9389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985-7370-4B2B-8142-2911A3DE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CDBE-787C-485F-945E-BED0C420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64E7-E98C-40C7-9E36-55272751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D63F-7FA2-4F3A-B392-1C9D2111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ED43-C080-4044-9B31-7EE1D3C3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87E3-FBD4-4FB6-A8C5-44F41BEB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55FC7-9B57-4D78-B3A6-1CD8966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02FB-8D50-4760-9205-7465E29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6D2-1B5D-4432-9751-B0E587D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8C93-BA95-4E3A-8123-952EDC7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B084-0091-4EC8-A949-917C029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FD7-1B75-4677-88E1-BFDA1E53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3CE5-0AA9-47AC-9DA9-2B8C3F3C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48D3-B0B0-4D34-BD21-F968D2E9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7955-033A-4CC6-91DE-D94061E6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EB98-DC90-4DA9-850E-C5B770F7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4867-1CF3-493E-B83A-5148249F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71E48-7BC1-4491-90AA-FAC023AF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0D33-590E-4039-95AA-BA40D88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72F5-FBE7-4966-996E-AFFB173D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54E5-336E-456E-836F-17137911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BA10A-DD1F-4F5A-B34F-E02E9897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5EA7-0DBA-46E1-BA3A-CE6590BD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07FB2-AE54-4978-A8B8-7C1F8E8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30390-8F3B-40A1-9BE3-E442F01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C264C-DD46-419F-8F7A-793B30D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CE43-C6A6-4B81-B6FA-51183BCE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9F1E-1A3D-4F87-BF6F-41E7E464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FA4-BE15-46A0-936C-A7D65F1B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A34-5D8D-4BC7-8513-5454B6F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29B-D12F-46DA-A7F7-4ED03129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B6A-F631-434B-BBFC-BA8454EE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7F6-7A85-42FC-8693-CB502C9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FF0-74A2-478D-AD52-6510ED897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C702-3B15-4A3C-9B83-9A06DCA1F7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76F-B22A-4B56-96A2-E42240B85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, We Do All Adore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C/C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Baker (189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Theodore Dubois (186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We Do All Adore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38240" y="648828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, We Do All Adore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We Do All Adore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We Do All Adore The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We Do All Adore The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7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30Z</dcterms:modified>
  <cp:revision>21</cp:revision>
  <dc:subject/>
  <dc:title>Slide 1</dc:title>
</cp:coreProperties>
</file>