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71DA-F5CE-48B0-8158-56D3F83D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D407-40AC-4043-AB88-5312795E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B7F5-C576-426E-824C-CC25CD98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BCA4-9C18-4C37-99B7-7D3F255B1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EB88-2B16-4152-8A89-D2720A45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1D1B-C5F2-4F1B-80BC-22AB9C35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3C0B-66D4-4E06-B885-40DDAE27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D797-0260-410E-8445-4E554F86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5BCE-6158-4DE2-9ADC-E9EFB6AC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F8D6-34FB-46EB-A036-2556B6DF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FD65-2C6A-4DB3-804E-59C257A5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CF3-48F8-434E-983A-A29EEC6A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52DE-D086-4ECE-9C19-A04606DA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959D-6DC1-436E-8747-9D5E811F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8016-270E-4382-A285-CE3D64B6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0AFC-42A8-492C-BAD3-F3D64958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501E-68B9-4F8E-AE96-01DC0B43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5212-F745-4E2B-8B88-A8A79EA0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709AD-035F-4136-B5FE-077418CF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9A850-D46F-47BE-8717-19C981F4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C15C7-5E7F-414E-ADD3-F52C3556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EC54-AE1D-459A-88EC-0A2E96F4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29B03-4BE4-4DDE-BB9F-0FF1BE83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C59A5-4F8A-4005-8854-AA8A054C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B7914-D149-4306-BD5A-2BDBB559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FF782-5B19-400B-8F50-AF87397C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EA89B-DA56-4DC0-8FD1-3F2C06E7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83303-D2CE-49ED-9892-C00DCFCC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E25D3-BD98-4B64-9935-E8634325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021CB-A315-41D9-9037-2C6AE3B7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0267F-9B57-4DAC-98C1-DC823E1ED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4B23-73C7-4CB6-900E-8D6A3525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AB37-4C33-46C3-8708-3D276871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D9CE-E773-46F2-B44E-214D3AE3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0D2-BA74-45E7-9637-E2EB5AEA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0895-3E3B-42B9-81EC-7B4CF734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2F5D-2A1B-4F7C-819B-D614E4557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F04A-D2B6-4D0C-8899-13303353DF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509F-AC8B-4CBE-9236-A4A0D5DEF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ome, Christian, Join To 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MAD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6.6.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A/A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ristian Henry Bateman (184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e Spanish Hymn” (182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ome Christians Join To S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50840" y="648828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ome, Christian, Join To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ome Christians Join To S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ome Christians Join To S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50840" y="648828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ome, Christian, Join To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ome Christians Join To S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ome Christians Join To S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50840" y="648828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ome, Christian, Join To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me Christians Join To S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6:15Z</dcterms:modified>
  <cp:revision>29</cp:revision>
  <dc:subject/>
  <dc:title>Slide 1</dc:title>
</cp:coreProperties>
</file>