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A284-17E4-4D5D-A7BA-59A03D9E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9FD4-F59E-40C3-9614-81D2031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2DAD-8A99-490A-B43D-7059807E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142-91B6-4936-AC81-5BA8ADEE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4C9C-32E8-446E-867A-29BC27FA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D5CE-58CA-4F85-A2A2-78C87D97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9780-F289-41F7-A604-23244E91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DBBD-A664-430C-8716-8D0932DD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0C59-E43B-4213-8ED2-A22A0B5B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B95-A0E0-454E-B90B-A4C6D82B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01C7-A49C-4CEE-B873-1DF2227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CA9-5457-4B3A-B6F5-272F688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22A1-A583-4835-8664-7A12ABC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56A2-6DD2-47CD-AA9B-AFFEB5A6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E4E0-8553-4BF0-AC0A-DCE54622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AF00-E9BF-4220-BA50-6D3F2DBD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69FA-43C2-4C35-B9EC-3A6E9421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D75-4B6E-40DE-BCAB-087C35F5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FDB2B-E400-4AB7-8852-6709531F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B4A10-56C8-452C-AB01-2911DB7B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9B775-A328-469F-972F-1B83FFCD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9DE-7381-4378-8029-0FF73A47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D8219-E815-4CE4-B2B5-6EFCAE9B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9B13-68CF-410E-8F64-54EED01F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BF6C9-B736-478F-B0F7-52C02531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3BAF-999C-4FB8-9B59-0077178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29A2-C34B-4A17-8AC7-88D654BF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52D8E-1881-4248-B1B7-9F5BBC98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B7E35-2F8C-43E7-BA00-B1C26351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6CAD2-79CE-405C-8FFA-79568ECE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23A3A-F9A6-49CA-96F6-7E7E4DAB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6A2-1624-4E9B-A39C-48C0362E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3AD-56BB-4040-BC88-D668DCAF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4B2-2BB4-4100-9EBA-411F6407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282-9673-4264-B6DA-06F27DAA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11DF-D9C8-489C-BBD8-46E4BBB8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8FB1-65EE-4579-AE5F-8CB9A8C39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5E5-0BB7-4494-814D-49BD0A426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D55B-E53A-4097-911E-79185722D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Un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E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2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P. Jones (190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Unto Me_arr1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Unto Me_arr1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Unto Me_arr1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Unto Me_arr1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Unto Me_arr1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Unto Me_arr1_v1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760" y="6488280"/>
            <a:ext cx="25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Unto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A picture containing chart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7:21Z</dcterms:modified>
  <cp:revision>34</cp:revision>
  <dc:subject/>
  <dc:title>Slide 1</dc:title>
</cp:coreProperties>
</file>