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7BB-D770-427D-9D37-7F5658A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6B0-3576-4D37-ACB5-56FB55FA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A57-46DD-4272-8EF5-A81565E2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8C2-0057-44B5-8D45-EAE8CEC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AAE1-6F4B-4824-989E-CB0A74B7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FAFB-5780-412B-A58D-E3C87A06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AA9B-E7E3-4CD7-B3C9-5BE68AAC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E56B-92E4-454C-8AEA-C265B877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013C-B477-4428-BC26-DB723082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6AD1-D89C-4A0A-AEDD-218FAF3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F505-E64B-42D0-A289-E0F6408D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780-AE82-417A-A6BD-D611D50A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AC5C-06C5-4F33-B52C-C6ADF9E9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7703-AC28-4420-B691-3A442424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5398-5A4D-474B-9738-EEEC5A8D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28B0-3A62-42C2-9950-8BBB5544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0F3B-029E-4BCF-B540-6D8C18F3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4810-0857-4163-8300-FC16E71A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60E87-E1D5-4BC6-95A5-1417071B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ED04-7B0A-40E7-A60A-EA5E9008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FFCD-AA53-4F95-9933-963F1B46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CB2-CCC9-464C-BD6E-6531F97C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43EB3-71FD-4A84-9E79-2220BCF9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7DF8-B159-4693-9E51-9099DEDB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8748-50E6-4DA8-A173-AF9C247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DE8A-15E2-4CB8-8AC1-C34C281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C4DA-D538-4B6F-A061-3CBF8544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438B5-76F9-4E7B-AE5F-7F6A4DFF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9D94-7D3D-4401-91F3-EC7E1545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1161-DEAD-435E-9397-376072B8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04E2-5732-41CD-94CC-C3606EBD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663-7307-4BE9-8173-07317FDD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ED44-7871-45E7-94BF-025C4084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D0D-553C-444F-9D79-ADA43693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200-5930-4E30-8BEE-B441D399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B11-E40B-4213-B6A7-067215D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0F26-0C4B-48E6-BE9B-4A3ECC6E0D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E6B-22B5-4614-A058-118186C809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BFD3-2087-4185-B527-D2E688DFD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turn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D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4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. L. Turner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7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turneth_arr2_v3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turneth_arr2_v3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Returneth_arr2_v3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turneth_arr2_v3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turneth_arr2_v4of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turneth_arr2_v4of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turneth_arr2_v4of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hrist Returneth_arr2_v4of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20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turneth_arr2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turneth_arr2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turneth_arr2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turneth_arr2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turneth_arr2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2440" y="648828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turn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turneth_arr2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turneth_arr2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turneth_arr2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57Z</dcterms:modified>
  <cp:revision>30</cp:revision>
  <dc:subject/>
  <dc:title>Slide 1</dc:title>
</cp:coreProperties>
</file>