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02E2-A42A-4AB8-89D6-E5EC79AE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08E-5F83-4308-A5DD-0F5BAA6A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C75-E64A-41FB-A91B-A9FFC801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787-0EBE-4EC2-82CE-5E8C5456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F816-0A3B-4353-A0DD-48ACC4D2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76C1-E857-49C5-AD76-B8B29BA2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0144-F08B-4663-A670-166DC08E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461D-84E0-484F-85A1-9D838CF4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7509-B7B5-49A8-9E60-A8F2A143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63F3-ABB1-4363-BAD6-78FC57C8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6034-7B35-4F9B-9C4C-E913B983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834-3FF2-4B9D-A590-BDF2B76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88AC-BAEC-4A2B-826B-75DACACA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744C-DCCE-480F-80F8-500E7A96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B8D-3E5A-488A-A3CA-D7294921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F084-BE01-42BA-A5F7-4DCDC157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8B5B-5B49-4239-9CB4-061F717E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5071-4307-48F1-8556-906206F2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C6ED3-7D2B-4C89-B61D-51EEDE18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8EEA-378B-4420-9BB3-B3FD4C9E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58ECD-439E-4E65-B3A6-608DBBEE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BD78-CCB7-4202-952B-CB6290D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7085B-8E06-4C62-9C39-5F6C3C8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AAA5-0BE1-4AE6-9615-1BE8BB0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5349-B68E-4EE3-B720-18A29109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C5C9D-2DD6-491B-AAFF-C8100ECA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0E32C-2A19-42FF-8092-77517A9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E374-ACA5-4E6D-A3DF-1CB98879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DD0CC-CBC4-47F2-93A5-F6E88435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B6AA7-6736-434B-9390-D25B1FDD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3E8B3-B9C1-4158-9705-4B5669F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31D6-965B-4C3D-A6BF-9D1A9EBA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454E-287D-4815-AF92-5F028ED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1C5-49C0-4C96-974C-E91D60B9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3B1-8AFF-44C2-8A08-81B2A0E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84C-3852-46F3-86E5-BC7D4D2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B084-FDBB-409A-8A8B-D4071528D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A6DF-9676-42A7-A579-CEAE1C41A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2A3-F4EA-45C9-AACA-BDDD46EE2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Liveth In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aniel W. White (18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ames McGranahan (19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A picture containing diagram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hrist Liveth In Me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hrist Liveth In Me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hrist Liveth In Me_v4o4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Liveth In M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Liveth In M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Liveth In Me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Liveth In Me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Liveth In M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88920" y="64882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Liveth In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Liveth In M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Liveth In Me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Liveth In Me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20Z</dcterms:modified>
  <cp:revision>31</cp:revision>
  <dc:subject/>
  <dc:title>Slide 1</dc:title>
</cp:coreProperties>
</file>