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1B85-EE88-4AFD-993B-3690DC8F7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4749-2655-4595-984B-B563642F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41BF-2220-4335-8163-8187F8E0C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2018-8435-43AA-8699-8CFAFACFD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2530E-65A0-4C1B-8E30-212148DF8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A989-6E5B-4B7B-8CD9-FAC5877F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9ECA-6597-4B8F-9AAE-0A741AC5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CFF07-BDAB-47C8-A5E5-FFF3D7A2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1B97-28D8-4C50-9A18-A32ED3A9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DCA50-F1E0-493D-A2DC-29323B1F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8A67-2113-48B9-A587-BD5818F4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39E1-D582-4F05-879B-34FCCEEB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E154-3DD0-4859-A9DF-272E1178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45C46-65EE-41CA-BBC9-A71C79F9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0B5F-9F2D-4849-8BBE-C3E79ACC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C0C4-837D-4427-9716-6450A41AB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22B3F-DCA2-4E1F-887B-73B29B676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78A1-ED76-420F-B7F3-8D1813F7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AD23C-7172-40DF-9707-5048B75C8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68533-1781-4298-A032-FF086087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15058-8305-4E27-BA04-A1FDA23B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4066-B590-4AE6-A531-CEA8BF8D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53DED-42ED-4519-A9D5-E853A85D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3D79A-98D6-4B0B-BC20-763BA95A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8DF15-0C07-4C38-8F15-4FDEEFE0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440B2-2CCE-49F3-92C1-4A01328A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CB63B-25D4-4D9D-9E4F-FC0783CC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83B9A-5341-46D0-8006-6F67E2D9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A4F92-C559-44F8-A177-20C1A849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09124-7347-438A-9AC4-9F98CE406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6B0F1-E33E-4FEA-B230-6096F0710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0308-DDBE-452E-8E3F-A4BE2DCE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FB18-0865-4694-915B-B57CC5F3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E15E-1EBE-4971-86DC-00A0364A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5088-FCBB-4F0F-BF07-2BBFDCA2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FB05-2BAA-40A6-9E51-2A2F3685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8176-721A-41E9-98AF-DBCD3600BA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391F-67B8-46F8-8CDA-122007A09F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AA2D-8CB4-49A4-A727-D49394C18B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hrist The Lord Has Risen To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WOR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7.7.7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64080" y="4902120"/>
            <a:ext cx="141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D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29096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1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harles Welsey (173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alsh’s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yra Davidica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70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rr. Arnold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Complete Psalmodis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(174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6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Diagram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48320" y="6488280"/>
            <a:ext cx="436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Christ The Lord Has Risen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148320" y="6488280"/>
            <a:ext cx="436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Christ The Lord Has Risen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7" descr="Diagram, schematic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48320" y="6488280"/>
            <a:ext cx="436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hrist The Lord Has Risen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48320" y="6488280"/>
            <a:ext cx="436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Christ The Lord Has Risen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5:12Z</dcterms:modified>
  <cp:revision>32</cp:revision>
  <dc:subject/>
  <dc:title>Slide 1</dc:title>
</cp:coreProperties>
</file>