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A14F-03DF-4881-9DC9-3421616D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6C03-060F-4CE3-AAA7-551940DE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4AB-9011-4E96-864C-F7843962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7D01-B3FF-4DAE-9A4E-45239DA9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0301-78DD-462F-BA2F-2BEC0FF5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4AEE-145D-4F1B-87F0-04D4F06E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0E69-79E1-4160-98BC-886BC2A7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B7F2-5F63-44D8-A091-A7BB7CA4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BA8E-D4CE-4BE2-9312-CE2249C7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3FF8-CF27-45CC-A719-F34D7654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6431-88CE-4E52-A987-DD95A6F2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70EA-5BD2-462A-8CD3-93BB2549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FC4AF-E6A6-4FD7-8885-566BFFCB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6CE1-90E1-41C2-A105-24F3D22B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AF11-D325-48E6-87D0-5626B4EF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B359-B7CA-43D4-BCD3-A6B4DAFD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8D8C-F27D-4CFD-BF90-16DF7546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4563-3FFD-475F-B928-07AEE85C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A410-B234-4EB6-A6F8-5E94EE10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9CF3-9690-49C6-A7AC-35DE38BA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F99CD-9E8D-4A0C-ADFC-05A2731C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D73C-07C4-40C2-A7F3-4492E282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5C11-E63E-4845-B1BC-483C7E35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61E9-F073-40A0-AFEB-E18ABA8F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C8563-806B-4E03-AA89-A61E1BBF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8C15-9A2B-485C-B36F-5443B3CB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EFE9-AE37-47A7-BD3E-6605A623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6360F-D2A8-40AA-905E-03CC7B33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01B15-11AA-49D4-8989-33A72035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A9497-CBD9-4C84-91E1-83B6FC6C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55330-41C1-475A-8826-E45A5697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471-56CC-4EE4-8D49-2F02F478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784-376E-4F31-95D5-56E2D506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B590-3511-4AE9-A662-370264FB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C6E-FDCF-4B5C-9A03-9509DEAD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C36-97A5-4B62-9965-E5EA470A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C6E4-FA52-4ACA-A153-D71C9B5D3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C40E-DC32-4F51-B093-B184B35A22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729C-AE6B-4395-BA30-063AAD667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loser To T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TAY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8.6.6.6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56160" y="4902120"/>
            <a:ext cx="1344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6/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Lucida Sans"/>
                <a:ea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/F - S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S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Austin Taylor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2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loser To Thee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loser To Thee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loser To Thee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loser To Thee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loser To Thee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00800" y="648828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loser To Th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loser To Thee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80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2:41Z</dcterms:modified>
  <cp:revision>28</cp:revision>
  <dc:subject/>
  <dc:title>Slide 1</dc:title>
</cp:coreProperties>
</file>