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EAC-D331-4529-AB0F-9FC88530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C75-00AA-496C-82FA-9929426B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7EC-7110-4F1A-A537-4EB48273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354-33C6-44DF-BFDC-2E555A05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DF94-0F9F-4C6D-A3DB-905E9ACF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D087-777D-4804-85E0-0867C5EB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79EE-6AC6-4599-929C-69640147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51EF-C01E-472E-84A5-0AC01843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93E4F-3CA8-443E-B956-D6377F38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E0FB-C015-4C53-A166-D2605491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4185-7834-4D7D-904F-93306796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0DD-BC0E-4630-9AE3-7C868C97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56A8-F530-43BD-B014-8F49B40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2D93-7AEB-41D2-8F5D-F7451065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BA1D-AE09-4AFA-AB47-74750C8A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F18A-C758-40BC-8803-1A133E64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FBDE-E442-4B2A-A5EB-4C24AE11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60CF-DFE0-4EDF-A5E3-6F9C106B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5090F-5657-464E-8B44-C0E3B049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ECCC-48FD-4809-B495-0B5ABED6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9ABE0-C645-41FB-99A7-57E6CD66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B348-E0D5-4BD1-93CB-6D29CDEC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B59DF-78D3-4591-87CC-F2918CAE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55DA6-C7BE-4395-A593-6AB3A7F5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4011-BC94-4A2E-A286-8D36EA25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FDDE2-E6F9-4E8D-8313-4BD97F00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285FA-8D99-4844-83DC-E215E911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95D58-35AE-48AA-90DB-2DFC1805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BD33F-A12A-4062-9C3C-CFB43A62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4F71-09A5-4A15-A114-207B25698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D2D08-1DB6-4343-9F0B-E4CE0D41E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5F1-75BF-4DB4-8E18-7923482A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339-9937-4FF2-B974-B5C962E4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8840-CBD4-4BC3-940D-A3F95C78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419E-4A66-4395-ACEE-D837C8D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5176-6480-4756-A8A8-77BC3813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4736-F2B5-4131-9422-C57EAF618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4889-23C0-477C-9443-5067EE6A29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F5D0-4577-4BFA-974B-FA8232CAA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hrist For The World We 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ITALIAN HY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.6.4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62280" y="4902120"/>
            <a:ext cx="13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G/D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amuel Wolcott (18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Felice De Giardini (176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hrist For The World We Sing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hrist For The World We Sing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hrist For The World We Sing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hrist For The World We Sing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hrist For The World We Sing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hrist For The World We Sing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hrist For The World We Sing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hrist For The World We Sing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14840" y="6488280"/>
            <a:ext cx="404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hrist For The World We 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hrist For The World We Sing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3:19Z</dcterms:modified>
  <cp:revision>30</cp:revision>
  <dc:subject/>
  <dc:title>Slide 1</dc:title>
</cp:coreProperties>
</file>