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77CA9-2CFB-49A3-A5C6-DFFBC11ED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8B37D-6859-4D41-8F63-FB996360B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9D034-9C00-46D7-95D8-0D8A315D7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6005B-140E-4A7E-832F-4A8E935D1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1A5F0-26EA-4723-8706-1AE7F8781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36403-C6AD-4F0E-9322-86CC883D1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44A7B-71E2-4EEB-90F0-0F5CB0D3C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AB46E-67F0-4B09-A569-311E67C6A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F5ED7-0685-46E8-9260-D5DFF48FD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1B42F-7CFC-4142-A323-13C607DBD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94A25-3FE5-409A-99BE-E29B436AE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DC8DD-18DF-4D21-AC2C-56FB3FE54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6F425-47E5-430C-8DDB-E03F2793A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FBD39-DBDA-4BF3-AC32-86D9C2C19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760E5-47F2-4B41-B5EA-73534F3A8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BBC0F-E1D5-4C23-8B59-7E0BC97CC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EF70F-5F90-4086-9A4B-6E1442E6A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6EA09-8588-4B1F-B7B4-98FB58CE8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E6A84D-EBB1-4D37-B58D-14F673328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74FC3B-0219-433B-A29B-EBE1B932A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CA946E-29ED-470D-95C8-6CA9299F5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DE822-9861-4114-92A5-872E26ED6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AB061B-FE09-4FB4-A449-F24C39F29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666741-D493-47B8-94C8-66B79159C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80DA5E-5704-47AB-81E7-626B802DC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AB7A5C-CD80-4821-B9DC-89E785319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38A61D-345C-4367-975F-221065F9B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23276E-D783-4820-B0C0-E6A7507CD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03790A-9B52-40F2-9E1A-5C3FCEB33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10F5BD-8FBA-479F-9D88-4FB861DEF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350FAE-107A-40D3-9264-E77FDB0D0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55288-2EBF-47FE-9503-A74AE5D47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01F96-D99D-49EB-BF92-7C74F6762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CB36F-216B-4849-BABE-4C3B39A37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34078-4E3F-447B-8AFF-CB45522EB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A41A6-4C66-403D-A8A3-C85C8FE45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8934C-9774-4858-BDCA-CA34021EC5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DF507-01CA-411A-BF1A-AF79D7A151B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96DF2-3209-4773-910F-B5FB19F1BB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Close To The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3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G/D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Fanny J. Crosby (187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ilas J. Vail (187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6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Close To Thee.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100440" y="6488280"/>
            <a:ext cx="240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Close To Th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Close To Thee.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Close To Thee.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Close To Thee.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2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Close To Thee.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00440" y="6488280"/>
            <a:ext cx="240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Close To Th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Close To Thee.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Close To Thee.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Close To Thee.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Close To Thee.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100440" y="6488280"/>
            <a:ext cx="240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Close To Th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Close To Thee.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Close To Thee.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Close To Thee.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13T19:25:42Z</dcterms:modified>
  <cp:revision>27</cp:revision>
  <dc:subject/>
  <dc:title>Slide 1</dc:title>
</cp:coreProperties>
</file>