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79D-23D2-4208-A7FF-6B8E2D3C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6EE-E1EA-4453-9398-DFB98957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1100-CFDC-4CF1-812F-C892432F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534-D62D-463B-9E38-55B67F44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37C9-030B-49E9-91B3-FEEA6C3F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1E73-BD8C-46E3-9A31-6A5A76D5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361B-7A2A-4273-A2EE-05232B62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53AA-7CA3-42AD-9733-E518994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2DC-8132-4FD3-AF8E-50D58F8F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EEDC-1C5E-4643-82AB-5B0A149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8E2D-4537-4384-B87B-4F012FAC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E18-C13B-4540-B036-A0442DBA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0CB8-620F-4BDE-9DF1-46EF1C89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8339-C3B6-4182-81E1-3F191D13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E646-F7C3-4EB3-A587-F44AC31D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2192-7C93-4C94-B323-66C5CAB2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51C9-63BF-4A2E-BACA-FD8C5A53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1320-8EE3-4F77-9267-17D90B3D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BA10-4AAF-4B3A-9FCA-895C1F1B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D5DB-360B-4F7D-BC88-8871EFA0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0021-EEB2-4C6B-A585-C7B71969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DF2-B582-4C7B-BE2A-C883FD5D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79DF6-E1A2-43BE-A8A4-CE4F186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8FFC3-311B-4EF9-8375-84C40F98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2B40A-F691-4EAF-A61D-B1B0F862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B0A2-ADA4-490F-AF93-159A4F35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53815-7B1A-49D0-AEC1-86E3EA8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C5C2-C5AA-43A4-905A-5CA0375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07020-D92F-4292-8956-CE5DBA3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0C8A-304D-4755-96BB-F5F0C926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65C2B-0C2B-4044-AEEF-B84BDEF0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588-CE6D-4184-B171-20A0E7EF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85D-4CF0-4E16-BF35-5255B164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214-A4FC-4F5A-8825-115EA6B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9345-7084-4698-B9C9-ECB8F3F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9453-E932-48AC-B33C-4FDC2695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2E0B-BA7A-4305-A7DD-05C290B3FE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3FF0-1D44-4D34-B316-3907C6387F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F6B1-8308-4436-8865-3A00559AC5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rown Him With Many C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DIADE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S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5160" y="4902120"/>
            <a:ext cx="132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E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atthew Bridges (1851), vs. 2 Godfrey Trhing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6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rown Him With Many Crowns_v3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rown Him With Many Crowns_v3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rown Him With Many Crowns_v3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rown Him With Many Crowns_v3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rown Him With Many Crowns_v4o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rown Him With Many Crowns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rown Him With Many Crowns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rown Him With Many Crowns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rown Him With Many Crown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rown Him With Many Crown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rown Him With Many Crown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rown Him With Many Crown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rown Him With Many Crown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1160" y="6488280"/>
            <a:ext cx="41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rown Him With Many Crow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rown Him With Many Crown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rown Him With Many Crown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rown Him With Many Crown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50Z</dcterms:modified>
  <cp:revision>21</cp:revision>
  <dc:subject/>
  <dc:title>Slide 1</dc:title>
</cp:coreProperties>
</file>