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5B5-A2AE-4B3E-BF7C-3A96D4AA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610-8450-459F-9196-A3C2AB0D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E66-B44C-4915-AD22-C6FB71C1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686-117E-4505-A624-C9565ACC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16CD-E6AF-4736-B2D3-85C9FF32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BEEF-F103-465A-99C9-29B5D654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C47E-451F-4A31-8903-F4740EB0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13BE-D73F-4F10-9DD9-37263BD5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3DF2-2F9F-4A1A-BA99-D5CE333A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4C21-6715-47A1-9E4C-B6ACEE8D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BBC0-714F-4B8E-9DA9-7F20F69F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539-31A0-4017-A4CB-45E4765B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5DA6-6E07-4F3A-A4AF-5B6E213D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1DA3-7706-4AC3-A41C-4F6AB516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6AEF-4E30-4392-BDD9-6A6FECE1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DACB-5009-4018-AC46-826E8D82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DB8B-B57D-4983-B603-9DE492ED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440C-6AF0-4255-869E-5E29A810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44E93-2751-42C4-AD6E-F7496685C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6ABCA-61A8-452B-92F3-D27A76C6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5E2D7-50A6-4A57-AED3-20A2C0ED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C918-93D4-46EF-A665-6CD05533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A5026-AEEC-406E-A6CF-0964088F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E4822-716C-4376-8665-7FC79A69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EBEC5-05CD-481B-93E1-27A07630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003ED-BA58-458D-BA2A-6292FA03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CBF05-7164-4D99-8D99-96A6C090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7A2C0-20A3-4A72-8789-1BF64347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8880C-CB33-4898-868B-75BA4746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B199B-FF20-4642-97CF-0B92EA82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EF6C2-F91A-408E-B45F-FD2CB97A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1A4B-8F29-4F09-A454-AC95D2E9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C9D-9E38-453E-BD0D-7B60501C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DC8-27CE-483D-B3F4-06BABAB1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531-CD6C-4605-8099-F3C126CB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E73-4610-400F-BA17-784B8496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A1E7-48CD-4202-B08C-1E998FEF0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FEF2-7678-4ED5-9307-FDEC66E4C8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F3EB-9CBD-42D9-A837-07F9B1405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unt Your Bless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son Oatman, Jr.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dwin O. Excell (189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ount Your Blessing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ount Your Blessing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ount Your Blessing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ount Your Blessings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ount Your Blessings_v2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ount Your Blessings_v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98280" y="648828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ount Your Bless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ount Your Blessings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ount Your Blessings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ount Your Blessings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ount Your Blessing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8280" y="648828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unt Your Bless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ount Your Blessings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ount Your Blessings_v4o4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ount Your Blessings_v4o4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1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unt Your Blessing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unt Your Blessing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unt Your Blessing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unt Your Blessings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unt Your Blessings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ount Your Blessings_v1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ount Your Blessing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98280" y="6488280"/>
            <a:ext cx="31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unt Your Bless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8:08Z</dcterms:modified>
  <cp:revision>29</cp:revision>
  <dc:subject/>
  <dc:title>Slide 1</dc:title>
</cp:coreProperties>
</file>