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A67-8710-4C73-B278-9007BCC5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29B6-1716-4D27-84B8-992682F6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4897-61BE-4ABD-ADF1-336D67F1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40E0-8E45-4403-83FD-F5BCA21BF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9004-C026-40F2-A260-A3DD970E5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D5BA-89A4-4D91-82C0-08BFA757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7D52-00D7-4821-B3E6-913D1B50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207B-EBF4-4096-9DF8-B2A7E986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0804-7535-49D2-A88D-11FE4B61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768F4-DDBA-49B4-90CD-5D9AFE09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9BA1-3C0D-4901-B557-1AF49302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1F8-7E44-4AFE-9438-304CD156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4033-7BAF-43F3-98B4-8A6FA5AA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B5FF-64C9-4CCE-A4D1-46228077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25CD-2100-4991-8EA3-BDB34BA9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323C-DF64-4CA7-B752-DC8BAE32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6497-4733-41BD-A18E-5E3B5C9D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1549-EBE2-4B9F-BF7F-8C7DCC65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DC91B-CCAB-4F0D-B2CE-BC88900C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B0DAF-6065-430C-ABEE-ACDA186B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74749-DA25-4555-9B96-829DBEE2C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D345-87F4-4135-A180-A4C35389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662E0-A152-4FD4-9D95-AFAF5459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C1D5E-89A8-4DD1-AA3A-30D99F4A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4220E-01FF-48BA-8CBE-65E130AC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9A4DF-3EDD-4C2E-AEC2-8125FC6E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0497F-1612-4AC0-8E2A-B70BCC1B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902B8-7F5B-4303-9405-57A39AC4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D2DDE-4A40-4A59-B348-D5028994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B96CC-EDAE-42F0-8DBF-85D71A79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6F98F-5762-4B78-B614-0B7B6FC0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A87-F2F0-4399-A67E-3DEE065E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39EC-0F91-4CAC-BB8A-DB7D145D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5FB4-C027-473F-AEC8-23A9DC6B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459E-2AB6-474A-9FB8-089480E3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37F3-1C9A-4933-A44B-ADA8B009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F8EF-3A3E-49D6-B23B-9F33ED5870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1716-98E5-4BBD-8DCE-823B594991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F174-771A-4401-BBE0-3E891E741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 Receiveth Sinful 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(Sinners Jesus Will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 + 12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D/F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#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rr. from Neumaster (1718), Tr. Emma F. Bevan (185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ahan (188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hrist Receiveth Sinful Men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hrist Receiveth Sinful Men_v2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Chart&#10;&#10;Description automatically generated with low confidenc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110520" y="648828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rist Receiveth Sinful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hrist Receiveth Sinful Men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hrist Receiveth Sinful Men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hrist Receiveth Sinful Men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hrist Receiveth Sinful Men_v4o4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8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rist Receiveth Sinful Men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0520" y="648828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 Receiveth Sinful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rist Receiveth Sinful Men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rist Receiveth Sinful Men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rist Receiveth Sinful Men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hrist Receiveth Sinful Men_v1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hrist Receiveth Sinful Men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110520" y="648828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rist Receiveth Sinful 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hrist Receiveth Sinful Men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hrist Receiveth Sinful Men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4:39Z</dcterms:modified>
  <cp:revision>34</cp:revision>
  <dc:subject/>
  <dc:title>Slide 1</dc:title>
</cp:coreProperties>
</file>