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962-FBE2-4C98-94AE-5F205708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ED1-AA56-466D-80BD-419E1648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C71-19A0-44EA-B569-D0995967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988-C459-49BA-9C1C-8CA611AE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80C2-FCC0-4F00-ACAA-B79B968B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582A-65A2-4259-A40E-903CD8DE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4BD5-4E9A-4ADE-933A-048702BE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BE97-5CB7-4134-8BD0-82575257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BA37-BA8F-4121-A570-FA99D6BC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90C1-9AB4-48E8-B303-4258CE21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485B-E80C-4531-9E43-065167FD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845-548C-46AA-95CB-CADF44D6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2A0E-9737-4D81-A2BD-838CC43E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0C55-3DCA-4902-AB88-DF243C16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5ABB-3798-4A98-AEE2-513CCEFE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A31F-3230-4D01-9A73-4FF8796C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7857-F0A4-4A32-8C36-12EF50A3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AB9-7824-4A0B-9126-78E38769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E33-2C07-430F-829F-CB6EF7E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EDB-0D47-4D68-8ED0-C430D958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2A6-7F5C-4773-B0C0-0FA00B0D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195-821B-4FAA-BC9D-93983EDE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BC9-52A0-43E7-8B22-43641BE8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950-A1E6-49AA-91ED-78230848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6E97-D2B9-4BF5-9E2F-E1B2A047E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2F66-9D3F-4275-AAE1-D119E72C07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attle Hymn Of The Re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ine Eyes Have Seen The Gl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ulia Ward Howe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 (c.18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attle Hymn Of The Republic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attle Hymn Of The Republic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Battle Hymn Of The Republic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14480" y="6488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attle Hymn Of The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attle Hymn Of The Republic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Battle Hymn Of The Republic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attle Hymn Of The Republic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Battle Hymn Of The Republic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attle Hymn Of The Republic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4480" y="6488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attle Hymn Of The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attle Hymn Of The Republic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attle Hymn Of The Republic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attle Hymn Of The Republic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Battle Hymn Of The Republic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attle Hymn Of The Republic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14480" y="6488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attle Hymn Of The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ttle Hymn Of The Republic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attle Hymn Of The Republic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5:04Z</dcterms:modified>
  <cp:revision>32</cp:revision>
  <dc:subject/>
  <dc:title>Slide 1</dc:title>
</cp:coreProperties>
</file>