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E769-514A-422C-987C-C1BB0057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1523-2F35-4A06-A7ED-1914823F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74AA-D9EB-4391-9402-FBAA424D3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5649-7AAC-42AE-B2A7-6D2E35153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9A76-C8A2-4F96-B168-14D111050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105A-F7F9-4E4E-BEC3-76DC174F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8357-4001-40DD-A719-A2DADD6A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3A51-9347-4333-B070-733E9315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B500-C262-466B-8A19-72070289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65C6-2A97-469B-BFD4-8DC5BA93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1F18-01E7-44FC-9CE9-2A17FA96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0655-0D43-4E19-8786-08B0C696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D1F7-0EC4-4E4A-BB08-2EBFA9B3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EF55-2EDE-4A2D-8570-62E8ACAB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6E90-F208-4381-B789-5CBBD9AC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B285-D336-4037-BDF7-83B5C0512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EEF1-EF84-419D-8D6B-EEC16825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FD4E-52EF-4B1F-B597-52666564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164CB-1764-4FBA-8DCC-D3C280EC6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69D8F-C3E4-4DC0-9B66-70A22F21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DF730-8754-4AEC-9835-8085C662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07DB-CC0F-4556-BC06-881F6DA1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EF87A-FC7B-4921-941A-B7279975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81FFA-586B-474E-8AE4-801D9F8A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3D864-9CF0-43EC-A844-6BFEE5B2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DD3EA-EFF3-43B2-9C4C-F74F4DBB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E3F76-78E5-43CB-B73B-090ECCBA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C8E01-0D3A-4A2F-9172-81F3D3C2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FCDD1-B62B-4E54-BC9E-09749842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6BD33-3D16-4B5E-8EF6-0964CB447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0DF0D-D229-4E91-9DCD-F579067F0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DA4C-E39D-4533-A98D-ADCCFF99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815E-276C-4785-AC3E-899945D3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C2CE-A3F1-4369-8F26-5431C54B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585E-672E-4277-866F-F8FD0DC8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4BDD-7C61-4BE0-ADF1-F199C295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8CA3-D575-4B79-9A4B-F06A87794E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D6DD-2E8B-4CDE-881F-D1638917E5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5736-F735-4747-BF35-D3D6D95DB2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Beneath The Cross Of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T. CHRISTOPHER</a:t>
            </a:r>
            <a:br>
              <a:rPr sz="2400"/>
            </a:b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6.8.6.8.6.8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2840" y="4902120"/>
            <a:ext cx="143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lizabeth C. Clephane (c. 18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edrick C. Maker (188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Beneath The Cross Of Jesu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3760" y="648828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Beneath The Cross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Beneath The Cross Of Jesu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Beneath The Cross Of Jesu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Beneath The Cross Of Jesu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Beneath The Cross Of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3760" y="648828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Beneath The Cross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eneath The Cross Of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Beneath The Cross Of Jesu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Beneath The Cross Of Jesu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Beneath The Cross Of Jesu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3760" y="648828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Beneath The Cross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Beneath The Cross Of Jesu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Beneath The Cross Of Jesu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Beneath The Cross Of Jesu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8:59:06Z</dcterms:modified>
  <cp:revision>29</cp:revision>
  <dc:subject/>
  <dc:title>Slide 1</dc:title>
</cp:coreProperties>
</file>