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C7E-3EF3-4D32-AB1C-D8407D09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4B9-CA57-4AE1-9AD9-B8C96AA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003-61F6-45E8-B459-24B2494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9B6-BDDB-40C2-884D-C14F9AD0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1D3-0204-4A57-8287-03989569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5305-D022-43B8-B89E-764DA18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004-D445-44F9-833C-3324515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C452-B973-4D34-88EE-92E6B36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CF85-A68B-4CA6-9A69-CAAD113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3EA0-7129-4DA0-B548-A9260545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5D81-9017-4D52-8380-6044090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AA3-8CF9-4BB3-A567-D597E6F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DD37-DE1B-4C4E-8BFB-4615D408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331-E564-42AD-9F8C-56AE91F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040-5AF1-49CF-9F8F-1538067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4CE-C597-4C9E-9476-7552B8CB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69D8-C0E9-4AB1-91F5-7AAA994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6966-2A67-42D4-9FE7-EC6FA6F5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B263-82C4-4E93-A570-89D179E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1C64-3BC0-4F20-B684-6F1D7C2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05FF-5EE5-450D-98B6-9908EA6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14A5-0982-4736-B690-83930B2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D51-E0AB-4107-9F48-A709D8B0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C9FB-6A61-4AD5-9CD3-FDB8B7A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BCE5-72E2-442E-9A32-D31CB1A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D96A-B3A9-4B7A-BFC2-5DC94C2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4E52-F567-4727-8A3B-A88ADC8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7E6F-9234-4890-91E7-424A1EEC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418E-FE85-4AA4-9F06-65CED040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7245-A169-47BC-AE67-98E695B4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18C-0488-4923-BB09-CD556A50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464-EF58-4ED4-8B03-6735E69B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3DF-90D2-4273-9174-FD4259F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E44-705A-478E-AECA-988076E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56B-5B83-4315-A212-1BA6F0E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CFE-7CD6-4B48-AAF4-CCA52D3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1C98-95C0-4920-AC1A-C2E06F52B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93F-3978-43A8-A8CE-3AD9161FF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FBD-A991-4986-B90D-464FAB37F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, Based On Psalm 46:10, Exodus 15: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Still and K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Still and K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Still and K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" y="651024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Still and K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e Still and K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1440" y="651024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e Still and K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3:55Z</dcterms:modified>
  <cp:revision>19</cp:revision>
  <dc:subject/>
  <dc:title>Slide 1</dc:title>
</cp:coreProperties>
</file>