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6EF-A01A-4685-AD52-488DFF63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CF6-4357-4579-AD1E-B76BD17F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D1A-62BB-4A70-8443-3720F4AF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3D5-1DD6-458F-9BBE-6ADFF4C4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206F-2806-4DBA-AC86-2B6C06F8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640B-0124-4E70-BCDC-CB97ECA9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95FC-2B92-47FB-93A7-8DC8105B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23E7-5652-440B-97C7-11234809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37EE-DEDD-46E1-8671-89ADAE1A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C844-A2E3-4474-B9A0-88A9F857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1781-089C-4FCB-AA4A-EBCC0C6A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0CA-B5D5-401D-B6C8-D20440A8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04CA-1DDD-4694-9A20-0A9BF097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0305-82C2-46AA-B673-5CE5B206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EA16-1700-4C68-9FAA-5CC19562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34D9-440A-41D2-B887-E81485A7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4A87-9650-4A96-8ED7-3508A8F1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2DD-DB0F-486C-BC07-11CB2DE6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C9DCF-A302-47FD-A9F0-4AD52E86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DF7D5-0950-4934-B3B8-F241EBB1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627A-2E6A-4134-A00C-A93AECCD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357-86F6-49FC-A02D-2CB5D0D3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CD8B3-26EA-46FB-81F2-01C1E5B2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608E3-4619-4198-B5BD-F3FD22BB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5B4D4-10F9-4456-B9CE-5DEE5D24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FB10F-6385-4944-906A-EA10FB2D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41D86-09CD-4063-8569-B4514E9E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9C9E1-2E7E-4524-9ABB-FB93E799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9F150-4DDD-49A8-AB99-1800DF93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E556-729E-455F-83E1-8DA37937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08C2A-5477-4517-9F83-D8869A04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B82-12E5-40BD-8095-DF1CB830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F6F-2FAB-4697-8086-DC6E39FE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901-3CDB-49F7-91E7-292F15C5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0C82-D66A-464C-AC6C-EA89C2B5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7AF-F057-463B-85CD-E8D08C6B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5484-D914-43D4-B1D3-639056F2B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7EEE-B518-4B78-A990-937C48913B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682B-B226-40B3-BFC7-DE3605373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autiful Isle of Some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C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7080"/>
          <a:ext cx="9234360" cy="14828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B. Pounds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S. Fearis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Beautiful Isle Of Somewher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81360" y="6488280"/>
            <a:ext cx="39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autiful Isle of Som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Beautiful Isle Of Somewher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Beautiful Isle Of Somewher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Beautiful Isle Of Somewher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autiful Isle Of Somewhe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360" y="6488280"/>
            <a:ext cx="39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autiful Isle of Som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autiful Isle Of Somewhe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autiful Isle Of Somewhe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autiful Isle Of Somewhe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autiful Isle Of Somewhe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360" y="6488280"/>
            <a:ext cx="39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autiful Isle of Som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eautiful Isle Of Somewhe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584520" y="6488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uerdon = re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Beautiful Isle Of Somewhe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Beautiful Isle Of Somewhe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2:11Z</dcterms:modified>
  <cp:revision>33</cp:revision>
  <dc:subject/>
  <dc:title>Slide 1</dc:title>
</cp:coreProperties>
</file>