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06B-7E2D-4A01-ADF4-B58B0FD9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B8B-8938-4DF3-8E3A-04E05EBD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C37-7D29-4E8F-97DD-075573D7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1BA-0B28-4256-A532-0152608E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8BA9-3227-4B13-91C1-C4DFB1C3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F251-17A2-435A-B161-F2F5C1E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0210-30E9-45A7-AF83-CE5D681D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FF82-7302-431A-B935-9044E54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5E11-9A0A-4C88-8E92-EADC1542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ABD8-5722-4A02-92A0-BDC6005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633-8741-4DBE-89C4-A1D3EF8D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D36-AAD8-4264-8F62-37C6CC7C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D8DF-A1AE-4761-9B12-7D1F95B2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F174-A883-43FB-8366-0A1E721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D2DD-B3C1-4827-825E-C0D50661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6EA1-35E8-46C5-8237-C4DB7180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BA54-1FBD-4087-BB45-D096BCE5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AA9-763B-438E-8C6B-1E995E4D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4D91-E09E-427D-9710-1547ABE7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6DFC-EE0F-4C5E-BAF2-E050EB5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DFD8-FBCB-4A6B-A164-F276238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C45-0298-4154-9519-AB91DE0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FB11-F562-4A85-A58E-92917B92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01D3-834C-43A6-92A8-2F845FE8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BF7E-2B27-4945-B812-268596C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BA1C-2D7D-49B7-850A-A49E78B7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A186-DAAC-4D96-9308-38954D8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FD51-E65E-4BB7-8F90-3FAF943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C534-6B4C-4C4F-B6EB-C7B88C7A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578E-14AA-4BCC-8FB9-C408A115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D52C-F097-46F0-A5A2-1445C82B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62C-8CDF-4479-8511-4D3982BE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82B-C80C-4D68-9BE2-BB909EAA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F70-09E9-4C7C-BB58-0B53DABC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083-B650-4680-82E3-9326D62E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328-BE8C-47A5-91F5-22F67CDF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A83A-89B2-4A47-BA56-CA9398FC1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CE21-9330-4E03-91CA-BA55C9C12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7B6-684B-4BF7-8D78-F711269BB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y Christ 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ROYTE’S 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Rawson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H. Troyte’s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y Christ Redeem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y Christ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y Christ Redeem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y Christ Redeem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1720" y="648828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y Christ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y Christ Redeem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y Christ Redeem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y Christ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y Christ Redeem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8:44Z</dcterms:modified>
  <cp:revision>21</cp:revision>
  <dc:subject/>
  <dc:title>Slide 1</dc:title>
</cp:coreProperties>
</file>