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4DB-7139-4803-8A43-C831A375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B2A-503D-4471-8E82-6EFA6169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1DA-0714-4844-B8F6-5CADEE26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03F-8C7E-495E-AFD5-B94D6AC1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10BD-53DB-4BA1-9BC5-396DDF4D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9D43-B98A-4850-A100-EA58CB66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4D83-A4D4-4AD5-A1AF-B984E3DA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385E-768F-4215-90D5-67C1A388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9F4A-E449-4DF8-B2CF-EB2C45D3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6E0B-87FE-4E2B-B871-E36EB443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C286-DB2F-4E4A-B064-894D9AC4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43C-7CD5-483E-89CF-B3102990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0180-4553-4ADD-927E-365B415E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6819-2534-40B5-ADBD-58E49767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F401-1E74-4C1B-8497-43E79E5D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40A2-F39A-4DE0-894E-0D5B1B83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C990-2C9E-4C1D-8FE2-1F8C9997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ACE-7C98-4FD1-B101-D6FBD9C2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CAEB-676B-4338-8555-6443DCB7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81E35-86D0-437F-93B8-7AFE3615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2D8E9-F018-4060-B8E2-EFD4BC87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D99-3410-4F1E-AE78-90496EF8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A67C-B943-44E7-9948-79B1AC90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BA07-8F01-4CA6-867D-ECD9F7E6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65A2-49EC-445D-84C8-DA540E12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DC059-7CDE-4499-8311-0CD0606E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DA17-AF20-45D4-A072-38FEBE2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B9D7-1D72-4702-81A0-2E17820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496B-81E5-4906-8C14-39527D95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18FD-70C9-4A42-A282-72D7C519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5395-1FC9-48B7-95B1-01809F51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69B-33DE-47D6-BAE7-F839D005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2AF-E328-4D60-9EAE-4D226939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D26-221E-4193-85CA-854C050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368-B2D6-488E-996A-42D25C8C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25D-A307-40B6-BB1D-EFDC5E45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DCF4-2880-44CC-9F9D-6272BF85A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A654-B0A5-4C1D-9AF6-19150B808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77C6-D08F-448B-80C7-084E64221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righten The Corner Where You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na Duley Ogdon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righten The Corner Where You A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0880" y="6488280"/>
            <a:ext cx="47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righten The Corner Where Yo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righten The Corner Where You A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righten The Corner Where You A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righten The Corner Where You A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righten The Corner Where You A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880" y="6488280"/>
            <a:ext cx="47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righten The Corner Where Yo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righten The Corner Where You A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righten The Corner Where You A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righten The Corner Where You A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righten The Corner Where You A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880" y="6488280"/>
            <a:ext cx="47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righten The Corner Where Yo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righten The Corner Where You A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righten The Corner Where You A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righten The Corner Where You A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6:32Z</dcterms:modified>
  <cp:revision>31</cp:revision>
  <dc:subject/>
  <dc:title>Slide 1</dc:title>
</cp:coreProperties>
</file>