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5F4-B14D-4CBF-B2AA-422342B4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8CA-B4F0-4E87-9CC8-19082B8F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B50-47E8-4B0D-9DE2-354FA179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BAC-26CB-42DA-8D60-BA4786A9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9B9B-21E5-4348-988C-05E6C61F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C288-3B01-4534-83A1-79A54C1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ADE8-B300-4630-A6E8-5CF99868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E6B-83EA-49EF-BC56-77C0CBD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ED6-E5F6-42F7-83A0-00B21D9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4D7-8C92-431D-9721-0C4C99F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27D-EA33-4A25-8D38-CE7D382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2CF-5670-48AF-901D-534F1342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8254-2C75-44F6-8F53-C7F0898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155-0212-4BC4-A168-2508CD2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87B9-2C76-4CB1-94EC-B92AE288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39E1-50CE-4C99-9995-E6DD880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0CA4-87F3-4F8D-B42E-8481ECFD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A1F-7C8E-4890-963B-AA0A887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3026-4CDF-4537-9E0F-4DA18D76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BF07-0E4A-4A3D-9DAD-2F25C22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E490-C306-40A5-A303-CAD2340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4D4-2BD7-4E87-B21D-8EC0A9E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8742-DA90-4B6C-8DA4-60AFB0F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1675-C308-4E1A-8FB7-F04A2B02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ECA3-DB47-41E2-9901-E29B6CE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8C19-2FD2-4284-AA66-1F22CFE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C7D5-6DFD-45F7-BCA6-06ECF8B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7D72-DC4B-47D9-8670-7C047A4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091B-8FEB-4259-B313-4C6102B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A183-A2D0-4937-AA77-80A12ABF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418C-CB45-407E-96A8-34B7FF29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430-EBBA-4B59-8853-0AFD3AB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851-BB8C-4E56-B9B3-7524139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18-D2FB-4A00-BB9B-1ECF16E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E20-79A6-4AEB-B48D-8FD3EA7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398-5B22-4963-8F20-4A85B14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655-BC97-4B13-B62D-9761579A2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B0F-0535-444F-B30B-4198F857C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6AEB-656B-4F65-BD54-91E29812E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se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ESSE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, Arr. by Ralph E. Hud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lessed Be The Nam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Be The Nam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Be The Nam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Be The Nam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lessed Be The Nam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lessed Be The Nam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lessed Be The Nam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lessed Be The Nam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Be The Na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Be The Na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Be The Na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Be The Na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Be The Na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Be The Na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Be The Na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Be The Na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22Z</dcterms:modified>
  <cp:revision>23</cp:revision>
  <dc:subject/>
  <dc:title>Slide 1</dc:title>
</cp:coreProperties>
</file>