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2BB-8CBE-4D4C-8A08-4A501092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193-0646-4861-8326-C85502F3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5F6-5014-4330-B90C-DC51FCD9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D46-D22E-4D8E-ACC5-FA04495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8B8-3F14-4D4F-9B28-D1CA1105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5947-35FA-4D14-BE35-D6296498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C96F-70E1-4F35-A695-C27F7681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B1A-830C-467B-86D3-B1F40110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8FAE-BA58-415A-9A63-18109CC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B387-3D11-4F3B-86F1-EE65E541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583-36A4-49D7-ACCD-84ECE92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BC0-11B3-41D3-BBEE-CEA6676B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4650-33F8-4D11-8208-97DD6A1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E9C9-B729-42C9-9669-1344566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2EAB-00A6-44B4-B1FA-F1B756E9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7AEF-0D24-4DF3-A206-322E6262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E005-3087-4A4F-9286-BF55170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368-D92F-4BCC-AB70-088662A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6F86-67F5-4A7E-AD16-5A61E391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1925-C374-4C07-859F-23B816B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6375-8A0B-42DE-A6FF-BBD02A5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1F2-5263-4C70-9212-B8C03E12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2100-82D3-4775-92E6-D4E0DB24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1747-AA8A-419F-B9F1-A3DC7FE1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B7FA-3938-4ECD-9D1F-CDAF739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7137-4698-454D-B046-A371AE12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99AC-DF1A-40A3-9F82-9622F73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FB0A-8F23-4DD3-9064-B9E9DDF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610D-38CA-46BB-9367-AE3F51BE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B7B1-7CD4-4CBE-ABAA-3A8E6874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86A2-7B32-4BC8-ADE8-7823E2E2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BDA-F4A5-4E45-B8E0-C32C9A4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DD4-0E66-48C0-9F51-F59A2D1B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F8D-CD57-4157-9260-BD93ABE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67D-67C5-4E05-8D8D-3AE3B622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C3D-8485-4E17-80D2-BA53314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B0C-5E26-46B0-BE37-F53923FC1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A447-B239-4CB6-B91A-8FC360B6C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563-DBEE-4131-AE3C-A6CCA64DD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nging In The Sh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A. Mino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nging In The Sheav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nging In The Sheav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nging In The Sheav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nging In The Sheav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nging In The Shea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nging In The Shea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nging In The Shea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nging In The Shea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nging In The Shea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nging In The Shea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nging In The Shea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nging In The Shea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04Z</dcterms:modified>
  <cp:revision>32</cp:revision>
  <dc:subject/>
  <dc:title>Slide 1</dc:title>
</cp:coreProperties>
</file>