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7135D-BC1E-4C51-9124-D395F4877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D4C38-7460-4BEF-A668-5F18EBDEE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DF340-464B-45CA-8ACB-7699379F0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53BDD-A319-4559-9DC1-94E5433DC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D650F-74D8-4DBF-AE1C-314B48C3B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92381-CC23-4301-AC91-B74079AF7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D729C-F145-4620-9893-9FFB556F4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4A793-34E2-49E7-A986-95229B095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B9897-50C5-4EFF-9ADE-0DBE01D2E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39B18-4484-4C0B-B4A3-51F720E87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CA4BC-39E6-40E8-849E-504BE7C37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3A4A0-F340-46CC-9385-40E9A133A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2458A-E8AC-49BC-A49A-C19080EBC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743AD-4CE7-43B2-B1B4-EA83AFC5C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0FD8E-A2A3-4777-9D5A-393265B5C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18991-ABE6-41BF-8AC7-5B4FF5B2E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AE441-4EAE-496C-9F3A-D478581CF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6DD08-5F6A-4344-AA3B-DA0E011AE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7A7EF9-03A1-4653-8B56-98353684C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61E5BD-3190-4288-A8FE-C1CFBCF66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1DBA5A-C897-47DE-83AB-D08BB5613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BC681-AC08-4DBD-8F9C-5A1E72E6F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B627E3-FDC5-4407-A94B-63DDE66EA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812BDD-746A-4AEB-B697-E38E04D02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6241BC-F8C5-432F-863D-2D2B8E404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9D97CB-6FBF-4896-97EF-32014A0AF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51E16C-1666-436E-8B90-E3128024A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7C28A8-470D-4AE5-97F5-EACD347AF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729A08-2F44-44B5-84B1-E3047F891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207B0B-084B-4BA3-A4CB-7E66841E3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4C00B1-93B9-4492-B1D6-99F1AB304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CA66A-C440-41A6-A74A-93F907A80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62437-DF12-4430-A053-6F842F3A0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559B7-21CA-4E95-BDC9-8C0E33533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EC73F-FCB4-47D4-A26F-B40E36298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E24DA-8F12-4DD1-AF69-D6584F729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80C7F-F8A3-476A-8714-5BE0CCF43D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00297-E890-4C4B-9C91-F76558C6890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2AE78-B011-497C-A700-6F91D390FF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3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Blest Be The Tie That Bi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DENN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40320" y="4902120"/>
            <a:ext cx="1249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3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F/A - 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John Fawcett (178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Hans G. Naegeli (1832), Arr. by Lowell Mason (184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4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Blest Be The Tie That Binds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15920" y="6488280"/>
            <a:ext cx="380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Blest Be The Tie That Bi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Blest Be The Tie That Binds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Blest Be The Tie That Binds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115920" y="6488280"/>
            <a:ext cx="380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Blest Be The Tie That Bi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Blest Be The Tie That Binds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Blest Be The Tie That Binds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115920" y="6488280"/>
            <a:ext cx="380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Blest Be The Tie That Bi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Blest Be The Tie That Binds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Blest Be The Tie That Binds_v4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115920" y="6488280"/>
            <a:ext cx="380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 ~ Blest Be The Tie That Bi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Blest Be The Tie That Binds_v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84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3T18:52:31Z</dcterms:modified>
  <cp:revision>30</cp:revision>
  <dc:subject/>
  <dc:title>Slide 1</dc:title>
</cp:coreProperties>
</file>