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743-0AE8-4199-B224-4F4210E4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C67-2F77-4407-8992-AD6F64A8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AC1-8E23-4D9A-A9C1-CF610CA7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8C3-1465-46EE-BB99-1CD3730A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A06C-BD9C-4599-ACD5-3A594CFC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BCEF-A91C-4AAB-9ABC-7DE6982B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F6C2-5E08-4D3F-81C1-B03E6D4A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E93B-950D-4832-9D4B-5076B68D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4A3D-DDAF-4441-9127-8C291241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0649-91FA-40F4-BD3A-C044B241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6958-F96A-4D77-A9D9-494BC7E7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923-B508-40B2-B87A-6A91D54C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C140-48E7-45EB-85E0-91130294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144B-68EC-44E5-A4AC-0A0272A6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0BFA-3DCA-4A36-92B6-7DD4B34B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78EE-CE11-4C0A-A372-11786BD8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CA55-80CF-4376-97E1-F73596E8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F47-6D50-4E5D-896B-097CCA1E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77D97-A0AE-459C-9A3F-3DFBEF77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7136-794C-4FEF-90D2-3D42A6F9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083CF-4BDB-4BC8-AD3D-7C484116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F99-8527-4F94-9A4D-F5B9C702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DC1F-7FF2-41CE-B807-C69B1A2B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52509-8D4B-42FE-88E7-8BFEFFFE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9005F-2BC5-4BFB-9A27-14FFF063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F27B-4503-489C-958A-0DEC8C65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A9E33-F9E4-42B6-975A-C2473B91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248A-C0F9-4443-A7D8-4E80D875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FC978-A44F-4F67-A585-FA1636DA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F8384-E4EA-4F8C-99BA-771F9524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2964-C65B-41FE-BEF1-C37719FE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A61-AC18-45F0-A925-E1A61448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D1E-B1DB-4737-8734-78E0D5C7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9C7-B1C2-4125-9728-C6256856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58E-A9D3-45D8-88B4-9A31E02B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BCE-88E7-461A-9D2A-B3F5481C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C892-4F69-4EB8-B9D4-38074163C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BEFA-FBC7-4CAC-B460-6106100506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F018-D98A-482E-8455-12B5F68A8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reak Thou The Bread Of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READ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4.6.4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Annie S. Hawks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reak Thou The Bread Of Lif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160" y="6488280"/>
            <a:ext cx="40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reak Thou The Bread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reak Thou The Bread Of Lif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reak Thou The Bread Of Lif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0160" y="6488280"/>
            <a:ext cx="40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reak Thou The Bread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reak Thou The Bread Of Lif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reak Thou The Bread Of Lif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0160" y="6488280"/>
            <a:ext cx="40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reak Thou The Bread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reak Thou The Bread Of Lif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6:49Z</dcterms:modified>
  <cp:revision>35</cp:revision>
  <dc:subject/>
  <dc:title>Slide 1</dc:title>
</cp:coreProperties>
</file>