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A45-BDDB-4724-BC4A-4FB4B7C6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7D9-59EF-4C13-9AB1-8487B8C3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8FE-2238-404B-9D1A-0B65A2DE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14D-A9EC-4014-A98F-F48D487E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36FA-0407-4031-B178-283F44B3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851B-B1D9-4DBF-9D17-8FA2CA39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9C20-56A4-4F2C-81BD-1968DB01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1A18-5AEA-457A-B985-F4C133EA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BD74-7979-42E1-A90B-560DB445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7EA0-1113-4834-A0AB-FE4AA1F3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BA51-AA5C-459B-AE65-7F7BED7B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0B3-953C-409B-93DA-AFEDB25F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12E4-0F54-44BD-86BB-5F23AB7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3500-B1A2-44AE-BA32-9B4DFA39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A58C-E254-430B-9BA0-D9EE8E0E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A544-626A-4B50-9570-75AF7494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7F6D-9093-48F5-9363-D116D255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545A-28D9-4181-BFDC-499F8268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0098-B44D-4282-A17C-97F49E23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3B55-35C5-42FE-9A05-E4A13288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129A-5835-4808-8A45-96311C7C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DB21-6A93-490D-BD68-E8387A86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D39-CF87-40B7-8B0D-D18A73A3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667F-3878-4029-B314-6D2E07DD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1688-585E-4D8E-88A0-A7E2739D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2164-3AD0-4C87-A87D-2EB85035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C6DB-CC1E-4234-BF00-85A2F40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0FB0-693B-4FDA-989C-846800A8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B35B-AAE6-4307-8444-AF1DCC69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0D31-71C7-4B5B-992C-6C1F1C7A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655-C7FA-46F6-AFAA-4085F1C6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372-B6CF-44B1-8EDF-C3BAC04B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BEA-B8BF-41F4-AFB5-698E043E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79C-14EF-4592-8BC7-A7018D71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17C-2966-431D-BA71-4B24B139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731-548F-4233-A6CE-38B49B6B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76E8-8E67-49C8-970E-66D462F50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0E1A-590C-4990-B512-71C18ACE3D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EF98-061F-45D8-9A31-49A11F55F1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A Light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F. Sims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F. Sims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 A Light For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880" y="64882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A Light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 A Light For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 A Light For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 A Light For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e A Light For Jesu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1880" y="64882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e A Light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e A Light For Jesu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e A Light For Jesu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e A Light For Jesu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 A Light For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880" y="64882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A Light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 A Light For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 A Light For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 A Light For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 A Light For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880" y="64882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A Light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 A Light For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 A Light For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 A Light For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4:28Z</dcterms:modified>
  <cp:revision>34</cp:revision>
  <dc:subject/>
  <dc:title>Slide 1</dc:title>
</cp:coreProperties>
</file>