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12BC-CB47-4EAF-A867-9B78ED7E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526C-625B-4B8E-9E1F-99D48B91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3D3A-109A-4B8C-AB0B-C7AF0012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41E4-5594-4D0F-9AF4-B516227D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4594-9FCC-4D6B-821E-CEB93ED4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C79A-5702-4A49-ADCE-7883BE27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DAB8-BC74-4899-BA8D-E0720084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E248-B428-4221-A4E9-BB79EAF6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9EB8-DF88-4E35-B82E-E61C7F84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3C9E-CEA5-4762-829C-7DA60336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1B14-F63F-45E8-A90F-FF2371A0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B8D-7807-4E19-A70D-13743D08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1DDE-A2DF-4AB6-BD3F-4CF5CAC0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7C31-B66E-4287-8F0C-964307EA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1CCD-75CD-4D04-A16E-F721D9C1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6483-0407-4FBC-A145-3C714E7B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6E26-A554-4906-A8B8-078148CF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7DC9-8167-47F1-AF6E-D031FBC8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ECF5E-F4C9-4119-932A-B9EBA88B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8D7C7-31EE-4E75-9609-50FC9D82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7D9EC-4462-449E-B8B0-20821BC6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9B27-75FE-47F1-8DEE-294A0CA0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0105A-6520-499D-8147-1DE4D8E9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60518-DF4E-4987-8472-DB008F49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64D84-A46D-4F63-9B0D-3FF0ABC2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13244-2FE9-4436-9B71-2BEF593A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3DE40-F802-4A09-9B15-8E87F2B5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0A536-ADF4-42C4-8DAC-1F78CFCB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03AE3-EE1D-4C0A-966C-41896C3F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EF928-9C90-40CD-8927-2F3D96A6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B8E4E-AD5E-4766-B78F-BD72D4BB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7817-8A0C-466C-B9A8-1C7B08BD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9598-1F96-473D-B335-8BCB2A7B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A4E7-6146-453B-A6D7-912CB8D4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676-ED32-40D6-995C-E9EFB218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F570-92D6-474F-BA19-F5FEF072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DA52-28E1-4974-9E22-0C21ABEB7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9FF5-A597-4D22-A9FF-08853E0E60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658D-1196-478B-9057-AC44A574E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eyond This Land Of Pa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M. B.C. Slade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r. A. B. Everett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eyond This Land Of Part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5840" y="648828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eyond This Land Of 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eyond This Land Of Part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eyond This Land Of Part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eyond This Land Of Part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eyond This Land Of Part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5840" y="648828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eyond This Land Of 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eyond This Land Of Part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eyond This Land Of Part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eyond This Land Of Part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eyond This Land Of Part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5840" y="648828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eyond This Land Of 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eyond This Land Of Part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eyond This Land Of Part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eyond This Land Of Part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7:08Z</dcterms:modified>
  <cp:revision>28</cp:revision>
  <dc:subject/>
  <dc:title>Slide 1</dc:title>
</cp:coreProperties>
</file>