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249-2BED-4E44-A136-9F8BD852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089-2E44-4C04-A160-B381C25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819-3B10-4AF3-9CA4-AB155290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96A-0C3C-4A6A-8FC8-FBBDE283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625-1619-496F-8834-EF79F9A6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C6D-EB3B-46B3-A386-E3F8F34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4AC0-609B-45B8-8C36-7258262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422-FF8E-4454-972F-A374411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80A-642C-4F2A-8479-DD78EFC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16AA-16B7-4FE9-91EF-F22F15FA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C8E9-82C5-4B02-96DD-84BFF53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0E9-4B36-49CC-B560-FB50F742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4F19-9BD5-445F-B3C4-E29107F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692-C123-4972-9EB5-B4818B2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94C-4678-4449-BF55-D8C17A48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3308-0954-438A-8E3D-37993B01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24B6-8356-4977-A501-F739E764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550-6CEE-4438-9773-9EBA8EF4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1EC-86B9-411C-A9F2-1470CEE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14B-2448-4EDC-B103-B7D7C29C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4B3-114A-4FE3-9093-2B7BB5A5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38B-2A8C-423E-A70E-5D49B6B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DFE-8571-4FE4-9DC8-9170F249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244-75C8-49E1-997F-8384165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77D-4C14-4750-B2DA-72DDA08D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034-A54D-4B12-85C4-51E6DC2A4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Not Dismayed Whate’er Be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God Will Take Care Of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ivilla D. Mari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tillman Marti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e Not Dismayed Whateer Betid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e Not Dismayed Whateer Betid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e Not Dismayed Whateer Betid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e Not Dismayed Whateer Betid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e Not Dismayed Whateer Betid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e Not Dismayed Whateer Betid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e Not Dismayed Whateer Betid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e Not Dismayed Whateer Betid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e Not Dismayed Whateer Betid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e Not Dismayed Whateer Betid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e Not Dismayed Whateer Betid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e Not Dismayed Whateer Betid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e Not Dismayed Whateer Betid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e Not Dismayed Whateer Betid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e Not Dismayed Whateer Betid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11Z</dcterms:modified>
  <cp:revision>38</cp:revision>
  <dc:subject/>
  <dc:title>Slide 1</dc:title>
</cp:coreProperties>
</file>