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C6C-7E73-4C1E-88A4-4F2ABDC5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6CF-699C-4E5B-B73E-231BF89B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38D-A76D-4C47-A297-E26D0492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DC4-2529-4873-931B-C73D1329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724E-FE0B-481E-9429-A56332EF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BBFA-CCC3-4895-A44D-57149A19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C852-FF1A-4850-BACF-92CF0B2A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67A8-9E92-4A15-926F-43BCB10E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FB14-9429-4F55-9B15-739D366F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501C-2B25-469F-A3F8-B807C912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B44E-8D7C-4FBD-8F12-82D5C14F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DDE-E362-4324-B92E-1A1F97B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718F-5122-4252-B311-833807C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AEB9-6775-4C49-8C7D-C0731D9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97F6-126B-48FE-90B8-A1D235FD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D84-7EEA-462B-B9C5-52246E46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7F4-46A8-41C4-9DED-D2A813CB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459-7D55-4653-A303-4586E0A7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6D09-6CE4-4C6E-9B41-063F3C4C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36F4-B98C-4768-8153-01D2F68E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465E-9B05-483B-A9FB-201E495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0FF-3008-49B1-80CB-DD55E8C7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F707-10A8-4DE9-9732-E95F051B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5BA6-BAA2-4D71-B15A-BDEBAD0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C6CF-B0F0-48D3-9EAE-818B64A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1944-28F3-438F-AC5E-A83AD53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9DE9-F7AE-4BD5-9E6A-AFCED6A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4A1D-BF11-4261-A20C-67E77CE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5834-460D-418E-A82F-615FC8D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42B6-B3A5-4AC1-B681-33D23020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FE94-04D2-4732-9D62-02F953A8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2DA-A3E4-4878-9B6A-F47A320E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D76-0FDE-4A5E-A4A6-DC805A1B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851-BEB9-49AB-9AF3-CBD1898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B83-A18D-4BEC-B8DA-0714911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3D7-2805-4DCD-921A-4A79E5B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B9DA-E70D-43E5-93FC-C2119254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79C7-FC7C-4305-8D19-BF258E991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39C-9ABB-4A4D-ACEB-36D5E7AE3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E. Warren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E. Warren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autif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autif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autiful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autiful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eautif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5080" y="64882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eautif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eautif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eautif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eautiful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Beautiful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autif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080" y="64882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autif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autif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autif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autiful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autiful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autif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5080" y="64882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autif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1:49Z</dcterms:modified>
  <cp:revision>33</cp:revision>
  <dc:subject/>
  <dc:title>Slide 1</dc:title>
</cp:coreProperties>
</file>