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B0E-DBFF-4B07-AFFD-D1FF81ED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C39-813E-4E78-B959-B1F37DC6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F10-D8B4-4347-B22B-2C51B14D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E1B-33D4-44BA-B9E5-1061644A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0703-5B5F-4E6F-906B-EB9F548B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A51F-D25D-4328-9C47-F65411F7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E0C9-3CD6-40D3-89D6-273630A6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4565-3D5F-4D97-8491-4B03863D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1A9E-9B22-42C6-A91C-2B72C8F4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1380-7478-41CD-82FC-F2A4A644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85B8-89B6-4F57-950E-7C1B6666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0BA-B944-4C62-B178-141A3524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32B8-E876-4215-9FA6-91A2976C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0013-7773-4E10-8B40-7B608850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B539-C9D8-45E1-899E-1F100095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799C-2FD6-4622-94D7-5DBDA8CE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8693-8A60-45B7-9332-4F94D634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D39-04E5-44B4-826B-B2B53B16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D3CD8-238F-4AB1-8AEB-A71F26BD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F93C-0598-49E4-AA4A-3F7C6543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37B2-ECB0-4DB5-8E6B-97CCA582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FFC-D05B-4FC2-B6CC-EB68822D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60C3-FBC0-4B05-8E51-F48E5BAE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9106-1CC0-4693-A844-A287098F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69009-38C1-4CE1-BB49-15BA1434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8BE7-6C9D-4BC0-835F-13D8F71E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41F5-989A-4B88-B295-9B741997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4F4B6-EBE5-44C1-9715-0BB11D0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4324-827D-4CE3-B8B7-BF4290BA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E01B-7101-43DB-8DD6-46BB4724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EA25-DD46-47B9-8034-9D2C3366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775-33E7-4CB5-B522-3AA665E0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391-9687-4FCC-834C-E6302B67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B00-1C97-4F45-8310-33B2916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BF8-C201-47DC-8730-621326BA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D79-5E98-42A5-A4AD-43B4CC24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CDB63-9D02-4D70-9D4C-2F282D884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41D22-77F0-4D90-8D62-CA2895990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49AD9-6018-480F-908F-EEEFA31BF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Still, My So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FINLA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.10.10.10.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  <a:ea typeface="Arial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  <a:ea typeface="Arial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89400"/>
          <a:ext cx="9234360" cy="14824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Lucida Sans"/>
                          <a:ea typeface="Arial"/>
                        </a:rPr>
                        <a:t>Katharina von Schlegel (1752), Tr. by Jane L. Borthwick (18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an Sibeliu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 Still My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 Still M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Still, My S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 Still M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 Still My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 Still M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604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Still, My S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 Still M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 Still My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 Still My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04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Still, My S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 Still My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5T16:38:24Z</dcterms:created>
  <dc:creator>Noel Chumbley</dc:creator>
  <dc:description/>
  <dc:language>en-US</dc:language>
  <cp:lastModifiedBy>Noel Chumbley</cp:lastModifiedBy>
  <dcterms:modified xsi:type="dcterms:W3CDTF">2023-06-23T18:53:02Z</dcterms:modified>
  <cp:revision>5</cp:revision>
  <dc:subject/>
  <dc:title>PowerPoint Presentation</dc:title>
</cp:coreProperties>
</file>