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A7C-1BB3-44F3-8476-3C6A41BB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2A3-E713-44DA-911E-E0EAA54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851-222A-4511-82F2-9535D408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1FD-F244-4E5E-9155-10C5BC0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F39C-D7BA-4C71-9EA7-85F75837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1BC-08C2-4804-BD2B-A9896B66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665A-10EA-47F3-AAD1-2332594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3DE-A670-4B2C-B905-D0D0A96D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E4F2-C429-42C2-B023-5DFBFF0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AF6C-9D84-4CE0-BF15-5098784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B531-7C7B-417C-9DE2-7D12C89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699-ACD8-437B-9DCD-9E624B61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D60F-DF03-4D4A-AC40-99872D6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7E77-85EE-4613-AACF-D4CD17C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E831-ED0E-4323-BCE7-D076E7FA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018-DC6C-4548-ADBF-8F6EF9DA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6A7F-C87A-448C-B5BF-468E12F9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D61-16D3-4999-BB77-EEB140E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DF47-A9DE-4F7C-A65B-90D7E6A1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36DB-88DE-4C61-9E6D-C897CED5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4BDB-32A0-4461-A402-1F6A1B60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2F6-BC30-448C-B245-9F96E2D6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980A-7EE0-4AA2-AE0D-E6BA12BA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5BDF-0C6F-42FA-AAE7-4446EBED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5DC7-C6B0-47FA-AACF-072C5B8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31A6-8370-4673-A18C-77A7C92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720D-0433-4B9D-AE6D-33E792C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2457-8D65-40EE-AE6B-149A53D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B8D3-EBD6-4CB0-86D4-1256EF79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DE0F-777C-4609-8FA8-47E8C3FF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69C9-029A-4997-BAB0-17C2D361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FC2-F308-498E-8948-6E5A57B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437-2AC2-44F0-9BB6-FDFB7EC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A38-FB9B-472C-9C4B-7A58078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BC0-B0A1-4750-AA70-FC9D4F6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FE7-2DAA-40AC-9BE0-4F66B21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DA17-9C57-4216-82B0-2A4806EDC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DF26-5920-4C35-A28B-898AEAF3D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AAC-8F49-4D3B-A356-4759C56D9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ing Them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ark! ‘Tis The Shepherd’s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excenah Thomas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ring Them 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768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ing The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ring Them 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ring Them 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ring Them 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ing Them 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68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ing The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ing Them 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ing Them 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ing Them 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ing Them 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768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ing The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ing Them 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ring Them 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ring Them 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18Z</dcterms:modified>
  <cp:revision>31</cp:revision>
  <dc:subject/>
  <dc:title>Slide 1</dc:title>
</cp:coreProperties>
</file>