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8D7E-45D3-4DD5-BD52-A0B80CBBA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41B3-7786-40A4-807E-81D5D2C1E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6387-A19F-485B-BC20-09CF9D287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933B-6280-499F-8E6E-AA764CCFE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86F72-E859-4DB2-95D3-68D644A35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C33A8-BAB5-429D-AA00-8EC2F885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AB145-7537-46D2-AF65-D6C6B0D55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F1EA3-701B-42D4-9FBA-DDFA4CBE6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89A94-456F-40AC-8A28-21793EC5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C5C40-1EB1-47B6-BE02-553879968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17FF9-C42A-4EE2-BAC5-90EBDE0B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867D-38B5-4D37-B20B-4938F32FC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79C1A-2830-4E2E-A77E-30635B80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2EF2B-C14C-4D47-B92D-ACF93C1E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BB5F3-9977-456B-8322-6CA7E37E1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033E0-B039-45EF-A013-CD01FAEA2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FDE23-FD86-4B1B-B305-9519287DE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800D-017E-49E2-8A20-EA4404C9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8DEEB-451B-454B-8040-1C6FA233E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FCB80-69B0-4011-B97D-C71B806E0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C6AE7-1143-4E40-8F1A-49E788359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9940-5938-4C43-B343-DB788DE6C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2F656-4877-4DF1-860C-176D29EC0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CC43C-DDC5-42E7-B9CE-1702ABF17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B3102-3119-455A-8B43-DC4493EF5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8D8EA-8148-491A-8145-D0313CA9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DE09F-B523-4D14-B66C-507129DB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29FA0-E7CB-4DF4-9E4C-68921E07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A3065-F9C0-498A-AA06-3D6414C4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C2A1F-C69A-4866-9FAD-8F6C48301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81B3B-BFCF-4267-9E37-0425E9B57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54D1-69BC-41AB-82E5-35F43863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FF3F-B734-4583-9EAA-A34D91271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C7BF-9D4C-4177-8DB1-93754E80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0B6A-6EC8-4D35-82E6-B250B18F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2788-E0C2-45B5-9D1C-AE6B5350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A0CB9-13A8-49FB-A1D2-3B30FD2C5B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F9B68-46B3-4C4A-9386-6FFB2BD9AD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A1E4A-768F-4249-B78A-5BD1576E76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Beyond The Sunset’s Radiant G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Beyond The Suns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234360" cy="1484640"/>
        </p:xfrm>
        <a:graphic>
          <a:graphicData uri="http://schemas.openxmlformats.org/drawingml/2006/table">
            <a:tbl>
              <a:tblPr/>
              <a:tblGrid>
                <a:gridCol w="914400"/>
                <a:gridCol w="8319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sephine Pollard (187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. O. Perkins (189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Beyond The Sunsets Radiant Glow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28880" y="6488280"/>
            <a:ext cx="46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Beyond The Sunset’s Radiant G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Beyond The Sunsets Radiant Glow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Beyond The Sunsets Radiant Glow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Beyond The Sunsets Radiant Glow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Beyond The Sunsets Radiant Glow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8880" y="6488280"/>
            <a:ext cx="46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Beyond The Sunset’s Radiant G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Beyond The Sunsets Radiant Glow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Beyond The Sunsets Radiant Glow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Beyond The Sunsets Radiant Glow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Beyond The Sunsets Radiant Glow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28880" y="6488280"/>
            <a:ext cx="46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Beyond The Sunset’s Radiant G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Beyond The Sunsets Radiant Glow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Beyond The Sunsets Radiant Glow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Beyond The Sunsets Radiant Glow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3T18:58:21Z</dcterms:modified>
  <cp:revision>36</cp:revision>
  <dc:subject/>
  <dc:title>Slide 1</dc:title>
</cp:coreProperties>
</file>