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A1F-0499-496E-980B-3C23591E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E06-0EEB-4F29-8815-D6DF007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B63-E9EC-45C9-A967-2EE01311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4AF-2963-4FA5-8A5B-61C33AF2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21A0-001D-451B-B481-8DBFD1B6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1CE9-E632-4B67-9FB1-78BF4210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EE39-DFD2-4BD6-8EBB-77DDE599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A708-7CA1-4F23-BE5F-97402278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5D8E-562F-4B39-80EE-3F3BBD69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5808-93E8-4D29-B194-EDF98013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1AD4-EEEA-4455-B3F3-88EAD13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483-6652-4FCE-98C9-75F85E9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4597-5ED2-4E9E-8B7F-59ED328E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A4F4-0B6F-4CAC-B460-6E4CB3C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407D-9727-4AF1-857A-7B2E0AAB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F3FC-91DD-4A43-8B55-9DACA690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75DE-ED6D-4999-95F6-2736092F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1C8-0551-42EE-90C5-98C4D5B1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5E9C-60D9-4B27-B867-898C3BA2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6A56-864C-4BB3-875D-2374319D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D4FF-7E67-4C1C-89EE-2960ADED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EE0-2F4D-4218-8C42-C1E4946A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5D80-74E0-4CAB-8016-3020E093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B452-DCBE-4D49-9F29-E3220F05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89D1-FB35-4873-9A22-DF27C558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5A18-9421-4BEC-A6E9-FE71F8B2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7E2F-81B2-403C-B169-FB4D3D21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DE8E-1D97-4BCE-9763-E5B3312F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268A-992B-4301-A36F-8912389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87B3-5359-4286-BAF6-C3B8F902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6469-71A3-40BB-945E-E9318A4E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E1C-C54D-4219-AA60-9C3F5743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A9C-57E4-4A3F-8907-95A58058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F2C-FBFE-4BC1-A7AB-4F38E56C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84D-60DC-4A65-A9B6-88DE24B8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CE9-65C7-4A51-869E-AC23CF75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07A8-F0F0-4E76-A8E2-D5D30ED6E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DA1F-B650-4A0D-BC7D-FAD1C53D7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B5A6-F08C-491C-B9D0-F72CEB5EE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  <a:ea typeface="Arial"/>
              </a:rPr>
              <a:t>Blessed Are They That Do His Command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Trickett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lessed Are They That Do His Commandment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58760" y="648828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lessed Are They That Do His Command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lessed Are They That Do His Commandment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lessed Are They That Do His Commandment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lessed Are They That Do His Commandment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lessed Are They That Do His Commandment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8760" y="648828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lessed Are They That Do His Command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lessed Are They That Do His Commandment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lessed Are They That Do His Commandment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lessed Are They That Do His Commandment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lessed Are They That Do His Commandment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8760" y="648828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lessed Are They That Do His Command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lessed Are They That Do His Commandment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lessed Are They That Do His Commandment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lessed Are They That Do His Commandment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7:39Z</dcterms:modified>
  <cp:revision>33</cp:revision>
  <dc:subject/>
  <dc:title>Slide 1</dc:title>
</cp:coreProperties>
</file>