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D91-186B-45A5-A38D-85E86295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005-DD81-4D5C-BE04-B06A7EF5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F49-5277-4556-9046-237A7C1A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6FA-916E-4E47-A954-DA11109C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DFD4-0532-43C9-BF88-3B984858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3C76-B89B-48DC-847C-9C7C7F4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B50-ECD3-4C3B-B16C-3C28F4A7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8174-8CBF-4037-91C0-C2512F6E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C941-EB94-467C-BD22-A05B9D14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ECA1-F053-4735-BAA2-62B28BF8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4550-1507-473E-BBDC-0508DC7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51F-66B3-4AC9-8DC5-4D11D247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D9BB-C8BB-441E-8DC7-48B62DB5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2F4-7713-46FE-86EC-A7DA548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E3CA-3BDD-4B73-9AB9-ACC7239F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F8BC-FFCE-4654-99AF-5511BF8D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958C-12E5-4347-8F73-24D41CF1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0B6-135F-47B1-945D-48FF40A6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7BDD-D99D-4C0A-B469-706EBC6D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84C0-50C9-4A88-97B3-D6A40B4F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0E5E-B48F-4359-AA98-3DFC80A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CF1-38D1-42F2-A65D-B41DB9D0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9FCE-B865-4E2C-87FC-517AB0F6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356F-4989-4AD3-B7E7-DA88AD5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3FEA-6C38-4EF0-A7A5-6BF9E627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54A9-5B5C-4555-A9B7-848E85F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6A78-5B63-4757-B252-B8A5BDA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F85B0-84F0-4169-AF70-B2ED57C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54BC-D371-4AE6-8D92-1046842F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4325-BD6D-4C85-ADCC-A45A0EBA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F71D2-C615-4BB0-A890-9AA099C6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A91-E6C4-4B18-AE18-1C4DBFE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3DE-51C9-4CD6-9D51-7F66FA1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8D7-5BEE-4694-9D13-96D7585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339-22F9-4917-AD14-12D1047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AFC-1E7F-4A6D-8166-CFA0A34A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1529-02A7-434A-B568-EF6EF7D13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E72F-811A-414C-B730-49477C7CC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32E-688A-4292-9B69-E55574AFC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ulah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: Edgar Page Stite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ulah L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ulah Lan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ulah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ulah Land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eulah Land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eulah Land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eulah Land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ulah L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ulah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ulah L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ulah L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ulah L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ulah Lan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ulah L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ulah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ulah L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ulah L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8:08Z</dcterms:modified>
  <cp:revision>38</cp:revision>
  <dc:subject/>
  <dc:title>Slide 1</dc:title>
</cp:coreProperties>
</file>