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0DD-1EAC-44A5-84E0-8416D9A9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509-E865-4EC8-AB87-8F1ABD0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3CB-E66C-4829-B471-B82EA76B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936-078D-4861-BCDE-466352D1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1F9B-9819-4607-95A7-2038DB38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5BC-B757-4DCD-8716-109CE1D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FAC-7C1F-45AA-813C-19D8BF9A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A083-5535-402D-8F79-45F2F6C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FE3D-9A02-4865-B701-693B2AC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9E6-77E5-49E7-9B8D-1E31666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714-114A-4C2C-86BD-F2B5DE8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0E0-5BBB-4122-A5F9-CA7D2F1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A252-3ED9-4CB4-927C-D607E971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A837-C0D9-4E22-A80F-C8B0024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3FBA-BDA1-4F3B-A5E8-31808A7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801E-0A16-477E-9F05-67CF3E24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AC3B-10E3-47A6-9E23-0218D16A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B0C-CFBD-42FF-9D6F-4E65A5E7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19F6-E88A-4D15-9792-3E0EFBD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D91A-125A-40AD-A47F-1328D71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241-03F5-4F5F-97AC-FE8E3138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179-4CF0-49F3-A1AA-6C40DA3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E5FE-26FC-4974-B780-7AE9FD7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182E-59C4-4D54-857B-B4561A9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42EA-BFBF-4E78-83E9-F3945EA2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9362-D26B-40D6-A1E7-C62293B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1E3B-6153-4CD8-B1BE-4662062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E096-28E3-4EDF-B816-C1D917B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30DF-004F-48EF-8F29-C6D9E536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37A1-E2E1-47C3-AE79-2E84AB24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5FE1-03DE-409B-B1DD-C4F1A059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022-2455-4991-ACC0-70EE6BFC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BBF-4E8C-4408-8AD5-FF74095A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8E2-5C27-4F75-A10D-FA79908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030-C543-4656-B759-2D7648C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2DA-DA7F-4146-9ECB-0E9FF16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A424-EDAB-4ED2-A28B-300186FFF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E256-0607-44AE-9831-24B875D5B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427F-FD77-4EEE-B780-5FBB22660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sed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Joseph F. Knapp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Assuran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Assuran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Assuran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Assuran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Assuran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Assuran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Assuran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Assuran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Assuran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Assuran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Assuran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53Z</dcterms:modified>
  <cp:revision>23</cp:revision>
  <dc:subject/>
  <dc:title>Slide 1</dc:title>
</cp:coreProperties>
</file>