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118-F749-4ADD-A79A-654DD93A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00B-DE7E-4D0F-BFCB-A3C18DFD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3E2-EC72-49F9-BF33-FEF7725F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AC6-2541-46C0-A06F-9AE7DB5E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74A9-8579-47FF-A3A0-59B5B4AC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ECFA-DA61-44B6-881E-A908A0A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E297-9D4E-430B-B653-0E47B66D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75A7-A23D-4DDC-98FA-402BC1AD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2C99-0745-4E8B-B427-9A39BA85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486E-E295-4145-AA93-932CAAA0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BA25-80CD-40AE-ABB4-8C81DFE5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7A0-4A34-448E-B8F1-E641FEA6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F119-AA69-45CE-8D74-6FEAEBE9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1FD1-FB31-45DD-BCEA-BA045073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D8DD-C6DD-444B-B69F-B9A910AE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16F8-D990-48B3-BD87-041F066A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2266-2C9B-4D80-8FB3-8A1DD4C2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90E-41FD-4B1D-ABD1-634A1D9B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9A2-ECD0-4299-9670-3B74D5D9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525-744E-4C8C-A3BE-1238DE89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6DD-4E0F-492B-9276-DBAFAD06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A95-B927-4D54-8496-711AB89E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010-E94B-4B01-A2B0-EB29EA3C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AF5-0397-4BFC-BD6E-A485AA67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A569-D8C3-4A21-8440-50FC953BF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2B4A-A14A-415A-9E9F-C8647C03E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aptized Into Our Savior’s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VAN C.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ip Doddridge (1702-17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 Mason (1846), Arr. by William H. Havergal (18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aptized Into Our Saviors Deat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26720" y="6488280"/>
            <a:ext cx="43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aptized Into Our Savior’s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aptized Into Our Saviors Deat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aptized Into Our Saviors Deat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26720" y="6488280"/>
            <a:ext cx="43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aptized Into Our Savior’s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aptized Into Our Saviors Deat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Baptized Into Our Saviors Deat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26720" y="6488280"/>
            <a:ext cx="43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aptized Into Our Savior’s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aptized Into Our Saviors Deat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ptized Into Our Saviors Death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26720" y="6488280"/>
            <a:ext cx="43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aptized Into Our Savior’s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aptized Into Our Saviors Death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4:46Z</dcterms:modified>
  <cp:revision>33</cp:revision>
  <dc:subject/>
  <dc:title>Slide 1</dc:title>
</cp:coreProperties>
</file>