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B1D9-FF33-493B-ACEC-1841D94F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028-3B2B-455C-BB13-0C3C1BC3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690C-555B-43E8-85D6-981232D9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465-06FA-421A-B6C1-B32E1903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AF91-0AE3-4795-822B-9EDE8CD7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5435-4CAF-4331-96CE-46026B0F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7682-A4D6-4455-B5FE-AC6DB436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EA7D-D632-4CCC-A1ED-56EDF4D5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C18B-8C88-4083-ACA2-D5EF97AF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143B-77E7-4019-A283-44254065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1406-A39E-45A9-8D5E-287C85FB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41B5-B898-4106-B1A9-44F6AB2C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F058-F749-4487-AEE9-E7CA7E1B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DCA0-10F3-4CA1-B07F-C3334D1F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93FE-6B6C-4747-9915-A8392987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4E16-3ED8-498D-8AA7-AE41449E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DD96-A677-4DE0-9F95-E6FEF074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1135-34FA-413F-BC1E-57B7D853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57F10-F29C-4CEE-A84D-361248B9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7FA2F-21DF-4EA5-9F84-34C5B7CA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3E18B-3E6E-413B-83BE-6BB33A56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84A-54DF-4867-931B-AC84304B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80B42-3453-43DD-ACDC-612F4191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42802-942D-4C20-A1D1-F68DA984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58A3D-723E-4031-95D6-D0C02E6F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00758-6793-4838-A96B-39BD35F0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3B754-8217-4B33-9E73-05B6353B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310B8-4F1A-42CB-B976-79D96DBD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745BE-924F-4930-83D0-5F091A1E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4907F-62F3-48E4-B2E5-A3339062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1D466-F104-43E0-B52F-8C0F0E52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E8C-84A3-408D-8909-0A8EA80E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9D4-B80B-4DE1-8234-768A73CD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4E8-7E89-4A25-B681-1A01FE3E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3E1-3E8B-44CB-B588-077F86A1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46F-BE50-489A-BABA-F867C77F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F89F-9906-42F9-8478-E017A8CE6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3617-2B06-451C-9466-F463F1EFBD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17B1-5121-4390-A116-F19EEBE02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e Thou My 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0.10.10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66212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8th cent. hymn (750); tr. by Mary Elizabeth Byrne (1905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lt. Eleanor Hull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rish Folk Mel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92160" y="6488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Be Thou My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92160" y="6488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e Thou My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92160" y="6488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e Thou My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92160" y="6488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e Thou My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92160" y="6488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Be Thou My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3:38Z</dcterms:modified>
  <cp:revision>35</cp:revision>
  <dc:subject/>
  <dc:title>Slide 1</dc:title>
</cp:coreProperties>
</file>