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CF-CD2A-49D3-B3BB-9ED7F479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B89-2606-40D5-915A-8F4A436D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7C3-EF33-4468-A95B-C4B01BEE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2FC-4C35-4D44-B443-D04204FA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3656-4BF1-4AF5-AFFB-4486B12B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6E77-6EF0-4693-853C-20A3C46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49EF-E89C-4E19-BB34-6B311D8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C8A-C5EC-46F9-B14E-735D30D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1BD-1D95-4EB1-A44D-447A84A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D266-C747-43C3-873F-DEE65AF5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A94-5D21-44B4-8C5F-78F2123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FC0-1B84-4BAA-9240-472AC43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D702-8B7F-4FFD-9DB7-A47DD64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7D09-0575-4A6B-BF71-55DCB31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309-9C52-4649-83C9-B40E6B6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0290-487A-41B2-B6B5-A6A20D93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E01-78F5-4864-82FB-212D630A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DA3-EACA-4C5A-9E7A-DB98FF63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081-280C-4C46-B7E5-1A5E1FB9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D1F-8B0F-4D44-A6D9-1721EE6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EF1-33F2-42A7-8535-24E2E18E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968-DDED-4F61-9421-686AE2DC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351-0336-41F6-A299-179493DA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0FE-72EB-447E-B4A5-36B8B26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3DC-FF21-4513-8098-3A2389D4F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556-EA09-4F93-B8B7-7EAB39561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azing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EW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arly American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mazing Grac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mazing Grac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mazing Gr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mazing Gr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mazing Gr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mazing Gr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mazing Gr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mazing Gr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mazing Grac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784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mazing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mazing Grac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33Z</dcterms:modified>
  <cp:revision>27</cp:revision>
  <dc:subject/>
  <dc:title>Slide 1</dc:title>
</cp:coreProperties>
</file>