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439-3AF9-43C9-92FA-D72FA4FE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BEA-D9AD-4008-A9F3-6A2B43F3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974-E066-4B0F-B337-20982FE8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DBE-AC52-4E9D-988B-0019B6BE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46AC-EFE3-4033-B248-21F6F2A8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B80C-1904-492E-893B-CBF8DE3B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BC89-F07E-4046-8D32-23A35E68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2727-7475-4AEC-9DBB-4B76CFA8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59F5-EF0E-47CA-BB7B-91067E83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F87A-F5F7-4EBF-9F49-1CE80132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8AA2-BAE9-430D-B110-AC0E00F6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602-8C85-4139-9D89-70E7CB00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39BC-A538-4BB1-AA57-E39B7DA2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563E-6C34-41C8-909B-E1E6C969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2117-07E3-4C3F-91A5-EF0FDF2E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E260-B209-474B-81F1-BB774347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920B-CBFA-4642-9296-93BBEC88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D8F-D09D-4372-A4CF-5A7EE767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C42-82F9-4E7B-95BF-370E81E5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CBE-D6F7-45D3-9C44-3136BE58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D55-EC20-4983-8B9A-8A61B38C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55F-1D7D-4B23-BA43-F2A7BD65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6F4-8679-4FA2-9CA2-B3AF24E1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BE6-E8D0-4292-8B26-035DD7F3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EC16-113B-4917-BC94-5B19CCD6D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D6AB-1671-417E-A097-482DD54CEA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People That On Earth Do D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LD HUNDR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100, Arr. by William Hethe (15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uis Bourgeois’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neva Psalte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5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People That On Earth Do Dwell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People That On Earth Do Dwell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People That On Earth Do Dwel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People That On Earth Do Dwel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People That On Earth Do Dwel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People That On Earth Do Dwel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People That On Earth Do Dwel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People That On Earth Do Dwel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People That On Earth Do Dwell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3788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People That On Earth Do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People That On Earth Do Dwell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0T02:04:06Z</dcterms:modified>
  <cp:revision>32</cp:revision>
  <dc:subject/>
  <dc:title>Slide 1</dc:title>
</cp:coreProperties>
</file>