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2A0-E008-4C67-AD7A-FA87F37A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9A8-EF7C-4F52-AD58-7261BE1A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34B-8A3C-4C8C-9EE0-7B3ECD0F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770F-7075-4623-9544-62A68FAD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764-F254-4A2A-946C-F3151FE6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BC8-DC08-4927-B480-29079699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237-FC13-468D-BD64-AF3377CF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C25-9A16-4BBE-8849-83CE26E2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2DD-AC45-4AD0-BA64-C9FC543B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69BA-0788-420A-997C-5A5FB627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FEC-4918-4EF4-8432-BCD801E8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940-99C9-4444-81F9-475E6BBA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D9BC-112E-422F-9242-F3B6877A9A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To Jesus I Sur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 Surrender 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Van De Venter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S. Weeden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All To Jesus I Surrender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112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To Jesus I Sur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All To Jesus I Surrender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All To Jesus I Surrender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All To Jesus I Surrender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All To Jesus I Surrender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12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ll To Jesus I Sur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ll To Jesus I Surrender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All To Jesus I Surrender_arr1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All To Jesus I Surrender_arr1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1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All To Jesus I Surrender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12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To Jesus I Sur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All To Jesus I Surrender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All To Jesus I Surrender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All To Jesus I Surrender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All To Jesus I Surrender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12320" y="64882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To Jesus I Sur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All To Jesus I Surrender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All To Jesus I Surrender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All To Jesus I Surrender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1:43Z</dcterms:modified>
  <cp:revision>43</cp:revision>
  <dc:subject/>
  <dc:title>Slide 1</dc:title>
</cp:coreProperties>
</file>