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D6D4-097A-4206-B358-92FFB2A26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4453-5B8F-4267-9E78-710A79F5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1EDD-FD1F-4EF6-A424-E6C2E5321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799D-F39E-49D1-908F-5EEDC7C9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5E29-2D9E-4E40-964D-0B91AE114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C880-65E9-4C2F-BE9C-3D6340FC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0651-6DF4-4A8F-916A-F57893B9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133D-8AA2-4917-8392-036AB88E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909B-A5B2-46B4-8050-9ACECA1A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130C-6AA7-4070-9B7E-7978443F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2CBF-1FB8-4BFF-AFD2-DB100B29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0C99-8320-40F0-8933-3662F668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5D40-B322-40F9-A4D2-21D11764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F7F6-29BC-481E-9440-50687CE6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9856-8B4C-4D93-B4C6-FB1726C5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AE12-FBC3-4FF8-B642-523AB2D3E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6A49-7043-42AB-A811-85A50593C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4C1E-50F1-4164-9ED7-C78B2EA0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060F-3E48-42EB-9690-530FAA43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37F6-4303-492C-B397-1CC18240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31C3-7004-4459-9DFA-7FF3614B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437B-FE89-443D-B4CA-C041F874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12C6-4EAE-4117-97C7-5E32F570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ED9E-84ED-4608-BB4A-13292814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BA3A-0EC6-4447-8F02-6199165B63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30F4-7F1C-4826-819A-957DB63F8A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s The Life Of A Fl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D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aura E. Newell (190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. H. Ramsey (190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s The Life Of A Flower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128520" y="6488280"/>
            <a:ext cx="33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s The Life Of A F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s The Life Of A Flower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As The Life Of A Flower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As The Life Of A Flower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51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s The Life Of A Flowe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28520" y="6488280"/>
            <a:ext cx="33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s The Life Of A F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s The Life Of A Flowe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s The Life Of A Flower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s The Life Of A Flower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s The Life Of A Flowe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128520" y="6488280"/>
            <a:ext cx="33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s The Life Of A F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s The Life Of A Flowe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s The Life Of A Flower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s The Life Of A Flower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3:56Z</dcterms:modified>
  <cp:revision>32</cp:revision>
  <dc:subject/>
  <dc:title>Slide 1</dc:title>
</cp:coreProperties>
</file>