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1E85-0D16-451A-A65A-235654DD8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65BB-A8D8-4D00-B4FD-883E99B02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AB83-4D5C-4C2D-9590-E3235DFBE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0CEC-AB98-4D67-B224-F6E33C002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62571-FBC3-46D9-895F-211EE5D44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6961D-116C-4E8E-828D-4A0BC8997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88BE8-89C5-4520-AAD5-C28F28067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E3295-F51C-4D11-81A1-2643D4C08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735A0-42D7-4B2D-8B96-A0387BAA3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29F6C-A18E-44E7-8BF5-736F7F8E6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C8BB9-ADD9-4008-B3E0-573668CA8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93F5-58C0-4526-9FA2-3C59D0FFD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98035-4EE6-455C-AEEC-1889D2312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94C1D-ABFE-4C16-8CD9-DA1F211D3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B5A74-C4E0-49C6-8ABE-DD9CF1287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7702B-4C2D-4C20-A9A8-2F41B7665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B909D-67F5-46F1-AE97-963A2C89B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C139-C507-4B84-AB01-D4B6C0EEF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6A3E-1F66-46A0-8842-C02BC4188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FDB0-A5D4-45F1-8348-8F58433FC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9782-B59F-4F54-8539-19886CF59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1AB3-1EA8-4ABC-87A8-99CBCC4DF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CC15-36F3-4D78-A938-D06A28726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EF3D-9AA3-4930-B9D6-7131B482A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E5BAA-7DF7-4FCD-9586-7735FDA2E4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8B312-9A16-4828-A16C-CACA8FA14E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A Shelter In Time Of St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C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599240" y="4902120"/>
          <a:ext cx="1544760" cy="10987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Vernon J. Charlesworth (1880), Arr. by Ira D. Sankey (188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Ira D. Sankey (188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A Shelter In Time Of Storm_arr1_v3o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113760" y="6488280"/>
            <a:ext cx="377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A Shelter In Time Of St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A Shelter In Time Of Storm_arr1_v3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A Shelter In Time Of Storm_arr1_v3o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A Shelter In Time Of Storm_arr1_v3o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3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51" name="TextBox 4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Box 3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A Shelter In Time Of Storm_arr1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113760" y="6488280"/>
            <a:ext cx="377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A Shelter In Time Of St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A Shelter In Time Of Storm_arr1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A Shelter In Time Of Storm_arr1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A Shelter In Time Of Storm_arr1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A Shelter In Time Of Storm_arr1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113760" y="6488280"/>
            <a:ext cx="377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A Shelter In Time Of St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A Shelter In Time Of Storm_arr1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A Shelter In Time Of Storm_arr1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A Shelter In Time Of Storm_arr1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0T01:47:39Z</dcterms:modified>
  <cp:revision>49</cp:revision>
  <dc:subject/>
  <dc:title>Slide 1</dc:title>
</cp:coreProperties>
</file>