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63D-38ED-4507-83E2-8F206268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463-1F1E-4593-AD28-BA7E5BB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21D-1AAD-4C94-B6B1-3CE8CAE8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ABE-84F2-4F58-81A3-C7F65030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4323-2CAD-4080-BE62-96F54295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6D8-9E79-42DC-9763-5DF7266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273E-A774-434A-A03C-CD4C55E5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3D3B-D302-4909-AFE9-B444EA5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CB5C-F98F-4D0F-95C2-2052AEDF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C4F6-6D0B-40CD-8B59-6BCA3E2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D41B-F0CB-4096-9223-24F277F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709-F481-4A92-8310-809660DE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AF51-85CB-4E45-82A5-F25D602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087-8847-45A8-8B6D-DDD1D602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C38E-1FFA-4A95-81C5-B5F8AD2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88CD-8561-4294-881F-EF700F97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5987-C554-43CD-A6C0-209DB19B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33C-6C40-47D5-BFD3-1F2D3F0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D0B-A2AC-4202-B488-3DBCF420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836-0C93-4997-BD79-3624D7B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35E-D5EF-45A6-BD70-D66B9BE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D46-42BD-4A23-BBB7-77F9D92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BCC-7114-4CB6-9CE3-1548BF2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F75-491A-43A3-A362-82EEA6A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CEE0-C261-4A14-93F9-A8F8E2D84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462-1B66-49AC-8A73-C92D1651C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Hail The Power Of Jesus’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Perronet, 1779, St. 4, John Rippon, 1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Ellor, 1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Hail The Power Of Jesus Nam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Hail The Power Of Jesus Nam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Hail The Power Of Jesus Name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Hail The Power Of Jesus Name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Hail The Power Of Jesus Nam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Hail The Power Of Jesus Nam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Hail The Power Of Jesus Nam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50840" y="648828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Hail The Power Of Jesus’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Hail The Power Of Jesus Nam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10:01Z</dcterms:modified>
  <cp:revision>36</cp:revision>
  <dc:subject/>
  <dc:title>Slide 1</dc:title>
</cp:coreProperties>
</file>