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384-F77E-4F60-BF9E-C80BB571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FE1-49B0-4D46-ADF6-C9A7FB51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2AA-D786-446E-AD93-3E9E473A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944-772D-4F29-94CA-7190A720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615-F499-41D4-9231-94043956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436-CCEB-4DB6-96DE-C214ACD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7C0-84E4-448C-8D49-6A1748A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673-47C8-422C-84CA-EFDDF58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F61F-1D76-460F-91E8-81BC23B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6E75-B7C0-4DCB-96FD-EB0F0027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6C91-DCA7-43D5-84DC-1BCC02D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570-52B0-4023-94ED-DEA4E07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CC8-C7E7-4836-A609-4FF297B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DEA2-8886-4525-BB7A-2CF4FD5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68C-FBE6-49E7-8865-DCC6DCC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DA4-7133-4EE0-804E-2B7D462C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F51A-F05B-43D3-B2BA-006A5F23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20F-EF5B-46EB-B3B7-D143DE7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6DB-EE9E-48CD-95B5-930A5048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021-4BBA-487B-B71E-0A2F90A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7BA-9EF1-47A2-B0D2-399526A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3FC-C32C-4D9C-AEC1-2BCDDA9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BCE-48B9-4585-9870-DB688AF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094-3D10-41D8-91BA-D2BD7A93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54A2-D781-429E-9000-64ACDABB5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D47-37D2-4465-825D-3ADD0CDBA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wake, And Sing The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ammond (17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aron Williams (17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wake And Sing The Song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wake And Sing The Song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wake And Sing The Song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wake And Sing The Song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wake And Sing The Song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wake And Sing The Song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wake And Sing The Song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6000" y="64882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wake, And Sing The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wake And Sing The Song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23Z</dcterms:modified>
  <cp:revision>36</cp:revision>
  <dc:subject/>
  <dc:title>Slide 1</dc:title>
</cp:coreProperties>
</file>