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DD00-CEFC-499A-902B-60B86B600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A4FC-15DD-4028-AEE2-392BCE8B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F0F0-FFB6-4A48-A5DE-393677272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8330-A261-47A3-870A-871555D8D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C828-46EA-4C82-BE30-D446085AF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0C0D-D5F7-4569-8ECF-A01E03ED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1D1A-B558-4ABB-BB93-8D71B818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F9A6-B52F-4393-BBE3-B46CF8DF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1EB0-7D89-45F5-BBDD-32C2A52F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631F-1C61-43B5-A1C4-76E55CB0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C0AF-0554-48A0-BCCD-582C4965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7617-6E71-4CCA-A478-9C5D66B2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5633-C247-4750-B84D-D0072081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DA06-6741-47A5-B2D5-3528BE15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EF92-146D-45F3-94F9-7AAFB460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01C7-B868-4E74-96BE-810DE397B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2BE2-37C6-4D8F-BF14-D61565B2B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83C6-CC8B-4076-A9E0-491F9DC5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1D0B-6825-4B09-843A-ADC32CF9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569C-6E29-4BBA-8358-54E96DDE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0108-8573-47BD-A32D-EFDE61F0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1CC7-BEF4-4D6C-822E-49F2DD72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15E7-720F-4D47-95F1-53E66D10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380A-6072-4375-8CD1-A6164610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39E4-2275-4973-A5AC-19B0EB698A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C22A-DDCA-4D4A-9C4A-C3D8AE1DD2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t The 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Alas! And Did My Savior Ble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/E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234360" cy="14846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Isaac Watts (1707), Ref. Ralph E. Hudson (188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. E. Hudson (188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t The Cross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98640" y="6488280"/>
            <a:ext cx="22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t The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t The Cross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At The Cross_v3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At The Cross_v3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At The Cross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98640" y="6488280"/>
            <a:ext cx="22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At The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At The Cross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At The Cross_v4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At The Cross_v4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59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5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t The Cros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98640" y="6488280"/>
            <a:ext cx="22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t The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t The Cros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t The Cros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t The Cros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t The Cros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98640" y="6488280"/>
            <a:ext cx="22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t The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t The Cros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t The Cros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t The Cros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4:08Z</dcterms:modified>
  <cp:revision>29</cp:revision>
  <dc:subject/>
  <dc:title>Slide 1</dc:title>
</cp:coreProperties>
</file>