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226-E3D2-4FF9-8A82-59C97740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8A8-06FF-42E4-8F46-334CCE5C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304-38E3-48D1-8CCE-1A370A63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601-0ED1-4CB7-BB88-029523DE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397D-C4E7-43CE-96C9-8C24B9B2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FBB3-212D-4D0C-8EA0-1B64A934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41B1-3BBD-438A-8031-B9F08B29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0900-F100-4CCE-880D-EBF26562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5F34-00F4-4ABC-AB50-E0897D77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A307-892E-4829-A44D-01C33088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A45E-3ACD-42A3-ABC9-BDDCEA3C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7FB-06BF-4CDA-8CE0-E04C7185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2E1E-C545-4CB7-81A8-CDA31D08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162A-283D-48FB-8344-B28178B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7D9A-A1CD-4759-92FE-9EE30B45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2C9E-50CB-4075-B5D0-6EE589E3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11C9-397C-4CD1-AF36-E87A6C74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5DD-ECE4-4B9F-989C-DFB9D94E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270-25DE-4E4F-ABF9-BEC89975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656-3B0F-45A0-8F39-8FF1939E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15F-D3A0-4439-98F0-EDA124C6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12B-9857-452D-9F63-A2A0161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392-74DC-447C-BFC0-A5CAB55D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CDA-11DD-42C6-A8EE-BEDAD42E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3A5C-EC67-40AA-9D36-2557326F0E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4032-A2C5-4D93-A5DB-033CF3EBC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ywhere With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(1887), vs. 3 by Mrs. C. M. A.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B. Town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nywhere With Jesus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nywhere With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1000" y="6488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ywhere With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nywhere With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nywhere With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81000" y="6488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ywhere With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nywhere With Jesus_v3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nywhere With Jesus_v3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1000" y="6488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ywhere With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nywhere With Jesus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3:10Z</dcterms:modified>
  <cp:revision>36</cp:revision>
  <dc:subject/>
  <dc:title>Slide 1</dc:title>
</cp:coreProperties>
</file>