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7BE-89CC-4231-B512-489C0DB3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7B8-4B0A-47A6-8A32-A8175063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B64-6B79-4CDE-AED1-FF5D5729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749-E6D3-4611-9D19-AEFED627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7BCB-837E-4153-A84B-27063FA4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4317-555E-4B64-B197-EB6D5651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1829-E7CB-450C-A5CD-C7B1B33A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CE62-EC8B-4D47-9A01-BF437C79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40ED-D4B1-4536-830C-311D3E28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F68E-9AA6-4A76-9DD8-76809D62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FD73-67DD-49B6-9958-6198C0A6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265-E2B3-4276-9454-4C22C06A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2B42-2D72-4425-B7CC-B96B6BCB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2889-EA63-48A9-93B2-323DAD52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0D3F-8656-4311-B621-CD18A63F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2D60-5C29-4782-AF91-EB01A584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8C4F-4FEA-423F-AE0D-8FADF933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B61-D00D-4E7F-B76D-BBFF7C72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526-AA3E-4CED-9B36-FEDE60E4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F76-2C2E-4337-B4BB-73389021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D8B-B24F-473F-87CF-DC9ECFDC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E26-A423-441B-A91F-88C18ED7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18A-664C-42BB-AB8F-B61FC78D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D2A-3DCD-42C1-A159-B4D3457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7023-DA68-47A9-B524-414D6D1A5C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1CC9-B270-4248-9375-65496638B7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hrough The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3840"/>
          <a:ext cx="9234360" cy="148428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elsh Folk Song, Trans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Welsh Air (c. 17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Through The N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7000" y="648828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hrough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Through The N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Through The N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Through The N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17000" y="648828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hrough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Through The N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Through The N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1:31Z</dcterms:modified>
  <cp:revision>34</cp:revision>
  <dc:subject/>
  <dc:title>Slide 1</dc:title>
</cp:coreProperties>
</file>