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111C-8109-46A9-851D-8EF7B03D6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E185-8893-4A59-86BE-096F8EE1D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74C5-36FD-4EF0-9C1F-16EC215BB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EBE7-A96B-4B2F-971E-A22664D6B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D4B73-F6EC-4529-A716-37D49E157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D7250-28B3-49DE-9744-7A9456A85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A7135-CF69-4A65-A843-809CAFF01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813F2-E519-4CE2-901B-55E560F86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2C86D-CD13-47D0-8929-F8AEF4992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3295F-CD6D-4DB9-9E0A-3891F726A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C9D05-253F-499D-A176-94F9B44A8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FAE9-6C20-409F-B85E-80FD40007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6E36E-D535-4D71-B6CC-23D27DD8E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3D5CA-7B8C-4D6F-AA70-BD37BFAA7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1DBF7-A080-468E-8FD7-566598C7F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6467E-665B-489C-A213-3E5003D4D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8567B-C531-4337-AB6B-08662045C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F196-75C8-416F-B1FC-537C22458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5803FE-5B9A-497E-81A1-3FCAD9786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2D48E9-D7DE-4F03-A90F-6D2E1D443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48B169-B189-4725-B557-C0B4C5434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0754-F5D4-4929-98F7-A635B6CCB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94CB57-19C7-499D-B28E-782FB1867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E5CF82-54C8-4B9E-B91E-3BEC95586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002BDB-F92D-413B-B5FB-710C8D6F3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CC5CC4-6934-413C-81E2-F9F3CB7FE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F81978-8113-4D8A-8282-E17AD8A5E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B3FCD8-B2F4-4C5D-9E4B-69086B1AA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E9AAD5-3341-45A8-B9E6-240F331F7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87BCAD-AC7E-4715-8AF6-7B6BF5816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084028-8754-4DD7-9AE2-75BB8C107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6DC8-0167-4889-94AB-FCAF2FC6E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282B-24EC-4E5C-B053-63B4EF21C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3045-000E-447F-9ECB-C1CE55F53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97FB-7221-4824-8DA0-40DE5A088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695A-90F3-40BB-9217-B658A4F7B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5D3D8-9D21-48BC-B024-9F6DA1DCC5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EDEFE-7E69-4824-98D9-89F81CC95DF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84BE8-8CB4-481F-A36D-50CA489B87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Angels We Have Heard On Hig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F/A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29096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549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Traditional French Carol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traditional source unkown (alt. 186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Traditional French Carol. Arr. M. Ang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2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Angels We Have Heard on High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05840" y="6488280"/>
            <a:ext cx="430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Angels We Have Heard On Hi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Angels We Have Heard on High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Angels We Have Heard on High_vC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Angels We Have Heard on High_vC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Angels We Have Heard on High_v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105840" y="6488280"/>
            <a:ext cx="430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Angels We Have Heard On Hi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Angels We Have Heard on High_v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Angels We Have Heard on High_vC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Angels We Have Heard on High_vC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200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Angels We Have Heard on High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05840" y="6488280"/>
            <a:ext cx="430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Angels We Have Heard On Hi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Angels We Have Heard on High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Angels We Have Heard on High_vC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Angels We Have Heard on High_vC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Angels We Have Heard on High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05840" y="6488280"/>
            <a:ext cx="430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Angels We Have Heard On Hi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Angels We Have Heard on High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Angels We Have Heard on High_vC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Angels We Have Heard on High_vC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10T03:20:11Z</dcterms:modified>
  <cp:revision>31</cp:revision>
  <dc:subject/>
  <dc:title>Slide 1</dc:title>
</cp:coreProperties>
</file>