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651-6D5A-4C88-AE35-9831AD4A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FD2-195E-46BB-B1F8-0330E4C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F19-2F53-4099-9DEE-5FB5A697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DE2-B020-41E0-92D6-ECB2F757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98F9-A63C-45CA-9335-F89689C2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E98-4311-4A1B-87C3-5EA1C84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D5B-7CF1-42B5-B242-DDD9AD5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28F-13FB-4F44-A2C1-F1A5136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48A-2D70-4446-B079-2EBEBC5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003C-BA76-458E-83CB-A825F82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2CF5-9AE4-4B8F-81B1-0F6B88C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F11-CAA2-44C1-A9E8-7F971EB3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C484-AD10-4D61-AF16-B8AD598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C4C8-99B5-4524-8252-96FB2EF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504B-D36C-4B5A-85EA-A81599D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602F-DE40-4370-8902-41132BA3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55F3-B50C-4D72-853E-46A6B4B7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812-AA37-42C3-83B6-8CDFE2C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26E-2691-4CAC-A6C8-6A4269D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6F5-D4EF-4D33-9F46-50579762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593-FE6C-40B4-8B42-5D72C63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0CA-001F-44DB-A123-C22F4CA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46B-7C9D-41E4-B83D-03ED538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AD1-892E-4C42-BAA2-953DA32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8B63-47F4-4FAB-B229-00D9038EA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84F7-A952-4D0E-8DE5-97846D6F5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lking in His Foot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lking In His Footstep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lking In His Footstep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lking In His Footstep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lking In His Footstep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lking In His Footstep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lking In His Footstep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lking In His Footstep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lking In His Footstep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re You Walking In His Footstep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Are You Walking In His Footstep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6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lking In His Footstep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lking In His Footstep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lking In His Footstep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lking In His Footstep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lking In His Footstep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lking In His Footstep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lking In His Footstep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0400" y="64882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lking in His Foot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lking In His Footstep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33Z</dcterms:modified>
  <cp:revision>34</cp:revision>
  <dc:subject/>
  <dc:title>Slide 1</dc:title>
</cp:coreProperties>
</file>