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83A-18AF-409D-B5AD-AB23213E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F78-5A59-42CA-9124-C6DD8DF2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83E-BB01-492A-8BA7-A6F19A4E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DBE-D8EF-4736-A6D1-8E27EFE7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0D24-4305-40C8-8540-8529F285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A970-B114-4BAC-86E2-823F688A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0701-5CA2-47AD-9CC0-9B10074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B1D2-428E-4C77-B80F-E4756FBF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29D5-A2A0-4833-A633-61C132E6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DBCD-524D-425F-A1A0-912BB59C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B36C-C006-4CE4-A5AC-0CEA1520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B34-AD71-447B-87F3-A1DB6F08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5556-83CF-4D98-A1F3-2D15CF91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E3EC-C45E-46D6-B29A-A8A92F1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F2DC-2D8F-4BB4-B509-40C5186F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19AA-280E-4D86-97F6-606350A9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6235-1730-448D-B023-FE2A4B87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B92-44F6-4E4D-93D3-E0F084E4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8A4-F5C8-46A5-9491-7CC11208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63A-1ABE-42A0-81E8-D5B9195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2C2-4CAB-48F9-AA0F-C5D8922B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E6C-A861-48B5-A9BC-F3361077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0CD-F210-4C90-B480-EC6A1672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1CF-E09B-4C2A-B0F4-B6E6B3D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0160-56E7-45C9-BFE5-6BEB15C811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6206-1F08-4A63-BBC8-1463813F4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Soul Winner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Soul Winner For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0" y="649116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Soul Winner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Soul Winner For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Soul Winner For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0" y="649116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Soul Winner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Soul Winner For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Soul Winner For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491160"/>
            <a:ext cx="78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Soul Winner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Soul Winner For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7:38Z</dcterms:modified>
  <cp:revision>36</cp:revision>
  <dc:subject/>
  <dc:title>Slide 1</dc:title>
</cp:coreProperties>
</file>