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334-4C5C-4BCC-ACEC-6EB9DB87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E47-EAC9-47BB-956B-B5ED112B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450-AD87-4E60-9A22-59197D71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91C-2E33-48B2-9DB4-E4354DAE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0F1D-88C4-4673-87AC-E43B96BA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FD0F-619F-4659-8901-AB25A1BA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A879-7E77-4E40-82BF-179C4DB8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02F6-02F2-4F7A-A22C-ADF0467E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D53F-84ED-419F-BBE5-D990499E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7A80-D643-420F-825F-CDA48B7D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F484-613D-401F-8AAF-3AF59362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7DA-CD18-443C-98FA-422DEAA3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D0F3-25C5-41A2-9376-6E2D09B3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1377-E35E-4079-8DB5-0EAFE9D4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C76F-C291-4357-8326-FE83A63D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CCED-6652-42C4-AF08-417EC045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370A-F062-42CB-8393-331459BD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5C4DE-5EB9-41BE-9B6A-CFC58685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22EB-05ED-4B0B-800B-E3E8E916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8363D-C593-4872-A3BD-44C33DC5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9B4F-E649-4CE0-939D-B05CCC04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FB37-E05B-431D-B10A-B9C005D1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62A-940A-46C0-A3A7-5BADEBD2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504C-B7CE-49C4-B746-3A691B22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A73B0-057D-4E2E-861D-CF760912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8C7DA-65E6-4D9A-9F6B-5656609C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B3FA7-1E56-4E65-B11E-226849DF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D2E97-F92E-4AB6-AC51-BCC73D34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D594-5409-47AC-8651-E4B2380E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AD0F-6093-475B-8967-E142F083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BBE-5DF0-4340-BB8C-5285BF7C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019-E5F2-41AE-9E35-370731CF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65B-48A6-4E74-AB2C-B1CFA01D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B40-4A70-4A8D-9DC4-171DEB46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8A9-0158-4F83-9C55-323829A2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E89-B14B-4845-A4A4-63354702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9685-5C54-40C8-A54B-64F1EE9CC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ADCD-EF37-4DE0-A9F5-0755A4F34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5221-7B06-4EA8-B7FB-9E5B7C6CCB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gain The Lord Of Light And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RL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a L. Barbauld (17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A. Arne (1772), Arr. Ralph Harrison (17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gain The Lord Of Light And Lif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8600" y="64882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gain the Lord of Light a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gain The Lord Of Light And Lif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gain The Lord Of Light And Lif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8600" y="64882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gain the Lord of Light a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gain The Lord Of Light And Lif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gain The Lord Of Light And Lif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8600" y="64882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gain the Lord of Light a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gain The Lord Of Light And Lif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gain The Lord Of Light And Lif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8600" y="64882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gain the Lord of Light a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gain The Lord Of Light And Lif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9:37Z</dcterms:modified>
  <cp:revision>38</cp:revision>
  <dc:subject/>
  <dc:title>Slide 1</dc:title>
</cp:coreProperties>
</file>