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185-A482-44D6-BEF2-5CFCC9FA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704-DBBC-4CF5-B9A2-34C53B0E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19C-2F9C-47AA-9A5F-D1985CE8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ADB-4EC5-4790-BB26-CDE9CA4B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C1BD-D3A7-45E9-B879-B20FC71C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28B1-0F46-44A0-8263-DC121FD8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9DBB-FB74-44C4-9839-9A0C184F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D5D-D059-4E15-8B39-4C8B8057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8925-E395-46D0-85FF-69702A3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7559-82F0-47D2-82A3-9576F73D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7C95-32BE-4933-9E75-9A533A9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DB6-3D0F-47EC-9522-284A688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DBD-8CD2-42F9-87E3-8E9D7B0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03E-E7D4-4D1E-A855-9552BFF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0C7-AE62-4E03-A7BF-E608193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49C8-BDCE-4411-B619-D6B9427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9CCA-470D-4551-9A03-48B71506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39D8-A784-4AC6-8485-8AE1D6D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0660-D92D-4AE9-8B4B-D102AFDF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44C1-2E39-4646-9621-809B327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AD10-9A6B-4392-B58E-2C3FD71F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39B9-0ACF-4107-BC0B-2D07614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606-1DFE-4EE8-85C5-BE2F17F7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40D2-44E1-4C41-9252-38A1B5B6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101B-EE1C-4D7C-A249-0AB283D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995C-BE9F-4DF2-9FDE-04DA72F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2362-3474-482B-9401-3E934F2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C0FA-B04A-4EDB-AA15-67FC766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EEE5-D40A-4CE2-8266-133198F5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12C0-D906-4572-A8CD-79407947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8F7-FE37-4EBF-B735-66CD5F2C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BFB-4875-4C32-8308-4ACC3750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F09-3915-47E5-999F-3464C92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459-9B69-4CB2-AC0A-AE72C66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A79-7524-4F6E-B321-6A432AC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F15-A146-4D0D-9C62-FD51B7F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AF2-32D6-4080-A124-FF9B5A10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C3D-CA3E-4AB3-857E-BDA36CF62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9068-C246-4DBF-9972-EDBF04ABD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OR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 (1780), Adapt. John Rippon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iver Holden (17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ll Hail The Power Of Jesus Name_arr1_v6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ll Hail The Power Of Jesus Name_arr1_v7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ll Hail The Power Of Jesus Name_arr1_v7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ll Hail The Power Of Jesus Na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ll Hail The Power Of Jesus Na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ll Hail The Power Of Jesus Na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ll Hail The Power Of Jesus Name_arr1_v3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ll Hail The Power Of Jesus Name_arr1_v3o7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968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ll Hail The Power Of Jesus Name_arr1_v6o7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23Z</dcterms:modified>
  <cp:revision>37</cp:revision>
  <dc:subject/>
  <dc:title>Slide 1</dc:title>
</cp:coreProperties>
</file>