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2A2-32C1-4E98-A550-9F1B4702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81F-CC7D-4D72-8CC6-76FB6BB6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DC9-4669-4A20-B2B0-AB9045E9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50A-AB63-497C-991F-5383A32C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9DB0-D6E4-476A-9B7C-BA4BD5F3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67BD-2850-49F9-9027-A5C95927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1AAA-E913-494F-BE10-FC17AA63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6B0A-ACD8-478A-8CD7-1AA9490A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39FF-2839-4949-95AC-36320D92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EF7E-E9F7-4088-AB17-27DA0ED4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79D0-3610-4A5F-9A7E-94394BC8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EC1-F2E9-456B-82FA-01D78FE7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D1EC-5A1F-493A-B6FA-4782E334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C9E6-8536-4DF5-AB37-D5917256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1804-02F1-4C98-B7B4-82BB1E16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E732-C3A7-4E8A-9F8F-A5BEC5A1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8D98-BE8F-467C-B63F-BF013851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AA4-5F7D-49F0-901F-92DEDB43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792-D73C-48F4-B807-18C569C5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127-A12E-4FAA-A4CA-BEEEA5FA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38E-E87D-4F76-AFDB-26A6C203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99A-E169-4C57-969A-BD30E9AF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9AD-9DEC-469E-8DDC-CCBC15CF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CF8-C1A0-47E5-BBA8-329249E4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36BA-9A15-44C7-B3E6-0F47D239D6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30C3-815D-4D4F-B8C9-BDA830CF7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ngry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Love One An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unday School Teacher (1867), vs. 3 by Betty B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R. Palmer (1867), Arr. by Will W. Slater (19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ngry Words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7320" y="6488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ngr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ngry Words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ngry Words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ngry Words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ngry Word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67320" y="6488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ngr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ngry Word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ngry Words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ngry Words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ngry Word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67320" y="6488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ngr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ngry Word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ngry Words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ngry Words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2:57Z</dcterms:modified>
  <cp:revision>36</cp:revision>
  <dc:subject/>
  <dc:title>Slide 1</dc:title>
</cp:coreProperties>
</file>