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BE4-EE2A-4117-AA8B-3773E62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47A-888B-404C-964D-615B21F9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7C1-E7BB-427D-947C-D3D537FD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D99-9E5C-4F95-94E5-1862BF0E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0AB0-08F4-49BA-A06D-D275A29D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4286-7D14-4833-9653-CD8B57F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50A-AD07-4E0E-B502-6CC8A02C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1B3-D61A-4085-9277-07DE1784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4F6-AFD6-43DD-9B9B-FD15562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1B30-808E-4959-B157-626F2A6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E414-559F-402C-9C82-6BC59F9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00B-B40A-4098-9F22-DD514210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869A-BE82-4E44-AB44-7470C98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5FE6-3DF4-474D-A86C-52A513C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1D6-9466-4D59-829C-6C91844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F304-0E0F-43B8-82D4-B5FB031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B04-699D-4CC6-9365-8836264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8AF-FC1C-4CD5-BBE3-CB03898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4A8-AD9B-4A82-B183-F589217A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579-DFD8-41EC-BE1E-5AC09D3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EBF-8759-4634-8EA0-0A04342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D01-9116-4EE5-9BE3-657D70B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9FA-16B4-4073-AB47-CAA94C4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773-EF54-46F6-8368-DB7C44B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38A-5580-4396-A0BA-83E16C06A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299-16B6-4FA7-904E-7BB2141BA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m I A Soldier Of The Cro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A. Arne (17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0400" y="64882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m I A Soldier Of The Cro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22Z</dcterms:modified>
  <cp:revision>43</cp:revision>
  <dc:subject/>
  <dc:title>Slide 1</dc:title>
</cp:coreProperties>
</file>