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10A-8720-41FB-98A0-FB828792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EBC-4380-4BD0-94E0-54606B04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B9E-663F-43FA-9C8F-535926D7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814-C64A-42E1-912C-0DA7DBB0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7C28-D19D-49F4-88E0-3237629A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7CE6-C78A-4955-9909-C231A808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7EA0-CAB0-4DBE-A416-9FC1469C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AE00-C29B-43CA-957A-2F782971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9414-E4E4-4F07-A6E6-8C0D16BF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5FAA-9A41-47D5-82A0-9B744A52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C40A-4B09-4970-BFD7-E554C826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023-3C50-4FBC-8F48-97095933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121C-855F-42E1-9A05-651EAC2D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ACFE-B68D-4765-A948-8C79E1FB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0AE1-307E-46FA-97B9-48DB2028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5338-6C3B-424D-A48A-98676579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31C6-2D04-45AB-8DEB-1890A554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3020-CAFF-4BC8-B53F-26996178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DABB-21B6-410C-A410-92FD7FD2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6FA-DB2F-43FF-9989-B0555F2E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56C-7D1D-4BE2-8D25-E31336CF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81E-5B9B-4651-BAF3-BCF06DBC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4E5-FF0C-4CD1-B3DC-4BC83DA5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2098-E4DB-4834-A32B-622BE403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1C75-8A04-4A05-A2F7-941D5190D8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A387-DDB3-4524-96CC-5184D0CB19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 Wonderful S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He Hideth My So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71760"/>
          <a:ext cx="9144000" cy="148428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 Wonderful Savio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 Wonderful Savior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0" y="6488280"/>
            <a:ext cx="78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 Wonderful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A picture containing rectangl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 Wonderful Savior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 Wonderful Savior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 Wonderful Savior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7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Wonderful Savio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0" y="6488280"/>
            <a:ext cx="78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 Wonderful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Wonderful Savio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 Wonderful Savio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 Wonderful Savio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 Wonderful Savior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 Wonderful Savio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0" y="6488280"/>
            <a:ext cx="78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 Wonderful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 Wonderful Savio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 Wonderful Savio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8:41Z</dcterms:modified>
  <cp:revision>32</cp:revision>
  <dc:subject/>
  <dc:title>Slide 1</dc:title>
</cp:coreProperties>
</file>