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665-D072-42DE-A056-607ACE99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448-34A9-4EAB-AEB6-790431D9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C7B-CB23-4C84-92F3-7BD88512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EF5-9780-4666-8BC2-A59A051B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5360-C7BB-4473-B8CF-8A6F1AF0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655C-456E-4E83-9EA5-CE502E60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2458-1155-4ABE-8354-1AAFABF7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0D16-9DE6-4FBF-8301-E249426A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0373-16E4-4D7E-BBAB-B26D2D4A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4BF4-51A5-4776-A3D1-4DC470B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27B7-188B-4E4E-A49B-361876B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DDC-0593-4A22-9E79-84CB9BD8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6BE6-8681-4FC4-AEF1-4A08DC54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B86E-EFA2-4B75-B4C1-5BE4B234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D73C-999A-4EF4-ADB0-36C74F7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814C-1FC7-4D50-87D9-42D0BB46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B1EA-1E1B-4866-8568-D7390852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0DB-5319-436A-8F53-554D63B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18DD-FB2A-4C55-B3C4-7842CD63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91C5-6A4E-4B52-9522-B0288331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5946-60BB-4C50-AEA1-9C0CAE2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826-9099-4A8F-A5E8-626B16F3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8B13-3899-4284-AA8C-06626930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69E0-458F-4D5C-AC53-C684844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D26C-03FE-465B-8BB1-792A1809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315D-342E-4165-8BCF-6C0313FA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FFE7-7093-4107-BC76-737D0FE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7AE7-77FB-4AC9-A4D6-4A5279D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A2AE-3C4C-4162-9060-2B9BBA86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28B1-EC08-4E4A-A85B-582648D3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CDB9-1394-4ABE-942F-13366EA8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F19-A6DA-499D-BE7D-B115C87B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2FE-18A2-42EA-A8F5-EFEBF6D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A6F-D27C-4F6E-A7ED-641C899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28D-FE12-42E6-AE87-B9F43C9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678-441A-45B2-B365-858A79E5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80BC-EC88-465E-9687-E9AE98089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A4B8-D487-46CB-BEEE-FFA283294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C34-2779-4CAD-BED0-23E970069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re You Coming To Jesus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37160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F. Brown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Hawes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re You Coming To Jesus Ton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re You Coming To Jesus Ton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re You Coming To Jesus Ton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re You Coming To Jesus Ton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re You Coming To Jesus To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re You Coming To Jesus To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re You Coming To Jesus To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re You Coming To Jesus To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re You Coming To Jesus To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912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re You Coming To Jesus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re You Coming To Jesus To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re You Coming To Jesus To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re You Coming To Jesus To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22Z</dcterms:modified>
  <cp:revision>29</cp:revision>
  <dc:subject/>
  <dc:title>Slide 1</dc:title>
</cp:coreProperties>
</file>