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74F-3116-4DA9-BE71-2933CB75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559-9454-4E30-954A-78D268CF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4EE-47A5-49D5-878F-631E518B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7D3-EFE5-4276-AEA8-D661D087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8CC1-BE53-43A2-90DC-4C39DD7D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44EA-E6A4-4891-89B0-C18ABBF3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4C75-A867-4DBC-A97F-26723328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3DC5-FF8F-46A4-A59E-1B5A784C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37B2-85A5-4378-B2C0-8ED871A1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AE62-2927-47A7-AC4F-70EA1529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28D6-58A4-41D0-8A5C-9C32AC5E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6C7-72ED-4326-95EF-FE7D8A01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1DBB-3E81-4B54-B2CC-DBD2AF3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7AAE-2856-43DA-828E-A136485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AB51-BDB6-4E86-93C4-07E0C700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6ABE-4601-4FA8-B3E9-936B37AC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0B2F-6383-483C-9C07-EB94CDCF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DB5-F153-4344-B9FF-036DFDF7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D9F-2793-42EE-ABB8-A49E2163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2D9-E1B8-4832-A307-B1A43FA4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823-4EBD-4E65-8CBD-3E01909C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09F-8BA5-4256-BA3F-AE8416D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239-EAF4-49BC-A881-526A3389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E6F-23BF-4EAB-B32C-F8FEB9F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AD56-0216-448A-AEE1-D2CEBFE6A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D9D0-90A6-4EB2-90AB-E3520B647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Beautiful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320" y="3371760"/>
          <a:ext cx="9192960" cy="1484280"/>
        </p:xfrm>
        <a:graphic>
          <a:graphicData uri="http://schemas.openxmlformats.org/drawingml/2006/table">
            <a:tbl>
              <a:tblPr/>
              <a:tblGrid>
                <a:gridCol w="914400"/>
                <a:gridCol w="82785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. Golden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. Golden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iagram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3880" y="64882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 ~ A Beautifu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6:09Z</dcterms:modified>
  <cp:revision>44</cp:revision>
  <dc:subject/>
  <dc:title>Slide 1</dc:title>
</cp:coreProperties>
</file>