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D6CB-D52F-4EBC-AF83-DB6399AFE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F9EE-16B1-4E83-B6F2-F06FC5BD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8E77-B98C-4E68-98AE-842DD08BF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BFCB-0C28-4321-AA3F-DF5A7CA9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DA7E-D676-44FD-9E98-912E3FD7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CF70-B4E3-4745-BEEB-E715335C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9665-EF7E-461B-8EAE-E11F1770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81F1-2C26-44BD-8522-81A013A3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8ED1-56BB-4751-8F9A-5B1A30C8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D5D4-8D42-46CE-96C4-6899A2CF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151B-0B23-4875-9FC8-8700153A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335A-A1A9-4398-9826-CC20DE22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84EE-B422-4A10-B6E0-73AC8243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1A3C-A3F8-44D5-A530-B6A479EE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A786-2D03-43BF-BC9A-506A8414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1830-0FA5-4127-B778-B2D455D8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1164-31C6-4B69-9488-16FF0CE0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AD4D-72C5-4C96-8FE7-720B6675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DB28-ADFA-4897-8A69-1BC481B1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40DF-D5F1-4E1F-A0E8-805DF64F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3811-9374-4003-87A1-EF3D09E8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45B2-0342-4041-9544-E0351369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8652-97EA-402F-916C-64CA4DA3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27EE-1D20-4ADE-BDA0-7FD57518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2295-EC78-4B48-8A2F-02BEC5B47B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7A39-6035-4EAF-B393-9CD1ABCA55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 Blessing In Pr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here Is Rest, Sweet R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D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87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E. Hewitt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J. Kirkpatrick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 Blessing In Praye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77400" y="648828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 Blessing In Pr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 Blessing In Praye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 Blessing In Prayer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 Blessing In Prayer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A Blessing In Prayer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77400" y="648828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A Blessing In Pr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A Blessing In Prayer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A Blessing In Prayer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A Blessing In Prayer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3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 Blessing In Praye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77400" y="648828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 Blessing In Pr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 Blessing In Praye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 Blessing In Praye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 Blessing In Prayer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 Blessing In Praye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77400" y="648828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 Blessing In Pr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 Blessing In Praye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 Blessing In Prayer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 Blessing In Prayer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06:49Z</dcterms:modified>
  <cp:revision>42</cp:revision>
  <dc:subject/>
  <dc:title>Slide 1</dc:title>
</cp:coreProperties>
</file>