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A73-4B8E-4B9D-8BAF-C6995D2F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57E-D2EB-4D6B-AFA0-B730CFE1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4DE-A322-4B24-81E0-7C70800A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BC6-0C76-413E-A2D9-030E9A5F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D40C-9708-4B8C-9261-5D0B3691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E632-500F-4AD1-A70A-79D6743A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270C-763F-4500-89B1-9F63294F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47EB-3771-49CF-8328-736067A4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9001-2CDC-40F4-8D9B-84D45BAE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51CB-E08F-4C64-A3A5-03861E02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9867-F2EA-4418-8A83-2A1D8EAC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4D9-B0F6-433B-BA08-528A41B5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1DC3-B727-49EE-9012-65C0920F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5C52-B8B9-4AC0-8647-5F2BF0C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BE17-E96B-4CA9-9A23-946330B8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6B22-6A43-4EAB-872D-82CCB6E3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B634-7F0C-4B95-84E9-A066E207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2DB-5890-46EC-B80F-E960454A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3AA-C8CB-4299-BCD2-1743C77A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F85-BE22-45E0-A863-1AE380EB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35C-5BF3-4587-8A27-29E87845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877-B524-4B26-A4D5-8295F8E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62B-A5EF-4B2C-B2EE-D10E5B94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5E6-0C7B-4A87-A5FF-D4C1627E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13D1-2AFD-4B1D-9C90-981CC5BF0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ED65-7C14-4EF5-9915-832C965F0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ings Are Re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ome To The Fe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17720" y="64882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hings Are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Things Are Read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 Things Are Ready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 Things Are Ready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ings Are Read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720" y="64882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ings Are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ings Are Read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ings Are Read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ings Are Read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ings Are Read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17720" y="64882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ings Are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ings Are Read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Things Are Read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Things Are Read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59Z</dcterms:modified>
  <cp:revision>33</cp:revision>
  <dc:subject/>
  <dc:title>Slide 1</dc:title>
</cp:coreProperties>
</file>