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BFB-B005-4A3F-B556-D5AACD3E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C45-9A8A-479E-9321-0405EC5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171-9C86-42F0-B2A1-9CA64087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E29-A79A-4DB0-BAD1-56FF8073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886E-AED9-4860-BB54-A2BFD61A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44C-D9A6-43D0-A596-489E6C16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AD91-6B47-4C86-9249-4797CCFE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072-7A92-4458-97EA-CE3B7CC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3A9A-CE48-487D-AB6C-B1E499C7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FED1-1C63-4925-BA1B-8AD4A463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B650-2ECD-4776-9185-841A29A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363-5234-4111-9749-25CFDE49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F557-EA12-46C7-8928-3BDA798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6BA-5C43-4558-B22A-1A5F6F9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005-F97A-48EC-A9BB-E5845078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013-207D-4039-9BFB-93CC3D49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FDF-EEC2-40D1-A9B5-AAFE87DB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A8C-21A7-4B60-8311-03066618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37E-C6B6-4891-AAC5-B9C5057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006-1C6E-4B07-A5E4-FAB5228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1DD-C62B-4A12-BA85-87A0AF2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25A-73F9-4430-A1F2-7C30376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E7E-E106-4633-864D-2C36121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3ED-2E32-4AE2-AE83-771EF28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7200-08B4-40B3-9ADC-0F5BFEA9F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471-D4C2-446F-95EC-65C02869F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ings Prais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W. Conder (18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nrad Kocher 1838), Arr. by 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Things Praise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ings Prais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ings Prais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ings Prais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ings Prais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ings Prais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ings Prais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ings Praise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16640" y="64882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ings Prais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ings Praise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18Z</dcterms:modified>
  <cp:revision>23</cp:revision>
  <dc:subject/>
  <dc:title>Slide 1</dc:title>
</cp:coreProperties>
</file>