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B1C-FBB4-4C98-A070-13D56CB0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828-3978-4B9D-AAF4-AD2BA497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D05-977B-4067-BE04-3859C96E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788-34C6-45D0-AD48-57D7D45C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9B44-084E-47CA-932C-28412525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5974-98A4-45A8-AAD3-5CA52917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AAD3-E13D-4DC7-A9D2-7AA414E0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6DE9-D5DB-4A89-9FF3-FCDED414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384C-965E-4A51-9657-E16A9DC1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5A1B-838C-44B4-8594-18AFBD96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E9A0-E675-4F2F-AB2B-5CE4DDB5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5CD-F354-442C-B881-AFD1A7EC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6AC2-550B-4025-9F26-E7C2FA33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7A4C-F231-4C42-AE87-E263A14B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E40D-B363-48BB-A9B6-F9B13CCF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8C3B-5798-481E-9FCA-CE1C2F38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6743-6A74-4A1A-AF05-0F5E783F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FD4-249B-4D70-8E9F-3967E0AC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93C-065F-4165-9790-AD68FC22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776-1ADF-4E9F-83BE-F863C703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1FF-0A91-4B38-BBE5-91331A24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3CA-091E-4EAB-9D66-F2E4C6BA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C44-FF94-41C2-AB9B-EB59F85D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4BE-1A74-4D83-8109-13499651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D533-9DF2-45AF-AF39-AED6CA7CA9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835C-A5D0-4CCE-86F5-E8D5E06BA4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Charge To Keep I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OYL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87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71760"/>
          <a:ext cx="9234360" cy="148428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Wesley (17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Charge I Have To Keep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4840" y="648828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Charge To Keep I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Charge I Have To Keep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14840" y="648828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Charge To Keep I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Charge I Have To Keep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3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5"/>
          <p:cNvSpPr/>
          <p:nvPr/>
        </p:nvSpPr>
        <p:spPr>
          <a:xfrm>
            <a:off x="114840" y="648828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Charge To Keep I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7:19Z</dcterms:modified>
  <cp:revision>45</cp:revision>
  <dc:subject/>
  <dc:title>Slide 1</dc:title>
</cp:coreProperties>
</file>