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22D-45C6-4A86-AE8F-11FF3EBC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504-D951-4FAC-A0F1-2B6F252E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DE4-92E1-40F0-9C84-14CF4A49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374-4E55-41C5-B44D-0821E57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B8AD-3889-4BDA-BF5F-C77DC6D0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3512-B77C-4330-BB28-1237EBC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BC09-0B1A-47B7-8A28-D634773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FDF1-10B6-4038-A445-92630BD0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A644-F666-4362-9EE9-B50ACC0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04D-3AE8-4358-B006-6114879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374F-EB91-4589-9CF3-4EE0818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C9C-4AEA-4A77-B4A6-9C2F0DE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7E1A-E6CB-45A9-BF86-CFF7D9B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D05A-61DD-42A3-92D0-730E23A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FE11-2E15-4D1F-ACF2-917AC4DF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713A-2575-4A22-B5C1-78D9E15E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D041-5E06-459C-B69E-21F17788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FF5-F26F-4A65-802A-E7688E6A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426-A5D4-4D5E-9F79-CD843DE3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240-9481-453D-AEF0-12BF91BE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A94-D031-42B9-B320-0063023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EA6-D67E-42A3-A08A-E809A26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21E-90A2-4864-B843-0B7F617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767-2148-4D89-BDA7-0A14048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605-45FC-4775-9CEF-423A08211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92B7-850D-4714-89BC-A3F579A87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most Persua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A picture containing antenna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840" y="6488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most Persu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2:09Z</dcterms:modified>
  <cp:revision>36</cp:revision>
  <dc:subject/>
  <dc:title>Slide 1</dc:title>
</cp:coreProperties>
</file>