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6090-86B0-4167-829C-9415F407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A3AF-F4EF-403C-9112-81C577FA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FAD3-D253-4DB9-B85A-23ED1600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83B2-2894-4E4C-8F5A-E388391E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73CE-7B41-4359-8DF2-62320DF8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794C-53B9-480F-9E81-98ED71B2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FF6E-3A0B-4163-A4DB-F4982292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695C-08D2-48C4-ADC9-881F0A06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0591-C47B-40BA-BAAB-EC0B2CBC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0740-E199-4D3D-95FC-D97E7DB5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5863-D14D-4549-80BA-6F26C411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3231-B99B-43F5-B544-809A2FD7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2737-F844-4FC1-A368-8A3095A7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6EB1-86A0-48D7-A82C-40A7DA46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2609-871E-4CBC-ABA7-479783F5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0EF7-50CF-4CA6-A6A2-00E198F8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87F2-D3A3-4248-8CDF-FC27201B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9DF76-24D9-4BEE-A711-7FBC9458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EA9A9-FDEF-4276-BB25-F8E59F9C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D82EC-9DEB-4B98-AED9-F6B113E6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885D5-5C4B-4777-BE0B-03569996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6A42B-DBE2-4817-801E-A4480283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D1F8-B140-4C9E-8F1B-21D5045C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B4082-FB2F-4643-AFA1-1AB4C874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ED1B6-4371-4E44-BA63-F3BCB3D3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9980D-2329-4F2C-8E90-AD7B5999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F7463-E224-4990-972B-F489B09B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C509A-D96D-4A9F-B7A4-E1FE953B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A484D-64C7-46AF-B0E1-D0E4A25D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7102D-A6B1-4962-A103-5B604337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886F-72AA-4C8A-9C4A-B3D91F65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8B3C-F515-435C-A6AD-AF71E790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FD6F-3800-4F26-B30B-A09C2A8B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7705-3D8B-4950-B3A1-41702FF2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88EE-9897-4416-BECD-7067E2E5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DD26-F175-4683-8120-AFA376D2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9053-81A6-43E6-977D-3A9597586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3577-9FAC-4DC6-8870-FAD16F70B7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A345-C4DC-41C7-834C-AFD916A5D3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bide With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EVENTIDE</a:t>
            </a:r>
            <a:br>
              <a:rPr sz="2400"/>
            </a:b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0.10.10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79680"/>
          <a:ext cx="9234360" cy="14828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enry F. Lyte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H. Monk (186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bide With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3440" y="648828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bide Wi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Abide With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bide With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73440" y="648828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bide Wi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bide With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3440" y="648828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bide Wi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Abide With Me_v5o7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09:11Z</dcterms:modified>
  <cp:revision>40</cp:revision>
  <dc:subject/>
  <dc:title>Slide 1</dc:title>
</cp:coreProperties>
</file>