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587-72AD-416C-8CDB-91FAAD72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458F-B0EF-420F-9CBC-6F2A8E5F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3A0-75A9-4945-8C79-092D52C8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991-E5C2-4F4E-A8A8-522BA2CC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8F40-4316-4942-B085-DB8C2C8B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221B-1AAF-4ECC-B0A3-7C087F07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0D04-D142-4CC2-B370-DB4BBB8F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A070-2824-40B3-AB41-97E7D63D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ACA5-5655-4B76-8E06-54EA458C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1AE4-74F6-425A-92AC-BD0A507F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D80D-A088-4B0E-97D5-5434A3D3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F08-9DED-4A70-B295-BBFDB826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96BB-ADC3-42A6-BD8E-30B39FDB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121C-EB0F-466F-9F4B-EA8622F2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918A-F0EC-4B01-BC63-97C62F28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0913-3E9B-4429-A1FF-AE26AC10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83C4-96AC-4CA5-B2C3-6AEA5F50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3F6-6757-4E42-82FC-97DCFD7F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22E6-6A02-4FF6-ADCF-078B898C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831-FCCE-4765-8077-06E83005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524-C234-460A-BEF5-79734C10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9B7F-7D6D-4BD1-841E-1AAF79E2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C84-B1E3-48C1-9D12-025F7802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B19-D63A-4B5B-9633-CC7BA33E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4A78-6C36-4252-9279-FA6D401555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E7C8-99BC-4D36-B21E-FDC8B25894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Abide With Me; ‘Tis Even T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. Lowrie Hofford (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Millard (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bide With Me Tis Even Tid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5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5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bide With Me Tis Even Tid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42560" y="648828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Abide With Me; ‘Tis Even 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bide With Me Tis Even Tid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bide With Me Tis Even Tid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bide With Me Tis Even Tid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42560" y="648828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Abide With Me; ‘Tis Even 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bide With Me Tis Even Tid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bide With Me Tis Even Tid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bide With Me Tis Even Tid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42560" y="648828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Abide With Me; ‘Tis Even 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bide With Me Tis Even Tid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09T18:08:57Z</dcterms:modified>
  <cp:revision>38</cp:revision>
  <dc:subject/>
  <dc:title>Slide 1</dc:title>
</cp:coreProperties>
</file>