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9FF7-5E4A-42D5-99D7-12E996CBA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7587-2000-491E-A8EB-C5412079E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06CD-10B9-4ED3-95BD-AEE78C895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8269-E364-4AE0-AAC7-36D8FDECC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ECB91-39ED-47B2-B86C-496DC7704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F4874-5B30-4648-86E4-274CD360C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E1830-12CF-4E1E-ABFE-BB4F08114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1D710-474A-4F25-B3E4-E626EAF82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855A8-859B-49D8-9BB1-90DB72101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C430E-C01F-4008-985E-D7E87712C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E8B3A-F0C4-4B22-87AA-AB46357E2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C850-396E-44F3-8BA0-72F55C2A0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3EE4A-BF8F-469F-8416-2B85730E3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683C8-F172-4CE3-840F-F1A78C864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C5D26-7982-454F-9FFA-3B9342DCE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D9FCC-A236-4EDC-8ADC-4789F7E0B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E9028-A93A-49E9-8403-791A6F95C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AB9C-B7E1-4874-A404-54797115E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DEC2-1337-4775-9B6E-8E83235F7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5E51-149F-485C-9F02-64971D6DC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AA97-F0C1-4F73-B8AD-1BE16A1C1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FDC4-F4E9-431D-BB34-8CE4D1F4A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4701-4B50-4ADB-9976-A42EB669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83FF-F303-4219-95DA-60772D4A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8CBB1-50C7-46A6-BFCC-72BC17A285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73090-A359-47D7-843F-957E355725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Above The Bright Bl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/C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#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3368520"/>
          <a:ext cx="9234360" cy="1484640"/>
        </p:xfrm>
        <a:graphic>
          <a:graphicData uri="http://schemas.openxmlformats.org/drawingml/2006/table">
            <a:tbl>
              <a:tblPr/>
              <a:tblGrid>
                <a:gridCol w="914400"/>
                <a:gridCol w="8319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arles Edward Pollock (190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arles Edward Pollock (190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Above The Bright Blu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88920" y="6488280"/>
            <a:ext cx="33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Above The Bright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Above The Bright Blu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Above The Bright Blue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Above The Bright Blue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51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Box 5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Above The Bright Blu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88920" y="6488280"/>
            <a:ext cx="33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Above The Bright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Above The Bright Blu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Above The Bright Blu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Above The Bright Blu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Above The Bright Blu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88920" y="6488280"/>
            <a:ext cx="33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Above The Bright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Above The Bright Blu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Above The Bright Blu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Above The Bright Blu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09T18:09:23Z</dcterms:modified>
  <cp:revision>37</cp:revision>
  <dc:subject/>
  <dc:title>Slide 1</dc:title>
</cp:coreProperties>
</file>