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45A-4637-445A-BAD5-D702787E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C96-192B-4789-8AE6-DDA8CC9A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420-6A5B-4AAD-AE20-648B12AE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9E7-12C0-42A8-BEB4-852BF685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48ED-1D7B-4E42-99BC-AFFC95E0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B871-767B-412E-B0DE-B0CB8419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DAA2-9256-49DB-BC1B-266B3B63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A171-617F-4D0A-BDEE-94A2FCAC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F46B-22AA-4B76-BD40-3F6CA4BB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74DF-DFCA-4F6C-8EAF-7054482C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2D5B-154D-422C-A44C-09DE273A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51A-C7C1-4363-B89B-FE98FAB1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F5AF-C4F2-40DC-A560-DA53AD3C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0C82-A00B-44A2-87EC-E9F2B88B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54DF-C25F-4616-8142-CE9BE408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753D-8ED1-4BA8-B836-F0639E4C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62D9-0AF5-4C0E-98D6-A01EB1F0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3B4-5C5F-4E02-AA5E-9FD700D5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939-2AE0-4EC1-A116-E8FA0BA3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606-9DCD-4489-9E26-A0D187CC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CF4-6F65-465A-9FC5-B57FBC02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E98-9CB7-4842-9C26-9AE6E180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319-0C14-4944-836B-82FD3CC3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838-AD30-4FF0-B944-7DA0B09F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2902-1966-4AF8-B539-2AD6E2A18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DD14-05C7-4BB5-AF20-A46337092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The Way My Savior Leads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The Way My Savior Leads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The Way My Savior Leads M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ll The Way My Savior Leads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177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The Way My Savior Lead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ll The Way My Savior Leads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ll The Way My Savior Leads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ll The Way My Savior Leads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ll The Way My Savior Leads M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3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The Way My Savior Leads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77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The Way My Savior Lead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The Way My Savior Leads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The Way My Savior Leads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The Way My Savior Leads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The Way My Savior Leads M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The Way My Savior Leads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17720" y="648828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The Way My Savior Lead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The Way My Savior Leads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The Way My Savior Leads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0:46Z</dcterms:modified>
  <cp:revision>33</cp:revision>
  <dc:subject/>
  <dc:title>Slide 1</dc:title>
</cp:coreProperties>
</file>