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E34-08AE-494B-8963-5D2C3F87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CB4-720E-49F6-B94C-12A6B89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982-DB07-461B-8FFD-E080196C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01A-F542-4638-A876-FFE3F401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9CB-703F-4BCB-A1DA-4686883C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AE2-D025-431F-A32C-8BDEED8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C8EF-1A98-41F8-AA0D-8E3846AD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550A-5FD1-43F1-B3DC-64A59070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57F-2272-4F9C-9937-4E1195F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9D12-993E-4D0C-88B8-52B63A8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BDC3-D09B-4123-9B04-0F36B2B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190-EF87-47EB-8FA7-F979DF91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D31C-2E72-46B5-9C24-22F98FC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F15-1E48-43CB-BF02-B079D80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817-B27F-42E8-80F7-D87A03A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6E3A-0AF4-48CF-AD02-2E88BB1A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398-0ABA-44B6-88FD-9972FB24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402-8F86-4B1D-B8AA-5DDE2DEE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C45-C82B-43A6-A333-EABB780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653-8A36-4F17-BA1C-5A90EA7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CBC-F0AD-419B-A796-F17A22D8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C24-6320-447F-80FB-2B4DD78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C35-B959-4CCB-AF4A-4A9EA0A8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8C2-DA2D-4362-A0C7-18B8635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9CA-BDC1-42F5-850F-D88E88F54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6A0-63A8-46B4-A14B-DF0D32479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Mighty For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IN’ FESTE 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6.6.6.6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Alto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Tenor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Bass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tin Luther (1529)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F. H. Hedge (15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tin Luther (15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Mighty Fortre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Mighty Fortres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Mighty Fortres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Mighty Fortres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Mighty Fortres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Mighty Fortres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Mighty Fortress_v3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3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Mighty Fortre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Mighty Fortre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Mighty Fortre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Mighty Fortre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Mighty Fortres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Mighty Fortre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856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Mighty For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Mighty Fortre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Mighty Fortre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1:46:13Z</dcterms:modified>
  <cp:revision>47</cp:revision>
  <dc:subject/>
  <dc:title>Slide 1</dc:title>
</cp:coreProperties>
</file>