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583-D91F-4783-AAAB-EE3011B4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FD9-817C-43CB-BA86-1BF56024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2B3-442C-47B8-9A25-63519F74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616-57F4-4DD7-B5F7-7D1FA415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9328-540F-4618-80CA-17BD98D7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0B43-9FF8-41D0-9238-53F58C2D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7385-C76A-47EB-9F42-223EB70A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A14E-D99D-4B96-992D-31B1B7A8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12EF-13FC-493A-9F8D-0F69A446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AA27-691D-491E-95AF-4472CC6B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C0C4-9960-4600-A6EC-FBEAC017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21C-DFBF-4006-BB1B-04914076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4C37-FA53-484C-93E3-E2E14D38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AEEF-814B-4290-A325-76F3F967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824D-A127-4498-8070-9C0FFA67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872B-87C5-42AA-9B9C-B33F4642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362E-408E-401B-B9F5-1F97F3B2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09C-CE8C-44D2-A0BC-D87CB718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22F-0672-4016-BF87-19CFFD4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A2E-329A-4545-99DF-A96CF9BF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531-EB83-43ED-B4BF-7D0324F5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07D-4450-44FE-9F2F-2063D443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F1C-1FAC-455E-81A5-39DC074A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3A8-6026-4434-8D67-EBC10A1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DE9D-8ED9-41A2-8E7E-939D61129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2D0B-45AA-487B-8D0A-B34489D102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ll Creatures Of Our God And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ASST UNS ERFRE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6732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is of Assisi (1225), Tr. by William H. Draper (19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rachel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istliche Kirchengesang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623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Ralph V. Williams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ll Creatures Of Our God And King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l Creatures Of Our God And King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ll Creatures Of Our God And King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ll Creatures Of Our God And King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All Creatures Of Our God And King_arr2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ll Creatures Of Our God And King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All Creatures Of Our God And King_arr2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All Creatures Of Our God And King_arr2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ll Creatures Of Our God And King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ll Creatures Of Our God And King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ll Creatures Of Our God And King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ll Creatures Of Our God And King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ll Creatures Of Our God And King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4360" y="6488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ll Creatures of Our God and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ll Creatures Of Our God And King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ll Creatures Of Our God And King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ll Creatures Of Our God And King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49Z</dcterms:modified>
  <cp:revision>38</cp:revision>
  <dc:subject/>
  <dc:title>Slide 1</dc:title>
</cp:coreProperties>
</file>