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ABF-654D-4B61-B98E-23E5156C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711-4EAC-47DF-BB06-A1DE17BE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0FB-C3D2-4474-B145-387CF8EA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E2E-60BF-4F26-8D49-830B293E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CC54-EAEF-4FA9-AB93-EF0D99E8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2AA5-CD95-4A2E-8A0C-B68B1EE5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7676-3FEE-4C51-8130-1B0E6F83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BB73-ECBB-4F7B-BC81-7692AD8D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B5FD-CBBA-4F45-8F82-23DC2F6F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C6C0-EDC3-4D4E-84AF-C079A1EF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94D5-3962-4CDE-B90B-18EDDF17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BCB-BF58-4630-8F07-B1408E79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B615-95EF-4119-B0BD-72A313FE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5B10-F2FE-431E-BD95-A65D2789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E632-4959-4793-8E1D-B36BB9B6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1922-898A-45C7-8EB4-8B28D5F0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B21B-0A12-4E5F-BF1C-4EC87B74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A62-89EC-43A8-8986-1DF242DA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C95-E4FC-43B6-B62E-ECE84967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947-36F3-4031-B392-A3192032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59C-0A80-444B-8041-27D40FF1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C33-0A1C-40C0-8CBF-E57B7D37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9FA-C1C4-4540-9906-EC5E022D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9FF-7734-4C75-810F-81F2DD2E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56D6-0E0E-410B-8079-6ED360CA3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01BF-04A8-424F-B1B6-A5890F5C36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eluia, Alleluia! Hearts 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DE TO 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ristopher Wordsworth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ethoven (1824), Adapt. by Edward Hodges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eluia Alleluia Hearts To Heave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53720" y="6488280"/>
            <a:ext cx="46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eluia, Alleluia! Hearts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eluia Alleluia Hearts To Heave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lleluia Alleluia Hearts To Heave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lleluia Alleluia Hearts To Heave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eluia Alleluia Hearts To Heave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53720" y="6488280"/>
            <a:ext cx="46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eluia, Alleluia! Hearts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eluia Alleluia Hearts To Heave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eluia Alleluia Hearts To Heave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eluia Alleluia Hearts To Heave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eluia Alleluia Hearts To Heave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53720" y="6488280"/>
            <a:ext cx="46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eluia, Alleluia! Hearts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eluia Alleluia Hearts To Heave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eluia Alleluia Hearts To Heave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eluia Alleluia Hearts To Heave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1:57Z</dcterms:modified>
  <cp:revision>36</cp:revision>
  <dc:subject/>
  <dc:title>Slide 1</dc:title>
</cp:coreProperties>
</file>