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F5FA-49A1-49DE-9251-77F16B57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45D2-8FAC-4FB8-A034-31306143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DCB2-8880-4728-9FC0-03921103B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C89C-1CBF-43CF-96F8-2E0C853C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D266-F86A-4611-8038-F031C805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8240-BA9A-4A2A-AE80-80529344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301F-841D-4417-8CAB-D12DC9E4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923E-4CE5-41FF-B1A1-CC60606F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3263-5F65-48D2-9296-E0FA814E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2D5E-1DD9-44A9-92DC-3105080F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2A32-DD11-40B0-9EFD-A88867F9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7AC6-132D-4129-88F8-987F9084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62EA-CD25-44A8-8E0D-C7649D92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92C8-2923-4B15-A7DA-9359849E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2733-67C4-4C62-8F57-04B364F4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7C83-9540-4097-BA69-1EA87BB88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47E2-D76C-4158-AD57-63D6D4A50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0F99-73A2-4B94-B812-62A76936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0A9C1-748F-4D7D-8788-3BA3D312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A8551-629A-425E-A370-735507A6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EAB7D-C206-4D8F-87E3-C638B080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5567-DAFE-494D-930E-6125B8F7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27FEE-C4D8-4384-BD27-CDB8B74C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C579C-CCC9-4696-AB67-368B7EA1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FBFF6-6C51-4E2E-BD5A-A9855FEE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BA258-A7E8-421F-A423-8066D4CA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D1C3D-0D8B-4710-BDB9-A716DE00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BC48D-7C94-4D58-BAD3-3BD7811B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70680-1CC5-46A3-8F9E-5EB133A7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1EB6F-A766-45E2-8244-40DA1210A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9DE3A-164A-4D09-AAEC-6AEA6A341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F1DD-432F-437A-8842-50DDC3BA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8C5C-2C3B-411F-B0DC-8E03340D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2DC3-B974-4E01-977D-A023ED96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DF3A-ECEA-487C-AE0C-64739331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8347-5250-483A-94C2-E7F7A529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E64E-6AC5-4CC0-8030-33EC6F26A5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6189-A949-4265-A41C-0699D3FD29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774F-A28F-45F3-9819-EA3EF16168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ngels From The Realms Of Gl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REGENT 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.4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Montgomery (18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enry Smart (18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Angels From The Realms Of Glor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5360" y="6488280"/>
            <a:ext cx="45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ngels From The Realms Of Gl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Angels From The Realms Of Glor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Angels From The Realms Of Glor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35360" y="6488280"/>
            <a:ext cx="45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ngels From The Realms Of Gl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Angels From The Realms Of Glor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Angels From The Realms Of Glor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35360" y="6488280"/>
            <a:ext cx="45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ngels From The Realms Of Gl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Angels From The Realms Of Glor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Angels From The Realms Of Glory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35360" y="6488280"/>
            <a:ext cx="45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Angels From The Realms Of Gl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Angels From The Realms Of Glory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9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2:46Z</dcterms:modified>
  <cp:revision>39</cp:revision>
  <dc:subject/>
  <dc:title>Slide 1</dc:title>
</cp:coreProperties>
</file>