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F40-C0B6-43AB-B926-EBFFA598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A4E-FED8-4952-A83B-6579F95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E94-0732-4F95-BAF2-82F40123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FF0-798C-4827-9A0E-7B9F9263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F33C-92F0-426A-A691-991BEB23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BE88-05BF-4D45-9CF7-4CD790E2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5304-528E-4230-9458-A40F257B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EDF-9662-4BA7-BF65-2631848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BDE6-1169-49DF-A85D-35059B7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5146-0456-42FE-A1B5-E8A7974C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B55-D441-41FD-989F-9E17001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91E-F704-4395-8EA1-9B3E4DB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B0FD-A624-4E8C-9424-DD5FB59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9BBD-1F8F-4BB8-8F62-9A70E32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E800-3E83-4C88-BBFE-54981E0A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4A6E-DB4D-43CD-AF66-C064757F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F731-B6B3-4590-A84A-3EFD4CC5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38C-F820-4E99-8079-C9E1B2D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380-9115-45F2-85BF-19EF816F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1A6-02AA-4149-84ED-C5CB3BF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A2D-7C73-45FF-BD2A-D595F13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FB7-5808-4096-908C-533CD3A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FE7-D7B1-4087-8D79-A6831BE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96F-2EA7-4534-8C8B-B545C04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9878-5299-4BC1-9B96-CA4AA45F5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5345-0FE2-46C2-B90F-14EB67992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Washed In The Bl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70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re You Washed In The Bl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re You Washed In The Bl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re You Washed In The Blo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re You Washed In The Blo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re You Washed In The Blo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re You Washed In The Blo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re You Washed In The Bloo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re You Washed In The Bloo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re You Washed In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re You Washed In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re You Washed In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re You Washed In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re You Washed In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033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Washed In The Bl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re You Washed In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re You Washed In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re You Washed In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44Z</dcterms:modified>
  <cp:revision>32</cp:revision>
  <dc:subject/>
  <dc:title>Slide 1</dc:title>
</cp:coreProperties>
</file>