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A91-9D08-44AE-A1FC-FFD8A0CF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C5E-A9F2-4B7D-BD8E-D58BDC4E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C66-070E-4A0D-A448-87434285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939-3388-44AB-A9D1-73F04198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45EE-7DB9-4875-870C-AA7965F8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E767-0CFC-4896-950E-848D9079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1887-3311-4C10-B532-DD400B7B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D61E-548C-444E-ACAF-3FF7F747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1C80-907C-4C89-8E55-A2F9C83C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48EE-218A-4383-B0D6-9E138245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F275-BA19-4FFF-9B24-BB9BF066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8BD-371D-4E8A-869B-370CA29B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B2AA-DE5C-4C99-96D0-A50974A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CE1A-1B76-424C-AAB6-E13B4A53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C924-D8E3-4E83-A5D1-5ECC8FBF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564C-346C-4D8F-A22E-333D21BF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B27E-45EC-4111-8F0C-44596529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4AD-375B-4F88-B594-6D04D720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EE97F-9E0C-4416-98B6-747F1A69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BCAA-8E05-4254-B17E-02E88AEB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F72A-7C85-4EEF-9C73-66122560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13B-6ED6-4E95-9DB3-2CEAB276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49D0-BD09-484D-A731-D217650E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C173B-B32D-490C-9DDB-E16912F1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F375-1B5F-446F-9C87-E5BD1273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C76A-8380-4887-A5DA-CD6B0DD9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E4D3-D262-4CA4-82F6-DF69F8EA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84F8F-FE03-43E2-80EA-012C8264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27E6-2D83-4886-8D80-383295FB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A735-FC82-409D-A4CB-99FF4A84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B147-75DB-4A34-AA02-EA464EAD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2E8-3E09-421D-A48B-111CED5B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966-1A74-4852-98B9-E3C18E1B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9F7-C594-4238-89E8-31FE17A7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2AB-3195-4E96-A8AC-C5A1EB4E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FA9-7E76-410B-B170-6F1BEFCE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92F5-7738-4F18-B119-E645D99E7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7D85-6E7E-446F-8485-94C4E644F7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83AA-A753-4957-9B11-8A237885E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, Ye Thankful People,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GEORGE’S WIND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Alford (18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Elvey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me Ye Thankful People Co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me Ye Thankful People Co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me Ye Thankful People Co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me Ye Thankful People Co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ome Ye Thankful People Co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ome Ye Thankful People Co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ome Ye Thankful People Co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ome Ye Thankful People Com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Ye Thankful People Co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Ye Thankful People C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Ye Thankful People C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Ye Thankful People C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Ye Thankful People C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Ye Thankful People C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me Ye Thankful People C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me Ye Thankful People C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7:34Z</dcterms:modified>
  <cp:revision>33</cp:revision>
  <dc:subject/>
  <dc:title>Slide 1</dc:title>
</cp:coreProperties>
</file>