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26F-7F26-4A7E-AD05-121BC0FD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85A-06AC-4434-9745-F76F1567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068-FF74-479B-B352-08A6634A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9A1-6DE2-4357-A8CE-F0158B8A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4524-2F3C-4880-97B7-1AE6C81F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3E56-64B9-4847-8882-EE8CA7A2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E584-3E6A-4869-9DB5-4CF70946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53A-E871-4FC2-8193-BEE6E4D6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F476-C59D-4E33-8F67-5CE49D4E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4EC2-2EC9-4648-B3A3-6DFF8D24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C26A-2211-4BBC-BB8C-7336896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F7F-1608-444A-8264-52310FEF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BD36-0462-427A-804D-DA91EE2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48DC-82F2-4367-B55E-EA70EB1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1EC2-2C97-4B1B-9721-B961C97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13E2-CE86-4DC3-8905-872230A0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5862-F09D-442E-A134-2F21940C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BD4-5730-400C-A853-9A61F6F5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F488-0F9F-4DA3-B6E3-004B8FB1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B5651-8EEA-4208-A89D-8C5DE03C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4C16-BF90-4790-97A1-88B5CBFF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994-2A2D-4BCB-832B-5997044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479E-C0C9-4860-9607-C9774A7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FD4D-5B78-41B6-93D0-E647666C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927E-95EF-4160-A6EA-AE34A138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1C89-E315-459B-8C85-B28413CA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8A54-7DD3-4EC1-9633-2B20F36F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F5C4-B234-4175-838E-A6896F85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36F0-326A-42D7-8FFD-0312AC4E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EE35-DCFA-4A62-B812-7C70371A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D8C0-457A-4739-944F-F25553A2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069-10EC-48C7-9BF0-6B4E184D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BAB-4119-4CFC-833B-90A0165E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28D-0AA2-451E-9CE4-17DBCF4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3E7-BB42-41C5-9594-C542ACF6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6B1-1972-45D6-9997-9DBE73C4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2720-6569-4967-95F2-05815825D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B8C0-4581-4196-AF0A-299F530F7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1E0A-8FA0-4B5E-9A35-F7C36FBE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 Un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P. Jone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P. Jone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Unto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76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 Un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Unto 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Unto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Unto M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Unto Me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Unto Me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876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 Un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21Z</dcterms:modified>
  <cp:revision>34</cp:revision>
  <dc:subject/>
  <dc:title>Slide 1</dc:title>
</cp:coreProperties>
</file>