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596-43AF-4CE5-859B-796EFEEE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C57-735C-42D9-AA84-8DB80AA9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2EA-C20D-4E9C-A7EC-7AE72D7E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B7A-1531-42D3-A264-08E8E401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8FA3-1CCC-4B8C-ACA0-87058801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67A-4405-4702-B618-2F7983AA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AB61-2B08-449C-8C10-372B267C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D124-1004-4905-BF4E-C38D9D32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2949-4710-4569-9A87-77801DA3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C508-AB89-4A42-94D5-AA8E29CD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60B9-F40A-44D8-97CC-AFB4BC8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DFE-54EC-4B5F-95DE-7B8EB594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9B8B-F5CD-4116-988B-1A5FEC7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2D0D-FEF9-4E88-ACF1-07F63A7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293-E6F2-48D0-97B5-8919123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600-721A-40D8-A00C-F70AB01B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6B8D-04BD-494F-9BAB-E6A647DE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151-B8C1-4FCA-A16F-992F84F7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315E-866A-49AC-9385-7D3501F6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6C83-4CF0-4281-8D65-92E7BAC2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C8E5-B16C-4AE5-8246-25DE2105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E48-B7FD-40A4-BBC1-4C3BB27B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104E-D83D-4923-A309-38D72049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73DA-302C-4DEA-8AB9-400CDF4C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E7EF-5D4C-412D-A472-F146EB9E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57DB-3854-4C5E-9B16-A736E45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CE09-8392-4497-9DFF-EEBECDC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F453-EEAE-413F-BC54-6666938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8F4C-073A-4B95-85DE-A3B8789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4614-0C11-436F-A00C-EB1709CB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C968-95B5-42C2-BA7F-3F9DC9A6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ED0-60A6-420D-A422-FA38A02D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C79-E552-4FEE-BFD0-F6555BDF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BDE-96F3-4A4A-8CB7-9635E2CD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47E-F3AE-4077-B839-9D42EFF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1FC-2D08-4DC2-8A49-5262F73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72B-2E79-48BC-BBD0-F844FF6C2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2BFB-A8F7-43E8-BA95-51D58167D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228-9A06-4BC0-ACA9-A8897A078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For The World We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TALIAN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4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olcott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ce De Giardini (17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For The World We S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For The World We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For The World We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For The World We 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For The World We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For The World We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For The World We 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For The World We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For The World We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3:19Z</dcterms:modified>
  <cp:revision>30</cp:revision>
  <dc:subject/>
  <dc:title>Slide 1</dc:title>
</cp:coreProperties>
</file>