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1F8F-C4C9-498E-B514-2D4730306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596F-5BAB-48EA-8D17-A20BCF22B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0F1B-DF17-407F-BFE7-F18F26CAA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D975-2E3F-4493-A9EE-83056B2A9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60EF4-D567-403A-ABA8-E81D820CB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938A0-CB37-4ACE-9CBD-0A774F446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14230-A0B8-465C-97CF-6BD82137E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26BA6-493E-4398-BA49-1B2E7691A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177F2-D5BE-4095-BA63-1AC264314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AF741-E62C-4D44-BFEE-098108CFE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8C9D0-01D3-416D-A6BE-0EE4935DC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5C56-4C3D-42B6-A40F-08A5F84B3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0FAAD-DAEB-4F89-89E9-4D3473DD8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E112A-57C4-4B23-AA74-304ECF075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CC3F7-36DF-40E1-A890-2A0AFA263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D879E-0F46-4461-84A0-D95DCCBDA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AF669-8A32-458A-9724-34255378A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0C06-8E75-4E2C-8201-740807D00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D8C4F-59C1-4F8A-B8E2-CAF50EC09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295F4-A49D-40BA-97DE-1B1D320A0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B1DD7-AB80-4FE1-BCFB-5EDC9526E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367A-D196-41E5-BD4F-02DF535E0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E1FE9-0954-405C-99E1-B3AC62EE4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837A9-3227-4140-863F-852BEFAC2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2E0A4-D992-4E1E-BAE6-D421A8275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20E92-7CC5-449F-AB55-11215D9C6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F3816-60C2-4DEB-B959-BE2DABA9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4574D-CF41-449E-AA21-75835F3C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A9836-C64E-4C4E-AF39-67C63F2C1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B0F5B-E90A-4518-808A-62064916D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F1DD0-6808-4E1B-A304-2F6AAAAF9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8668-6BE1-459A-89A8-552C2BCA9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E2D5-1FC8-4AF3-8F2D-71F2EAFBB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885F-87E8-411B-A85C-F95CD2FB1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7F2E-597B-47C9-BE70-CA2922E2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2F12-F251-4C7D-91D0-7B9607BE1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759A8-0FA2-41B4-8BF3-3A8D753CB3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C9E8A-B1F2-466B-857B-83C1BFAC30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931D5-D8F3-46C9-8B4A-42AB182E60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Christ, We Do All Adore Th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/C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heodore Baker (189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heodore Dubois (186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6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Christ We Do All Adore The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38240" y="6488280"/>
            <a:ext cx="398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Christ, We Do All Adore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Christ We Do All Adore The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Christ We Do All Adore The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Christ We Do All Adore The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76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3T19:25:30Z</dcterms:modified>
  <cp:revision>21</cp:revision>
  <dc:subject/>
  <dc:title>Slide 1</dc:title>
</cp:coreProperties>
</file>