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3F0-7878-4B4C-A624-28236B6F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098-EE00-46F2-839D-8A15CA13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FA3-5D47-45A1-ACEA-8588D9F2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FF5-D12B-4E92-A2F1-2EF3EE5C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DD71-2224-442C-A1CD-BDBACCA7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DAD0-A6CE-4614-AD1B-08872E03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4696-2E24-427E-9F24-968F0182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08FC-9A1F-47C9-B880-F47C99F5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AFF1-9479-4402-9C51-FB811A49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21A1-634E-4683-935F-7DCF1F85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5D14-B9A6-4C92-BD51-4BA103B5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661-79A7-4BF0-9B32-58489033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9AF1-D3EA-490D-934C-52FBD6C0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E8F1-621D-4D78-92EC-286F5AFF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3302-D3ED-4D07-8B94-F27C732F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7BEF-7F55-4486-8BAE-4A6EA391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2A14-E278-4578-8023-3AB77A45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473-FB58-40FE-9777-0DFB9BC3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0215-91EB-4CF4-AAA8-B50D45BB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9A17-CD56-47BC-8A0B-51ADA564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7AA30-C688-41DC-98C8-7D8C8605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C58-9BDA-4798-B93E-748555EB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CBFE-A17D-431D-9853-0ADF0918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7EAA-4EBE-46E1-AC3A-BD56CFFD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157F-26F3-4303-8184-15D20922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735D-3F3D-493C-A67C-1522478F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AD4E-EDD2-4E12-8748-9476B808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D11B-82AD-4AEE-860D-2FEF60B1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81C7-F9B2-4B03-9807-07D0CD8A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12D2-0BEF-4695-822C-A4C1BA85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FB5C-729A-4831-956D-16054E78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FC4-DE47-4162-A701-FC2338E4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26F-C8F9-4775-9384-7584F20C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65E-1C57-4505-963A-01016613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57F-B775-49CB-B747-327D9335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F5A-BA01-40E5-A6CD-D6F8615E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23BD-A1B9-448F-8E38-48F0B8FC4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9EF2-4244-48C2-8A16-4BDC85E1F5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D4BB-CF6B-4BF2-9BA7-440CA3EB6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 To Jesus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R. Latta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Tenney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me To Jesus To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916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 To Jesu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me To Jesus To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me To Jesus To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me To Jesus To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To Jesus To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916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 To Jesu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To Jesus To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To Jesus To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To Jesus To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To Jesus To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916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 To Jesu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To Jesus To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me To Jesus To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me To Jesus To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6:56Z</dcterms:modified>
  <cp:revision>30</cp:revision>
  <dc:subject/>
  <dc:title>Slide 1</dc:title>
</cp:coreProperties>
</file>