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250-74B1-4B36-B916-79E547D6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3F8-2C9A-4BAB-A4E3-03F39A88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409-12DE-4C9D-B41E-10762432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FAA-A5EC-4369-ACF9-CDFB8673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F093-3003-42B8-B50B-D52B3F74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9922-1755-49A7-9F70-40A1584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CD5F-FC3E-4D4F-8B05-4F26DAED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4B8C-25B7-4B11-A6D3-B928FC2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625A-A45D-4CA8-A839-C498EFD7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F9A-6F8B-4CAA-B36A-ECE29C8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889C-96D8-469F-B436-2D9FE0D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946-204C-4003-A165-26A9898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97E3-8CF9-4F68-B122-2909454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EF2A-82AF-4D49-95D7-31DCB25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4ACF-F3AD-4C35-A9A0-EC8D118C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E98-0384-47FB-9EC6-47C206C0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654-25EA-481B-A534-C87F96A6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739-8664-417D-8B32-20CF3024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511A-D3B4-4FF1-86AD-F85373A7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EEBC-A772-4BA5-A963-2E76014C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6ED9-66D2-4413-B8C4-7604760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70E-8152-4EA5-A4C7-8998D22C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E374-AEEA-48A9-8218-30D186A6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0ED4-A4C7-4759-A6E9-289FD8D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923B-463E-46A9-AFF0-48E8A684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4C5C-20C7-4029-9083-2953DAE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C64F-4258-4B1C-AD1F-1AA2D34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613A-7E42-40E7-B4A6-750D7BC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BF1C-C947-4761-A0AC-FCCF525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923C-BE32-48AA-A3D4-1DEC78AF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3131-2050-448C-9C84-6EEE3DC3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992-9D60-4E23-841E-68C607A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119-178F-4EEA-91DE-DAA4774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627-75DD-4A4A-860D-77E0E2F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A02-DF4A-4345-BC67-A6949E3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989-F5D6-4FB4-8FE8-BCADE0A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D530-9CE1-40D7-AA6B-B268BB4BC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65FF-790B-4CE9-BFDB-AF1D36432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D1D-5BD8-4880-A730-CD86689E7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Sinner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ile Jesus Whispers To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E. Witt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Sinner Com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Sinner Come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Sinner Come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Sinner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Sinner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Sinner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Sinner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Sinner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Sinner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Sinner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57Z</dcterms:modified>
  <cp:revision>35</cp:revision>
  <dc:subject/>
  <dc:title>Slide 1</dc:title>
</cp:coreProperties>
</file>