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5C1-ADA5-45DB-9BE3-25E492FC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D0D-3AAD-43DD-B3BA-3CBDA9D8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393-BF8F-404D-B7FD-3011837D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C18-47DD-42ED-BF4D-D0C8C895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34A5-AE23-4771-8C08-D8CF0F38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A2BD-6738-4F65-85AD-5DF705EB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2E4B-E497-4C48-A96D-22819069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77F5-3529-4CFA-847E-327DC433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13D2-E57B-4E53-8C24-344FB205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3617-C951-4455-AA86-26BA54E2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4C26-4743-4B52-86E8-08C4895F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B4A-366C-4C6A-A87C-5FD5FA32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9824-B042-4A40-8BF9-A921E8C9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A1FA-32EA-41CF-9664-F60EDEB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1B28-D5C8-48E3-886B-38F40F52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77A5-7F0C-4ACE-9A4D-DBEC7CC0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0ABF-4B5A-49A1-B712-2EB25109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3B9-163C-46E6-A77F-CB54534B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3B12-6916-4AAD-9552-438D7B3D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B525C-7556-4E16-9AF7-39FEA46F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4F1F-8790-4509-BE10-9DF53EB2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326-2BFD-406A-95EC-F288E07E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DA98-EF07-4E9C-BA18-25C05FDE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6152-77E9-4488-AD91-EE7AC9B1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1D54-DA6F-4ACB-A3C0-85B711A7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D883-963C-4FE5-B6B0-9B0A1858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0FF5C-64CF-44FD-896B-AFC7432D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E919-9FC4-42E5-96D8-E8D1D1C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AFEF-5CC3-4054-B8D5-AC1063B6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7973-9437-453B-9A45-8D107FC9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D59D-B5A2-4672-B883-E391B168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663-B28F-4A64-839E-F9C2D1B1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730-DA06-4676-89CB-AE0B7FD6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BD9-503C-4F76-A01F-AD82AC2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0EA-E3E3-4A1A-8A4C-79780168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553-04EB-4B7E-B8EA-73315CC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96EF-5EC5-49B5-959C-47532BF52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FA88-127C-42CE-B319-CC0D73C43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AEFC-C610-42A2-8ECA-ECE8AB5FF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lose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ilas J. Vai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lose To Thee.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lose To Thee.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lose To Thee.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lose To Thee.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lose To Thee.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lose To Thee.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lose To Thee.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lose To Thee.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lose To Thee.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lose To Thee.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lose To Thee.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lose To Thee.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42Z</dcterms:modified>
  <cp:revision>27</cp:revision>
  <dc:subject/>
  <dc:title>Slide 1</dc:title>
</cp:coreProperties>
</file>