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9D0-0005-4344-8B53-1BB98398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84E-5B08-4CDE-8716-440EC36C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F52-4F46-4CA2-9620-31A36F52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D38-1733-4BEC-B3EB-C266A5FD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100-37B4-4257-9E3E-21DFADB8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44C2-4FB2-4DDC-B7D1-F8B9BDC5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2E76-AEB3-468E-AB1D-0F457B3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1C87-DF63-4F21-B98C-C8396992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168B-346F-4B33-B06C-EDD705C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18A1-BB0A-4FFE-A780-83A376A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B78D-4492-4FD5-A13C-5737373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F42-9216-444F-B290-8F1A8963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F5D-07B3-424B-8DB3-A3F7D11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AD9-66E8-4EC0-A4A2-DB45177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3914-194A-4C13-94EA-AD8DC1B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3587-25A5-46B0-9118-5AE8D94F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ABD6-D14D-4300-BF81-6A6BDD39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DFF-99FD-49F7-8928-A7BCD5F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7FA9-92B6-47F5-9AEF-FFD93061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ADCF-5FDC-460E-A8E8-A2B7F2E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46E7-8052-4661-9196-E5B0C29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C9F-8817-4E0D-8CA4-96A5F96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783C-4820-493E-88EF-AF1F6E7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B5BD-B847-4DA7-BB88-0E8D453D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C226-F3B9-4412-894D-F42659D6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0FE7-2970-42BB-B221-898438A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CF21-9397-4D4D-B46B-54561B7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CF93-0806-43C0-B942-2502F29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9B85-C046-4547-971A-B52129F4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A141-B5F9-4358-ACC7-817F65E6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E8A6-5E52-4ED7-BD04-44CD052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AFF-7E6F-41BB-B9D8-9E7E9473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8EB-3D9C-4DDC-8D95-299880B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966-80E0-44D0-A65A-8FCCA52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0FD-9D4D-46AC-BBA0-91A5017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18A-C790-4085-A000-4996577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170-79FC-4ED9-8391-9D5F8A8A1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DB30-3CEA-4EFA-A0A8-4ACDE7E62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2188-B31B-4F78-A4A8-CAB1102CE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ild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ttie E. Buell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Sumn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ild Of The K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ild Of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ild Of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ild Of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ild Of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ild Of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ild Of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ild Of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01Z</dcterms:modified>
  <cp:revision>32</cp:revision>
  <dc:subject/>
  <dc:title>Slide 1</dc:title>
</cp:coreProperties>
</file>