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A3B-F82C-4C9E-8545-694AA029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295-CD4A-43BD-988C-D8E01DDA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52EA-97A4-4F22-BAE4-C3DD55F2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522-4F7B-4168-9C7B-9B49D359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3D99-17BE-4F66-B018-FBA1F10A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22B5-AD88-455D-90A7-AD75D5CB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2509-CF17-4EA5-A4A2-DFE65DD2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2200-E7B0-449F-9939-3F2871BF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E08D-EB4D-4F77-A705-3CE22487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A1D2-EC6E-4776-BDF9-F53587D4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9C06-840B-494E-8B83-4E8AEC17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64F-071D-46EA-8927-9D526B6C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ABBD-3173-437A-97BA-360B6522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D379-2755-4CC3-9322-747816CE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0B03-D7E2-4E18-9FAE-F140CA15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EC02-EB7B-43AF-BA08-98148E64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B81C-4A1B-403F-A47D-D1921E8A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53E-0C97-45DE-914D-3F20352C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69622-7D7F-4FFE-8D1B-B609F0CE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49A93-84E0-41D6-81FE-C5DC7BDA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CCBC2-A643-4D4E-983C-BE7AB7D5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6F5-44C6-49E6-BF3B-230971CB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8EB83-41B6-4B1D-8F06-8DE93113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C65D6-2FC6-4FF7-9062-6EE75DA9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3067F-3A42-4D20-9824-B4140B4F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67AC4-D9BB-4C8D-8D56-239FC9AE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80AE1-4BEC-4505-93ED-44D3C703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A5BDB-82FE-4B92-87C6-C38263A9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76C33-7811-4CA8-BD5D-9999F6E3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4FF69-EAB4-4306-B6B5-D0523485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F0A53-D901-42B6-B1D0-55D4EBB8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3DF-1C1E-414B-93F9-E8ED204F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FFCC-E7B1-4BF4-B1A6-B3682FAE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251F-D540-4973-B19A-6F7B3AD4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1CE-B291-4AC9-8B12-1A1F3E73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F34-6481-4A3C-9564-14D882BB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9BDB-E56A-4FC2-B2C5-94ABAA836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C8D1-526A-49C8-AD53-707F5A58DD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0CA7-F182-49B8-B5F9-946202E31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 The Lord Has Risen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W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4080" y="4902120"/>
            <a:ext cx="14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Welsey (17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alsh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yra Davidica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70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Arnold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omplete Psalmodis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7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48320" y="6488280"/>
            <a:ext cx="43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rist The Lord Ha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48320" y="6488280"/>
            <a:ext cx="43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Christ The Lord Ha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Diagram, schemat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8320" y="6488280"/>
            <a:ext cx="43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 The Lord Ha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48320" y="6488280"/>
            <a:ext cx="43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rist The Lord Ha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5:12Z</dcterms:modified>
  <cp:revision>32</cp:revision>
  <dc:subject/>
  <dc:title>Slide 1</dc:title>
</cp:coreProperties>
</file>