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F3F-C900-48C1-AD5F-7689484F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40C-06B8-486F-872C-968F6EE4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7C2-91E0-47C8-82E3-9CAD71C8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B76-27A2-48EF-B128-FBA7D22E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E97E-5D62-4F6A-8EFD-84F989C2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1327-B724-400C-A7EE-B4B8987D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36A-1B34-4D3E-977C-200AD25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1F4-9791-40B1-83FB-3DEA1C73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E752-4559-4008-90B8-8DB2B6C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7A39-0EFE-4B6A-B39E-DC1BACB7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7A5C-E8E7-4284-A3EB-B0922F6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D23-2E70-4C1B-B6AF-DED7716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E4BB-32BC-4B0A-A880-7218E89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056A-C1C8-4FCD-A464-3577A378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F0E1-4D65-499B-9784-92886B2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F4FB-8E9D-4969-B6B0-42880AEE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31E4-3B19-4757-9988-F3703581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27F-009B-43AA-93DF-AD76C8AB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990D-D5C9-4AA8-AD5B-FA419667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32F4-64D5-4BF0-B33D-7E4FB823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5FC8-9FD7-4089-A290-14CC1E2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50B-BD28-41E4-A2C4-8B29F215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40DA-72E8-4483-BB60-D839D91C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0936-27EC-4C6C-8707-778E5C33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7259-02B3-4273-B2C5-C1F5925D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3891-4D6E-468D-9A51-ECCD24C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2584-BF84-4C9C-A087-F1092C1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1159-38C0-4855-8E37-FB153C6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CCF1-1DC0-4921-AF4C-BA8C0CD8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0301-A808-4CE9-930A-8252CD4B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646E-E4CB-48EC-BB3B-9CFE4656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853-D99A-4EE7-9A8C-6BA347B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E89-B41A-4A57-8E23-EEBDF29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EBB-34DB-4437-84C5-217EC60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243-B6F5-481F-BC18-993FE77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BF4-9CF6-4015-B904-BA62223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DE4B-7ABB-4A55-A95D-8199357B5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9085-C114-4F06-8A93-0FE4B6A5C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A134-5FE8-43BB-8908-5C2D2C5B4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Liveth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Liveth In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Liveth In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Liveth In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Liveth In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Liveth In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Liveth In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Liveth In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Liveth In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Liveth In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Liveth In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Liveth In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20Z</dcterms:modified>
  <cp:revision>31</cp:revision>
  <dc:subject/>
  <dc:title>Slide 1</dc:title>
</cp:coreProperties>
</file>