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2E8-D1CC-4B4A-8673-6EE00E92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BB2-2459-4A7C-BDC7-726A4A2C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BB6-C9DC-4E70-89BC-D1D40254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F2A6-7A10-40A7-B683-BE99EF61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A8B7-DA6A-46BE-9DEA-7487CA9C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14D7-7A1E-4058-8506-99AADEC6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71F1-F0A0-4394-920A-3FD5717F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7A24-D849-45C7-8637-D69B27F1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4CF2-1C9A-46CB-A231-C92DB39B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86BE-E886-4B30-994A-70CB6AC9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1AE0-DC0C-47FB-940D-42F48250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624-265F-46FA-99CB-F68E88CE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EF05-4655-491D-B4D2-A9C17018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314E-2627-4DC7-BCBA-ED60B0FB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CD0F-8506-4229-ACE2-73CD9F32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92BF-4891-458F-8D19-FDABBE2D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F803-62B8-4AD5-8B45-39E04986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095-B0BC-4BA7-AC64-DE3C0544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D97E-17C3-41EB-9FC6-7560ED0D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770F5-4749-4DBD-BB00-98A05857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0D621-B987-43FD-94E3-AF705969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1BE-22ED-41E0-B038-BE665321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CBA15-BC55-4F61-9255-DBC7A6F7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B7537-171D-4590-B85A-B6E5BBAF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C616F-4CA8-4C62-A972-CE277D3E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7B95-89C8-4816-9917-03AFDB53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9D2D7-4215-4B7A-BEB3-846BB49B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1C64-DF42-4CED-AA71-4F8D7A5D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24CB5-7856-4660-BC65-C43F443D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5E627-29C9-4E85-8998-67CD4E21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0E5D6-541B-4AE1-8F68-45AD20F2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AFA-56B6-46CD-B980-689DA2C1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2A5-B545-4E5E-8651-F5E3490A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2F8-50A5-4A22-A1EC-654E106E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047-4BAC-47DD-AEA4-8B74A1BE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2C2-530E-48D7-AA08-B759B037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C55F-3912-4510-AA52-31E60BA02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4F86-42BD-4115-BC96-F64B961090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35EA-3CBA-4F64-ADC4-B625A3EBE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Receiveth Sinful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Sinners Jesus Will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 + 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from Neumaster (1718), Tr. Emma F. Bevan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hrist Receiveth Sinful Me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hrist Receiveth Sinful Men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Char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1052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Receiveth Sinful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hrist Receiveth Sinful Men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hrist Receiveth Sinful Men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hrist Receiveth Sinful Men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hrist Receiveth Sinful Men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Receiveth Sinful Me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52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Receiveth Sinful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Receiveth Sinful Me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Receiveth Sinful Me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Receiveth Sinful Me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rist Receiveth Sinful Men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rist Receiveth Sinful Me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052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Receiveth Sinful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rist Receiveth Sinful Me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rist Receiveth Sinful Me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4:39Z</dcterms:modified>
  <cp:revision>34</cp:revision>
  <dc:subject/>
  <dc:title>Slide 1</dc:title>
</cp:coreProperties>
</file>