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342-E3DE-4FB3-8E79-E94BFF8F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C4D-9E55-4112-B582-9B277C8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4AF-DDF4-4905-AB0A-1B83C7F7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57C-403D-4768-A47F-421E5567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52BD-D659-443A-9596-F7259948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6389-BA38-4807-B039-0742EFE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E4B2-F04B-45D6-960C-3CB2EDB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F385-95B3-4C06-A42F-175927A1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FD7C-A279-45AD-9E33-FF137FC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3101-11DA-4CDF-B94A-943B686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C4D7-7983-485A-90EE-21FCB5A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FE7-96C6-44FB-A9DD-D2F5F8F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98A6-14FC-4A6E-A267-128DB63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40C-3573-491C-AC1B-3E7B251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95D0-2884-4CFC-BA81-56B983C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1F3C-281D-4776-8773-EDBDB0ED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10FB-514F-4132-993F-EB75BFD8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3EA-779D-41C0-86DF-CB72772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B2D3-D1F5-4766-8A2C-6A0D295B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0D33-E968-4D62-9C85-E4E04F9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D780-D1E7-432A-B946-8CE0E46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1F0-3F39-4C5D-BA77-E56F1DB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0153-23FE-4DD0-A1EF-D3854CE4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C989-8A47-4096-9C0A-84593D59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0A2B-925F-4782-B8C5-1E412F9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6F26-9663-43A0-9C5F-E72A137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E762-CFF5-4DAD-877B-526BE08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15F4-76B8-4C66-B202-2EF6AE5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F068-B88F-455E-ABE5-9A156AC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9FA3-A84F-48F0-AA12-5133362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CA0C-5349-4FF7-AF59-47D9797B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6E4-7EF8-4C57-8E69-0B808AA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E83-E55B-453A-BED0-539A8D1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6BB-1441-4260-A61A-CD57E41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75B-714C-4129-B8A0-41EACAB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FD3-82A4-4319-89CB-BBC698EA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2846-6992-4F25-9FDA-171314888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A62-9922-4737-818A-0D6C34D3A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BDE-E31B-438B-9038-AB9C069D9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turn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Turn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turneth_arr2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turneth_arr2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Returneth_arr2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turneth_arr2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turneth_arr2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turneth_arr2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turneth_arr2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hrist Returneth_arr2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turnet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turnet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turnet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turneth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turnet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turnet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turnet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turneth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57Z</dcterms:modified>
  <cp:revision>30</cp:revision>
  <dc:subject/>
  <dc:title>Slide 1</dc:title>
</cp:coreProperties>
</file>