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FB0-C195-4EE4-A716-2B393263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72E-4444-4BC3-BC74-9FA4581A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94C-FBC8-4DA0-927F-FDC7745D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A30-968D-4B33-85D8-6ADD4A29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2D1A-93ED-4C28-8C57-AA164B48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036F-1C38-418C-A98A-19462E9D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C6C7-E8AC-49C7-8E86-0CD3ABB5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04B2-4880-40F2-9C0D-29D3B79F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81D8-867F-4E3A-A8AC-746AF8D5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EF40-010D-4060-937B-64C28975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F231-91E0-4276-966E-2C297993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C9E-4189-47C8-BCE3-B5DBA6E4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52B7-FBA0-4CED-8F2E-D773B95D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A6ED-BCE2-4BB8-86D6-F01AC20B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D6C2-93DE-4C06-8753-26ACD02E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87B8-4386-4193-846F-0CE10378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22C1-2665-49A5-B371-298E3631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E31-79BA-4EA7-A849-FFD4D9E0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21FFF-E62C-40F1-9686-3062C7DE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037AD-432E-4050-B658-537E4545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D9D8C-8B91-4788-9611-002C1870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673-1EFA-45AB-9947-00298C24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BFBCE-1B8F-46B8-B59A-187C29D6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D3169-DB79-4658-BA25-2DC52B2F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7B2A9-63D5-403D-8A10-7C7F3A30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5F0F2-DBAA-447F-8DBF-047E581B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1D8AE-5A1F-4D0E-947D-BE702E7A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CBB3B-51A3-4DF2-B90D-6A32F66C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9BB06-BAAF-48AE-8D8D-E546C8F4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70F5-02F5-4B55-AF69-5281363E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F496F-5E73-426C-B8E6-A272E4AE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443-92BB-4AD0-95A8-755F8681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6AE5-E6FD-4F0F-9F46-FAA98760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E76-5D2C-4FA0-B6D1-C595081E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E6A5-D11C-4034-8945-A4B167D6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6EF-6E28-4467-AF1A-B4B762C7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FE85-C264-429E-BD02-DFB115EEF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840A-F793-40F5-918B-2528587F4C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8C8B-345B-4790-9DF7-99EB4DE52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rown Him With Many Cr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IADE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516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tthew Bridges (1851), vs. 2 Godfrey Trhing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J. Elvey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rown Him With Many Crowns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1160" y="648828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rown Him With Many Cro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rown Him With Many Crowns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rown Him With Many Crowns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rown Him With Many Crowns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rown Him With Many Crowns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1160" y="648828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Crown Him With Many Cro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rown Him With Many Crowns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rown Him With Many Crowns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rown Him With Many Crowns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rown Him With Many Crown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160" y="648828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rown Him With Many Cro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rown Him With Many Crown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rown Him With Many Crown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rown Him With Many Crown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rown Him With Many Crown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1160" y="648828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rown Him With Many Cro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rown Him With Many Crown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rown Him With Many Crown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rown Him With Many Crown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7:50Z</dcterms:modified>
  <cp:revision>21</cp:revision>
  <dc:subject/>
  <dc:title>Slide 1</dc:title>
</cp:coreProperties>
</file>