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E8E-895B-4B2D-8361-2FEFC54A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2C4-FAF2-4061-97AA-D207F838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320-91EF-4FC4-987F-92C4BE5A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832-20E8-4FC0-92D5-4B5ACBDB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C603-EED3-4128-9A88-C2A226F5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D654-0CAC-4F8F-A6AD-FF52AF28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486C-3A34-4F89-A3A2-6D2A6B52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E720-DF81-4676-A97C-A6A634E5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7DAE-8590-4E6A-B880-71BC9E49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43A0-4B43-4331-AB45-02DCFBFE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19EF-FAE6-419C-8D9C-F3D312F8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608-4424-4412-A158-E5386BDA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1A51-FC68-4DA8-A0D1-E85DCA32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ACD3-B32C-40C8-8465-77A32CC2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66F5-2469-4B0E-B03F-1D7574C8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54B8-2D67-4764-9DD0-774A18F1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BF5B-C7D1-4333-B2BF-1A938EFE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56E-4C0A-4E71-8469-C2E7A52F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685A-FF48-4AEB-BADA-B8CAEE84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EFBEC-0D84-41BE-875F-5F51E05F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78718-7C61-49AF-8991-7E587C23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2A7-A84B-4BAB-8E04-9EA2083B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A2803-2BFD-4F29-AC0A-2B81BEF7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235D-0CE5-4FB2-9BB5-8F9D75D3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341B5-DA94-4C2D-AD68-9D6C4A8A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CD00-7727-4809-99C0-B54472AC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EEB8F-A075-4340-98DB-65A8360B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708A-A62E-4F8A-B7E3-D1BF61C0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1987-AFAA-4092-ABF6-C512C6F9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0190-46D2-41B0-BC56-AD14D99E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08A17-28DA-498A-989C-029DD550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31D-1419-46C1-98C7-B2B3457F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D18-F6C5-4056-8FBD-2A2F430A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763-E260-4C60-BFBB-0131C0EF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2C0-5A53-4509-933C-F64E07C8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E91-568B-4FFF-9676-72672D9B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9ED7-5DBE-4555-89AF-BD70A66AD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2F20-4C18-4B29-B232-9F929707D5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CB9A-0B61-43DC-8A6B-47742D750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unt Your Bless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, Jr.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in O. Excell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ount Your Blessing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unt Your Blessing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unt Your Blessing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unt Your Blessing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ount Your Blessings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ount Your Blessings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98280" y="64882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unt Your Bless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ount Your Blessing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ount Your Blessing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ount Your Blessings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unt Your Blessing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8280" y="64882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unt Your Bless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ount Your Blessings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ount Your Blessings_v4o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ount Your Blessings_v4o4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unt Your Blessing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unt Your Blessing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unt Your Blessing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unt Your Blessing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unt Your Blessing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unt Your Blessings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unt Your Blessing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98280" y="64882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unt Your Bless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8:08Z</dcterms:modified>
  <cp:revision>29</cp:revision>
  <dc:subject/>
  <dc:title>Slide 1</dc:title>
</cp:coreProperties>
</file>