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DA8-2D60-42C9-8F87-2E4098A4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CFA-ABD2-4B9B-A72F-B34C322A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E66-7842-4180-9D89-7DEDDF81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299-DB66-4404-832C-FE76B9CF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9844-8135-4E28-9057-152F00EE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0EE1-0B32-4481-81C4-1BE1CEE5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238D-B2B7-4D07-9A89-027327AC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CEC4-AF4D-42A8-949A-69C21F70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48EA-BEAA-42E9-8F80-53BA9462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62D3-B8FC-4260-BD9A-1CCD67E9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479F-275F-4B0E-B690-01FD374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370-C556-4266-9FC1-F86F5209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A682-6A61-43DB-B166-0ABDFB3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9CFC-1AC3-48AD-8FCD-2743E810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D332-3E17-4BBE-89DC-DFDAEF8B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920B-FC54-4DF9-BC7B-D0C0EB33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EE0B-F6D5-41A3-9052-95643DE0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F2D-4418-4EA8-B1FA-7CCBC9D8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FA57-2DA2-4A8F-8D23-AD5841E3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D8E2A-7189-4570-9435-D262DBF8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E45F-2EDD-4DEE-A51A-33020AA0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C99-1BA4-4AD1-93DC-1D252E7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A8CE-A868-4D2B-A26A-C9151152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1D97-B7BF-482A-90CE-858B3F8A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39CF-82BB-42D5-B60D-FAD43DCC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9713-1E60-4014-B13F-3B354DF3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8657-7EA0-4B12-B36E-3FC48FDB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4BA1D-2585-49A4-A8FF-9C2255AC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5DF9-D064-49B2-917F-854A0EB4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7CD3-33B5-4B65-B57F-AF85D409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AA0F-0FB2-49FA-8A96-1B87A599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1DC-3AAD-44BF-B828-A5A5AF47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EA3-7B7C-45C1-8D23-19D0F13D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4AD-AB00-47D4-86F4-7E836EEF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7FD-23AA-4A17-A86E-96B12990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05C-49DC-4CBC-9E77-5700DC22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B1A2-A42D-439F-ACD7-38BF71EAC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17BE-1402-4FFE-B0B7-7FD496CC0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403D-0A3D-46B4-B3CB-AB6FF7407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loser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loser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loser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loser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loser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loser To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loser To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2:41Z</dcterms:modified>
  <cp:revision>28</cp:revision>
  <dc:subject/>
  <dc:title>Slide 1</dc:title>
</cp:coreProperties>
</file>