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C13-954C-43AD-AFF9-60A19342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423-236F-4872-B282-26178D4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68F-A7C0-4DF1-B632-EB062697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86C-FFF5-4929-A9D0-030C4A1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A5FE-45FB-461B-B513-9ADA7918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D1F-1EE8-40E3-ACF9-0B53A6B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AAE0-7252-485F-B006-3B70B467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708-73A1-406A-A1D2-FCB82700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C54B-5379-45A5-865B-35FB77BC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69F-F2FA-46A6-81E5-2D16A24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A4A3-C21A-4CCE-B638-81BF496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8A7-6165-4063-B93F-1C45C8EB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EA9-A201-4749-B1C3-0D4E4A8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3D8B-760A-4B37-93E6-FD626B6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B94-DCC5-4B85-AFAC-3B8F7A5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AD1-7137-4729-9141-DDB2C3A3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2BB6-ED19-4D60-9141-2ADB19A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5C-9BDE-49B9-948B-5A44C7F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5216-171E-462E-B758-AE68D39F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CB57-7F67-4549-9402-CE69AF8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41CB-6DD7-4D41-A39D-4F9B46D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197-970B-460F-9C32-D8A207DF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DCB7-57A3-4254-BB23-C9E3CA9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12CD-002E-4225-8EE6-F251E96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1A2C-2B30-479A-BEE7-0B757A99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0E29-13A0-4631-AE8B-534B7EC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8C18-48BE-4179-8AC4-FEDD1F3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6238-3210-40C6-8135-04174CC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723E-1FB9-475B-A4BD-461D147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565C-FEC5-4AE3-8B05-181A9798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7EF3-1685-4119-B795-4E63BF44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904-C302-466E-9AAF-BD538DDE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ACF-3A78-4132-8EE0-C40537A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E11-7732-4D8D-A42C-A0EF5AE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A67-8263-4EC8-A26D-079FB9F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413-390E-4814-A354-21F1A88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C52-4C6F-4575-B3E1-9F0C91F92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4E67-8F4E-4900-8AF0-EFE6DFD24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B63-D87A-4FB2-916B-53611C2C5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Christian, Join To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Henry Batema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Spanish Hymn”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Christians Join To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Christians Join To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Christians Join To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Christians Join To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Christians Join To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Christians Join To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15Z</dcterms:modified>
  <cp:revision>29</cp:revision>
  <dc:subject/>
  <dc:title>Slide 1</dc:title>
</cp:coreProperties>
</file>