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FDAB-2F44-4556-A544-F4DB356A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15C-71C3-4AD3-9150-D322682A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005-F3E7-4A07-8F8D-B1A153D1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F48-3517-40C3-A604-8405E2F6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0E6C-6945-4448-8BF8-49FD8676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DFE0-47ED-4A58-8226-120521CD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284F-A93A-45F2-944A-E3C27473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7858-B237-46AF-BE1D-F013CE33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B706-9A07-421E-AE84-1EF069EC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014D-F043-4E92-9FD7-2705609D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738F-F6FF-4716-8CB3-D09C8DBE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EE1F-E7B3-4797-AF20-CE52C5D4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6970-E935-4D5E-9A27-71AD0B7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F731-0009-42B7-A215-06136A92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6357-17CD-4B31-9987-9460E538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505B-0FA6-4851-9CCE-EA8B18EF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B6EC-3B32-4C3F-A628-B512763F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38E-E523-456B-935D-4C363682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A90D-93F4-4232-A660-EF608FAE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4DAE2-617B-4D12-8148-28FFC99D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7DBB2-FFBB-46E8-B6D7-2110E735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AF8-F4DE-45F9-A3D8-0F05DDB6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6B23E-3963-4676-8892-FD7E964E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00C55-84E0-4A2B-8FDA-BA32A4EB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FC79A-2143-40A5-8CEC-720C3E7B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2808E-09D4-41E2-9933-510F79C6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AC342-E622-4FC9-9416-9F450BEE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91264-C3E9-4ADA-89BF-8C5FEA08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B30F4-B0FD-4C6D-ABAA-9B8D7C5E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2674-CFD0-4F20-B4A9-9612D598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AAAA2-5660-481E-B4C8-8EF8527A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610-8505-4E80-AFC7-4BEFECB3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DB8-388B-44F5-9412-04E4D434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BD4-3BEC-4A56-923E-771643B4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8EA-A6C3-46CF-9667-FCFF493D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EDF-C4A6-44ED-AC12-48F9A11A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2810-8E5F-4F66-8453-11A567E13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4376-CA63-489E-A199-AD21C2D073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259D-77CE-42D8-8EF8-6B4FDBE98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an You Count The St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ERNENZ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8.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ann Hey (1837), Tr. by Elmer L. Jorgeneon (19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rman Folk Tune (c. 15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an You Count The Star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3120" y="64882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an You Count The Sta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an You Count The Star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an You Count The Star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an You Count The Star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an You Count The Star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120" y="64882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an You Count The Sta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an You Count The Star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an You Count The Star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an You Count The Star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an You Count The Star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120" y="64882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an You Count The Sta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an You Count The Star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an You Count The Star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an You Count The Star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2:13Z</dcterms:modified>
  <cp:revision>32</cp:revision>
  <dc:subject/>
  <dc:title>Slide 1</dc:title>
</cp:coreProperties>
</file>